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jpeg" ContentType="image/jpeg"/>
  <Override PartName="/ppt/media/image29.png" ContentType="image/png"/>
  <Override PartName="/ppt/media/image19.wmf" ContentType="image/x-wmf"/>
  <Override PartName="/ppt/media/image26.jpeg" ContentType="image/jpeg"/>
  <Override PartName="/ppt/media/image4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4.wmf" ContentType="image/x-wmf"/>
  <Override PartName="/ppt/media/image38.png" ContentType="image/png"/>
  <Override PartName="/ppt/media/image25.gif" ContentType="image/gif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9.wmf" ContentType="image/x-wmf"/>
  <Override PartName="/ppt/media/image41.png" ContentType="image/png"/>
  <Override PartName="/ppt/media/image36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13.wmf" ContentType="image/x-wmf"/>
  <Override PartName="/ppt/media/image27.jpeg" ContentType="image/jpeg"/>
  <Override PartName="/ppt/media/image34.png" ContentType="image/png"/>
  <Override PartName="/ppt/media/image46.png" ContentType="image/png"/>
  <Override PartName="/ppt/media/image40.png" ContentType="image/png"/>
  <Override PartName="/ppt/media/image8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9.png" ContentType="image/png"/>
  <Override PartName="/ppt/media/image22.jpeg" ContentType="image/jpeg"/>
  <Override PartName="/ppt/media/image6.wmf" ContentType="image/x-wmf"/>
  <Override PartName="/ppt/media/image4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AE82-AA6E-4DCB-B53D-6D0CF5C3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0A06-2504-4C5F-BBD2-4418E64F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B33-ABE4-4D19-AE50-17316976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2915-B3EC-4732-8D54-1EAEEE98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0CA6-290F-4075-9871-F1EF98C6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054-A936-4E98-B2B6-9940DDB8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D782-2E4B-430A-A213-212C5CAA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FC3-5775-422D-9DE4-C0CB4704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676-0ADE-4ACC-91D3-8192FE7A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E51-3352-47BE-83BF-4C6789A8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86E-9FED-48CC-86E9-3E0E477B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F43-1AB9-45CA-8832-FB4D1C2C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1C64-13E0-4D62-B302-35A2C4225A4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6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7.wmf"/><Relationship Id="rId8" Type="http://schemas.openxmlformats.org/officeDocument/2006/relationships/package" Target="../embeddings/oleObject4.docx"/><Relationship Id="rId9" Type="http://schemas.openxmlformats.org/officeDocument/2006/relationships/slide" Target="slide18.xml"/><Relationship Id="rId10" Type="http://schemas.openxmlformats.org/officeDocument/2006/relationships/image" Target="../media/image18.wmf"/><Relationship Id="rId11" Type="http://schemas.openxmlformats.org/officeDocument/2006/relationships/package" Target="../embeddings/oleObject5.docx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457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3124080"/>
            <a:ext cx="487692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114800" y="2286000"/>
            <a:ext cx="1371600" cy="1981080"/>
            <a:chOff x="4114800" y="2286000"/>
            <a:chExt cx="1371600" cy="1981080"/>
          </a:xfrm>
        </p:grpSpPr>
        <p:sp>
          <p:nvSpPr>
            <p:cNvPr id="44" name=""/>
            <p:cNvSpPr/>
            <p:nvPr/>
          </p:nvSpPr>
          <p:spPr>
            <a:xfrm>
              <a:off x="41148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400" y="2286000"/>
              <a:ext cx="0" cy="198108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4800600" y="2895120"/>
            <a:ext cx="0" cy="38124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14800" y="24382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266688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2514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28195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25909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4191120"/>
            <a:ext cx="0" cy="6094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4191120"/>
            <a:ext cx="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4267080"/>
            <a:ext cx="5335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4343400"/>
            <a:ext cx="38124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733560" y="4191120"/>
            <a:ext cx="53316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266720" y="4267080"/>
            <a:ext cx="2286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4382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H: 40 a 6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6576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e entierra 30 a 4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1295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Diámetro 15 a 2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3808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odelo de Green y Ampt (191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193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basa en flujo del tipo Ley de Dar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175248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590920"/>
            <a:ext cx="55623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filtración proporcional al gradiente total, incluyendo efecto de s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733920"/>
            <a:ext cx="3429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 =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H+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343400"/>
            <a:ext cx="464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supone que frente húmedo se mueve como pist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48520" y="4876920"/>
            <a:ext cx="220968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4495680"/>
            <a:ext cx="2209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4495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960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45720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46483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5943600"/>
            <a:ext cx="17528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0800" y="60199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Frente húme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533412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2920" y="6248520"/>
            <a:ext cx="121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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9600" y="5257800"/>
            <a:ext cx="685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4876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5334120"/>
            <a:ext cx="54864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: total Agua infiltrada=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S L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5943600"/>
            <a:ext cx="411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H</a:t>
            </a: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&gt;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0:   f=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 K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s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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5715000"/>
            <a:ext cx="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6553080"/>
            <a:ext cx="28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onductividad hidráu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647712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Déficit de humedad del sue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133360" y="6324120"/>
            <a:ext cx="15228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048120" y="6248520"/>
            <a:ext cx="76176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00"/>
                            </p:stCondLst>
                            <p:childTnLst>
                              <p:par>
                                <p:cTn id="7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00"/>
                            </p:stCondLst>
                            <p:childTnLst>
                              <p:par>
                                <p:cTn id="72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2500"/>
                            </p:stCondLst>
                            <p:childTnLst>
                              <p:par>
                                <p:cTn id="74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3500"/>
                            </p:stCondLst>
                            <p:childTnLst>
                              <p:par>
                                <p:cTn id="7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4000"/>
                            </p:stCondLst>
                            <p:childTnLst>
                              <p:par>
                                <p:cTn id="7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4500"/>
                            </p:stCondLst>
                            <p:childTnLst>
                              <p:par>
                                <p:cTn id="77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500"/>
                            </p:stCondLst>
                            <p:childTnLst>
                              <p:par>
                                <p:cTn id="78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500"/>
                            </p:stCondLst>
                            <p:childTnLst>
                              <p:par>
                                <p:cTn id="7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500"/>
                            </p:stCondLst>
                            <p:childTnLst>
                              <p:par>
                                <p:cTn id="82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000"/>
                            </p:stCondLst>
                            <p:childTnLst>
                              <p:par>
                                <p:cTn id="8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85800" y="635040"/>
            <a:ext cx="7467480" cy="560232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3" action="ppaction://hlinksldjump"/>
          </p:cNvPr>
          <p:cNvSpPr/>
          <p:nvPr/>
        </p:nvSpPr>
        <p:spPr>
          <a:xfrm>
            <a:off x="8153280" y="5943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Webdings"/>
                <a:ea typeface="Webdings"/>
              </a:rPr>
              <a:t>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4572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Método de la Curva Número (Soil Conservation Ser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800600" y="1676520"/>
          <a:ext cx="2268360" cy="131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676520"/>
                    <a:ext cx="226836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457200" y="350532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o valor de retención de agua en 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191120" y="2895480"/>
            <a:ext cx="838080" cy="533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40384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máxima escorrentía superfi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477120" y="2971440"/>
            <a:ext cx="121896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0720" y="502920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P = P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e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I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 Cyr"/>
              </a:rPr>
              <a:t> + F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Times New Roman Cyr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67080" y="51055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Ecuación de continu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124080" y="5622840"/>
          <a:ext cx="2514600" cy="123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4080" y="5622840"/>
                    <a:ext cx="251460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066680" y="5867280"/>
            <a:ext cx="1219320" cy="838440"/>
          </a:xfrm>
          <a:prstGeom prst="rightArrow">
            <a:avLst>
              <a:gd name="adj1" fmla="val 50000"/>
              <a:gd name="adj2" fmla="val 3635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2438280" y="1066680"/>
          <a:ext cx="4068720" cy="155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1066680"/>
                    <a:ext cx="40687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914400" y="2743200"/>
          <a:ext cx="2438280" cy="900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743200"/>
                    <a:ext cx="24382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6172200" y="2819520"/>
          <a:ext cx="2019240" cy="772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819520"/>
                    <a:ext cx="2019240" cy="77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04920" y="4495680"/>
          <a:ext cx="4647960" cy="11764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218" name="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4495680"/>
                    <a:ext cx="464796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029200" y="5459400"/>
          <a:ext cx="3695760" cy="9032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5459400"/>
                    <a:ext cx="369576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3886200" y="3048120"/>
            <a:ext cx="685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1880" y="3048120"/>
            <a:ext cx="76212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219320" y="736560"/>
            <a:ext cx="68580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600200" y="-838080"/>
            <a:ext cx="6078600" cy="89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914400" y="1330200"/>
            <a:ext cx="71629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457200"/>
            <a:ext cx="8381880" cy="54201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A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alta capacidad de infiltración. Arenas, gravas y loess profun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B: 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moderada. Loess poco profundos, marga areno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C: 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capacidad de infiltración bajas. Marga arcillosa, marga  arenosa poco profunda, suelos de bajo contenido orgánico y suelos generalmente con alto contenido de arci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CLASE D: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  <a:ea typeface="MS Mincho"/>
              </a:rPr>
              <a:t>Suelos con muy baja capacidad de infiltración o en los que el nivel freático está cerca de la superficie. Suelos que aumentan de volumen cuando están mojados, arcillas plásticas pesadas y algunos suelos sali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7391520" y="6324480"/>
            <a:ext cx="533160" cy="38124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199" h="21600">
                <a:moveTo>
                  <a:pt x="0" y="0"/>
                </a:moveTo>
                <a:lnTo>
                  <a:pt x="30199" y="0"/>
                </a:lnTo>
                <a:lnTo>
                  <a:pt x="30199" y="21600"/>
                </a:lnTo>
                <a:lnTo>
                  <a:pt x="0" y="21600"/>
                </a:lnTo>
                <a:close/>
              </a:path>
              <a:path fill="lightenLess" w="30199" h="21600">
                <a:moveTo>
                  <a:pt x="0" y="0"/>
                </a:moveTo>
                <a:lnTo>
                  <a:pt x="30199" y="0"/>
                </a:lnTo>
                <a:lnTo>
                  <a:pt x="28799" y="1400"/>
                </a:lnTo>
                <a:lnTo>
                  <a:pt x="1400" y="1400"/>
                </a:lnTo>
                <a:close/>
              </a:path>
              <a:path fill="darken" w="30199" h="21600">
                <a:moveTo>
                  <a:pt x="30199" y="0"/>
                </a:moveTo>
                <a:lnTo>
                  <a:pt x="30199" y="21600"/>
                </a:lnTo>
                <a:lnTo>
                  <a:pt x="28799" y="20200"/>
                </a:lnTo>
                <a:lnTo>
                  <a:pt x="28799" y="1400"/>
                </a:lnTo>
                <a:close/>
              </a:path>
              <a:path fill="darkenLess" w="30199" h="21600">
                <a:moveTo>
                  <a:pt x="3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99" y="20200"/>
                </a:lnTo>
                <a:close/>
              </a:path>
              <a:path fill="lighten" w="3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99" h="21600">
                <a:moveTo>
                  <a:pt x="8093" y="3794"/>
                </a:moveTo>
                <a:lnTo>
                  <a:pt x="22106" y="10800"/>
                </a:lnTo>
                <a:lnTo>
                  <a:pt x="809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838080"/>
            <a:ext cx="8153280" cy="3485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lasificación de las Condiciones de Hume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 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Lluvia antecedente de 5 días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 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Grupo AMC     Estación Latente     Estación de 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lt;12.7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lt;3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12,7-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  35,6 - 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III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&gt;27,9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  <a:ea typeface="MS Mincho"/>
              </a:rPr>
              <a:t>   &gt;53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480060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10800"/>
                </a:moveTo>
                <a:lnTo>
                  <a:pt x="17814" y="3794"/>
                </a:lnTo>
                <a:lnTo>
                  <a:pt x="17814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95280" y="4648320"/>
            <a:ext cx="1905120" cy="1752480"/>
          </a:xfrm>
          <a:custGeom>
            <a:avLst/>
            <a:gdLst/>
            <a:ahLst/>
            <a:rect l="l" t="t" r="r" b="b"/>
            <a:pathLst>
              <a:path w="1200" h="1104">
                <a:moveTo>
                  <a:pt x="0" y="1104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0" y="1104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914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 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304920"/>
            <a:ext cx="41148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990720"/>
            <a:ext cx="167652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Indice </a:t>
            </a:r>
            <a:r>
              <a:rPr b="1" lang="es-ES_tradnl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1" lang="es-ES_tradnl" sz="2400" spc="-1" strike="noStrike">
                <a:solidFill>
                  <a:srgbClr val="00ffff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600200"/>
            <a:ext cx="3504960" cy="1159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ffff"/>
                </a:solidFill>
                <a:latin typeface="Verdana"/>
              </a:rPr>
              <a:t>Se admite que para una tormenta dada y en las condiciones iniciales determinadas en la cuenca, el valor de recarga de la cuenca es constante durante toda la duración de la lluv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2400" y="4648320"/>
            <a:ext cx="1908000" cy="1379520"/>
          </a:xfrm>
          <a:custGeom>
            <a:avLst/>
            <a:gdLst/>
            <a:ahLst/>
            <a:rect l="l" t="t" r="r" b="b"/>
            <a:pathLst>
              <a:path w="1202" h="869">
                <a:moveTo>
                  <a:pt x="0" y="852"/>
                </a:moveTo>
                <a:lnTo>
                  <a:pt x="2" y="720"/>
                </a:lnTo>
                <a:lnTo>
                  <a:pt x="194" y="720"/>
                </a:lnTo>
                <a:lnTo>
                  <a:pt x="194" y="288"/>
                </a:lnTo>
                <a:lnTo>
                  <a:pt x="434" y="288"/>
                </a:lnTo>
                <a:lnTo>
                  <a:pt x="434" y="0"/>
                </a:lnTo>
                <a:lnTo>
                  <a:pt x="722" y="0"/>
                </a:lnTo>
                <a:lnTo>
                  <a:pt x="722" y="672"/>
                </a:lnTo>
                <a:lnTo>
                  <a:pt x="962" y="672"/>
                </a:lnTo>
                <a:lnTo>
                  <a:pt x="962" y="480"/>
                </a:lnTo>
                <a:lnTo>
                  <a:pt x="1202" y="480"/>
                </a:lnTo>
                <a:lnTo>
                  <a:pt x="1200" y="869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04920" y="3352680"/>
            <a:ext cx="3962160" cy="3447000"/>
            <a:chOff x="304920" y="3352680"/>
            <a:chExt cx="3962160" cy="3447000"/>
          </a:xfrm>
        </p:grpSpPr>
        <p:sp>
          <p:nvSpPr>
            <p:cNvPr id="237" name=""/>
            <p:cNvSpPr/>
            <p:nvPr/>
          </p:nvSpPr>
          <p:spPr>
            <a:xfrm flipV="1">
              <a:off x="914400" y="35049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4400" y="64008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4920" y="3352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429000" y="6400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066680" y="601992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6019920"/>
            <a:ext cx="60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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95280" y="6019920"/>
            <a:ext cx="1905120" cy="3808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209680" y="4648320"/>
            <a:ext cx="6858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4343400"/>
            <a:ext cx="990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15000" y="2666880"/>
            <a:ext cx="12193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=F/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91320" y="1523880"/>
            <a:ext cx="304560" cy="106704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4419720"/>
            <a:ext cx="1909800" cy="1785960"/>
          </a:xfrm>
          <a:custGeom>
            <a:avLst/>
            <a:gdLst/>
            <a:ahLst/>
            <a:rect l="l" t="t" r="r" b="b"/>
            <a:pathLst>
              <a:path w="1203" h="1125">
                <a:moveTo>
                  <a:pt x="3" y="1125"/>
                </a:moveTo>
                <a:lnTo>
                  <a:pt x="0" y="720"/>
                </a:lnTo>
                <a:lnTo>
                  <a:pt x="192" y="720"/>
                </a:lnTo>
                <a:lnTo>
                  <a:pt x="192" y="288"/>
                </a:lnTo>
                <a:lnTo>
                  <a:pt x="432" y="288"/>
                </a:lnTo>
                <a:lnTo>
                  <a:pt x="432" y="0"/>
                </a:lnTo>
                <a:lnTo>
                  <a:pt x="720" y="0"/>
                </a:lnTo>
                <a:lnTo>
                  <a:pt x="720" y="672"/>
                </a:lnTo>
                <a:lnTo>
                  <a:pt x="960" y="672"/>
                </a:lnTo>
                <a:lnTo>
                  <a:pt x="960" y="480"/>
                </a:lnTo>
                <a:lnTo>
                  <a:pt x="1200" y="480"/>
                </a:lnTo>
                <a:lnTo>
                  <a:pt x="1203" y="1116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4419720" y="3124080"/>
            <a:ext cx="3962160" cy="3447000"/>
            <a:chOff x="4419720" y="3124080"/>
            <a:chExt cx="3962160" cy="3447000"/>
          </a:xfrm>
        </p:grpSpPr>
        <p:sp>
          <p:nvSpPr>
            <p:cNvPr id="250" name=""/>
            <p:cNvSpPr/>
            <p:nvPr/>
          </p:nvSpPr>
          <p:spPr>
            <a:xfrm flipV="1">
              <a:off x="5029200" y="3276360"/>
              <a:ext cx="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29200" y="61722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19720" y="3124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43800" y="61722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Verdan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181480" y="5410080"/>
            <a:ext cx="243864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5638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66"/>
                </a:solidFill>
                <a:latin typeface="Symbol"/>
                <a:ea typeface="Symbol"/>
              </a:rPr>
              <a:t>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7467480" y="5409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67480" y="4038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F</a:t>
            </a:r>
            <a:r>
              <a:rPr b="1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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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781320" y="30481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162920" y="274320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de lluvia efe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1320" y="6400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10280" y="6400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6400800"/>
            <a:ext cx="2590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e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=   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        +    t</a:t>
            </a:r>
            <a:r>
              <a:rPr b="1" lang="es-ES_tradnl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4419720"/>
            <a:ext cx="838080" cy="99036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624"/>
                </a:moveTo>
                <a:lnTo>
                  <a:pt x="0" y="288"/>
                </a:lnTo>
                <a:lnTo>
                  <a:pt x="240" y="288"/>
                </a:lnTo>
                <a:lnTo>
                  <a:pt x="240" y="0"/>
                </a:lnTo>
                <a:lnTo>
                  <a:pt x="528" y="0"/>
                </a:lnTo>
                <a:lnTo>
                  <a:pt x="528" y="624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5181480"/>
            <a:ext cx="380880" cy="228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3352680" y="4647960"/>
            <a:ext cx="2819520" cy="5331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000"/>
                            </p:stCondLst>
                            <p:childTnLst>
                              <p:par>
                                <p:cTn id="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"/>
                            </p:stCondLst>
                            <p:childTnLst>
                              <p:par>
                                <p:cTn id="10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5120" y="1981080"/>
            <a:ext cx="4343400" cy="1600200"/>
          </a:xfrm>
          <a:custGeom>
            <a:avLst/>
            <a:gdLst/>
            <a:ahLst/>
            <a:rect l="l" t="t" r="r" b="b"/>
            <a:pathLst>
              <a:path w="2736" h="1008">
                <a:moveTo>
                  <a:pt x="0" y="48"/>
                </a:moveTo>
                <a:lnTo>
                  <a:pt x="672" y="48"/>
                </a:lnTo>
                <a:lnTo>
                  <a:pt x="672" y="1008"/>
                </a:lnTo>
                <a:lnTo>
                  <a:pt x="1968" y="1008"/>
                </a:lnTo>
                <a:lnTo>
                  <a:pt x="1968" y="0"/>
                </a:lnTo>
                <a:lnTo>
                  <a:pt x="2688" y="0"/>
                </a:lnTo>
                <a:lnTo>
                  <a:pt x="2736" y="0"/>
                </a:ln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9880" y="3886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97180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90920" y="2057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2362320"/>
            <a:ext cx="2057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57760" y="2367000"/>
            <a:ext cx="347400" cy="252360"/>
          </a:xfrm>
          <a:custGeom>
            <a:avLst/>
            <a:gdLst/>
            <a:ahLst/>
            <a:rect l="l" t="t" r="r" b="b"/>
            <a:pathLst>
              <a:path w="219" h="159">
                <a:moveTo>
                  <a:pt x="39" y="0"/>
                </a:moveTo>
                <a:cubicBezTo>
                  <a:pt x="0" y="39"/>
                  <a:pt x="21" y="50"/>
                  <a:pt x="64" y="60"/>
                </a:cubicBezTo>
                <a:cubicBezTo>
                  <a:pt x="70" y="66"/>
                  <a:pt x="74" y="74"/>
                  <a:pt x="81" y="78"/>
                </a:cubicBezTo>
                <a:cubicBezTo>
                  <a:pt x="105" y="92"/>
                  <a:pt x="127" y="79"/>
                  <a:pt x="81" y="95"/>
                </a:cubicBezTo>
                <a:cubicBezTo>
                  <a:pt x="118" y="106"/>
                  <a:pt x="156" y="111"/>
                  <a:pt x="193" y="120"/>
                </a:cubicBezTo>
                <a:cubicBezTo>
                  <a:pt x="179" y="123"/>
                  <a:pt x="155" y="115"/>
                  <a:pt x="150" y="129"/>
                </a:cubicBezTo>
                <a:cubicBezTo>
                  <a:pt x="146" y="141"/>
                  <a:pt x="172" y="141"/>
                  <a:pt x="184" y="146"/>
                </a:cubicBezTo>
                <a:cubicBezTo>
                  <a:pt x="192" y="150"/>
                  <a:pt x="219" y="154"/>
                  <a:pt x="210" y="155"/>
                </a:cubicBezTo>
                <a:cubicBezTo>
                  <a:pt x="179" y="159"/>
                  <a:pt x="147" y="155"/>
                  <a:pt x="116" y="155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242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43828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Sup. Infilt.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R(x+R/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457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ORCH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2743200"/>
            <a:ext cx="53316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971800"/>
            <a:ext cx="3049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500"/>
                            </p:stCondLst>
                            <p:childTnLst>
                              <p:par>
                                <p:cTn id="1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4572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ndices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1219320"/>
            <a:ext cx="739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+.....+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13372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a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1280" y="2819520"/>
            <a:ext cx="3962520" cy="336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 días sin llover cuando ocurre P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3276720" y="2590920"/>
            <a:ext cx="3045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43000" y="396252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=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 (k-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/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4648320"/>
            <a:ext cx="36576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tiempo entre lluvia i y la anter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2590920" y="4343400"/>
            <a:ext cx="76176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548640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Verdana"/>
              </a:rPr>
              <a:t>COEFICIENTES DE ESCORRENTIA: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180200">
            <a:off x="5409720" y="540972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5715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Verdana"/>
              </a:rPr>
              <a:t>Pe=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38080" y="609480"/>
            <a:ext cx="66294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dice de Precipitación Antecedente (I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38280" y="160020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4120" y="2362320"/>
            <a:ext cx="3504960" cy="733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Cuando ocurre P1, ésta se agrega a la humedad existente para definir un nuevo I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914400" y="2742840"/>
            <a:ext cx="0" cy="3352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6095880"/>
            <a:ext cx="533412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14400" y="4724280"/>
            <a:ext cx="609480" cy="914400"/>
          </a:xfrm>
          <a:custGeom>
            <a:avLst/>
            <a:gdLst/>
            <a:ahLst/>
            <a:rect l="l" t="t" r="r" b="b"/>
            <a:pathLst>
              <a:path w="384" h="576">
                <a:moveTo>
                  <a:pt x="0" y="0"/>
                </a:moveTo>
                <a:cubicBezTo>
                  <a:pt x="16" y="120"/>
                  <a:pt x="32" y="240"/>
                  <a:pt x="96" y="336"/>
                </a:cubicBezTo>
                <a:cubicBezTo>
                  <a:pt x="160" y="432"/>
                  <a:pt x="336" y="536"/>
                  <a:pt x="384" y="57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523880" y="4343400"/>
            <a:ext cx="0" cy="12952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4343400"/>
            <a:ext cx="685800" cy="99072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0" y="0"/>
                </a:moveTo>
                <a:cubicBezTo>
                  <a:pt x="12" y="116"/>
                  <a:pt x="24" y="232"/>
                  <a:pt x="96" y="336"/>
                </a:cubicBezTo>
                <a:cubicBezTo>
                  <a:pt x="168" y="440"/>
                  <a:pt x="300" y="532"/>
                  <a:pt x="432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09680" y="3505320"/>
            <a:ext cx="0" cy="1828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3505320"/>
            <a:ext cx="1828800" cy="121896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0" y="0"/>
                </a:moveTo>
                <a:cubicBezTo>
                  <a:pt x="8" y="136"/>
                  <a:pt x="16" y="272"/>
                  <a:pt x="144" y="384"/>
                </a:cubicBezTo>
                <a:cubicBezTo>
                  <a:pt x="272" y="496"/>
                  <a:pt x="600" y="608"/>
                  <a:pt x="768" y="672"/>
                </a:cubicBezTo>
                <a:cubicBezTo>
                  <a:pt x="936" y="736"/>
                  <a:pt x="1044" y="752"/>
                  <a:pt x="1152" y="76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46483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457200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4952880"/>
            <a:ext cx="22860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2209320" y="4495680"/>
            <a:ext cx="3049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280" y="449568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914040" y="4343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41148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61722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617220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981080" y="5181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914040" y="5181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5029200"/>
            <a:ext cx="762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1400" spc="-1" strike="noStrike" baseline="-25000">
                <a:solidFill>
                  <a:srgbClr val="3333cc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267080" y="5105520"/>
            <a:ext cx="28958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IPA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K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066320" y="2133720"/>
            <a:ext cx="1676520" cy="2971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828440" y="4876920"/>
            <a:ext cx="24382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0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1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762120" y="380880"/>
            <a:ext cx="7848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Mecanismos de Producción de la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Hor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41320" y="2381400"/>
            <a:ext cx="1341720" cy="2300040"/>
          </a:xfrm>
          <a:custGeom>
            <a:avLst/>
            <a:gdLst/>
            <a:ahLst/>
            <a:rect l="l" t="t" r="r" b="b"/>
            <a:pathLst>
              <a:path w="845" h="1449">
                <a:moveTo>
                  <a:pt x="0" y="0"/>
                </a:moveTo>
                <a:cubicBezTo>
                  <a:pt x="3" y="43"/>
                  <a:pt x="3" y="86"/>
                  <a:pt x="9" y="129"/>
                </a:cubicBezTo>
                <a:cubicBezTo>
                  <a:pt x="18" y="191"/>
                  <a:pt x="70" y="249"/>
                  <a:pt x="112" y="291"/>
                </a:cubicBezTo>
                <a:cubicBezTo>
                  <a:pt x="145" y="324"/>
                  <a:pt x="184" y="351"/>
                  <a:pt x="223" y="377"/>
                </a:cubicBezTo>
                <a:cubicBezTo>
                  <a:pt x="232" y="383"/>
                  <a:pt x="249" y="394"/>
                  <a:pt x="249" y="394"/>
                </a:cubicBezTo>
                <a:cubicBezTo>
                  <a:pt x="295" y="465"/>
                  <a:pt x="235" y="384"/>
                  <a:pt x="292" y="429"/>
                </a:cubicBezTo>
                <a:cubicBezTo>
                  <a:pt x="300" y="435"/>
                  <a:pt x="302" y="447"/>
                  <a:pt x="309" y="454"/>
                </a:cubicBezTo>
                <a:cubicBezTo>
                  <a:pt x="322" y="467"/>
                  <a:pt x="337" y="478"/>
                  <a:pt x="352" y="489"/>
                </a:cubicBezTo>
                <a:cubicBezTo>
                  <a:pt x="412" y="534"/>
                  <a:pt x="467" y="574"/>
                  <a:pt x="514" y="634"/>
                </a:cubicBezTo>
                <a:cubicBezTo>
                  <a:pt x="567" y="702"/>
                  <a:pt x="647" y="772"/>
                  <a:pt x="686" y="849"/>
                </a:cubicBezTo>
                <a:cubicBezTo>
                  <a:pt x="717" y="909"/>
                  <a:pt x="768" y="1056"/>
                  <a:pt x="806" y="1114"/>
                </a:cubicBezTo>
                <a:cubicBezTo>
                  <a:pt x="845" y="1322"/>
                  <a:pt x="827" y="1379"/>
                  <a:pt x="832" y="1449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4191120"/>
            <a:ext cx="762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3657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58128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1080" y="2381400"/>
            <a:ext cx="209520" cy="51408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73400" y="2367000"/>
            <a:ext cx="304560" cy="757080"/>
          </a:xfrm>
          <a:custGeom>
            <a:avLst/>
            <a:gdLst/>
            <a:ahLst/>
            <a:rect l="l" t="t" r="r" b="b"/>
            <a:pathLst>
              <a:path w="192" h="477">
                <a:moveTo>
                  <a:pt x="179" y="0"/>
                </a:moveTo>
                <a:cubicBezTo>
                  <a:pt x="176" y="30"/>
                  <a:pt x="192" y="133"/>
                  <a:pt x="171" y="180"/>
                </a:cubicBezTo>
                <a:cubicBezTo>
                  <a:pt x="150" y="227"/>
                  <a:pt x="83" y="244"/>
                  <a:pt x="56" y="285"/>
                </a:cubicBezTo>
                <a:cubicBezTo>
                  <a:pt x="29" y="326"/>
                  <a:pt x="16" y="397"/>
                  <a:pt x="8" y="429"/>
                </a:cubicBezTo>
                <a:cubicBezTo>
                  <a:pt x="0" y="461"/>
                  <a:pt x="4" y="469"/>
                  <a:pt x="8" y="47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666880" y="2362320"/>
            <a:ext cx="406440" cy="1143000"/>
          </a:xfrm>
          <a:custGeom>
            <a:avLst/>
            <a:gdLst/>
            <a:ahLst/>
            <a:rect l="l" t="t" r="r" b="b"/>
            <a:pathLst>
              <a:path w="256" h="720">
                <a:moveTo>
                  <a:pt x="240" y="0"/>
                </a:moveTo>
                <a:cubicBezTo>
                  <a:pt x="240" y="52"/>
                  <a:pt x="240" y="104"/>
                  <a:pt x="240" y="144"/>
                </a:cubicBezTo>
                <a:cubicBezTo>
                  <a:pt x="240" y="184"/>
                  <a:pt x="256" y="208"/>
                  <a:pt x="240" y="240"/>
                </a:cubicBezTo>
                <a:cubicBezTo>
                  <a:pt x="224" y="272"/>
                  <a:pt x="176" y="296"/>
                  <a:pt x="144" y="336"/>
                </a:cubicBezTo>
                <a:cubicBezTo>
                  <a:pt x="112" y="376"/>
                  <a:pt x="72" y="416"/>
                  <a:pt x="48" y="480"/>
                </a:cubicBezTo>
                <a:cubicBezTo>
                  <a:pt x="24" y="544"/>
                  <a:pt x="12" y="632"/>
                  <a:pt x="0" y="7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34290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133720" y="3352320"/>
            <a:ext cx="30456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2590920"/>
            <a:ext cx="1905120" cy="152280"/>
          </a:xfrm>
          <a:prstGeom prst="line">
            <a:avLst/>
          </a:prstGeom>
          <a:ln w="1908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2286000"/>
            <a:ext cx="4114800" cy="122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3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 tiempo de empapamiento. La infiltración empieza a disminuir (antes todo infiltra) y se genera el flujo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48320" y="44956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48520" y="5105520"/>
            <a:ext cx="663480" cy="541080"/>
          </a:xfrm>
          <a:custGeom>
            <a:avLst/>
            <a:gdLst/>
            <a:ahLst/>
            <a:rect l="l" t="t" r="r" b="b"/>
            <a:pathLst>
              <a:path w="418" h="341">
                <a:moveTo>
                  <a:pt x="0" y="0"/>
                </a:moveTo>
                <a:cubicBezTo>
                  <a:pt x="11" y="32"/>
                  <a:pt x="30" y="145"/>
                  <a:pt x="67" y="195"/>
                </a:cubicBezTo>
                <a:cubicBezTo>
                  <a:pt x="104" y="245"/>
                  <a:pt x="162" y="274"/>
                  <a:pt x="221" y="298"/>
                </a:cubicBezTo>
                <a:cubicBezTo>
                  <a:pt x="280" y="322"/>
                  <a:pt x="377" y="332"/>
                  <a:pt x="418" y="34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11880" y="5891040"/>
            <a:ext cx="627120" cy="586080"/>
          </a:xfrm>
          <a:custGeom>
            <a:avLst/>
            <a:gdLst/>
            <a:ahLst/>
            <a:rect l="l" t="t" r="r" b="b"/>
            <a:pathLst>
              <a:path w="395" h="369">
                <a:moveTo>
                  <a:pt x="8" y="369"/>
                </a:moveTo>
                <a:cubicBezTo>
                  <a:pt x="4" y="337"/>
                  <a:pt x="0" y="305"/>
                  <a:pt x="8" y="273"/>
                </a:cubicBezTo>
                <a:cubicBezTo>
                  <a:pt x="16" y="241"/>
                  <a:pt x="40" y="201"/>
                  <a:pt x="56" y="177"/>
                </a:cubicBezTo>
                <a:cubicBezTo>
                  <a:pt x="72" y="153"/>
                  <a:pt x="72" y="153"/>
                  <a:pt x="104" y="129"/>
                </a:cubicBezTo>
                <a:cubicBezTo>
                  <a:pt x="136" y="105"/>
                  <a:pt x="200" y="55"/>
                  <a:pt x="248" y="33"/>
                </a:cubicBezTo>
                <a:cubicBezTo>
                  <a:pt x="296" y="11"/>
                  <a:pt x="365" y="7"/>
                  <a:pt x="395" y="0"/>
                </a:cubicBezTo>
              </a:path>
            </a:pathLst>
          </a:cu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029200"/>
            <a:ext cx="4038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En zonas de alta pendiente y cuando K &lt;i. Suelo Congelado</a:t>
            </a:r>
            <a:r>
              <a:rPr b="1" lang="es-ES" sz="1400" spc="-1" strike="noStrike">
                <a:solidFill>
                  <a:srgbClr val="3333cc"/>
                </a:solidFill>
                <a:latin typeface="Verdana"/>
              </a:rPr>
              <a:t> e hidrofóbicos. Si suelo desnudo, porque sobre superficies vegetadas, la materia orgánica y la actividad biológica contribuyen a aumentar k y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91120" y="5638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876920"/>
            <a:ext cx="31240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8077320" y="10666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0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500"/>
                            </p:stCondLst>
                            <p:childTnLst>
                              <p:par>
                                <p:cTn id="14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500"/>
                            </p:stCondLst>
                            <p:childTnLst>
                              <p:par>
                                <p:cTn id="1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500"/>
                            </p:stCondLst>
                            <p:childTnLst>
                              <p:par>
                                <p:cTn id="14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09480" y="1219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ipo Dun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2362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5280" y="2362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4648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Verdana"/>
              </a:rPr>
              <a:t>Profund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741320" y="2381400"/>
            <a:ext cx="1349640" cy="1755720"/>
          </a:xfrm>
          <a:custGeom>
            <a:avLst/>
            <a:gdLst/>
            <a:ahLst/>
            <a:rect l="l" t="t" r="r" b="b"/>
            <a:pathLst>
              <a:path w="850" h="1106">
                <a:moveTo>
                  <a:pt x="0" y="0"/>
                </a:moveTo>
                <a:cubicBezTo>
                  <a:pt x="3" y="43"/>
                  <a:pt x="37" y="17"/>
                  <a:pt x="43" y="60"/>
                </a:cubicBezTo>
                <a:cubicBezTo>
                  <a:pt x="52" y="122"/>
                  <a:pt x="52" y="69"/>
                  <a:pt x="94" y="111"/>
                </a:cubicBezTo>
                <a:cubicBezTo>
                  <a:pt x="127" y="144"/>
                  <a:pt x="150" y="128"/>
                  <a:pt x="189" y="154"/>
                </a:cubicBezTo>
                <a:cubicBezTo>
                  <a:pt x="198" y="160"/>
                  <a:pt x="300" y="206"/>
                  <a:pt x="300" y="206"/>
                </a:cubicBezTo>
                <a:cubicBezTo>
                  <a:pt x="360" y="240"/>
                  <a:pt x="372" y="195"/>
                  <a:pt x="429" y="240"/>
                </a:cubicBezTo>
                <a:cubicBezTo>
                  <a:pt x="437" y="246"/>
                  <a:pt x="645" y="276"/>
                  <a:pt x="652" y="283"/>
                </a:cubicBezTo>
                <a:cubicBezTo>
                  <a:pt x="665" y="296"/>
                  <a:pt x="757" y="332"/>
                  <a:pt x="772" y="343"/>
                </a:cubicBezTo>
                <a:cubicBezTo>
                  <a:pt x="832" y="388"/>
                  <a:pt x="814" y="541"/>
                  <a:pt x="832" y="591"/>
                </a:cubicBezTo>
                <a:cubicBezTo>
                  <a:pt x="850" y="641"/>
                  <a:pt x="824" y="384"/>
                  <a:pt x="823" y="420"/>
                </a:cubicBezTo>
                <a:cubicBezTo>
                  <a:pt x="820" y="443"/>
                  <a:pt x="823" y="660"/>
                  <a:pt x="814" y="729"/>
                </a:cubicBezTo>
                <a:cubicBezTo>
                  <a:pt x="814" y="798"/>
                  <a:pt x="814" y="840"/>
                  <a:pt x="814" y="840"/>
                </a:cubicBezTo>
                <a:cubicBezTo>
                  <a:pt x="814" y="907"/>
                  <a:pt x="818" y="1065"/>
                  <a:pt x="814" y="1106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3124080"/>
            <a:ext cx="761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86200" y="2514600"/>
            <a:ext cx="190512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cc"/>
                </a:solidFill>
                <a:latin typeface="Verdana"/>
              </a:rPr>
              <a:t>Nivel fre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657240" y="28954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048120" y="23619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895480" y="1981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2381400"/>
            <a:ext cx="133200" cy="209520"/>
          </a:xfrm>
          <a:custGeom>
            <a:avLst/>
            <a:gdLst/>
            <a:ahLst/>
            <a:rect l="l" t="t" r="r" b="b"/>
            <a:pathLst>
              <a:path w="132" h="324">
                <a:moveTo>
                  <a:pt x="132" y="0"/>
                </a:moveTo>
                <a:cubicBezTo>
                  <a:pt x="128" y="22"/>
                  <a:pt x="113" y="96"/>
                  <a:pt x="96" y="132"/>
                </a:cubicBezTo>
                <a:cubicBezTo>
                  <a:pt x="79" y="168"/>
                  <a:pt x="45" y="182"/>
                  <a:pt x="29" y="214"/>
                </a:cubicBezTo>
                <a:cubicBezTo>
                  <a:pt x="13" y="246"/>
                  <a:pt x="6" y="301"/>
                  <a:pt x="0" y="324"/>
                </a:cubicBez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89320" y="2362320"/>
            <a:ext cx="115920" cy="414360"/>
          </a:xfrm>
          <a:custGeom>
            <a:avLst/>
            <a:gdLst/>
            <a:ahLst/>
            <a:rect l="l" t="t" r="r" b="b"/>
            <a:pathLst>
              <a:path w="73" h="261">
                <a:moveTo>
                  <a:pt x="14" y="0"/>
                </a:moveTo>
                <a:cubicBezTo>
                  <a:pt x="12" y="15"/>
                  <a:pt x="0" y="67"/>
                  <a:pt x="8" y="89"/>
                </a:cubicBezTo>
                <a:cubicBezTo>
                  <a:pt x="16" y="111"/>
                  <a:pt x="55" y="112"/>
                  <a:pt x="64" y="132"/>
                </a:cubicBezTo>
                <a:cubicBezTo>
                  <a:pt x="73" y="152"/>
                  <a:pt x="64" y="188"/>
                  <a:pt x="64" y="209"/>
                </a:cubicBezTo>
                <a:cubicBezTo>
                  <a:pt x="64" y="230"/>
                  <a:pt x="64" y="250"/>
                  <a:pt x="64" y="26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52840" y="2381400"/>
            <a:ext cx="395280" cy="556920"/>
          </a:xfrm>
          <a:custGeom>
            <a:avLst/>
            <a:gdLst/>
            <a:ahLst/>
            <a:rect l="l" t="t" r="r" b="b"/>
            <a:pathLst>
              <a:path w="249" h="351">
                <a:moveTo>
                  <a:pt x="9" y="0"/>
                </a:moveTo>
                <a:cubicBezTo>
                  <a:pt x="10" y="4"/>
                  <a:pt x="8" y="13"/>
                  <a:pt x="9" y="26"/>
                </a:cubicBezTo>
                <a:cubicBezTo>
                  <a:pt x="10" y="39"/>
                  <a:pt x="0" y="57"/>
                  <a:pt x="18" y="77"/>
                </a:cubicBezTo>
                <a:cubicBezTo>
                  <a:pt x="36" y="97"/>
                  <a:pt x="94" y="129"/>
                  <a:pt x="120" y="146"/>
                </a:cubicBezTo>
                <a:cubicBezTo>
                  <a:pt x="146" y="163"/>
                  <a:pt x="153" y="146"/>
                  <a:pt x="174" y="180"/>
                </a:cubicBezTo>
                <a:cubicBezTo>
                  <a:pt x="195" y="214"/>
                  <a:pt x="239" y="342"/>
                  <a:pt x="249" y="351"/>
                </a:cubicBezTo>
                <a:lnTo>
                  <a:pt x="232" y="23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47920" y="289548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600200" y="2666520"/>
            <a:ext cx="304920" cy="2286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09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41911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64771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148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48320" y="5105520"/>
            <a:ext cx="2286000" cy="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48320" y="5105520"/>
            <a:ext cx="1600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86600" y="5334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Verdana"/>
              </a:rPr>
              <a:t>infilt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6477120"/>
            <a:ext cx="1676160" cy="0"/>
          </a:xfrm>
          <a:prstGeom prst="line">
            <a:avLst/>
          </a:prstGeom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6172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996633"/>
                </a:solidFill>
                <a:latin typeface="Verdana"/>
              </a:rPr>
              <a:t>Flujo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6477120"/>
            <a:ext cx="685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4080" y="2819520"/>
            <a:ext cx="381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505320" y="2666880"/>
            <a:ext cx="304560" cy="152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952880" y="838080"/>
            <a:ext cx="419112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cc"/>
                </a:solidFill>
                <a:latin typeface="Verdana"/>
              </a:rPr>
              <a:t>La saturación de l suelo ocurre por el ascenso del nivel freático. Cuando todo está saturado (no hay almacenamiento disponible) se genera flujo super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781320" y="2209680"/>
            <a:ext cx="304920" cy="2133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248520" y="51055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48520" y="647712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6248520" y="5105520"/>
            <a:ext cx="0" cy="137160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248520" y="5105520"/>
            <a:ext cx="99036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7200" y="594360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erca de vegas y ca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4495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0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500"/>
                            </p:stCondLst>
                            <p:childTnLst>
                              <p:par>
                                <p:cTn id="1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500"/>
                            </p:stCondLst>
                            <p:childTnLst>
                              <p:par>
                                <p:cTn id="1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00"/>
                            </p:stCondLst>
                            <p:childTnLst>
                              <p:par>
                                <p:cTn id="16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500"/>
                            </p:stCondLst>
                            <p:childTnLst>
                              <p:par>
                                <p:cTn id="167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500"/>
                            </p:stCondLst>
                            <p:childTnLst>
                              <p:par>
                                <p:cTn id="17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28600" y="0"/>
            <a:ext cx="838188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Flujo Superficial y Erosión. Los flujos tipo Horton  y por saturación mueven sedimento pendiente abajo. Esto da como resultado el lavado superficial del suelo (sheetwash) y la formación de canalículos (rills)y cárcavas (gulli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l lavado superficial es fomentado por la erosión producida por el impacto de las gotas de lluvia que remueven las partículas superficiales (más efectivo en suelos sin cubierta vegetal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Verdana"/>
              </a:rPr>
              <a:t>En todos los casos, el movimiento del suelo y partículas de roca debido al escurrimiento del agua es la ERO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572000" y="3917880"/>
            <a:ext cx="4378320" cy="27464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152280" y="3962520"/>
            <a:ext cx="4572000" cy="26924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828800" y="40384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anal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410080" y="41148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árca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838080" y="609480"/>
            <a:ext cx="7010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almacenamiento superfi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895480" y="1676520"/>
                <a:ext cx="33591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052800" y="3098880"/>
                <a:ext cx="31957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≡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762120" y="4419720"/>
            <a:ext cx="67816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asa de escurrimiento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609480" y="5486400"/>
                <a:ext cx="77504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ν</m:t>
                    </m:r>
                    <m:r>
                      <m:t xml:space="preserve">≡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685800" y="4572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Diagrama de Distribución de la Llu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143000" y="974880"/>
          <a:ext cx="6629400" cy="508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974880"/>
                    <a:ext cx="662940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8153280" y="5851440"/>
            <a:ext cx="533520" cy="441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ccccff"/>
                </a:solidFill>
                <a:uFillTx/>
                <a:latin typeface="Verdana"/>
                <a:hlinkClick r:id="rId4" action="ppaction://hlinksldjump"/>
              </a:rPr>
              <a:t>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>
            <a:hlinkClick r:id="" action="ppaction://hlinkshowjump?jump=previousslide"/>
          </p:cNvPr>
          <p:cNvSpPr/>
          <p:nvPr/>
        </p:nvSpPr>
        <p:spPr>
          <a:xfrm>
            <a:off x="8305920" y="5943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19320" y="762120"/>
            <a:ext cx="6629400" cy="3473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las presiones negativas son mayores de 15 bar, la planta (raíces) no puede extraer el agua.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Punto de Marchitez Perman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áxima cantidad de agua que el suelo puede almacenar en contra de la acción de la gravedad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Capacidad de ca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l agua en exceso (por sobre CC) per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79000" y="0"/>
            <a:ext cx="517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ttp://www.aquarien.com/sptutor/pdeb3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" action="ppaction://hlinkshowjump?jump=lastslide"/>
          </p:cNvPr>
          <p:cNvSpPr/>
          <p:nvPr/>
        </p:nvSpPr>
        <p:spPr>
          <a:xfrm>
            <a:off x="8381880" y="64771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7394" y="17806"/>
                </a:lnTo>
                <a:lnTo>
                  <a:pt x="7394" y="3794"/>
                </a:lnTo>
                <a:close/>
              </a:path>
              <a:path fill="darken" w="28800" h="21600">
                <a:moveTo>
                  <a:pt x="19744" y="3794"/>
                </a:moveTo>
                <a:lnTo>
                  <a:pt x="19744" y="17806"/>
                </a:lnTo>
                <a:lnTo>
                  <a:pt x="21406" y="17806"/>
                </a:lnTo>
                <a:lnTo>
                  <a:pt x="214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92564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685800" y="51444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066680" y="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990720" y="1371600"/>
          <a:ext cx="7010280" cy="4195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371600"/>
                    <a:ext cx="701028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ARCELAS EXPERIM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943240" y="1143000"/>
            <a:ext cx="1066680" cy="2895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2057400"/>
            <a:ext cx="83844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609480"/>
            <a:ext cx="2286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</a:t>
            </a:r>
            <a:r>
              <a:rPr b="1" lang="es-ES_tradnl" sz="1400" spc="-1" strike="noStrike" baseline="-25000">
                <a:solidFill>
                  <a:srgbClr val="000099"/>
                </a:solidFill>
                <a:latin typeface="Verdana"/>
              </a:rPr>
              <a:t>a</a:t>
            </a: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: Volumen de detención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876560" y="3657240"/>
            <a:ext cx="1600200" cy="243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609588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Da+ V depresiones super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724280" y="1447920"/>
            <a:ext cx="3200400" cy="3657600"/>
            <a:chOff x="4724280" y="1447920"/>
            <a:chExt cx="3200400" cy="3657600"/>
          </a:xfrm>
        </p:grpSpPr>
        <p:sp>
          <p:nvSpPr>
            <p:cNvPr id="86" name=""/>
            <p:cNvSpPr/>
            <p:nvPr/>
          </p:nvSpPr>
          <p:spPr>
            <a:xfrm>
              <a:off x="4724280" y="1447920"/>
              <a:ext cx="3200400" cy="36576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560" y="2209680"/>
              <a:ext cx="266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Verdana"/>
                </a:rPr>
                <a:t>Prueb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408" name="">
            <a:hlinkClick r:id="rId3" action="ppaction://hlinksldjump"/>
          </p:cNvPr>
          <p:cNvSpPr/>
          <p:nvPr/>
        </p:nvSpPr>
        <p:spPr>
          <a:xfrm>
            <a:off x="8153280" y="60958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Webdings"/>
                <a:ea typeface="Webdings"/>
              </a:rPr>
              <a:t>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495680" y="5715000"/>
            <a:ext cx="358164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66"/>
                </a:solidFill>
                <a:latin typeface="Copperplate Gothic Light"/>
              </a:rPr>
              <a:t>Fin Capítulo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2666520"/>
            <a:ext cx="4267080" cy="2667600"/>
            <a:chOff x="228600" y="2666520"/>
            <a:chExt cx="4267080" cy="2667600"/>
          </a:xfrm>
        </p:grpSpPr>
        <p:sp>
          <p:nvSpPr>
            <p:cNvPr id="89" name=""/>
            <p:cNvSpPr/>
            <p:nvPr/>
          </p:nvSpPr>
          <p:spPr>
            <a:xfrm flipV="1">
              <a:off x="762120" y="2666520"/>
              <a:ext cx="0" cy="266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2120" y="53341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120" y="3581280"/>
              <a:ext cx="3276360" cy="1600200"/>
            </a:xfrm>
            <a:custGeom>
              <a:avLst/>
              <a:gdLst/>
              <a:ahLst/>
              <a:rect l="l" t="t" r="r" b="b"/>
              <a:pathLst>
                <a:path w="2064" h="1008">
                  <a:moveTo>
                    <a:pt x="0" y="0"/>
                  </a:moveTo>
                  <a:cubicBezTo>
                    <a:pt x="4" y="128"/>
                    <a:pt x="8" y="256"/>
                    <a:pt x="96" y="384"/>
                  </a:cubicBezTo>
                  <a:cubicBezTo>
                    <a:pt x="184" y="512"/>
                    <a:pt x="328" y="672"/>
                    <a:pt x="528" y="768"/>
                  </a:cubicBezTo>
                  <a:cubicBezTo>
                    <a:pt x="728" y="864"/>
                    <a:pt x="1040" y="920"/>
                    <a:pt x="1296" y="960"/>
                  </a:cubicBezTo>
                  <a:cubicBezTo>
                    <a:pt x="1552" y="1000"/>
                    <a:pt x="1808" y="1004"/>
                    <a:pt x="2064" y="1008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" y="335268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" y="4800600"/>
              <a:ext cx="609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Verdan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990720" y="6858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Ecuaciones Empíricas para Estimar la In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76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Hor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8153280" y="3123720"/>
            <a:ext cx="1526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67480" y="48769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Verdana"/>
              </a:rPr>
              <a:t>constante de decaimi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548640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corresponde a la solución de la ecuación de Richards para la tasa de difusión de humedad (D(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0" lang="es-ES_tradnl" sz="2000" spc="-1" strike="noStrike">
                <a:solidFill>
                  <a:srgbClr val="000099"/>
                </a:solidFill>
                <a:latin typeface="Times New Roman"/>
              </a:rPr>
              <a:t>θ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/</a:t>
            </a:r>
            <a:r>
              <a:rPr b="0" lang="es-ES_tradnl" sz="2000" spc="-1" strike="noStrike">
                <a:solidFill>
                  <a:srgbClr val="000099"/>
                </a:solidFill>
                <a:latin typeface="Symbol"/>
                <a:ea typeface="Symbol"/>
              </a:rPr>
              <a:t></a:t>
            </a:r>
            <a:r>
              <a:rPr b="1" lang="es-ES_tradnl" sz="2000" spc="-1" strike="noStrike">
                <a:solidFill>
                  <a:srgbClr val="000099"/>
                </a:solidFill>
                <a:latin typeface="Times New Roman Cyr"/>
              </a:rPr>
              <a:t>z)) en la superficie del suelo, cuando se considera que K y D son constantes independientes de la humedad del sue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43000" y="2438280"/>
          <a:ext cx="7391520" cy="1239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438280"/>
                    <a:ext cx="739152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533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(1957,196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4479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resolvió la ec. de Richards en condiciones menos restrictivas, considerando que K y D podían variar con el contenido de humedad 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200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transformación de Boltzman B(</a:t>
            </a: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θ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) =zt</a:t>
            </a:r>
            <a:r>
              <a:rPr b="1" lang="es-ES_tradnl" sz="2400" spc="-1" strike="noStrike" baseline="30000">
                <a:solidFill>
                  <a:srgbClr val="000099"/>
                </a:solidFill>
                <a:latin typeface="Verdana"/>
              </a:rPr>
              <a:t>-1/2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666880"/>
            <a:ext cx="914400" cy="38124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3434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infiltración acumulada F(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486400" y="4648320"/>
          <a:ext cx="3352680" cy="788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648320"/>
                    <a:ext cx="335268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724280" y="6172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Sorptividad o Adsor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095880" y="5409720"/>
            <a:ext cx="76212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5800" y="5600880"/>
          <a:ext cx="2590920" cy="965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5600880"/>
                    <a:ext cx="25909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rot="19980000">
            <a:off x="3886200" y="5181480"/>
            <a:ext cx="1371600" cy="990720"/>
          </a:xfrm>
          <a:prstGeom prst="leftArrow">
            <a:avLst>
              <a:gd name="adj1" fmla="val 50000"/>
              <a:gd name="adj2" fmla="val 34611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F/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5715000"/>
            <a:ext cx="1295640" cy="580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Verdana"/>
              </a:rPr>
              <a:t>Columna horizo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838080" y="2133720"/>
          <a:ext cx="6705720" cy="1352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2133720"/>
                    <a:ext cx="67057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6212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hil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400" y="1600200"/>
            <a:ext cx="914400" cy="6858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12193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perme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9625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Verdana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81080" y="3352680"/>
            <a:ext cx="91440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380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Verdana"/>
              </a:rPr>
              <a:t>Potencial capilar en el frente de hum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095880" y="990720"/>
            <a:ext cx="1067040" cy="1295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3809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9"/>
                </a:solidFill>
                <a:latin typeface="Verdana"/>
              </a:rPr>
              <a:t>Profundidad de agua sobre 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6934320" y="2666520"/>
            <a:ext cx="380880" cy="12193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05520"/>
            <a:ext cx="472464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724280"/>
            <a:ext cx="4572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257800" y="4267080"/>
            <a:ext cx="380880" cy="6098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48006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487692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5105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5105520"/>
            <a:ext cx="1447920" cy="1447560"/>
          </a:xfrm>
          <a:custGeom>
            <a:avLst/>
            <a:gdLst/>
            <a:ahLst/>
            <a:rect l="l" t="t" r="r" b="b"/>
            <a:pathLst>
              <a:path w="912" h="912">
                <a:moveTo>
                  <a:pt x="912" y="0"/>
                </a:moveTo>
                <a:lnTo>
                  <a:pt x="912" y="480"/>
                </a:lnTo>
                <a:lnTo>
                  <a:pt x="912" y="576"/>
                </a:lnTo>
                <a:lnTo>
                  <a:pt x="816" y="576"/>
                </a:lnTo>
                <a:lnTo>
                  <a:pt x="0" y="576"/>
                </a:lnTo>
                <a:lnTo>
                  <a:pt x="0" y="912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410080"/>
            <a:ext cx="121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1480" y="54100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5105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5791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Verdana"/>
              </a:rPr>
              <a:t>Frente húm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601992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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500"/>
                            </p:stCondLst>
                            <p:childTnLst>
                              <p:par>
                                <p:cTn id="3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500"/>
                            </p:stCondLst>
                            <p:childTnLst>
                              <p:par>
                                <p:cTn id="39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500"/>
                            </p:stCondLst>
                            <p:childTnLst>
                              <p:par>
                                <p:cTn id="4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5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6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MÉTODO DE HUGGINS Y MONKE (196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295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e considera f=f(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81080" y="2209680"/>
            <a:ext cx="33530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f=f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+A(S’/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)</a:t>
            </a:r>
            <a:r>
              <a:rPr b="1" lang="es-ES_tradnl" sz="2400" spc="-1" strike="noStrike" baseline="30000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429000" y="1828800"/>
            <a:ext cx="198108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72000" y="1905120"/>
            <a:ext cx="76212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1523880"/>
            <a:ext cx="2971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efic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267080" y="2742840"/>
            <a:ext cx="457200" cy="762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34290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ffff"/>
                </a:solidFill>
                <a:latin typeface="Verdana"/>
              </a:rPr>
              <a:t>Porosidad capa superior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124080" y="2590920"/>
            <a:ext cx="457200" cy="12189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3733920"/>
            <a:ext cx="4191120" cy="68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Potencial de almacenamiento. Inicialmente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4648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Ecuación se resuelve iterativ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5181480"/>
            <a:ext cx="54864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Inicio tormenta: F=0    S’=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1" lang="es-ES_tradnl" sz="1800" spc="-1" strike="noStrike" baseline="-25000">
                <a:solidFill>
                  <a:srgbClr val="3333cc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1981080" y="5562720"/>
            <a:ext cx="228600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CC 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5791320"/>
            <a:ext cx="1523880" cy="398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Verdana"/>
              </a:rPr>
              <a:t>Si S’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609480" y="6248520"/>
            <a:ext cx="3962520" cy="440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CC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&lt;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-S’&lt; sat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238880" y="4191120"/>
            <a:ext cx="1295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=</a:t>
            </a:r>
            <a:r>
              <a:rPr b="0" lang="es-ES_tradnl" sz="2000" spc="-1" strike="noStrike">
                <a:solidFill>
                  <a:srgbClr val="ff0066"/>
                </a:solidFill>
                <a:latin typeface="Symbol"/>
                <a:ea typeface="Symbol"/>
              </a:rPr>
              <a:t></a:t>
            </a:r>
            <a:r>
              <a:rPr b="0" lang="es-ES_tradnl" sz="2000" spc="-1" strike="noStrike">
                <a:solidFill>
                  <a:srgbClr val="ff0066"/>
                </a:solidFill>
                <a:latin typeface="Verdana"/>
              </a:rPr>
              <a:t>f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838080" y="2895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35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143000" y="685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Percolación D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496600">
            <a:off x="3580920" y="914400"/>
            <a:ext cx="609840" cy="6858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cccc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1905120"/>
            <a:ext cx="228600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8229600" y="2057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2895480"/>
            <a:ext cx="50292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1240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uelo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312408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D=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40384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i i&gt;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411480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114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lang="es-ES_tradnl" sz="2000" spc="-1" strike="noStrike">
                <a:solidFill>
                  <a:srgbClr val="00ffff"/>
                </a:solidFill>
                <a:latin typeface="Verdana"/>
              </a:rPr>
              <a:t>f=f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038480"/>
            <a:ext cx="312444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4952880"/>
            <a:ext cx="5257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257800"/>
            <a:ext cx="2514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D=f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Verdana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(1-S’/G)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520" y="5334120"/>
            <a:ext cx="3124080" cy="510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=S’</a:t>
            </a:r>
            <a:r>
              <a:rPr b="1" lang="es-ES_tradnl" sz="2400" spc="-1" strike="noStrike" baseline="-25000">
                <a:solidFill>
                  <a:srgbClr val="3333cc"/>
                </a:solidFill>
                <a:latin typeface="Verdana"/>
              </a:rPr>
              <a:t>t-1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-f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+D</a:t>
            </a:r>
            <a:r>
              <a:rPr b="1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124080" y="5638320"/>
            <a:ext cx="15264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6172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Contenido de agua máxima gravitacional=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1" lang="es-ES_tradnl" sz="1800" spc="-1" strike="noStrike">
                <a:solidFill>
                  <a:srgbClr val="3333cc"/>
                </a:solidFill>
                <a:latin typeface="Verdana"/>
              </a:rPr>
              <a:t>-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500"/>
                            </p:stCondLst>
                            <p:childTnLst>
                              <p:par>
                                <p:cTn id="6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00:26:34Z</dcterms:created>
  <dc:creator>Guillermo Osses</dc:creator>
  <dc:description/>
  <dc:language>en-US</dc:language>
  <cp:lastModifiedBy>academico</cp:lastModifiedBy>
  <dcterms:modified xsi:type="dcterms:W3CDTF">2007-04-17T18:26:43Z</dcterms:modified>
  <cp:revision>27</cp:revision>
  <dc:subject/>
  <dc:title>Presentación de PowerPoint</dc:title>
</cp:coreProperties>
</file>