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4.wmf" ContentType="image/x-wmf"/>
  <Override PartName="/ppt/media/image38.png" ContentType="image/png"/>
  <Override PartName="/ppt/media/image25.gif" ContentType="image/gif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46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ABC-91E3-49F4-8417-CD2A0E1D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1FD-1530-4987-BF44-78D8A65F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404-03DE-4B5B-921C-C1E87393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FA2-D661-4102-8985-3393033C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FB9-29D1-44FB-9930-2FEAC08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B3B-4981-478A-9226-110A484F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9D2-7ACB-4791-AD7E-27B0AA1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191-1B3C-4F8D-86E3-F81999A5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429-BD22-4D13-A4D8-05EE2FF1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57B-8AB9-4D45-A7AE-290B191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3EA-411D-4795-A2DD-D6782A1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AD1-F222-4882-B420-B6623E5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BCE-3713-4003-B2C5-58DD913630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80773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8153280" y="5851440"/>
            <a:ext cx="533520" cy="441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ccccff"/>
                </a:solidFill>
                <a:uFillTx/>
                <a:latin typeface="Verdana"/>
                <a:hlinkClick r:id="rId4" action="ppaction://hlinksldjump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838188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495680" y="5715000"/>
            <a:ext cx="35816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66"/>
                </a:solidFill>
                <a:latin typeface="Copperplate Gothic Light"/>
              </a:rPr>
              <a:t>Fin Capítul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academico</cp:lastModifiedBy>
  <dcterms:modified xsi:type="dcterms:W3CDTF">2007-04-17T18:26:43Z</dcterms:modified>
  <cp:revision>27</cp:revision>
  <dc:subject/>
  <dc:title>Presentación de PowerPoint</dc:title>
</cp:coreProperties>
</file>