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D38-E05B-4AE5-86F1-77DB6949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DDA-8FEF-4941-A334-961A72A8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C00-0BF5-4CA7-92B5-3A80D0E0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081-CA54-4AC8-B481-4115AAE9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F14-B489-41FF-81D3-388C1271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33C-15D5-42AD-BAE7-24398638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3F4-79A6-4691-92B6-34925F20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3D4-D198-4488-80CC-331B825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F85-C8E2-42F5-A41E-C5A852E0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C10-EB3E-4832-A786-309DE803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591-A96A-4FB4-97F0-CB085916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328-398C-437A-9614-CBCBE1B6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B6BA-C671-43A2-B081-4DA0D165A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academico</cp:lastModifiedBy>
  <dcterms:modified xsi:type="dcterms:W3CDTF">2007-04-17T18:25:52Z</dcterms:modified>
  <cp:revision>13</cp:revision>
  <dc:subject/>
  <dc:title>Sin título de diapositiva</dc:title>
</cp:coreProperties>
</file>