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BB8-E686-42CE-BB7F-C6F9DAA3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E89-018C-4D52-995A-F29F5E32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3D9-238E-4A03-A9C6-536997B2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D2D-9D51-4665-8D7C-75C84257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34F-3FB5-487C-81A8-B957145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2E7-F8CB-4101-94CB-52A43C75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2E8-DB1C-4EFC-80E8-02997E99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5F9-B03B-48EC-AB85-26B8543A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088-D192-4EAA-AEB0-688D9822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DE0-E307-4237-9354-501FF530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71F-6AB2-443C-9BEA-CDDD5A8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817-A61C-4161-8DD5-4431914A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2BE7-DE8F-46DA-AB00-28D1E712E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academico</cp:lastModifiedBy>
  <dcterms:modified xsi:type="dcterms:W3CDTF">2007-04-17T18:25:52Z</dcterms:modified>
  <cp:revision>13</cp:revision>
  <dc:subject/>
  <dc:title>Sin título de diapositiva</dc:title>
</cp:coreProperties>
</file>