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8E0-6D4A-4C90-8A87-9B4D0C76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AC0-968F-4A48-A1CD-573DBB10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620-681F-4C38-8A9F-59537563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126-08DA-4AC2-9D31-7BFB09CB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8E2-2F19-4BF1-8953-5BD0CB13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0EE-D05A-48C3-BE0F-F5B392A6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006-96B0-4142-BDAA-E839437C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96F-7423-499B-B166-46BA3255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801-43AE-4BBE-A374-6749D385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509-92B4-47FA-BB0A-AEC192D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8E0-2A7A-4810-9D48-79FBFF98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8F0-5EBD-46A5-BF56-DA3871CC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ACA6-B31D-40F4-BDFA-A245EBFBA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academico</cp:lastModifiedBy>
  <dcterms:modified xsi:type="dcterms:W3CDTF">2007-04-17T18:25:52Z</dcterms:modified>
  <cp:revision>13</cp:revision>
  <dc:subject/>
  <dc:title>Sin título de diapositiva</dc:title>
</cp:coreProperties>
</file>