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7.jpeg" ContentType="image/jpeg"/>
  <Override PartName="/ppt/media/image20.wmf" ContentType="image/x-wmf"/>
  <Override PartName="/ppt/media/image50.wmf" ContentType="image/x-wmf"/>
  <Override PartName="/ppt/media/image2.png" ContentType="image/png"/>
  <Override PartName="/ppt/media/image32.png" ContentType="image/png"/>
  <Override PartName="/ppt/media/image25.png" ContentType="image/png"/>
  <Override PartName="/ppt/media/image60.png" ContentType="image/png"/>
  <Override PartName="/ppt/media/image63.jpeg" ContentType="image/jpeg"/>
  <Override PartName="/ppt/media/image27.png" ContentType="image/png"/>
  <Override PartName="/ppt/media/image21.wmf" ContentType="image/x-wmf"/>
  <Override PartName="/ppt/media/image64.png" ContentType="image/png"/>
  <Override PartName="/ppt/media/image33.wmf" ContentType="image/x-wmf"/>
  <Override PartName="/ppt/media/image15.wmf" ContentType="image/x-wmf"/>
  <Override PartName="/ppt/media/image54.png" ContentType="image/png"/>
  <Override PartName="/ppt/media/image11.wmf" ContentType="image/x-wmf"/>
  <Override PartName="/ppt/media/image26.png" ContentType="image/png"/>
  <Override PartName="/ppt/media/image10.wmf" ContentType="image/x-wmf"/>
  <Override PartName="/ppt/media/image53.png" ContentType="image/png"/>
  <Override PartName="/ppt/media/image14.wmf" ContentType="image/x-wmf"/>
  <Override PartName="/ppt/media/image30.wmf" ContentType="image/x-wmf"/>
  <Override PartName="/ppt/media/image58.jpeg" ContentType="image/jpeg"/>
  <Override PartName="/ppt/media/image36.wmf" ContentType="image/x-wmf"/>
  <Override PartName="/ppt/media/image18.wmf" ContentType="image/x-wmf"/>
  <Override PartName="/ppt/media/image6.wmf" ContentType="image/x-wmf"/>
  <Override PartName="/ppt/media/image28.wmf" ContentType="image/x-wmf"/>
  <Override PartName="/ppt/media/image3.jpeg" ContentType="image/jpeg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23.png" ContentType="image/png"/>
  <Override PartName="/ppt/media/image22.wmf" ContentType="image/x-wmf"/>
  <Override PartName="/ppt/media/image17.wmf" ContentType="image/x-wmf"/>
  <Override PartName="/ppt/media/image24.jpeg" ContentType="image/jpeg"/>
  <Override PartName="/ppt/media/image55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8.wmf" ContentType="image/x-wmf"/>
  <Override PartName="/ppt/media/image61.jpeg" ContentType="image/jpeg"/>
  <Override PartName="/ppt/media/image31.wmf" ContentType="image/x-wmf"/>
  <Override PartName="/ppt/media/image34.png" ContentType="image/png"/>
  <Override PartName="/ppt/media/image37.png" ContentType="image/png"/>
  <Override PartName="/ppt/media/image39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7.gif" ContentType="image/gif"/>
  <Override PartName="/ppt/media/image44.wmf" ContentType="image/x-wmf"/>
  <Override PartName="/ppt/media/image8.gif" ContentType="image/gif"/>
  <Override PartName="/ppt/media/image45.wmf" ContentType="image/x-wmf"/>
  <Override PartName="/ppt/media/image9.gif" ContentType="image/gif"/>
  <Override PartName="/ppt/media/image46.wmf" ContentType="image/x-wmf"/>
  <Override PartName="/ppt/media/image35.wmf" ContentType="image/x-wmf"/>
  <Override PartName="/ppt/media/image48.jpeg" ContentType="image/jpeg"/>
  <Override PartName="/ppt/media/image4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690-E2D3-46CC-B9B7-405D10BF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38E-600E-4366-B6AF-FB023314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56E-6455-4BEE-96E2-446BCDF8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1AA-164C-45F4-BFB7-55907150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D96-F49D-43FA-98C9-8DFD3E28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EED-8985-41EF-9579-EF1018B8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E23-5867-4E99-BAC3-CD4CE452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C3A-04BB-47C9-81A9-FAD90726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A61-4714-43D8-A03F-13350605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1DE-87A2-4925-A897-2D7C8D1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893-391C-4BD8-8730-B4E1D5F1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EDC-495B-4715-A172-D2686D2B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1D12-C22F-4FC4-9058-479F3C9DD4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38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3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48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hyperlink" Target="http://images.google.cl/imgres?imgurl=http://www.probertencyclopaedia.com/j/Atmometer.jpg&amp;imgrefurl=http://www.probertencyclopaedia.com/SAE.HTM&amp;h=304&amp;w=149&amp;sz=10&amp;tbnid=VlXWSzw5yJ4J:&amp;tbnh=112&amp;tbnw=54&amp;hl=es&amp;start=6&amp;prev=/images%3Fq%3Datmometer%26svnum%3D10%26hl%3Des%26lr%3D%26sa%3DN" TargetMode="External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1573" descr=""/>
          <p:cNvPicPr/>
          <p:nvPr/>
        </p:nvPicPr>
        <p:blipFill>
          <a:blip r:embed="rId2"/>
          <a:stretch/>
        </p:blipFill>
        <p:spPr>
          <a:xfrm>
            <a:off x="304920" y="0"/>
            <a:ext cx="8381880" cy="6286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33720" y="5257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57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60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69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206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762120"/>
            <a:ext cx="678168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transportar el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ejos de la superfic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gradiente de hume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419720" cy="257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47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50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4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8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59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403848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038480" y="2743200"/>
                <a:ext cx="4876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70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0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rPr>
                            <m:lit/>
                            <m:nor/>
                          </m:rPr>
                          <m:t xml:space="preserve"> kJ/k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438280" y="4572000"/>
                <a:ext cx="5823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04920" y="5749920"/>
                <a:ext cx="7750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67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67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8640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í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m/dí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66680" y="4267080"/>
                <a:ext cx="8977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997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x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/Pa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254480" y="2563920"/>
                <a:ext cx="29084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886200" y="3505320"/>
                <a:ext cx="45594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3167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89320" y="2286000"/>
                <a:ext cx="58546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244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852720" y="3521160"/>
                <a:ext cx="4834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98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316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/º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600200" y="4519440"/>
                <a:ext cx="1701720" cy="7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38080" y="5638680"/>
                <a:ext cx="746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987720" y="4457880"/>
                <a:ext cx="17272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Combinado para determinar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8280" y="2336400"/>
            <a:ext cx="359424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 = 2 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s = 101.3 kP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loc viento = 3 m/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Neta= 200 W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 Aire= 25 º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R = 40%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4152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ación Neta = 200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mp Aire = 25 ºC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r Método Priestley-Taylor para determinar tasa de Evaporación para un cuerpo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762440" y="3138480"/>
                <a:ext cx="165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6442200" y="325908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iestly &amp; Tay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0880" y="4343400"/>
                <a:ext cx="3969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5562720" y="4495680"/>
                <a:ext cx="1422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828800" y="5867280"/>
                <a:ext cx="57340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8</m:t>
                    </m:r>
                    <m:r>
                      <m:t xml:space="preserve">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/día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evap1" descr="The change in water tension from the soil, through the plant and into the atmosphere."/>
          <p:cNvPicPr/>
          <p:nvPr/>
        </p:nvPicPr>
        <p:blipFill>
          <a:blip r:embed="rId2"/>
          <a:stretch/>
        </p:blipFill>
        <p:spPr>
          <a:xfrm>
            <a:off x="6286680" y="3505320"/>
            <a:ext cx="2857320" cy="16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5" action="ppaction://hlinksldjump"/>
          </p:cNvPr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351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60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78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2" action="ppaction://hlinksldjump"/>
          </p:cNvPr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.clim.5" descr=""/>
          <p:cNvPicPr/>
          <p:nvPr/>
        </p:nvPicPr>
        <p:blipFill>
          <a:blip r:embed="rId2"/>
          <a:stretch/>
        </p:blipFill>
        <p:spPr>
          <a:xfrm>
            <a:off x="0" y="0"/>
            <a:ext cx="4438800" cy="3430440"/>
          </a:xfrm>
          <a:prstGeom prst="rect">
            <a:avLst/>
          </a:prstGeom>
          <a:ln w="0">
            <a:noFill/>
          </a:ln>
        </p:spPr>
      </p:pic>
      <p:pic>
        <p:nvPicPr>
          <p:cNvPr id="400" name="e.clim.7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4267080" cy="3297240"/>
          </a:xfrm>
          <a:prstGeom prst="rect">
            <a:avLst/>
          </a:prstGeom>
          <a:ln w="0">
            <a:noFill/>
          </a:ln>
        </p:spPr>
      </p:pic>
      <p:pic>
        <p:nvPicPr>
          <p:cNvPr id="401" name="e.clim.12" descr=""/>
          <p:cNvPicPr/>
          <p:nvPr/>
        </p:nvPicPr>
        <p:blipFill>
          <a:blip r:embed="rId4"/>
          <a:stretch/>
        </p:blipFill>
        <p:spPr>
          <a:xfrm>
            <a:off x="2590920" y="3427560"/>
            <a:ext cx="4438440" cy="34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403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404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418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371600"/>
            <a:ext cx="7391160" cy="241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a cubierta vegetal,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un PEA dado, cu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disponibil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humedad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3341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05520" y="2286000"/>
            <a:ext cx="3663720" cy="264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422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133720" y="10476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36640" y="3309840"/>
            <a:ext cx="5670720" cy="19080"/>
            <a:chOff x="1736640" y="3309840"/>
            <a:chExt cx="5670720" cy="19080"/>
          </a:xfrm>
        </p:grpSpPr>
        <p:sp>
          <p:nvSpPr>
            <p:cNvPr id="80" name=""/>
            <p:cNvSpPr/>
            <p:nvPr/>
          </p:nvSpPr>
          <p:spPr>
            <a:xfrm>
              <a:off x="1736640" y="330984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36640" y="3311280"/>
              <a:ext cx="556272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3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d3" descr=""/>
          <p:cNvPicPr/>
          <p:nvPr/>
        </p:nvPicPr>
        <p:blipFill>
          <a:blip r:embed="rId2"/>
          <a:stretch/>
        </p:blipFill>
        <p:spPr>
          <a:xfrm>
            <a:off x="5665680" y="1981080"/>
            <a:ext cx="19828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87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d2" descr=""/>
          <p:cNvPicPr/>
          <p:nvPr/>
        </p:nvPicPr>
        <p:blipFill>
          <a:blip r:embed="rId3"/>
          <a:stretch/>
        </p:blipFill>
        <p:spPr>
          <a:xfrm>
            <a:off x="3581280" y="1981080"/>
            <a:ext cx="17859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736640" y="2716200"/>
            <a:ext cx="5670720" cy="1117080"/>
            <a:chOff x="1736640" y="2716200"/>
            <a:chExt cx="5670720" cy="1117080"/>
          </a:xfrm>
        </p:grpSpPr>
        <p:sp>
          <p:nvSpPr>
            <p:cNvPr id="91" name=""/>
            <p:cNvSpPr/>
            <p:nvPr/>
          </p:nvSpPr>
          <p:spPr>
            <a:xfrm>
              <a:off x="1736640" y="2716200"/>
              <a:ext cx="5670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2724480"/>
              <a:ext cx="5562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_tradnl" sz="8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_tradnl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d1" descr=""/>
          <p:cNvPicPr/>
          <p:nvPr/>
        </p:nvPicPr>
        <p:blipFill>
          <a:blip r:embed="rId4"/>
          <a:stretch/>
        </p:blipFill>
        <p:spPr>
          <a:xfrm>
            <a:off x="1295280" y="1981080"/>
            <a:ext cx="1712880" cy="221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96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103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119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36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0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43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6-04-10T13:28:33Z</dcterms:modified>
  <cp:revision>22</cp:revision>
  <dc:subject/>
  <dc:title>Sin título de diapositiva</dc:title>
</cp:coreProperties>
</file>