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7.jpeg" ContentType="image/jpeg"/>
  <Override PartName="/ppt/media/image20.wmf" ContentType="image/x-wmf"/>
  <Override PartName="/ppt/media/image5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63.jpeg" ContentType="image/jpeg"/>
  <Override PartName="/ppt/media/image27.png" ContentType="image/png"/>
  <Override PartName="/ppt/media/image21.wmf" ContentType="image/x-wmf"/>
  <Override PartName="/ppt/media/image64.png" ContentType="image/png"/>
  <Override PartName="/ppt/media/image33.wmf" ContentType="image/x-wmf"/>
  <Override PartName="/ppt/media/image15.wmf" ContentType="image/x-wmf"/>
  <Override PartName="/ppt/media/image54.png" ContentType="image/png"/>
  <Override PartName="/ppt/media/image11.wmf" ContentType="image/x-wmf"/>
  <Override PartName="/ppt/media/image26.png" ContentType="image/png"/>
  <Override PartName="/ppt/media/image10.wmf" ContentType="image/x-wmf"/>
  <Override PartName="/ppt/media/image53.png" ContentType="image/png"/>
  <Override PartName="/ppt/media/image14.wmf" ContentType="image/x-wmf"/>
  <Override PartName="/ppt/media/image30.wmf" ContentType="image/x-wmf"/>
  <Override PartName="/ppt/media/image58.jpeg" ContentType="image/jpeg"/>
  <Override PartName="/ppt/media/image36.wmf" ContentType="image/x-wmf"/>
  <Override PartName="/ppt/media/image18.wmf" ContentType="image/x-wmf"/>
  <Override PartName="/ppt/media/image6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23.png" ContentType="image/png"/>
  <Override PartName="/ppt/media/image22.wmf" ContentType="image/x-wmf"/>
  <Override PartName="/ppt/media/image17.wmf" ContentType="image/x-wmf"/>
  <Override PartName="/ppt/media/image24.jpeg" ContentType="image/jpeg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8.wmf" ContentType="image/x-wmf"/>
  <Override PartName="/ppt/media/image61.jpeg" ContentType="image/jpeg"/>
  <Override PartName="/ppt/media/image31.wmf" ContentType="image/x-wmf"/>
  <Override PartName="/ppt/media/image34.png" ContentType="image/png"/>
  <Override PartName="/ppt/media/image37.png" ContentType="image/png"/>
  <Override PartName="/ppt/media/image39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7.gif" ContentType="image/gif"/>
  <Override PartName="/ppt/media/image44.wmf" ContentType="image/x-wmf"/>
  <Override PartName="/ppt/media/image8.gif" ContentType="image/gif"/>
  <Override PartName="/ppt/media/image45.wmf" ContentType="image/x-wmf"/>
  <Override PartName="/ppt/media/image9.gif" ContentType="image/gif"/>
  <Override PartName="/ppt/media/image46.wmf" ContentType="image/x-wmf"/>
  <Override PartName="/ppt/media/image35.wmf" ContentType="image/x-wmf"/>
  <Override PartName="/ppt/media/image48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369-857D-4342-AA46-BEAF8A43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661-41C7-4FB4-8DE1-7109E34A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73B-D018-44D9-B19A-3C65F410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6F4-E762-4FC9-9941-96A90815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C09-E1CB-4641-8D25-DC5290C7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107-E6F1-4EF7-92EE-40E45A0F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F11-2B4C-46F8-A465-1C601FB4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531-2805-473C-91B2-F89D957D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B89-78FE-40FA-B416-19A1128F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C4E-E743-4D57-88C2-B8F5C872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1FE-909D-4026-B308-47B5F381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DF6-F9BF-4CAF-A2C1-D425DB0D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056-C87A-4FF9-87F4-77A9073BB57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8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4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hyperlink" Target="http://images.google.cl/imgres?imgurl=http://www.probertencyclopaedia.com/j/Atmometer.jpg&amp;imgrefurl=http://www.probertencyclopaedia.com/SAE.HTM&amp;h=304&amp;w=149&amp;sz=10&amp;tbnid=VlXWSzw5yJ4J:&amp;tbnh=112&amp;tbnw=54&amp;hl=es&amp;start=6&amp;prev=/images%3Fq%3Datmometer%26svnum%3D10%26hl%3Des%26lr%3D%26sa%3DN" TargetMode="External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1573" descr=""/>
          <p:cNvPicPr/>
          <p:nvPr/>
        </p:nvPicPr>
        <p:blipFill>
          <a:blip r:embed="rId2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5257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60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69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206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2120"/>
            <a:ext cx="678168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transportar el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ejos de l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gradiente de hume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419720" cy="25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47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50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59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4038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038480" y="2743200"/>
                <a:ext cx="4876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70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rPr>
                            <m:lit/>
                            <m:nor/>
                          </m:rPr>
                          <m:t xml:space="preserve"> kJ/k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38280" y="4572000"/>
                <a:ext cx="5823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4920" y="5749920"/>
                <a:ext cx="775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6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67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í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m/dí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66680" y="4267080"/>
                <a:ext cx="8977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254480" y="2563920"/>
                <a:ext cx="2908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886200" y="3505320"/>
                <a:ext cx="45594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89320" y="2286000"/>
                <a:ext cx="5854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852720" y="3521160"/>
                <a:ext cx="4834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9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16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4519440"/>
                <a:ext cx="170172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38080" y="56386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87720" y="4457880"/>
                <a:ext cx="17272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4152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ación Neta = 200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 Aire = 25 º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Priestley-Taylor para determinar tasa de Evaporación para un cuerpo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62440" y="3138480"/>
                <a:ext cx="165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442200" y="32590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iestly &amp; Tay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880" y="4343400"/>
                <a:ext cx="3969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62720" y="4495680"/>
                <a:ext cx="1422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28800" y="5867280"/>
                <a:ext cx="5734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vap1" descr="The change in water tension from the soil, through the plant and into the atmosphere."/>
          <p:cNvPicPr/>
          <p:nvPr/>
        </p:nvPicPr>
        <p:blipFill>
          <a:blip r:embed="rId2"/>
          <a:stretch/>
        </p:blipFill>
        <p:spPr>
          <a:xfrm>
            <a:off x="6286680" y="3505320"/>
            <a:ext cx="2857320" cy="16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5" action="ppaction://hlinksldjump"/>
          </p:cNvPr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351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60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78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e.clim.5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3430440"/>
          </a:xfrm>
          <a:prstGeom prst="rect">
            <a:avLst/>
          </a:prstGeom>
          <a:ln w="0">
            <a:noFill/>
          </a:ln>
        </p:spPr>
      </p:pic>
      <p:pic>
        <p:nvPicPr>
          <p:cNvPr id="400" name="e.clim.7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267080" cy="3297240"/>
          </a:xfrm>
          <a:prstGeom prst="rect">
            <a:avLst/>
          </a:prstGeom>
          <a:ln w="0">
            <a:noFill/>
          </a:ln>
        </p:spPr>
      </p:pic>
      <p:pic>
        <p:nvPicPr>
          <p:cNvPr id="401" name="e.clim.12" descr=""/>
          <p:cNvPicPr/>
          <p:nvPr/>
        </p:nvPicPr>
        <p:blipFill>
          <a:blip r:embed="rId4"/>
          <a:stretch/>
        </p:blipFill>
        <p:spPr>
          <a:xfrm>
            <a:off x="2590920" y="3427560"/>
            <a:ext cx="4438440" cy="34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403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404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41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371600"/>
            <a:ext cx="7391160" cy="241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a cubierta vegetal,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 PEA dado, c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disponibil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humedad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63720" cy="26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422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133720" y="10476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36640" y="3309840"/>
            <a:ext cx="5670720" cy="19080"/>
            <a:chOff x="1736640" y="3309840"/>
            <a:chExt cx="5670720" cy="19080"/>
          </a:xfrm>
        </p:grpSpPr>
        <p:sp>
          <p:nvSpPr>
            <p:cNvPr id="80" name=""/>
            <p:cNvSpPr/>
            <p:nvPr/>
          </p:nvSpPr>
          <p:spPr>
            <a:xfrm>
              <a:off x="1736640" y="330984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6640" y="3311280"/>
              <a:ext cx="556272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3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d3" descr=""/>
          <p:cNvPicPr/>
          <p:nvPr/>
        </p:nvPicPr>
        <p:blipFill>
          <a:blip r:embed="rId2"/>
          <a:stretch/>
        </p:blipFill>
        <p:spPr>
          <a:xfrm>
            <a:off x="5665680" y="1981080"/>
            <a:ext cx="19828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7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d2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17859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91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d1" descr=""/>
          <p:cNvPicPr/>
          <p:nvPr/>
        </p:nvPicPr>
        <p:blipFill>
          <a:blip r:embed="rId4"/>
          <a:stretch/>
        </p:blipFill>
        <p:spPr>
          <a:xfrm>
            <a:off x="1295280" y="1981080"/>
            <a:ext cx="1712880" cy="221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96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103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119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36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0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43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6-04-10T13:28:33Z</dcterms:modified>
  <cp:revision>22</cp:revision>
  <dc:subject/>
  <dc:title>Sin título de diapositiva</dc:title>
</cp:coreProperties>
</file>