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4F6-C954-47D3-89E7-D7EF1379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4BB-F272-4C60-BE79-C5BBAF1E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AAF-9A92-412F-9C8A-5ADD99D2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789-5296-43C1-9EF2-9C5B9C03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752-34C4-4DFE-8888-3B7C74D1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359-12FD-4C08-862B-56BCB6B8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14D-2091-4082-A696-B9FD9F38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2A2-0E35-422F-9ADD-8F0916B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15F-CB03-4244-B559-1E1608E5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FEC-BA80-43BD-8AF9-ECDB6363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F36-260E-43B3-B740-837287F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C1C-1FD9-42F7-9EA1-ABD97A70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16C-BB34-4F85-8755-F02C20C61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6-04-07T15:52:15Z</dcterms:modified>
  <cp:revision>11</cp:revision>
  <dc:subject/>
  <dc:title>CURVAS PDA</dc:title>
</cp:coreProperties>
</file>