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F12-9F31-46DE-A950-73A95B29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1F0-3CB6-4AAD-9217-59D42D02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ECA-A4B6-4990-9B34-F00CAD6E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9D6-C27A-4A85-A6F4-81EEBC52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6CC-4BDA-4535-A386-29F89A95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5D4-75E5-4D29-AFFC-1A384BDF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681-B1D6-4216-8547-A09B14A1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52F-366E-4E9D-9997-DCD647D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375-DDD6-4BA5-A231-2150DF76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A32-5FC4-49F0-8193-D8518E79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37C-045B-46B8-8035-859C7DD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DD1-91B6-4CD5-9095-23066A7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9D80-ADD4-4885-83F9-291108879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6-04-07T15:52:15Z</dcterms:modified>
  <cp:revision>11</cp:revision>
  <dc:subject/>
  <dc:title>CURVAS PDA</dc:title>
</cp:coreProperties>
</file>