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FCE-E3BD-4D4E-9E6E-A5FF2F63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317-80A5-4444-B24E-A1CBA35F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755-27E4-4BA1-8ED8-A1E7FD75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9DE-C8A1-4D9E-8C75-D446BE09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FCC-A6D6-4EBD-B72B-6296F7E4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915-90F8-4C97-B080-B1A91F27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096-01AB-4366-8C6C-596CCA09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564-3039-4D94-8ABF-88E77D21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BAD-E308-4EE5-9E2D-6693815F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650-50BB-49B5-95FB-CEEC378F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29C-40A1-43ED-A6B1-E43B50F4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37B-1ED1-4672-B247-327959E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67E-0988-4046-8458-A616AC6B2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6-04-07T15:52:15Z</dcterms:modified>
  <cp:revision>11</cp:revision>
  <dc:subject/>
  <dc:title>CURVAS PDA</dc:title>
</cp:coreProperties>
</file>