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F078-91CA-4729-86BE-491DCEF1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74CA-AF3E-4E2D-8FDB-9493F238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4AD2-94E2-448B-B8B8-0FD8910B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C13F-E55E-4772-AF5C-5F6A3438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9252-89A0-4A1D-80A0-DEAA3E9A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A899-5444-469E-988F-25FC3F5E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B15D-A6C1-4633-BE9E-698B20A6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9297-5D67-4A77-9410-82B8038B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D28A-AC99-487F-8C8E-DB5927FB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1EC7-60E7-489A-BCF6-0E653DAF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B685-FC2E-4804-9D0E-A2AE4D38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7CC5-C28F-47B0-8638-7637136D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DBE3-A726-4E24-A260-B541265A74B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6867360" cy="343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3520" y="498600"/>
            <a:ext cx="7696080" cy="663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381480" y="4734000"/>
            <a:ext cx="57625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65437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89680" cy="7362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3124440" cy="2314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5638680" y="1980720"/>
            <a:ext cx="381240" cy="6858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estepa" descr=""/>
          <p:cNvPicPr/>
          <p:nvPr/>
        </p:nvPicPr>
        <p:blipFill>
          <a:blip r:embed="rId3"/>
          <a:stretch/>
        </p:blipFill>
        <p:spPr>
          <a:xfrm>
            <a:off x="6172200" y="4762440"/>
            <a:ext cx="3174840" cy="209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V="1">
            <a:off x="5715000" y="6248520"/>
            <a:ext cx="380880" cy="30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019920" y="2438280"/>
            <a:ext cx="3124080" cy="221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5715000" y="3809520"/>
            <a:ext cx="304920" cy="3049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121932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5921280" cy="7529400"/>
          </a:xfrm>
          <a:prstGeom prst="rect">
            <a:avLst/>
          </a:prstGeom>
          <a:ln w="0">
            <a:noFill/>
          </a:ln>
        </p:spPr>
      </p:pic>
      <p:pic>
        <p:nvPicPr>
          <p:cNvPr id="54" name="desertico" descr=""/>
          <p:cNvPicPr/>
          <p:nvPr/>
        </p:nvPicPr>
        <p:blipFill>
          <a:blip r:embed="rId2"/>
          <a:stretch/>
        </p:blipFill>
        <p:spPr>
          <a:xfrm>
            <a:off x="5969160" y="0"/>
            <a:ext cx="3174840" cy="2209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62720" y="1219320"/>
            <a:ext cx="3045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templado%20lluvioso" descr=""/>
          <p:cNvPicPr/>
          <p:nvPr/>
        </p:nvPicPr>
        <p:blipFill>
          <a:blip r:embed="rId3"/>
          <a:stretch/>
        </p:blipFill>
        <p:spPr>
          <a:xfrm>
            <a:off x="5969160" y="2286000"/>
            <a:ext cx="3174840" cy="2158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627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cocagua" descr=""/>
          <p:cNvPicPr/>
          <p:nvPr/>
        </p:nvPicPr>
        <p:blipFill>
          <a:blip r:embed="rId4"/>
          <a:stretch/>
        </p:blipFill>
        <p:spPr>
          <a:xfrm>
            <a:off x="6324480" y="4724280"/>
            <a:ext cx="2819520" cy="1938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5562720" y="601956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98760" y="-223920"/>
            <a:ext cx="5745240" cy="7310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29000" cy="2668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2514600"/>
            <a:ext cx="3048120" cy="2379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04920" y="4687920"/>
            <a:ext cx="2819160" cy="2170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3124080" y="38098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0040" y="57150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352320" y="19047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48320" y="6248520"/>
            <a:ext cx="37335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228600"/>
            <a:ext cx="9648720" cy="6629400"/>
            <a:chOff x="0" y="228600"/>
            <a:chExt cx="9648720" cy="662940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0" y="228600"/>
              <a:ext cx="391464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3962520" y="2495520"/>
              <a:ext cx="5686200" cy="43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0" y="3117960"/>
              <a:ext cx="4876920" cy="37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0" y="3124080"/>
              <a:ext cx="99072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2590920"/>
              <a:ext cx="12189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304920"/>
              <a:ext cx="6858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381880" cy="5908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9480" y="6172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lasificación Clima según Köp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olar" descr=""/>
          <p:cNvPicPr/>
          <p:nvPr/>
        </p:nvPicPr>
        <p:blipFill>
          <a:blip r:embed="rId2"/>
          <a:stretch/>
        </p:blipFill>
        <p:spPr>
          <a:xfrm>
            <a:off x="7035840" y="5391000"/>
            <a:ext cx="210816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7T22:02:12Z</dcterms:created>
  <dc:creator>xv</dc:creator>
  <dc:description/>
  <dc:language>en-US</dc:language>
  <cp:lastModifiedBy>xv</cp:lastModifiedBy>
  <dcterms:modified xsi:type="dcterms:W3CDTF">2005-03-28T14:57:04Z</dcterms:modified>
  <cp:revision>3</cp:revision>
  <dc:subject/>
  <dc:title>Presentación de PowerPoint</dc:title>
</cp:coreProperties>
</file>