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69D-224F-4CA3-8AB0-2A04DD40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649-E761-4596-97A1-06407BFC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5183-E12E-4C12-AE69-5E957E5C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7EB-229F-4272-921E-0A54634E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4BF-73A7-424B-8AEC-EF8F6A9E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D6E5-095E-400D-ABA2-AE98594F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11C6-A39E-4AF4-B15D-78C17268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A6E-CE87-47AF-A0B8-3626E035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B13E-57DA-44BC-8DF3-D6853517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F6A9-7FBE-4611-B1F7-29BA6ACE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1A17-7D2D-4F9E-BF93-079C498C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909-4DA5-418A-BCE5-EE80DD88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D0AD-BFE4-4520-A91B-98BE8E5E86C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6867360" cy="343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498600"/>
            <a:ext cx="7696080" cy="663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81480" y="4734000"/>
            <a:ext cx="57625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6543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89680" cy="736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124440" cy="231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5638680" y="1980720"/>
            <a:ext cx="381240" cy="685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stepa" descr=""/>
          <p:cNvPicPr/>
          <p:nvPr/>
        </p:nvPicPr>
        <p:blipFill>
          <a:blip r:embed="rId3"/>
          <a:stretch/>
        </p:blipFill>
        <p:spPr>
          <a:xfrm>
            <a:off x="6172200" y="4762440"/>
            <a:ext cx="3174840" cy="209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5715000" y="6248520"/>
            <a:ext cx="38088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019920" y="2438280"/>
            <a:ext cx="3124080" cy="221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5715000" y="3809520"/>
            <a:ext cx="304920" cy="304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121932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5921280" cy="7529400"/>
          </a:xfrm>
          <a:prstGeom prst="rect">
            <a:avLst/>
          </a:prstGeom>
          <a:ln w="0">
            <a:noFill/>
          </a:ln>
        </p:spPr>
      </p:pic>
      <p:pic>
        <p:nvPicPr>
          <p:cNvPr id="54" name="desertico" descr="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220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62720" y="121932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emplado%20lluvioso" descr=""/>
          <p:cNvPicPr/>
          <p:nvPr/>
        </p:nvPicPr>
        <p:blipFill>
          <a:blip r:embed="rId3"/>
          <a:stretch/>
        </p:blipFill>
        <p:spPr>
          <a:xfrm>
            <a:off x="5969160" y="2286000"/>
            <a:ext cx="3174840" cy="215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cocagua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2819520" cy="193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562720" y="60195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98760" y="-223920"/>
            <a:ext cx="5745240" cy="731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668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3048120" cy="2379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920" y="4687920"/>
            <a:ext cx="2819160" cy="217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3124080" y="3809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5715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352320" y="1904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48320" y="6248520"/>
            <a:ext cx="37335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600"/>
            <a:ext cx="9648720" cy="6629400"/>
            <a:chOff x="0" y="228600"/>
            <a:chExt cx="9648720" cy="66294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391464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3962520" y="2495520"/>
              <a:ext cx="5686200" cy="43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0" y="3117960"/>
              <a:ext cx="4876920" cy="37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3124080"/>
              <a:ext cx="9907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2590920"/>
              <a:ext cx="12189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30492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olar" descr=""/>
          <p:cNvPicPr/>
          <p:nvPr/>
        </p:nvPicPr>
        <p:blipFill>
          <a:blip r:embed="rId2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7T22:02:12Z</dcterms:created>
  <dc:creator>xv</dc:creator>
  <dc:description/>
  <dc:language>en-US</dc:language>
  <cp:lastModifiedBy>xv</cp:lastModifiedBy>
  <dcterms:modified xsi:type="dcterms:W3CDTF">2005-03-28T14:57:04Z</dcterms:modified>
  <cp:revision>3</cp:revision>
  <dc:subject/>
  <dc:title>Presentación de PowerPoint</dc:title>
</cp:coreProperties>
</file>