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20.png" ContentType="image/png"/>
  <Override PartName="/ppt/media/image1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95B0-5113-4B7A-9042-9FA5BF9AF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F69F-6A66-4F97-B7D7-4E8EC1497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3218-0CA6-4C48-92BE-A13348B76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13BB-605A-48F5-A964-49A4AA182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FD56-BB0D-46B4-851A-A4DE0A585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50D5-7372-469B-BDD7-C2859A333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9324-7225-474A-8747-77B7CE6B1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656B-EBFC-4277-BFFE-4CFD6D46A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F575-D8F4-411C-BB51-9CD759E33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2AF4-7E64-4BB1-B01B-6007FF56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CFB1-0FBE-4008-A897-1A0155B5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04FE-D86C-4597-9EFB-4F9FCFB8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EBFCB-7B99-41B7-830B-13D365B6D21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6867360" cy="3438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33520" y="498600"/>
            <a:ext cx="7696080" cy="6634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381480" y="4734000"/>
            <a:ext cx="576252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654372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989680" cy="7362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867280" y="228600"/>
            <a:ext cx="3124440" cy="2314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flipV="1">
            <a:off x="5638680" y="1980720"/>
            <a:ext cx="381240" cy="68580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estepa" descr=""/>
          <p:cNvPicPr/>
          <p:nvPr/>
        </p:nvPicPr>
        <p:blipFill>
          <a:blip r:embed="rId3"/>
          <a:stretch/>
        </p:blipFill>
        <p:spPr>
          <a:xfrm>
            <a:off x="6172200" y="4762440"/>
            <a:ext cx="3174840" cy="2095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 flipV="1">
            <a:off x="5715000" y="6248520"/>
            <a:ext cx="380880" cy="30456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6019920" y="2438280"/>
            <a:ext cx="3124080" cy="2210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flipV="1">
            <a:off x="5715000" y="3809520"/>
            <a:ext cx="304920" cy="30492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219320" y="1219320"/>
            <a:ext cx="38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5921280" cy="7529400"/>
          </a:xfrm>
          <a:prstGeom prst="rect">
            <a:avLst/>
          </a:prstGeom>
          <a:ln w="0">
            <a:noFill/>
          </a:ln>
        </p:spPr>
      </p:pic>
      <p:pic>
        <p:nvPicPr>
          <p:cNvPr id="54" name="desertico" descr=""/>
          <p:cNvPicPr/>
          <p:nvPr/>
        </p:nvPicPr>
        <p:blipFill>
          <a:blip r:embed="rId2"/>
          <a:stretch/>
        </p:blipFill>
        <p:spPr>
          <a:xfrm>
            <a:off x="5969160" y="0"/>
            <a:ext cx="3174840" cy="22096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562720" y="1219320"/>
            <a:ext cx="30456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templado%20lluvioso" descr=""/>
          <p:cNvPicPr/>
          <p:nvPr/>
        </p:nvPicPr>
        <p:blipFill>
          <a:blip r:embed="rId3"/>
          <a:stretch/>
        </p:blipFill>
        <p:spPr>
          <a:xfrm>
            <a:off x="5969160" y="2286000"/>
            <a:ext cx="3174840" cy="2158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562720" y="3581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acocagua" descr=""/>
          <p:cNvPicPr/>
          <p:nvPr/>
        </p:nvPicPr>
        <p:blipFill>
          <a:blip r:embed="rId4"/>
          <a:stretch/>
        </p:blipFill>
        <p:spPr>
          <a:xfrm>
            <a:off x="6324480" y="4724280"/>
            <a:ext cx="2819520" cy="1938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 flipV="1">
            <a:off x="5562720" y="601956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98760" y="-223920"/>
            <a:ext cx="5745240" cy="73105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429000" cy="2668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0" y="2514600"/>
            <a:ext cx="3048120" cy="2379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304920" y="4687920"/>
            <a:ext cx="2819160" cy="2170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flipH="1">
            <a:off x="3124080" y="38098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200040" y="57150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3352320" y="190476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648320" y="6248520"/>
            <a:ext cx="373356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0" y="228600"/>
            <a:ext cx="9648720" cy="6629400"/>
            <a:chOff x="0" y="228600"/>
            <a:chExt cx="9648720" cy="6629400"/>
          </a:xfrm>
        </p:grpSpPr>
        <p:pic>
          <p:nvPicPr>
            <p:cNvPr id="69" name="" descr=""/>
            <p:cNvPicPr/>
            <p:nvPr/>
          </p:nvPicPr>
          <p:blipFill>
            <a:blip r:embed="rId1"/>
            <a:stretch/>
          </p:blipFill>
          <p:spPr>
            <a:xfrm>
              <a:off x="0" y="228600"/>
              <a:ext cx="3914640" cy="270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2"/>
            <a:stretch/>
          </p:blipFill>
          <p:spPr>
            <a:xfrm>
              <a:off x="3962520" y="2495520"/>
              <a:ext cx="5686200" cy="43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3"/>
            <a:stretch/>
          </p:blipFill>
          <p:spPr>
            <a:xfrm>
              <a:off x="0" y="3117960"/>
              <a:ext cx="4876920" cy="37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0" y="3124080"/>
              <a:ext cx="99072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2590920"/>
              <a:ext cx="121896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304920"/>
              <a:ext cx="6858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8381880" cy="59086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09480" y="61722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Clasificación Clima según Köpp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olar" descr=""/>
          <p:cNvPicPr/>
          <p:nvPr/>
        </p:nvPicPr>
        <p:blipFill>
          <a:blip r:embed="rId2"/>
          <a:stretch/>
        </p:blipFill>
        <p:spPr>
          <a:xfrm>
            <a:off x="7035840" y="5391000"/>
            <a:ext cx="210816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7T22:02:12Z</dcterms:created>
  <dc:creator>xv</dc:creator>
  <dc:description/>
  <dc:language>en-US</dc:language>
  <cp:lastModifiedBy>xv</cp:lastModifiedBy>
  <dcterms:modified xsi:type="dcterms:W3CDTF">2005-03-28T14:57:04Z</dcterms:modified>
  <cp:revision>3</cp:revision>
  <dc:subject/>
  <dc:title>Presentación de PowerPoint</dc:title>
</cp:coreProperties>
</file>