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CLIC.WAV" ContentType="audio/x-wav"/>
  <Override PartName="/ppt/media/image8.jpeg" ContentType="image/jpeg"/>
  <Override PartName="/ppt/media/image10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2F1C-E2CF-43C7-8912-5FEBDCB73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B263-7F68-4FBC-8F7F-C6CEB2B0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9CD9-E2FA-49E9-BF41-CABB1FD44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26C5-B115-44B1-9E01-BDD400D4B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8914-9399-4414-85EE-76357D0B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E802-9571-4C13-89C5-00AD331D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9EAA-09F8-407A-BEE1-97403D25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E92C-F3B0-48A3-B220-36BCA76F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84B3-BAFD-4B8E-8E34-7E7498AE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72B3-F725-42AF-96CE-CAE5AF8F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EFCE-53AB-425D-B370-00DF474D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3AB1-F37D-4254-92A3-2F7F6B51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1E84-614A-4F7E-8E2E-FC237418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1A7E-F272-40B4-854B-94FD1B62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A703-D374-41F1-BF90-9F936EA4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F022-B018-470E-B567-D0FF05322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CC9A-9C12-49F5-AAC6-C5C7359E1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DCB6-EFBD-48FF-A2B7-B869D5EB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E39E-6F60-4F96-B19A-51E1636A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FFD0-855F-4063-BEB9-B3D1FEFB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A022-C0C1-4E3B-A99F-B7B32D69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8A05-6DE2-46B9-BF0B-CA640058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D550-08E7-4113-B3B2-1D7893A5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4B61-8363-45F0-9DC2-4A16079A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93B7-E5C7-4003-99F0-6F882605CA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1F17-AE5B-4EE2-AE69-CD70A234FB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url?q=http://www.giroguies.com/atacama/10-tardecer%2520en%2520el%2520desierto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google.cl/imgres?imgurl=http://www.vanwalree.com/photos/patagonia/osorno.jpg&amp;imgrefurl=http://www.vanwalree.com/photos/patagonia/osorno.html&amp;h=291&amp;w=440&amp;sz=54&amp;tbnid=GHgMjn3M-RGTKM:&amp;tbnh=81&amp;tbnw=123&amp;hl=es&amp;start=16&amp;prev=/images%3Fq%3DOsorno%26svnum%3D10%26hl%3Des%26lr%3Dlang_es%26sa%3DG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audio" Target="../media/CLIC.WAV"/><Relationship Id="rId1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657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Características Climáticas Generales de Chi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83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676520"/>
            <a:ext cx="1676160" cy="1263600"/>
          </a:xfrm>
          <a:prstGeom prst="rect">
            <a:avLst/>
          </a:prstGeom>
          <a:ln w="0">
            <a:noFill/>
          </a:ln>
        </p:spPr>
      </p:pic>
      <p:pic>
        <p:nvPicPr>
          <p:cNvPr id="84" name="images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9480" y="4495680"/>
            <a:ext cx="1787760" cy="11764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1240" y="264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6" name="images" descr=""/>
          <p:cNvPicPr/>
          <p:nvPr/>
        </p:nvPicPr>
        <p:blipFill>
          <a:blip r:embed="rId6"/>
          <a:stretch/>
        </p:blipFill>
        <p:spPr>
          <a:xfrm>
            <a:off x="4876920" y="4648320"/>
            <a:ext cx="1371600" cy="1496880"/>
          </a:xfrm>
          <a:prstGeom prst="rect">
            <a:avLst/>
          </a:prstGeom>
          <a:ln w="0">
            <a:noFill/>
          </a:ln>
        </p:spPr>
      </p:pic>
      <p:pic>
        <p:nvPicPr>
          <p:cNvPr id="87" name="images" descr=""/>
          <p:cNvPicPr/>
          <p:nvPr/>
        </p:nvPicPr>
        <p:blipFill>
          <a:blip r:embed="rId7"/>
          <a:stretch/>
        </p:blipFill>
        <p:spPr>
          <a:xfrm>
            <a:off x="6858000" y="4419720"/>
            <a:ext cx="2057400" cy="1266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6934320" y="15238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2819520" y="4800600"/>
            <a:ext cx="1447560" cy="1085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0"/>
          <a:stretch/>
        </p:blipFill>
        <p:spPr>
          <a:xfrm>
            <a:off x="3886200" y="160020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233440" y="0"/>
            <a:ext cx="3905280" cy="9420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62120" y="213372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ahoma"/>
              </a:rPr>
              <a:t>ISOTERMAS MEDIAS ANUALE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2260200">
            <a:off x="2285640" y="251460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cc99ff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81680" y="2209680"/>
            <a:ext cx="19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ahoma"/>
              </a:rPr>
              <a:t>ISOYETAS MEDIAS ANUALE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8157000">
            <a:off x="6171480" y="2895480"/>
            <a:ext cx="685800" cy="609840"/>
          </a:xfrm>
          <a:prstGeom prst="rightArrow">
            <a:avLst>
              <a:gd name="adj1" fmla="val 50000"/>
              <a:gd name="adj2" fmla="val 28114"/>
            </a:avLst>
          </a:prstGeom>
          <a:solidFill>
            <a:srgbClr val="cc99ff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60840" y="250920"/>
            <a:ext cx="1641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Temperatur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28080" y="250920"/>
            <a:ext cx="3665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Variación valor medio anua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desde Arica a Pta. Arenas=15ºC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0" y="936720"/>
            <a:ext cx="6091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Causas: O. Pacífico-Corriente Humboldt-Rég. Viento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26920" y="1393920"/>
            <a:ext cx="56926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No existen grandes diferencias de temperatura c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latitud. Orientación Isotermas N-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En Variación temporal se aprecia acción de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cordilleras de la Costa y Los And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57960" y="2556000"/>
            <a:ext cx="1626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Precipitació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73080" y="2556000"/>
            <a:ext cx="3929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Relieve        Variación Transversa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95640" y="2671920"/>
            <a:ext cx="390600" cy="161640"/>
          </a:xfrm>
          <a:prstGeom prst="rightArrow">
            <a:avLst>
              <a:gd name="adj1" fmla="val 50000"/>
              <a:gd name="adj2" fmla="val 120858"/>
            </a:avLst>
          </a:prstGeom>
          <a:solidFill>
            <a:srgbClr val="cc99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47520" y="2841480"/>
            <a:ext cx="3736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Latitud Arica 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0,7 m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I. Guarello    7330,9 m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440" y="3508200"/>
            <a:ext cx="5913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Variabilidad Interanual por Coef. Variación   </a:t>
            </a:r>
            <a:r>
              <a:rPr b="1" lang="es-ES_tradnl" sz="2000" spc="-1" strike="noStrike">
                <a:solidFill>
                  <a:srgbClr val="ccffff"/>
                </a:solidFill>
                <a:latin typeface="Symbol"/>
                <a:ea typeface="Symbol"/>
              </a:rPr>
              <a:t>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3657600"/>
            <a:ext cx="152280" cy="0"/>
          </a:xfrm>
          <a:prstGeom prst="line">
            <a:avLst/>
          </a:prstGeom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71680" y="3832200"/>
            <a:ext cx="1209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Norte &gt; 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Sur 0,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68400" y="4325760"/>
            <a:ext cx="5734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Climas: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Desértico al Norte de 27º  (Norte Grande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Semi-desértico 27 a 31º    (Norte Chico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Mediterráneo 31 a 36-38º (Valle Central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Lluvioso 38º al Su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Templado Cálido  38 a40º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Costa 40º a Pto. Mont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Marítimo-templado frío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             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tundra isotérmica-trasandino-estepa frí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7" name="magallanes3" descr=""/>
          <p:cNvPicPr/>
          <p:nvPr/>
        </p:nvPicPr>
        <p:blipFill>
          <a:blip r:embed="rId2"/>
          <a:stretch/>
        </p:blipFill>
        <p:spPr>
          <a:xfrm>
            <a:off x="7162920" y="2666880"/>
            <a:ext cx="1703160" cy="1279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238880" y="37339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ccecff"/>
                </a:solidFill>
                <a:latin typeface="Times New Roman"/>
              </a:rPr>
              <a:t>XII Región (50ºLatitud sur)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3429000"/>
            <a:ext cx="304920" cy="0"/>
          </a:xfrm>
          <a:prstGeom prst="line">
            <a:avLst/>
          </a:prstGeom>
          <a:ln cap="sq" w="12600">
            <a:solidFill>
              <a:srgbClr val="cce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8381880" cy="59086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09480" y="61722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ecff"/>
                </a:solidFill>
                <a:latin typeface="Times New Roman"/>
              </a:rPr>
              <a:t>Clasificación Clima según Köppen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2" name="polar" descr=""/>
          <p:cNvPicPr/>
          <p:nvPr/>
        </p:nvPicPr>
        <p:blipFill>
          <a:blip r:embed="rId3"/>
          <a:stretch/>
        </p:blipFill>
        <p:spPr>
          <a:xfrm>
            <a:off x="7035840" y="5391000"/>
            <a:ext cx="2108160" cy="1467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038120" y="2057040"/>
            <a:ext cx="48769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Tahoma"/>
              </a:rPr>
              <a:t>SURGENCIA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Transferencia de las aguas frías desde los niveles profundos hacia la superficie de un cuerpo de agua mediante corrientes verticales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756720" y="5334120"/>
            <a:ext cx="3902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CHILE: LATITUD  18º a  56º Su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9930800">
            <a:off x="4724280" y="5181120"/>
            <a:ext cx="797040" cy="333360"/>
          </a:xfrm>
          <a:prstGeom prst="rightArrow">
            <a:avLst>
              <a:gd name="adj1" fmla="val 50000"/>
              <a:gd name="adj2" fmla="val 119579"/>
            </a:avLst>
          </a:prstGeom>
          <a:solidFill>
            <a:srgbClr val="cc99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57320" y="4419720"/>
            <a:ext cx="24984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Climas Subtropical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Frío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5" name="americadelsur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3444840" cy="4427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ffff"/>
                </a:solidFill>
                <a:latin typeface="Tahoma"/>
              </a:rPr>
              <a:t>Características Climáticas Generales de Chil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  <a:hlinkClick r:id="rId2" action="ppaction://hlinksldjump"/>
              </a:rPr>
              <a:t>Factores 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Moderadore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Régimen 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general de presiones y viento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  <a:hlinkClick r:id="rId4" action="ppaction://hlinksldjump"/>
              </a:rPr>
              <a:t>Sistemas 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de masas de aire y frente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  <a:hlinkClick r:id="rId5" action="ppaction://hlinksldjump"/>
              </a:rPr>
              <a:t>Régimen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 de temperatura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Factores Moderadores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Influencia del Océano Pacífico.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Corriente de Humboldt.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Factores Orográficos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slow"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Corriente de Humbold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95240" y="2033640"/>
            <a:ext cx="6782040" cy="4619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5053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Factores Orográfic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2133720" y="57913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505320" y="552600"/>
            <a:ext cx="4647960" cy="6305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ahoma"/>
              </a:rPr>
              <a:t>Régimen general de presiones y vientos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4952880" cy="486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cc"/>
                </a:solidFill>
                <a:uFillTx/>
                <a:latin typeface="Tahoma"/>
              </a:rPr>
              <a:t>PRESIONES</a:t>
            </a:r>
            <a:r>
              <a:rPr b="0" lang="es-ES_tradnl" sz="1800" spc="-1" strike="noStrike">
                <a:solidFill>
                  <a:srgbClr val="0000cc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cc"/>
                </a:solidFill>
                <a:latin typeface="Tahoma"/>
              </a:rPr>
              <a:t>Anticiclón Subtropical del Pacífico Sur Oriental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Ubicación: 25º - 30º Lat. S, 90º Long. O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erano se desplaza hasta los 35º a 40º evitando el desplazamiento del frente polar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cc"/>
                </a:solidFill>
                <a:latin typeface="Tahoma"/>
              </a:rPr>
              <a:t>Zona de Oestes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Ubicación: Al Sur del Anticiclón las isóbaras decrecen y poseen orientación E-O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Existe una gran variación horizontal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cc"/>
                </a:solidFill>
                <a:uFillTx/>
                <a:latin typeface="Tahoma"/>
              </a:rPr>
              <a:t>VIENTOS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Julio: 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. Alisios hasta 22º  (SE)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. Variables 22 a 35º (Anticic.)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. NO u O 35 a 48º (F. Polar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cc"/>
                </a:solidFill>
                <a:latin typeface="Tahoma"/>
              </a:rPr>
              <a:t>Efectos orográficos.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248520" y="1981080"/>
          <a:ext cx="220824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1981080"/>
                    <a:ext cx="2208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4267080" y="5943600"/>
            <a:ext cx="304920" cy="304920"/>
          </a:xfrm>
          <a:prstGeom prst="sun">
            <a:avLst>
              <a:gd name="adj" fmla="val 25000"/>
            </a:avLst>
          </a:prstGeom>
          <a:solidFill>
            <a:srgbClr val="ff3300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6720" y="6095880"/>
            <a:ext cx="365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erano: Desplazamiento hacia el Sur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5148360" y="1989000"/>
            <a:ext cx="326700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ahoma"/>
              </a:rPr>
              <a:t>Sistemas de masas de aire y frentes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Frente polar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Tahoma"/>
              </a:rPr>
              <a:t>Invierno: 30º a 45º Lat. 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Tahoma"/>
              </a:rPr>
              <a:t>Verano  : 40º a 45º Lat. 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Centro de altas presiones del Pacífico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Invierno Boliviano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7696080" y="5562720"/>
            <a:ext cx="381240" cy="380880"/>
          </a:xfrm>
          <a:custGeom>
            <a:avLst/>
            <a:gdLst>
              <a:gd name="textAreaLeft" fmla="*/ 156960 w 381240"/>
              <a:gd name="textAreaRight" fmla="*/ 224280 w 38124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Régimen de Temperatur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403848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Variación valor medio anual desde Arica a Punta Arenas  15</a:t>
            </a:r>
            <a:r>
              <a:rPr b="1" lang="es-ES_tradnl" sz="2400" spc="-1" strike="noStrike" baseline="30000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5257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Causas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54100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. Pacífico, Corriente de Humboldt y Régimen de viento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5T21:59:50Z</dcterms:created>
  <dc:creator>Cristina A. Muñoz Saavedra</dc:creator>
  <dc:description/>
  <dc:language>en-US</dc:language>
  <cp:lastModifiedBy>xv</cp:lastModifiedBy>
  <dcterms:modified xsi:type="dcterms:W3CDTF">2006-03-27T02:12:44Z</dcterms:modified>
  <cp:revision>25</cp:revision>
  <dc:subject/>
  <dc:title>Características Climáticas Generales de Chile</dc:title>
</cp:coreProperties>
</file>