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CLIC.WAV" ContentType="audio/x-wav"/>
  <Override PartName="/ppt/media/image8.jpeg" ContentType="image/jpeg"/>
  <Override PartName="/ppt/media/image1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464-2A88-4008-BE3B-BBF154C1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726-CA6A-414F-B9EA-DECBE71B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A03-BABA-4698-8C21-119F6E26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17E7-6800-4B07-BA28-A4AAE30F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146E2-3C78-4453-8EDE-9AB15202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A713-1D78-476B-92AE-14163504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53C5-AC67-4112-856D-B90E4717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CF60-4533-4186-806B-D8DBD3BF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BD14-A537-4AC2-BCE7-CF36FA26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3CAF-0BBA-4F50-9AE2-CEDBA29F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9058-F726-4002-BF93-BEB86329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3CB3-CD65-4EC3-9624-23175F10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733F-0E9E-449F-9A0F-FA5EA0D7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9131-4332-4FD3-ABF7-8C93A0CD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DDAA-3781-44B1-BBE0-A135BB43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7EBD-6064-41C5-905F-D28C5C31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175E-CD50-4E2B-9D71-CBC26BC4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D313-B52B-4671-8AB6-A31BB9B8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64D6-2B09-43FB-95F6-04099C98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D33D-0DFE-4F31-B584-7E48A90A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8A2-BE8B-4A94-9D9D-52CEDFA0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16F1-0AA0-4B2D-825E-F0ED89FF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652D-9738-4B3D-827E-60B72C09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47B9-32A1-4532-88C9-295CD975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368F-E1B4-4B0C-B635-C6EEA4A018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D583-9FF8-4E8C-B18C-545490D5E5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url?q=http://www.giroguies.com/atacama/10-tardecer%2520en%2520el%2520desierto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l/imgres?imgurl=http://www.vanwalree.com/photos/patagonia/osorno.jpg&amp;imgrefurl=http://www.vanwalree.com/photos/patagonia/osorno.html&amp;h=291&amp;w=440&amp;sz=54&amp;tbnid=GHgMjn3M-RGTKM:&amp;tbnh=81&amp;tbnw=123&amp;hl=es&amp;start=16&amp;prev=/images%3Fq%3DOsorno%26svnum%3D10%26hl%3Des%26lr%3Dlang_es%26sa%3D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audio" Target="../media/CLIC.WAV"/><Relationship Id="rId1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657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3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676520"/>
            <a:ext cx="1676160" cy="1263600"/>
          </a:xfrm>
          <a:prstGeom prst="rect">
            <a:avLst/>
          </a:prstGeom>
          <a:ln w="0">
            <a:noFill/>
          </a:ln>
        </p:spPr>
      </p:pic>
      <p:pic>
        <p:nvPicPr>
          <p:cNvPr id="84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480" y="4495680"/>
            <a:ext cx="1787760" cy="1176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1240" y="264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" name="images" descr=""/>
          <p:cNvPicPr/>
          <p:nvPr/>
        </p:nvPicPr>
        <p:blipFill>
          <a:blip r:embed="rId6"/>
          <a:stretch/>
        </p:blipFill>
        <p:spPr>
          <a:xfrm>
            <a:off x="4876920" y="4648320"/>
            <a:ext cx="1371600" cy="1496880"/>
          </a:xfrm>
          <a:prstGeom prst="rect">
            <a:avLst/>
          </a:prstGeom>
          <a:ln w="0">
            <a:noFill/>
          </a:ln>
        </p:spPr>
      </p:pic>
      <p:pic>
        <p:nvPicPr>
          <p:cNvPr id="87" name="images" descr=""/>
          <p:cNvPicPr/>
          <p:nvPr/>
        </p:nvPicPr>
        <p:blipFill>
          <a:blip r:embed="rId7"/>
          <a:stretch/>
        </p:blipFill>
        <p:spPr>
          <a:xfrm>
            <a:off x="6858000" y="4419720"/>
            <a:ext cx="2057400" cy="1266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6934320" y="15238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2819520" y="4800600"/>
            <a:ext cx="1447560" cy="1085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3886200" y="16002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33440" y="0"/>
            <a:ext cx="3905280" cy="9420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2120" y="21337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TERM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260200">
            <a:off x="2285640" y="2514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220968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YET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8157000">
            <a:off x="6171480" y="28954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60840" y="250920"/>
            <a:ext cx="164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Temperatur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28080" y="250920"/>
            <a:ext cx="3665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Variación valor medio anu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desde Arica a Pta. Arenas=15ºC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0" y="936720"/>
            <a:ext cx="609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ausas: O. Pacífico-Corriente Humboldt-Rég. Vient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26920" y="1393920"/>
            <a:ext cx="56926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 existen grandes diferencias de temperatura c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. Orientación Isotermas N-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En Variación temporal se aprecia acción d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ordilleras de la Costa y Los And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7960" y="2556000"/>
            <a:ext cx="1626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Precipitació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73080" y="2556000"/>
            <a:ext cx="3929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Relieve        Variación Transvers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2671920"/>
            <a:ext cx="390600" cy="161640"/>
          </a:xfrm>
          <a:prstGeom prst="rightArrow">
            <a:avLst>
              <a:gd name="adj1" fmla="val 50000"/>
              <a:gd name="adj2" fmla="val 120858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47520" y="2841480"/>
            <a:ext cx="3736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 Arica 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0,7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I. Guarello    7330,9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440" y="3508200"/>
            <a:ext cx="591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Variabilidad Interanual por Coef. Variación   </a:t>
            </a:r>
            <a:r>
              <a:rPr b="1" lang="es-ES_tradnl" sz="2000" spc="-1" strike="noStrike">
                <a:solidFill>
                  <a:srgbClr val="ccffff"/>
                </a:solidFill>
                <a:latin typeface="Symbol"/>
                <a:ea typeface="Symbol"/>
              </a:rPr>
              <a:t>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3657600"/>
            <a:ext cx="152280" cy="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71680" y="3832200"/>
            <a:ext cx="1209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rte &gt; 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Sur 0,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68400" y="4325760"/>
            <a:ext cx="573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limas: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Desértico al Norte de 27º  (Norte Grande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Semi-desértico 27 a 31º    (Norte Chico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editerráneo 31 a 36-38º (Valle Central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Lluvioso 38º al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emplado Cálido  38 a40º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osta 40º a Pto. Mont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arítimo-templado frí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             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undra isotérmica-trasandino-estepa frí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7" name="magallanes3" descr=""/>
          <p:cNvPicPr/>
          <p:nvPr/>
        </p:nvPicPr>
        <p:blipFill>
          <a:blip r:embed="rId2"/>
          <a:stretch/>
        </p:blipFill>
        <p:spPr>
          <a:xfrm>
            <a:off x="7162920" y="2666880"/>
            <a:ext cx="1703160" cy="1279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238880" y="37339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ccecff"/>
                </a:solidFill>
                <a:latin typeface="Times New Roman"/>
              </a:rPr>
              <a:t>XII Región (50ºLatitud sur)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429000"/>
            <a:ext cx="304920" cy="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8381880" cy="5908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09480" y="6172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ecff"/>
                </a:solidFill>
                <a:latin typeface="Times New Roman"/>
              </a:rPr>
              <a:t>Clasificación Clima según Köppe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2" name="polar" descr=""/>
          <p:cNvPicPr/>
          <p:nvPr/>
        </p:nvPicPr>
        <p:blipFill>
          <a:blip r:embed="rId3"/>
          <a:stretch/>
        </p:blipFill>
        <p:spPr>
          <a:xfrm>
            <a:off x="7035840" y="5391000"/>
            <a:ext cx="2108160" cy="1467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038120" y="2057040"/>
            <a:ext cx="4876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Tahoma"/>
              </a:rPr>
              <a:t>SURGENCIA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Transferencia de las aguas frías desde los niveles profundos hacia la superficie de un cuerpo de agua mediante corrientes verticales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756720" y="5334120"/>
            <a:ext cx="390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HILE: LATITUD  18º a  56º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930800">
            <a:off x="4724280" y="5181120"/>
            <a:ext cx="797040" cy="333360"/>
          </a:xfrm>
          <a:prstGeom prst="rightArrow">
            <a:avLst>
              <a:gd name="adj1" fmla="val 50000"/>
              <a:gd name="adj2" fmla="val 119579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57320" y="4419720"/>
            <a:ext cx="2498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limas Subtropical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Frí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5" name="americadelsur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3444840" cy="4427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2" action="ppaction://hlinksldjump"/>
              </a:rPr>
              <a:t>Factore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Moderador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Régimen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general de presiones y viento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4" action="ppaction://hlinksldjump"/>
              </a:rPr>
              <a:t>Sistema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de masas de aire y frent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5" action="ppaction://hlinksldjump"/>
              </a:rPr>
              <a:t>Régimen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 de temperatura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Moderador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Influencia del Océano Pacífico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Corriente de Humboldt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Factores Orográfico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rriente de Humbold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95240" y="2033640"/>
            <a:ext cx="6782040" cy="4619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5053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Orográf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2133720" y="5791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505320" y="552600"/>
            <a:ext cx="4647960" cy="630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Régimen general de presiones y viento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952880" cy="486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PRESIONES</a:t>
            </a: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Anticiclón Subtropical del Pacífico Sur Oriental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25º - 30º Lat. S, 90º Long. O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 se desplaza hasta los 35º a 40º evitando el desplazamiento del frente polar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Zona de Oestes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Al Sur del Anticiclón las isóbaras decrecen y poseen orientación E-O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Existe una gran variación horizontal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VIENTOS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Julio: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Alisios hasta 22º  (SE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Variables 22 a 35º (Anticic.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NO u O 35 a 48º (F. Polar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cc"/>
                </a:solidFill>
                <a:latin typeface="Tahoma"/>
              </a:rPr>
              <a:t>Efectos orográficos.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248520" y="1981080"/>
          <a:ext cx="220824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1981080"/>
                    <a:ext cx="2208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4267080" y="5943600"/>
            <a:ext cx="304920" cy="30492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6095880"/>
            <a:ext cx="365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: Desplazamiento hacia el Su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148360" y="1989000"/>
            <a:ext cx="3267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Sistemas de masas de aire y frent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Frente polar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Invierno: 3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Verano  : 4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Centro de altas presiones del Pacífic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Invierno Bolivian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7696080" y="556272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Régimen de Temperatu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40384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Variación valor medio anual desde Arica a Punta Arenas  15</a:t>
            </a:r>
            <a:r>
              <a:rPr b="1" lang="es-ES_tradnl" sz="24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ausas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54100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. Pacífico, Corriente de Humboldt y Régimen de vient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5T21:59:50Z</dcterms:created>
  <dc:creator>Cristina A. Muñoz Saavedra</dc:creator>
  <dc:description/>
  <dc:language>en-US</dc:language>
  <cp:lastModifiedBy>xv</cp:lastModifiedBy>
  <dcterms:modified xsi:type="dcterms:W3CDTF">2006-03-27T02:12:44Z</dcterms:modified>
  <cp:revision>25</cp:revision>
  <dc:subject/>
  <dc:title>Características Climáticas Generales de Chile</dc:title>
</cp:coreProperties>
</file>