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CLIC.WAV" ContentType="audio/x-wav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BD7-0220-467F-B1F5-4ECC25B06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35E-E30F-4C33-BA4C-0DC4819E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64A-ACDD-4104-8213-424ABFC9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E989-89B4-410F-97C4-99EEDF99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BF17-C1CC-4B2C-9738-52E9C225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B2CB-1363-439E-B050-7D39C659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82DF-968E-4C38-9DD6-7378146F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B80F-E20C-48CA-8D5B-CC2065E4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017F-4189-4666-9F73-E96CEA54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94FB-8446-4ABF-9BE2-F98D6219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7682-7E94-4A28-9E14-5EBF9EDB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34E-EE3E-4EFD-8DEA-C9F415BB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F33B-D7B7-4155-981A-EB28ABCB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E7B7-3725-4CD5-908A-89DF8BB3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686F-E442-4163-9696-21509D3C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8C5C-90C6-4E85-835C-4874A5A8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5D7B-7E4C-4A31-BDEB-4AF6F05F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6A4-DC6A-4447-A48D-EF3B4BDD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5FA5-7CEF-48F9-A1D8-D4B81A1B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D20E-2E1B-4BFA-923C-F0EDA48E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167-4E32-44FA-A19C-8911D66D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4DA-7DC1-4CE3-9B13-4F8F2BBD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FC9-BBC6-402D-9AA4-C17A4D59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DEA-303B-4117-A511-748FDF46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2ADA-89EF-4635-8CAB-1DB0FA391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DC1B-4397-4BEE-A299-208E23A051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url?q=http://www.giroguies.com/atacama/10-tardecer%2520en%2520el%2520desierto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l/imgres?imgurl=http://www.vanwalree.com/photos/patagonia/osorno.jpg&amp;imgrefurl=http://www.vanwalree.com/photos/patagonia/osorno.html&amp;h=291&amp;w=440&amp;sz=54&amp;tbnid=GHgMjn3M-RGTKM:&amp;tbnh=81&amp;tbnw=123&amp;hl=es&amp;start=16&amp;prev=/images%3Fq%3DOsorno%26svnum%3D10%26hl%3Des%26lr%3Dlang_es%26sa%3D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76520"/>
            <a:ext cx="167616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495680"/>
            <a:ext cx="1787760" cy="1176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24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13716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images" descr=""/>
          <p:cNvPicPr/>
          <p:nvPr/>
        </p:nvPicPr>
        <p:blipFill>
          <a:blip r:embed="rId7"/>
          <a:stretch/>
        </p:blipFill>
        <p:spPr>
          <a:xfrm>
            <a:off x="6858000" y="4419720"/>
            <a:ext cx="205740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934320" y="1523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2819520" y="48006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3886200" y="1600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magallanes3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03160" cy="1279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38880" y="37339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ccecff"/>
                </a:solidFill>
                <a:latin typeface="Times New Roman"/>
              </a:rPr>
              <a:t>XII Región (50ºLatitud sur)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429000"/>
            <a:ext cx="304920" cy="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polar" descr=""/>
          <p:cNvPicPr/>
          <p:nvPr/>
        </p:nvPicPr>
        <p:blipFill>
          <a:blip r:embed="rId3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038120" y="2057040"/>
            <a:ext cx="4876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56720" y="533412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30800">
            <a:off x="4724280" y="5181120"/>
            <a:ext cx="797040" cy="333360"/>
          </a:xfrm>
          <a:prstGeom prst="rightArrow">
            <a:avLst>
              <a:gd name="adj1" fmla="val 50000"/>
              <a:gd name="adj2" fmla="val 119579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57320" y="441972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americadelsu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444840" cy="442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5" action="ppaction://hlinksldjump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6-03-27T02:12:44Z</dcterms:modified>
  <cp:revision>25</cp:revision>
  <dc:subject/>
  <dc:title>Características Climáticas Generales de Chile</dc:title>
</cp:coreProperties>
</file>