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CLIC.WAV" ContentType="audio/x-wav"/>
  <Override PartName="/ppt/media/image8.jpeg" ContentType="image/jpeg"/>
  <Override PartName="/ppt/media/image1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7DEC-0390-4468-8533-3CA6BC10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BC1-D298-47B7-96D5-D11A022D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58A-695B-4212-8D08-9A00F4EF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53C0-49C3-49A8-83A2-03BFE2AD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8C31-F3EA-46A8-B470-3E4484F1F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3F0C-806D-4D0A-B204-2DBB960C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977-AD49-4089-8DD9-823BEEBF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07F8-D7DF-422F-BE87-5DDD42B4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5AB7-5249-49E8-B80E-42657893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70F8-BF5E-4028-B906-A3400BBA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1C45-B38B-4393-9EF6-C9A610F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7AA-6E93-43FB-ABB3-41329E1B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2004-0B13-4FCB-B32B-691BD820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6EA5-3A25-493C-A53C-FBFB4686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8A3B-99D5-4A46-A206-45266533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395D-EEB9-4B68-B806-750BB20D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2F78-6A31-42E9-8AC9-692EDEA3D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8F8-7A77-46A2-B89D-002BA040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9DF-BD0D-4211-9401-3F8692B3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6E3-1C43-4684-9E5F-ADFEB260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3EC-E48D-4564-9F3D-099045C9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228-7A8A-4C1F-AEC1-A2A9466F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D2A-6442-4A9D-BF28-B8FFF7C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FBE-C507-4DAD-9351-7F69E82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7E4D-A8FB-4E15-8F70-123D112E6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D38C-A700-4910-85DB-A4AE3CAB39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url?q=http://www.giroguies.com/atacama/10-tardecer%2520en%2520el%2520desierto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google.cl/imgres?imgurl=http://www.vanwalree.com/photos/patagonia/osorno.jpg&amp;imgrefurl=http://www.vanwalree.com/photos/patagonia/osorno.html&amp;h=291&amp;w=440&amp;sz=54&amp;tbnid=GHgMjn3M-RGTKM:&amp;tbnh=81&amp;tbnw=123&amp;hl=es&amp;start=16&amp;prev=/images%3Fq%3DOsorno%26svnum%3D10%26hl%3Des%26lr%3Dlang_es%26sa%3D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audio" Target="../media/CLIC.WAV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3" name="images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76520"/>
            <a:ext cx="1676160" cy="1263600"/>
          </a:xfrm>
          <a:prstGeom prst="rect">
            <a:avLst/>
          </a:prstGeom>
          <a:ln w="0">
            <a:noFill/>
          </a:ln>
        </p:spPr>
      </p:pic>
      <p:pic>
        <p:nvPicPr>
          <p:cNvPr id="84" name="images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495680"/>
            <a:ext cx="1787760" cy="1176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1240" y="264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6"/>
          <a:stretch/>
        </p:blipFill>
        <p:spPr>
          <a:xfrm>
            <a:off x="4876920" y="4648320"/>
            <a:ext cx="1371600" cy="149688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7"/>
          <a:stretch/>
        </p:blipFill>
        <p:spPr>
          <a:xfrm>
            <a:off x="6858000" y="4419720"/>
            <a:ext cx="2057400" cy="126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6934320" y="152388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4800600"/>
            <a:ext cx="1447560" cy="10857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3886200" y="160020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33440" y="0"/>
            <a:ext cx="3905280" cy="9420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21337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TERM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2260200">
            <a:off x="228564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81680" y="2209680"/>
            <a:ext cx="19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ecff"/>
                </a:solidFill>
                <a:latin typeface="Tahoma"/>
              </a:rPr>
              <a:t>ISOYETAS MEDIAS ANUALES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8157000">
            <a:off x="6171480" y="2895480"/>
            <a:ext cx="685800" cy="609840"/>
          </a:xfrm>
          <a:prstGeom prst="rightArrow">
            <a:avLst>
              <a:gd name="adj1" fmla="val 50000"/>
              <a:gd name="adj2" fmla="val 28114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60840" y="250920"/>
            <a:ext cx="1641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Temperatur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28080" y="250920"/>
            <a:ext cx="3665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Variación valor medio anu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desde Arica a Pta. Arenas=15ºC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0" y="936720"/>
            <a:ext cx="6091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ausas: O. Pacífico-Corriente Humboldt-Rég. Vient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26920" y="1393920"/>
            <a:ext cx="5692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 existen grandes diferencias de temperatura c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. Orientación Isotermas N-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En Variación temporal se aprecia acción d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cordilleras de la Costa y Los And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57960" y="2556000"/>
            <a:ext cx="1626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Precipitació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73080" y="2556000"/>
            <a:ext cx="392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Relieve        Variación Transversal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2671920"/>
            <a:ext cx="390600" cy="161640"/>
          </a:xfrm>
          <a:prstGeom prst="rightArrow">
            <a:avLst>
              <a:gd name="adj1" fmla="val 50000"/>
              <a:gd name="adj2" fmla="val 120858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47520" y="2841480"/>
            <a:ext cx="37360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Latitud Arica 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0,7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I. Guarello    7330,9 m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440" y="3508200"/>
            <a:ext cx="5913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Variabilidad Interanual por Coef. Variación   </a:t>
            </a:r>
            <a:r>
              <a:rPr b="1" lang="es-ES_tradnl" sz="2000" spc="-1" strike="noStrike">
                <a:solidFill>
                  <a:srgbClr val="ccffff"/>
                </a:solidFill>
                <a:latin typeface="Symbol"/>
                <a:ea typeface="Symbol"/>
              </a:rPr>
              <a:t>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3657600"/>
            <a:ext cx="152280" cy="0"/>
          </a:xfrm>
          <a:prstGeom prst="line">
            <a:avLst/>
          </a:prstGeom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71680" y="3832200"/>
            <a:ext cx="1209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Norte &gt; 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ecff"/>
                </a:solidFill>
                <a:latin typeface="Times New Roman"/>
              </a:rPr>
              <a:t>Sur 0,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68400" y="4325760"/>
            <a:ext cx="573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Times New Roman"/>
              </a:rPr>
              <a:t>Climas: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Desértico al Norte de 27º  (Norte Grande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Semi-desértico 27 a 31º    (Norte Chico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editerráneo 31 a 36-38º (Valle Central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Lluvioso 38º al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emplado Cálido  38 a40º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osta 40º a Pto. Mont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Marítimo-templado frío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               </a:t>
            </a: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tundra isotérmica-trasandino-estepa frí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7" name="magallanes3" descr=""/>
          <p:cNvPicPr/>
          <p:nvPr/>
        </p:nvPicPr>
        <p:blipFill>
          <a:blip r:embed="rId2"/>
          <a:stretch/>
        </p:blipFill>
        <p:spPr>
          <a:xfrm>
            <a:off x="7162920" y="2666880"/>
            <a:ext cx="1703160" cy="1279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238880" y="37339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ccecff"/>
                </a:solidFill>
                <a:latin typeface="Times New Roman"/>
              </a:rPr>
              <a:t>XII Región (50ºLatitud sur)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429000"/>
            <a:ext cx="304920" cy="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381880" cy="59086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948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Clasificación Clima según Köppe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2" name="polar" descr=""/>
          <p:cNvPicPr/>
          <p:nvPr/>
        </p:nvPicPr>
        <p:blipFill>
          <a:blip r:embed="rId3"/>
          <a:stretch/>
        </p:blipFill>
        <p:spPr>
          <a:xfrm>
            <a:off x="7035840" y="5391000"/>
            <a:ext cx="2108160" cy="146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038120" y="2057040"/>
            <a:ext cx="4876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cc"/>
                </a:solidFill>
                <a:latin typeface="Tahoma"/>
              </a:rPr>
              <a:t>SURGENCIA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Transferencia de las aguas frías desde los niveles profundos hacia la superficie de un cuerpo de agua mediante corrientes verticales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756720" y="5334120"/>
            <a:ext cx="390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HILE: LATITUD  18º a  56º Su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930800">
            <a:off x="4724280" y="5181120"/>
            <a:ext cx="797040" cy="333360"/>
          </a:xfrm>
          <a:prstGeom prst="rightArrow">
            <a:avLst>
              <a:gd name="adj1" fmla="val 50000"/>
              <a:gd name="adj2" fmla="val 119579"/>
            </a:avLst>
          </a:prstGeom>
          <a:solidFill>
            <a:srgbClr val="cc99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57320" y="4419720"/>
            <a:ext cx="2498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Climas Subtropica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ff"/>
                </a:solidFill>
                <a:latin typeface="Times New Roman"/>
              </a:rPr>
              <a:t>Frío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americadelsur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3444840" cy="4427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Tahoma"/>
              </a:rPr>
              <a:t>Características Climáticas Generales de Chile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2" action="ppaction://hlinksldjump"/>
              </a:rPr>
              <a:t>Factore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oderador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Régimen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general de presiones y viento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4" action="ppaction://hlinksldjump"/>
              </a:rPr>
              <a:t>Sistemas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de masas de aire y frent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16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99ccff"/>
                </a:solidFill>
                <a:uFillTx/>
                <a:latin typeface="Tahoma"/>
                <a:hlinkClick r:id="rId5" action="ppaction://hlinksldjump"/>
              </a:rPr>
              <a:t>Régimen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de temperatura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Moderador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fluencia del Océano Pacífico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Corriente de Humboldt.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6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Factores Orográficos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Corriente de Humbold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5240" y="2033640"/>
            <a:ext cx="6782040" cy="4619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3505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Factores Orográf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133720" y="5791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05320" y="552600"/>
            <a:ext cx="4647960" cy="6305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Régimen general de presiones y viento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4952880" cy="486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PRESIONES</a:t>
            </a: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Anticiclón Subtropical del Pacífico Sur Oriental.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25º - 30º Lat. S, 90º Long. O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 se desplaza hasta los 35º a 40º evitando el desplazamiento del frente polar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Tahoma"/>
              </a:rPr>
              <a:t>Zona de Oestes</a:t>
            </a:r>
            <a:endParaRPr b="0" lang="en-US" sz="1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Ubicación: Al Sur del Anticiclón las isóbaras decrecen y poseen orientación E-O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Existe una gran variación horizontal.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cc"/>
                </a:solidFill>
                <a:uFillTx/>
                <a:latin typeface="Tahoma"/>
              </a:rPr>
              <a:t>VIENTOS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Julio: 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Alisios hasta 22º  (SE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Variables 22 a 35º (Anticic.)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. NO u O 35 a 48º (F. Polar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cc"/>
                </a:solidFill>
                <a:latin typeface="Tahoma"/>
              </a:rPr>
              <a:t>Efectos orográficos.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248520" y="1981080"/>
          <a:ext cx="22082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981080"/>
                    <a:ext cx="220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4267080" y="5943600"/>
            <a:ext cx="304920" cy="304920"/>
          </a:xfrm>
          <a:prstGeom prst="sun">
            <a:avLst>
              <a:gd name="adj" fmla="val 25000"/>
            </a:avLst>
          </a:pr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6095880"/>
            <a:ext cx="365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cc"/>
                </a:solidFill>
                <a:latin typeface="Tahoma"/>
              </a:rPr>
              <a:t>Verano: Desplazamiento hacia el Sur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5148360" y="1989000"/>
            <a:ext cx="32670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Tahoma"/>
              </a:rPr>
              <a:t>Sistemas de masas de aire y frentes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Frente polar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Invierno: 3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cc"/>
                </a:solidFill>
                <a:latin typeface="Tahoma"/>
              </a:rPr>
              <a:t>Verano  : 40º a 45º Lat. 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Centro de altas presiones del Pacífic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Invierno Bolivian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696080" y="5562720"/>
            <a:ext cx="381240" cy="380880"/>
          </a:xfrm>
          <a:custGeom>
            <a:avLst/>
            <a:gdLst>
              <a:gd name="textAreaLeft" fmla="*/ 156960 w 381240"/>
              <a:gd name="textAreaRight" fmla="*/ 224280 w 3812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Tahoma"/>
              </a:rPr>
              <a:t>Régimen de Tempera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40384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Variación valor medio anual desde Arica a Punta Arenas  15</a:t>
            </a:r>
            <a:r>
              <a:rPr b="1" lang="es-ES_tradnl" sz="2400" spc="-1" strike="noStrike" baseline="30000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5257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usas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5410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. Pacífico, Corriente de Humboldt y Régimen de viento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5T21:59:50Z</dcterms:created>
  <dc:creator>Cristina A. Muñoz Saavedra</dc:creator>
  <dc:description/>
  <dc:language>en-US</dc:language>
  <cp:lastModifiedBy>xv</cp:lastModifiedBy>
  <dcterms:modified xsi:type="dcterms:W3CDTF">2006-03-27T02:12:44Z</dcterms:modified>
  <cp:revision>25</cp:revision>
  <dc:subject/>
  <dc:title>Características Climáticas Generales de Chile</dc:title>
</cp:coreProperties>
</file>