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CLIC.WAV" ContentType="audio/x-wav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C80-7E0A-482E-8812-235C7F94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727-7030-4F70-94A3-E7F6B822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649-CD47-4EB2-A9AF-3F74B895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607-A378-4329-9DA3-23EBF9D3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75CF-90A3-4B84-A180-B2EFFB17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215E-7589-4B45-BA71-04DE04EF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214C-47B6-4FBA-A6F6-24EE0484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9BE9-AD04-41C3-A051-2F63153E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67D1-0A99-474B-87CE-100243A6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D210-0D20-424A-819E-ADB26FC6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26CF-FBD4-4ADD-B6D8-9D86CEE4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D2C-4010-4680-99BA-53E6CDD1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C4FA-C77F-43C6-B4A4-57BC758A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F6DF-B977-46F3-9150-8C3EEBAA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DBE1-C9A4-4490-AC48-39F65193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931E-1060-41CD-8D18-713D3348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5BCF-72FC-4BA2-8286-7FA7E979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675-5C3F-4711-BD57-90689F4F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6BC-D1E0-4C3C-9174-25A5B2F7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E81-2632-446F-884B-6A4494A1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70C-51FA-437A-AB38-245E6B45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D8C-BD25-4599-81DD-4D2D64AA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6F8-3544-4B7C-BF9B-31B5C3AA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A85-7E1A-4080-B98B-9F98686A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3542-8960-4E2E-A061-362C957FD2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04A9-834C-429A-A320-DAFDA64E6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url?q=http://www.giroguies.com/atacama/10-tardecer%2520en%2520el%2520desierto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l/imgres?imgurl=http://www.vanwalree.com/photos/patagonia/osorno.jpg&amp;imgrefurl=http://www.vanwalree.com/photos/patagonia/osorno.html&amp;h=291&amp;w=440&amp;sz=54&amp;tbnid=GHgMjn3M-RGTKM:&amp;tbnh=81&amp;tbnw=123&amp;hl=es&amp;start=16&amp;prev=/images%3Fq%3DOsorno%26svnum%3D10%26hl%3Des%26lr%3Dlang_es%26sa%3D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audio" Target="../media/CLIC.WAV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3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76520"/>
            <a:ext cx="1676160" cy="1263600"/>
          </a:xfrm>
          <a:prstGeom prst="rect">
            <a:avLst/>
          </a:prstGeom>
          <a:ln w="0">
            <a:noFill/>
          </a:ln>
        </p:spPr>
      </p:pic>
      <p:pic>
        <p:nvPicPr>
          <p:cNvPr id="84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4495680"/>
            <a:ext cx="1787760" cy="1176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124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images" descr=""/>
          <p:cNvPicPr/>
          <p:nvPr/>
        </p:nvPicPr>
        <p:blipFill>
          <a:blip r:embed="rId6"/>
          <a:stretch/>
        </p:blipFill>
        <p:spPr>
          <a:xfrm>
            <a:off x="4876920" y="4648320"/>
            <a:ext cx="1371600" cy="1496880"/>
          </a:xfrm>
          <a:prstGeom prst="rect">
            <a:avLst/>
          </a:prstGeom>
          <a:ln w="0">
            <a:noFill/>
          </a:ln>
        </p:spPr>
      </p:pic>
      <p:pic>
        <p:nvPicPr>
          <p:cNvPr id="87" name="images" descr=""/>
          <p:cNvPicPr/>
          <p:nvPr/>
        </p:nvPicPr>
        <p:blipFill>
          <a:blip r:embed="rId7"/>
          <a:stretch/>
        </p:blipFill>
        <p:spPr>
          <a:xfrm>
            <a:off x="6858000" y="4419720"/>
            <a:ext cx="2057400" cy="1266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934320" y="15238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2819520" y="480060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3886200" y="16002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33440" y="0"/>
            <a:ext cx="3905280" cy="9420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2133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TERM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260200">
            <a:off x="228564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2209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YET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8157000">
            <a:off x="6171480" y="28954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60840" y="250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emperatur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28080" y="250920"/>
            <a:ext cx="366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Variación valor medio anu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desde Arica a Pta. Arenas=15º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0" y="936720"/>
            <a:ext cx="609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ausas: O. Pacífico-Corriente Humboldt-Rég. Vient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26920" y="1393920"/>
            <a:ext cx="5692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 existen grandes diferencias de temperatura c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. Orientación Isotermas N-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En Variación temporal se aprecia acción 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ordilleras de la Costa y Los And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7960" y="2556000"/>
            <a:ext cx="1626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ipita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73080" y="2556000"/>
            <a:ext cx="392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Relieve        Variación Transvers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2671920"/>
            <a:ext cx="390600" cy="161640"/>
          </a:xfrm>
          <a:prstGeom prst="rightArrow">
            <a:avLst>
              <a:gd name="adj1" fmla="val 50000"/>
              <a:gd name="adj2" fmla="val 120858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7520" y="2841480"/>
            <a:ext cx="3736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 Arica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0,7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. Guarello    7330,9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440" y="3508200"/>
            <a:ext cx="591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Variabilidad Interanual por Coef. Variación   </a:t>
            </a:r>
            <a:r>
              <a:rPr b="1" lang="es-ES_tradnl" sz="2000" spc="-1" strike="noStrike">
                <a:solidFill>
                  <a:srgbClr val="ccffff"/>
                </a:solidFill>
                <a:latin typeface="Symbol"/>
                <a:ea typeface="Symbol"/>
              </a:rPr>
              <a:t>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657600"/>
            <a:ext cx="15228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1680" y="3832200"/>
            <a:ext cx="1209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rte &gt; 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Sur 0,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68400" y="4325760"/>
            <a:ext cx="57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limas: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Desértico al Norte de 27º  (Norte Grande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Semi-desértico 27 a 31º    (Norte Chico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editerráneo 31 a 36-38º (Valle Centra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Lluvioso 38º al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emplado Cálido  38 a40º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osta 40º a Pto. Mont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arítimo-templado frí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             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undra isotérmica-trasandino-estepa frí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magallanes3" descr=""/>
          <p:cNvPicPr/>
          <p:nvPr/>
        </p:nvPicPr>
        <p:blipFill>
          <a:blip r:embed="rId2"/>
          <a:stretch/>
        </p:blipFill>
        <p:spPr>
          <a:xfrm>
            <a:off x="7162920" y="2666880"/>
            <a:ext cx="1703160" cy="1279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238880" y="37339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ccecff"/>
                </a:solidFill>
                <a:latin typeface="Times New Roman"/>
              </a:rPr>
              <a:t>XII Región (50ºLatitud sur)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429000"/>
            <a:ext cx="304920" cy="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polar" descr=""/>
          <p:cNvPicPr/>
          <p:nvPr/>
        </p:nvPicPr>
        <p:blipFill>
          <a:blip r:embed="rId3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038120" y="2057040"/>
            <a:ext cx="4876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SURGENCIA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Transferencia de las aguas frías desde los niveles profundos hacia la superficie de un cuerpo de agua mediante corrientes verticales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756720" y="5334120"/>
            <a:ext cx="390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HILE: LATITUD  18º a  56º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930800">
            <a:off x="4724280" y="5181120"/>
            <a:ext cx="797040" cy="333360"/>
          </a:xfrm>
          <a:prstGeom prst="rightArrow">
            <a:avLst>
              <a:gd name="adj1" fmla="val 50000"/>
              <a:gd name="adj2" fmla="val 119579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57320" y="4419720"/>
            <a:ext cx="2498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limas Subtropic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Frí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americadelsur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444840" cy="442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Factore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ode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Régimen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general de presiones y vient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4" action="ppaction://hlinksldjump"/>
              </a:rPr>
              <a:t>Sistema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de masas de aire y frent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5" action="ppaction://hlinksldjump"/>
              </a:rPr>
              <a:t>Régimen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 de temperatur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Moderador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Influencia del Océano Pacífico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Corriente de Humboldt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Factores Orográfico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iente de Humbold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5240" y="203364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Orográ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2133720" y="5791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05320" y="552600"/>
            <a:ext cx="464796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Régimen general de presiones y viento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952880" cy="486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PRESIONES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Anticiclón Subtropical del Pacífico Sur Oriental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25º - 30º Lat. S, 90º Long. O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 se desplaza hasta los 35º a 40º evitando el desplazamiento del frente polar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Zona de Oest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Al Sur del Anticiclón las isóbaras decrecen y poseen orientación E-O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Existe una gran variación horizontal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VIENTOS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Julio: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Alisios hasta 22º  (SE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Variables 22 a 35º (Anticic.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NO u O 35 a 48º (F. Polar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cc"/>
                </a:solidFill>
                <a:latin typeface="Tahoma"/>
              </a:rPr>
              <a:t>Efectos orográficos.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48520" y="1981080"/>
          <a:ext cx="2208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981080"/>
                    <a:ext cx="220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4267080" y="5943600"/>
            <a:ext cx="30492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6095880"/>
            <a:ext cx="365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: Desplazamiento hacia el Su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148360" y="198900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Sistemas de masas de aire y frent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Frente po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Invierno: 3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Verano  : 4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Centro de altas presiones del Pacífic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Invierno Bolivian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696080" y="55627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égimen de Tempera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4038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Variación valor medio anual desde Arica a Punta Arenas  15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usa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5410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. Pacífico, Corriente de Humboldt y Régimen de vi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5T21:59:50Z</dcterms:created>
  <dc:creator>Cristina A. Muñoz Saavedra</dc:creator>
  <dc:description/>
  <dc:language>en-US</dc:language>
  <cp:lastModifiedBy>xv</cp:lastModifiedBy>
  <dcterms:modified xsi:type="dcterms:W3CDTF">2006-03-27T02:12:44Z</dcterms:modified>
  <cp:revision>25</cp:revision>
  <dc:subject/>
  <dc:title>Características Climáticas Generales de Chile</dc:title>
</cp:coreProperties>
</file>