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F19-4344-4408-9D02-5F661E31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440-5AAC-4660-93BB-9F4EB71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6A8-4420-4679-8021-754FCA9B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D2D-9C16-4F86-A603-6CBD104D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BF14-1465-419C-9D28-0FF24BC6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0550-AE93-4AEF-96AA-779F1AE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9E7E-2A86-4FE2-B702-AA28C11B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073-AE8E-4B7B-936C-147873F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1283-82FF-4BAB-9F0A-7D216022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ED76-D8D0-4A56-AEE0-DCA39C7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CF88-C6EE-42E2-8F9F-DCA49602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24E-37C8-45AA-98BA-D83D5F9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71B-6BE9-48CF-91EE-4B3AD201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952-A701-4D26-9408-E20AE43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B532-2ACE-4B47-B02A-79AD5DE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EB63-C22C-4AC0-8D7C-31165818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B946-EB63-4185-ADF0-E368EB00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34-7FA6-4592-9EA5-928B1AE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B8A-9B28-4DFC-B051-6307B199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19-C316-4B37-AB64-9C9519E3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93C-E68C-4649-B4D1-7E2FF2E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8F6-3AD7-475F-BD1F-B84E323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CA3-E38F-4313-ABEA-D607F2E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B22-CCAB-4EEF-BCF6-903D8D4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03E-90C1-4470-91E4-9C50F9DAE6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AC66-C459-4CDE-99F6-4B1B21C621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90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5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7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44480" y="3657600"/>
                <a:ext cx="3643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116000" y="5445000"/>
            <a:ext cx="510552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mb=1hPa=100Pa     1 atm=1013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24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2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academico</cp:lastModifiedBy>
  <dcterms:modified xsi:type="dcterms:W3CDTF">2007-03-28T15:26:53Z</dcterms:modified>
  <cp:revision>44</cp:revision>
  <dc:subject/>
  <dc:title>Presentación de PowerPoint</dc:title>
</cp:coreProperties>
</file>