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wmf" ContentType="image/x-wmf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55C90-0AB9-4275-8A48-689D6A0F7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A627C-15EF-48B8-B815-D33750149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880BA-D04A-4BA1-A890-899149A3C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073CA-CA3D-499E-9A9D-EDF4E49A3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E9CFF-311E-481B-A381-752B8D862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58B32-8DC6-49F2-B40A-5589A0C1E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7DA29-A915-4FFB-8771-A96D74B9C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790A1-9D34-4B94-A79B-D33335ABF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36753-62A3-4C27-9D29-E3574BAAE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90878-DEE6-421C-A7AD-6DC7783DB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A8F02-330D-4E1F-8C21-4D17F9211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01CDC-B39B-453B-8418-9526F8BB8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F4548-40F2-4A64-8A3A-976A19536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D3151-2DB1-4EDC-924D-9966C4FE9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6FC2B-33CC-4EDA-A8F0-A8E161A65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05A4A-2331-4BBD-8C13-1E712CBA8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4EAFE-39A8-4355-9A45-9FEB3F4F5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5C48D-E313-4E59-B6DF-A79C2B11B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CE243-E9EE-40B1-A177-900E8E8DC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864E8-8D91-4949-9DFB-B2271E33E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A6BD7-0172-492B-AC7E-B6EC479AB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4414E-3070-475D-9C95-8D25D40F7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8657A-FDDB-4903-B229-48987DB4F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13AFE-7697-4DB2-A1D4-955B4275A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9FDE9-FED3-4545-9D6B-9E42F1887EDD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F47A8-454A-4C4B-96CD-7276782FDA3D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6629400" y="2514600"/>
            <a:ext cx="251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HUMEDAD ATMOSFÉRIC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533520" y="304920"/>
            <a:ext cx="7315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Para el vapor de agua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1676520" y="1295280"/>
                <a:ext cx="41148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4357800" y="2819520"/>
                <a:ext cx="3857400" cy="145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71" name=""/>
          <p:cNvSpPr/>
          <p:nvPr/>
        </p:nvSpPr>
        <p:spPr>
          <a:xfrm>
            <a:off x="685800" y="4572000"/>
            <a:ext cx="7010280" cy="17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1" lang="es-ES_tradnl" sz="1800" spc="-1" strike="noStrike" baseline="-25000">
                <a:solidFill>
                  <a:srgbClr val="ffffff"/>
                </a:solidFill>
                <a:latin typeface="Times New Roman"/>
              </a:rPr>
              <a:t>o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: Cte. Universal de los gases 1,9857cal/(molºK)</a:t>
            </a:r>
            <a:br>
              <a:rPr sz="1800"/>
            </a:b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1" lang="es-ES_tradnl" sz="1800" spc="-1" strike="noStrike" baseline="-25000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: cte de los gases para el vapo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1" lang="es-ES_tradnl" sz="1800" spc="-1" strike="noStrike" baseline="-25000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: peso molecular del vapor de agu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M: peso molecular del aire sec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1" lang="es-ES" sz="1800" spc="-1" strike="noStrike" baseline="-25000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s-ES" sz="1800" spc="-1" strike="noStrike">
                <a:solidFill>
                  <a:srgbClr val="ffffff"/>
                </a:solidFill>
                <a:latin typeface="Times New Roman"/>
              </a:rPr>
              <a:t>: cte. gas aire seco (2,876*10</a:t>
            </a:r>
            <a:r>
              <a:rPr b="1" lang="es-ES" sz="1800" spc="-1" strike="noStrike" baseline="30000">
                <a:solidFill>
                  <a:srgbClr val="ffffff"/>
                </a:solidFill>
                <a:latin typeface="Times New Roman"/>
              </a:rPr>
              <a:t>6</a:t>
            </a:r>
            <a:r>
              <a:rPr b="1" lang="es-ES" sz="1800" spc="-1" strike="noStrike">
                <a:solidFill>
                  <a:srgbClr val="ffffff"/>
                </a:solidFill>
                <a:latin typeface="Times New Roman"/>
              </a:rPr>
              <a:t> cm</a:t>
            </a:r>
            <a:r>
              <a:rPr b="1" lang="es-ES" sz="18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s-ES" sz="1800" spc="-1" strike="noStrike">
                <a:solidFill>
                  <a:srgbClr val="ffffff"/>
                </a:solidFill>
                <a:latin typeface="Times New Roman"/>
              </a:rPr>
              <a:t>/(s</a:t>
            </a:r>
            <a:r>
              <a:rPr b="1" lang="es-ES" sz="18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s-ES" sz="1800" spc="-1" strike="noStrike">
                <a:solidFill>
                  <a:srgbClr val="ffffff"/>
                </a:solidFill>
                <a:latin typeface="Times New Roman"/>
              </a:rPr>
              <a:t>ºK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324480" y="5257800"/>
            <a:ext cx="1600200" cy="914400"/>
          </a:xfrm>
          <a:prstGeom prst="rightArrow">
            <a:avLst>
              <a:gd name="adj1" fmla="val 50000"/>
              <a:gd name="adj2" fmla="val 43750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2276640" y="3103560"/>
                <a:ext cx="3741480" cy="15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622</m:t>
                    </m:r>
                    <m:f>
                      <m:num>
                        <m:r>
                          <m:t xml:space="preserve">e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1415880" y="457200"/>
                <a:ext cx="5975640" cy="151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T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61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5" name=""/>
          <p:cNvSpPr/>
          <p:nvPr/>
        </p:nvSpPr>
        <p:spPr>
          <a:xfrm>
            <a:off x="1219320" y="5257800"/>
            <a:ext cx="6324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Densidad del aire húmedo  o humedad absoluta de la atmósfer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2362320" y="4343040"/>
            <a:ext cx="15228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609480" y="380880"/>
            <a:ext cx="8305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457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66"/>
                </a:solidFill>
                <a:latin typeface="Arial"/>
              </a:rPr>
              <a:t>Densidad de la mezcla de aire seco y vapor de agu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9480" y="2057400"/>
            <a:ext cx="7848720" cy="3124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Symbol"/>
                <a:ea typeface="Symbol"/>
              </a:rPr>
              <a:t>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= </a:t>
            </a:r>
            <a:r>
              <a:rPr b="0" lang="es-ES_tradnl" sz="3200" spc="-1" strike="noStrike">
                <a:solidFill>
                  <a:srgbClr val="ffffff"/>
                </a:solidFill>
                <a:latin typeface="Symbol"/>
                <a:ea typeface="Symbol"/>
              </a:rPr>
              <a:t>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+</a:t>
            </a:r>
            <a:r>
              <a:rPr b="0" lang="es-ES_tradnl" sz="3200" spc="-1" strike="noStrike">
                <a:solidFill>
                  <a:srgbClr val="ffffff"/>
                </a:solidFill>
                <a:latin typeface="Symbol"/>
                <a:ea typeface="Symbol"/>
              </a:rPr>
              <a:t>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v =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(1-0,378e/P) P/R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P: presión de aire seco-e=P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(mb)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e:presión de vapor(mb) 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Rs: ctte de gases para aire seco      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T: temperatura en ºK  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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                  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El aire húmedo es menos denso que el aire seco a igual temperatura y presió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685800" y="380880"/>
            <a:ext cx="81532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cc66"/>
                </a:solidFill>
                <a:latin typeface="Times New Roman"/>
              </a:rPr>
              <a:t>HUMEDAD ESPECÍFICA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Masa de vapor de agua que existe por unidad de masa total de aire húmed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Donde: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e : Presión de vapor del aire en mb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P: Presión total del aire en mb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1" name=""/>
              <p:cNvSpPr txBox="1"/>
              <p:nvPr/>
            </p:nvSpPr>
            <p:spPr>
              <a:xfrm>
                <a:off x="1300320" y="2573280"/>
                <a:ext cx="6162480" cy="129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622</m:t>
                        </m:r>
                        <m:r>
                          <m:t xml:space="preserve">e</m:t>
                        </m:r>
                      </m:num>
                      <m:den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378</m:t>
                        </m:r>
                        <m:r>
                          <m:t xml:space="preserve">e</m:t>
                        </m:r>
                      </m:den>
                    </m:f>
                    <m:r>
                      <m:t xml:space="preserve">≈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622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e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685440" y="609480"/>
            <a:ext cx="79246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cc66"/>
                </a:solidFill>
                <a:latin typeface="Times New Roman"/>
              </a:rPr>
              <a:t>HUMEDAD ABSOLUTA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Donde: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s-ES_tradnl" sz="32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: Humedad absoluta del aire en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      (gr/m</a:t>
            </a:r>
            <a:r>
              <a:rPr b="0" lang="es-ES_tradnl" sz="3200" spc="-1" strike="noStrike" baseline="30000">
                <a:solidFill>
                  <a:srgbClr val="ffffff"/>
                </a:solidFill>
                <a:latin typeface="Times New Roman"/>
              </a:rPr>
              <a:t>3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baseline="30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 baseline="30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 baseline="30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e : Presión de vapor del aire en mb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t : temperatura del aire en ºK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3" name=""/>
              <p:cNvSpPr txBox="1"/>
              <p:nvPr/>
            </p:nvSpPr>
            <p:spPr>
              <a:xfrm>
                <a:off x="2496960" y="1579680"/>
                <a:ext cx="2932200" cy="134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17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e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cc66"/>
                </a:solidFill>
                <a:latin typeface="Times New Roman"/>
              </a:rPr>
              <a:t>HUMEDAD RELATIV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cc66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Relación entre la humedad existente con respecto a la humedad máxima que puede tener una cantidad de volumen de aire a la misma temperatur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Donde: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e : presión de vapor actual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es-ES_tradnl" sz="3200" spc="-1" strike="noStrike" baseline="-25000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: presión de saturació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5" name=""/>
              <p:cNvSpPr txBox="1"/>
              <p:nvPr/>
            </p:nvSpPr>
            <p:spPr>
              <a:xfrm>
                <a:off x="3124080" y="3548160"/>
                <a:ext cx="2514600" cy="122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e</m:t>
                        </m:r>
                      </m:num>
                      <m:den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533520" y="685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cc66"/>
                </a:solidFill>
                <a:latin typeface="Times New Roman"/>
              </a:rPr>
              <a:t>PRESIÓN DE VAPOR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Donde: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e : Presión de vapor en milibares 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es-ES_tradnl" sz="2800" spc="-1" strike="noStrike" baseline="-25000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: Presión de saturación del aire a                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            temperatura 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es-ES_tradnl" sz="28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: presión total del aire en mb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t : temperatura registrada con un 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        termómetro de bulbo sec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s-ES_tradnl" sz="2800" spc="-1" strike="noStrike" baseline="-25000">
                <a:solidFill>
                  <a:srgbClr val="ffffff"/>
                </a:solidFill>
                <a:latin typeface="Times New Roman"/>
              </a:rPr>
              <a:t>w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: Temperatura registrada con un 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termómetro de bulbo húmed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762120" y="1676520"/>
                <a:ext cx="7162560" cy="65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66</m:t>
                    </m:r>
                    <m:r>
                      <m:t xml:space="preserve">⋅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3</m:t>
                        </m:r>
                      </m:sup>
                    </m:sSup>
                    <m:r>
                      <m:t xml:space="preserve">⋅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w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146</m:t>
                    </m:r>
                    <m:r>
                      <m:t xml:space="preserve">⋅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3</m:t>
                        </m:r>
                      </m:sup>
                    </m:sSup>
                    <m:r>
                      <m:t xml:space="preserve">⋅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w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609480" y="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cc66"/>
                </a:solidFill>
                <a:latin typeface="Times New Roman"/>
              </a:rPr>
              <a:t>TEMPERATURA DE PUNTO DE  ROCÍO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Temperatura a la cual debe enfriarse una masa de aire húmedo, para que ésta se sature a la misma presión y contenido de agua inicial que tení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838080" y="4343400"/>
            <a:ext cx="4114800" cy="2545920"/>
            <a:chOff x="838080" y="4343400"/>
            <a:chExt cx="4114800" cy="2545920"/>
          </a:xfrm>
        </p:grpSpPr>
        <p:sp>
          <p:nvSpPr>
            <p:cNvPr id="190" name=""/>
            <p:cNvSpPr/>
            <p:nvPr/>
          </p:nvSpPr>
          <p:spPr>
            <a:xfrm>
              <a:off x="1447560" y="4495680"/>
              <a:ext cx="0" cy="1981080"/>
            </a:xfrm>
            <a:prstGeom prst="line">
              <a:avLst/>
            </a:prstGeom>
            <a:ln w="9360">
              <a:solidFill>
                <a:srgbClr val="00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447560" y="6476760"/>
              <a:ext cx="2895480" cy="0"/>
            </a:xfrm>
            <a:prstGeom prst="line">
              <a:avLst/>
            </a:prstGeom>
            <a:ln w="93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447560" y="4876560"/>
              <a:ext cx="2133720" cy="1638360"/>
            </a:xfrm>
            <a:custGeom>
              <a:avLst/>
              <a:gdLst/>
              <a:ahLst/>
              <a:rect l="l" t="t" r="r" b="b"/>
              <a:pathLst>
                <a:path w="1344" h="1032">
                  <a:moveTo>
                    <a:pt x="0" y="1008"/>
                  </a:moveTo>
                  <a:cubicBezTo>
                    <a:pt x="112" y="1020"/>
                    <a:pt x="224" y="1032"/>
                    <a:pt x="384" y="960"/>
                  </a:cubicBezTo>
                  <a:cubicBezTo>
                    <a:pt x="544" y="888"/>
                    <a:pt x="800" y="736"/>
                    <a:pt x="960" y="576"/>
                  </a:cubicBezTo>
                  <a:cubicBezTo>
                    <a:pt x="1120" y="416"/>
                    <a:pt x="1232" y="208"/>
                    <a:pt x="1344" y="0"/>
                  </a:cubicBezTo>
                </a:path>
              </a:pathLst>
            </a:custGeom>
            <a:noFill/>
            <a:ln w="381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038480" y="6553080"/>
              <a:ext cx="9144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ffff"/>
                  </a:solidFill>
                  <a:latin typeface="Times New Roman"/>
                </a:rPr>
                <a:t>T, T</a:t>
              </a:r>
              <a:r>
                <a:rPr b="0" lang="es-ES_tradnl" sz="1400" spc="-1" strike="noStrike" baseline="-25000">
                  <a:solidFill>
                    <a:srgbClr val="00ffff"/>
                  </a:solidFill>
                  <a:latin typeface="Times New Roman"/>
                </a:rPr>
                <a:t>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38080" y="4343400"/>
              <a:ext cx="5331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ffff"/>
                  </a:solidFill>
                  <a:latin typeface="Times New Roman"/>
                </a:rPr>
                <a:t>e,e</a:t>
              </a:r>
              <a:r>
                <a:rPr b="0" lang="es-ES_tradnl" sz="1400" spc="-1" strike="noStrike" baseline="-25000">
                  <a:solidFill>
                    <a:srgbClr val="00ffff"/>
                  </a:solidFill>
                  <a:latin typeface="Times New Roman"/>
                </a:rPr>
                <a:t>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 flipH="1">
              <a:off x="1447560" y="5486400"/>
              <a:ext cx="1752480" cy="0"/>
            </a:xfrm>
            <a:prstGeom prst="line">
              <a:avLst/>
            </a:prstGeom>
            <a:ln cap="rnd" w="9360">
              <a:solidFill>
                <a:srgbClr val="ffffff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124080" y="655308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990360" y="5410080"/>
              <a:ext cx="3808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Times New Roman"/>
                </a:rPr>
                <a:t>e</a:t>
              </a:r>
              <a:r>
                <a:rPr b="0" lang="es-ES_tradnl" sz="1400" spc="-1" strike="noStrike" baseline="-25000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V="1">
              <a:off x="2742840" y="6019560"/>
              <a:ext cx="0" cy="457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200040" y="5486400"/>
              <a:ext cx="0" cy="5331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2742840" y="6019560"/>
              <a:ext cx="4572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>
              <a:off x="1447560" y="6019560"/>
              <a:ext cx="1295280" cy="0"/>
            </a:xfrm>
            <a:prstGeom prst="line">
              <a:avLst/>
            </a:prstGeom>
            <a:ln cap="rnd" w="9360">
              <a:solidFill>
                <a:srgbClr val="ffffff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142640" y="5943600"/>
              <a:ext cx="228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Times New Roman"/>
                </a:rPr>
                <a:t>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514240" y="6553080"/>
              <a:ext cx="5335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s-ES_tradnl" sz="1400" spc="-1" strike="noStrike" baseline="-25000">
                  <a:solidFill>
                    <a:srgbClr val="ffffff"/>
                  </a:solidFill>
                  <a:latin typeface="Times New Roman"/>
                </a:rPr>
                <a:t>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5638320" y="4419720"/>
            <a:ext cx="1905480" cy="2469600"/>
            <a:chOff x="5638320" y="4419720"/>
            <a:chExt cx="1905480" cy="2469600"/>
          </a:xfrm>
        </p:grpSpPr>
        <p:sp>
          <p:nvSpPr>
            <p:cNvPr id="205" name=""/>
            <p:cNvSpPr/>
            <p:nvPr/>
          </p:nvSpPr>
          <p:spPr>
            <a:xfrm rot="5400000">
              <a:off x="5638320" y="5104800"/>
              <a:ext cx="761760" cy="762120"/>
            </a:xfrm>
            <a:prstGeom prst="rightArrowCallout">
              <a:avLst>
                <a:gd name="adj1" fmla="val 25014"/>
                <a:gd name="adj2" fmla="val 25012"/>
                <a:gd name="adj3" fmla="val 16667"/>
                <a:gd name="adj4" fmla="val 66667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06" name=""/>
            <p:cNvGrpSpPr/>
            <p:nvPr/>
          </p:nvGrpSpPr>
          <p:grpSpPr>
            <a:xfrm>
              <a:off x="5638680" y="4419720"/>
              <a:ext cx="1905120" cy="2469600"/>
              <a:chOff x="5638680" y="4419720"/>
              <a:chExt cx="1905120" cy="2469600"/>
            </a:xfrm>
          </p:grpSpPr>
          <p:sp>
            <p:nvSpPr>
              <p:cNvPr id="207" name=""/>
              <p:cNvSpPr/>
              <p:nvPr/>
            </p:nvSpPr>
            <p:spPr>
              <a:xfrm>
                <a:off x="6019920" y="5867280"/>
                <a:ext cx="1218960" cy="685440"/>
              </a:xfrm>
              <a:prstGeom prst="downArrowCallout">
                <a:avLst>
                  <a:gd name="adj1" fmla="val 44463"/>
                  <a:gd name="adj2" fmla="val 44459"/>
                  <a:gd name="adj3" fmla="val 16667"/>
                  <a:gd name="adj4" fmla="val 66667"/>
                </a:avLst>
              </a:prstGeom>
              <a:solidFill>
                <a:srgbClr val="ffff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08" name=""/>
              <p:cNvGrpSpPr/>
              <p:nvPr/>
            </p:nvGrpSpPr>
            <p:grpSpPr>
              <a:xfrm>
                <a:off x="6553080" y="4419720"/>
                <a:ext cx="990720" cy="533160"/>
                <a:chOff x="6553080" y="4419720"/>
                <a:chExt cx="990720" cy="533160"/>
              </a:xfrm>
            </p:grpSpPr>
            <p:sp>
              <p:nvSpPr>
                <p:cNvPr id="209" name=""/>
                <p:cNvSpPr/>
                <p:nvPr/>
              </p:nvSpPr>
              <p:spPr>
                <a:xfrm>
                  <a:off x="6553080" y="4419720"/>
                  <a:ext cx="990720" cy="533160"/>
                </a:xfrm>
                <a:prstGeom prst="flowChartAlternateProcess">
                  <a:avLst/>
                </a:prstGeom>
                <a:solidFill>
                  <a:srgbClr val="00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6883200" y="4495680"/>
                  <a:ext cx="5281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400" spc="-1" strike="noStrike">
                      <a:solidFill>
                        <a:srgbClr val="ffffff"/>
                      </a:solidFill>
                      <a:latin typeface="Times New Roman"/>
                    </a:rPr>
                    <a:t>T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1" name=""/>
              <p:cNvSpPr/>
              <p:nvPr/>
            </p:nvSpPr>
            <p:spPr>
              <a:xfrm>
                <a:off x="6934320" y="4952880"/>
                <a:ext cx="304560" cy="304560"/>
              </a:xfrm>
              <a:prstGeom prst="downArrow">
                <a:avLst>
                  <a:gd name="adj1" fmla="val 50000"/>
                  <a:gd name="adj2" fmla="val 25000"/>
                </a:avLst>
              </a:prstGeom>
              <a:solidFill>
                <a:srgbClr val="00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6781680" y="5257800"/>
                <a:ext cx="685800" cy="609120"/>
                <a:chOff x="6781680" y="5257800"/>
                <a:chExt cx="685800" cy="609120"/>
              </a:xfrm>
            </p:grpSpPr>
            <p:sp>
              <p:nvSpPr>
                <p:cNvPr id="213" name=""/>
                <p:cNvSpPr/>
                <p:nvPr/>
              </p:nvSpPr>
              <p:spPr>
                <a:xfrm>
                  <a:off x="6781680" y="5257800"/>
                  <a:ext cx="685800" cy="609120"/>
                </a:xfrm>
                <a:prstGeom prst="downArrowCallout">
                  <a:avLst>
                    <a:gd name="adj1" fmla="val 28150"/>
                    <a:gd name="adj2" fmla="val 28147"/>
                    <a:gd name="adj3" fmla="val 16667"/>
                    <a:gd name="adj4" fmla="val 66667"/>
                  </a:avLst>
                </a:prstGeom>
                <a:solidFill>
                  <a:srgbClr val="00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6934320" y="5257800"/>
                  <a:ext cx="380880" cy="336240"/>
                </a:xfrm>
                <a:prstGeom prst="rect">
                  <a:avLst/>
                </a:pr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400" spc="-1" strike="noStrike">
                      <a:solidFill>
                        <a:srgbClr val="ffffff"/>
                      </a:solidFill>
                      <a:latin typeface="Times New Roman"/>
                    </a:rPr>
                    <a:t>e</a:t>
                  </a:r>
                  <a:r>
                    <a:rPr b="1" lang="es-ES_tradnl" sz="1400" spc="-1" strike="noStrike" baseline="-25000">
                      <a:solidFill>
                        <a:srgbClr val="ffffff"/>
                      </a:solidFill>
                      <a:latin typeface="Times New Roman"/>
                    </a:rPr>
                    <a:t>s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5" name=""/>
              <p:cNvSpPr/>
              <p:nvPr/>
            </p:nvSpPr>
            <p:spPr>
              <a:xfrm>
                <a:off x="5638680" y="5105160"/>
                <a:ext cx="60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400" spc="-1" strike="noStrike">
                    <a:solidFill>
                      <a:srgbClr val="ffffff"/>
                    </a:solidFill>
                    <a:latin typeface="Times New Roman"/>
                  </a:rPr>
                  <a:t>HR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5943600" y="6553080"/>
                <a:ext cx="1295280" cy="336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400" spc="-1" strike="noStrike">
                    <a:solidFill>
                      <a:srgbClr val="0000ff"/>
                    </a:solidFill>
                    <a:latin typeface="Times New Roman"/>
                  </a:rPr>
                  <a:t>           </a:t>
                </a:r>
                <a:r>
                  <a:rPr b="1" lang="es-ES_tradnl" sz="1400" spc="-1" strike="noStrike">
                    <a:solidFill>
                      <a:srgbClr val="0000ff"/>
                    </a:solidFill>
                    <a:latin typeface="Times New Roman"/>
                  </a:rPr>
                  <a:t>T</a:t>
                </a:r>
                <a:r>
                  <a:rPr b="1" lang="es-ES_tradnl" sz="1400" spc="-1" strike="noStrike" baseline="-25000">
                    <a:solidFill>
                      <a:srgbClr val="0000ff"/>
                    </a:solidFill>
                    <a:latin typeface="Times New Roman"/>
                  </a:rPr>
                  <a:t>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7" name=""/>
          <p:cNvSpPr/>
          <p:nvPr/>
        </p:nvSpPr>
        <p:spPr>
          <a:xfrm>
            <a:off x="3200400" y="601992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400800" y="59436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124080" y="4572000"/>
            <a:ext cx="22860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0" name=""/>
              <p:cNvSpPr txBox="1"/>
              <p:nvPr/>
            </p:nvSpPr>
            <p:spPr>
              <a:xfrm>
                <a:off x="2590920" y="4062240"/>
                <a:ext cx="1371600" cy="49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7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7</m:t>
                            </m:r>
                            <m:r>
                              <m:t xml:space="preserve">T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37</m:t>
                            </m:r>
                            <m:r>
                              <m:t xml:space="preserve">,</m:t>
                            </m:r>
                            <m:r>
                              <m:t xml:space="preserve">3</m:t>
                            </m:r>
                            <m:r>
                              <m:t xml:space="preserve">+</m:t>
                            </m:r>
                            <m:r>
                              <m:t xml:space="preserve">T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685800" y="6858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cc66"/>
                </a:solidFill>
                <a:latin typeface="Times New Roman"/>
              </a:rPr>
              <a:t>ALTURA DE AGUA CONDENSABLE </a:t>
            </a:r>
            <a:r>
              <a:rPr b="0" lang="es-ES_tradnl" sz="32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cc66"/>
                </a:solidFill>
                <a:latin typeface="Times New Roman"/>
              </a:rPr>
              <a:t>O PRECIPITABLE 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Lámina de agua ( uniforme) que se forma 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la superficie producto de la condensación del vapor de agua de la columna de aire húmedo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685800" y="761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Cálculo de masa (dm) de vapor de agua sobre una superficie de 1 m</a:t>
            </a:r>
            <a:r>
              <a:rPr b="0" lang="es-ES_tradnl" sz="3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dado un incremento dz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3" name=""/>
              <p:cNvSpPr txBox="1"/>
              <p:nvPr/>
            </p:nvSpPr>
            <p:spPr>
              <a:xfrm>
                <a:off x="3657600" y="2209680"/>
                <a:ext cx="4254480" cy="323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m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dz</m:t>
                        </m:r>
                      </m:e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17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e</m:t>
                            </m:r>
                          </m:num>
                          <m:den>
                            <m:r>
                              <m:t xml:space="preserve">T</m:t>
                            </m:r>
                          </m:den>
                        </m:f>
                      </m:e>
                      <m:e>
                        <m:r>
                          <m:t xml:space="preserve">⇒</m:t>
                        </m:r>
                        <m:r>
                          <m:rPr>
                            <m:lit/>
                            <m:nor/>
                          </m:rPr>
                          <m:t xml:space="preserve">dm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17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e</m:t>
                            </m:r>
                          </m:num>
                          <m:den>
                            <m:r>
                              <m:t xml:space="preserve">T</m:t>
                            </m:r>
                          </m:den>
                        </m:f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dz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2280" y="3581280"/>
            <a:ext cx="1925640" cy="24955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990720" y="6172200"/>
            <a:ext cx="23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Radiosond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429000" y="6248520"/>
            <a:ext cx="914400" cy="380880"/>
          </a:xfrm>
          <a:prstGeom prst="rightArrow">
            <a:avLst>
              <a:gd name="adj1" fmla="val 50000"/>
              <a:gd name="adj2" fmla="val 60019"/>
            </a:avLst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495680" y="5670720"/>
            <a:ext cx="4114800" cy="119124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Distribución de temperatura y vapor de agua en la vertic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rot="1941600">
            <a:off x="533160" y="6172200"/>
            <a:ext cx="457200" cy="304920"/>
          </a:xfrm>
          <a:custGeom>
            <a:avLst/>
            <a:gdLst>
              <a:gd name="textAreaLeft" fmla="*/ 71280 w 457200"/>
              <a:gd name="textAreaRight" fmla="*/ 400320 w 45720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500"/>
                            </p:stCondLst>
                            <p:childTnLst>
                              <p:par>
                                <p:cTn id="12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66"/>
                </a:solidFill>
                <a:latin typeface="Arial"/>
              </a:rPr>
              <a:t>Humedad atmosférica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3124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901"/>
              </a:spcBef>
              <a:buClr>
                <a:srgbClr val="ffff00"/>
              </a:buClr>
              <a:buSzPct val="11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Times New Roman"/>
              </a:rPr>
              <a:t>Propiedad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901"/>
              </a:spcBef>
              <a:buClr>
                <a:srgbClr val="ffff00"/>
              </a:buClr>
              <a:buSzPct val="110000"/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Times New Roman"/>
              </a:rPr>
              <a:t>Maneras de expresar la humedad atmosféric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901"/>
              </a:spcBef>
              <a:buClr>
                <a:srgbClr val="ffff00"/>
              </a:buClr>
              <a:buSzPct val="110000"/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Times New Roman"/>
              </a:rPr>
              <a:t>Instrumentos de medició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901"/>
              </a:spcBef>
              <a:buClr>
                <a:srgbClr val="ffff00"/>
              </a:buClr>
              <a:buSzPct val="110000"/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Times New Roman"/>
              </a:rPr>
              <a:t>Factores que determinan la variabilidad de la humeda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04920" y="1143000"/>
            <a:ext cx="8534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Cantidad de vapor de agua  que contiene el aire; es la fuente de precipitaciones; influye en los procesos de evapotranspiración y derretimiento de niev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685800" y="990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Integrando desde la superficie terrestre hasta una altura “h”: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1924200" y="2313000"/>
                <a:ext cx="4533840" cy="197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17</m:t>
                    </m:r>
                    <m:r>
                      <m:t xml:space="preserve">⋅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h</m:t>
                        </m:r>
                      </m:sup>
                      <m:e>
                        <m:f>
                          <m:num>
                            <m:r>
                              <m:t xml:space="preserve">e</m:t>
                            </m:r>
                          </m:num>
                          <m:den>
                            <m:r>
                              <m:t xml:space="preserve">T</m:t>
                            </m:r>
                          </m:den>
                        </m:f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dz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31" name=""/>
          <p:cNvSpPr/>
          <p:nvPr/>
        </p:nvSpPr>
        <p:spPr>
          <a:xfrm>
            <a:off x="6629400" y="2971800"/>
            <a:ext cx="16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[gr/m</a:t>
            </a:r>
            <a:r>
              <a:rPr b="0" lang="es-ES_tradnl" sz="3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62120" y="472428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onocidos e y T a distintas alturas se integra por band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1143000" y="5361120"/>
                <a:ext cx="2514600" cy="96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17</m:t>
                    </m:r>
                    <m:r>
                      <m:t xml:space="preserve">Σ</m:t>
                    </m:r>
                    <m:sSub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e</m:t>
                                </m:r>
                              </m:num>
                              <m:den>
                                <m:r>
                                  <m:t xml:space="preserve">T</m:t>
                                </m:r>
                              </m:den>
                            </m:f>
                          </m:e>
                        </m:d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Δz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1600200" y="1143000"/>
            <a:ext cx="914400" cy="121932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600200" y="1066680"/>
            <a:ext cx="914400" cy="152640"/>
          </a:xfrm>
          <a:prstGeom prst="ellipse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0200" y="2286000"/>
            <a:ext cx="914400" cy="228600"/>
          </a:xfrm>
          <a:prstGeom prst="ellipse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1523880" y="24379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219320" y="27432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57200" y="2362320"/>
            <a:ext cx="990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V="1">
            <a:off x="457200" y="990720"/>
            <a:ext cx="0" cy="1371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743200" y="2438280"/>
            <a:ext cx="10666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2743200" y="1143000"/>
            <a:ext cx="0" cy="1295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581280" y="243828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85800" y="2286000"/>
            <a:ext cx="990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Symbol"/>
                <a:ea typeface="Symbol"/>
              </a:rPr>
              <a:t></a:t>
            </a:r>
            <a:r>
              <a:rPr b="0" lang="es-ES_tradnl" sz="18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P,q</a:t>
            </a:r>
            <a:r>
              <a:rPr b="0" lang="es-ES_tradnl" sz="1800" spc="-1" strike="noStrike" baseline="-25000">
                <a:solidFill>
                  <a:srgbClr val="ffffff"/>
                </a:solidFill>
                <a:latin typeface="Times New Roman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0"/>
            <a:ext cx="449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Otras Form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H="1" flipV="1">
            <a:off x="2971800" y="1523520"/>
            <a:ext cx="533520" cy="838440"/>
          </a:xfrm>
          <a:prstGeom prst="line">
            <a:avLst/>
          </a:prstGeom>
          <a:ln w="93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819520" y="99072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09480" y="91440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1828800"/>
            <a:ext cx="914400" cy="152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600200" y="1752480"/>
            <a:ext cx="914400" cy="15264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1" name=""/>
              <p:cNvSpPr txBox="1"/>
              <p:nvPr/>
            </p:nvSpPr>
            <p:spPr>
              <a:xfrm>
                <a:off x="4572000" y="990720"/>
                <a:ext cx="4000680" cy="104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  <m:sup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sup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Adz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q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v</m:t>
                                </m:r>
                              </m:sub>
                            </m:sSub>
                            <m:sSub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ρ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AΔz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" name=""/>
              <p:cNvSpPr txBox="1"/>
              <p:nvPr/>
            </p:nvSpPr>
            <p:spPr>
              <a:xfrm>
                <a:off x="3537000" y="2971800"/>
                <a:ext cx="4078080" cy="104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  <m:sup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sup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dz</m:t>
                        </m:r>
                        <m:r>
                          <m:t xml:space="preserve">=</m:t>
                        </m:r>
                        <m:nary>
                          <m:naryPr>
                            <m:chr m:val="∫"/>
                          </m:naryPr>
                          <m:sub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  <m:sup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p>
                          <m:e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v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g</m:t>
                                </m:r>
                              </m:den>
                            </m:f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dp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den>
                            </m:f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z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1744560" y="4432320"/>
                <a:ext cx="4313520" cy="102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h</m:t>
                        </m:r>
                      </m:sup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g</m:t>
                            </m:r>
                          </m:den>
                        </m:f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z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z</m:t>
                        </m:r>
                      </m:e>
                    </m:nary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g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sub>
                      <m:sup>
                        <m:r>
                          <m:t xml:space="preserve">p</m:t>
                        </m:r>
                      </m:sup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4" name=""/>
              <p:cNvSpPr txBox="1"/>
              <p:nvPr/>
            </p:nvSpPr>
            <p:spPr>
              <a:xfrm>
                <a:off x="2895480" y="6019920"/>
                <a:ext cx="2743200" cy="61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≈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1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q</m:t>
                                </m:r>
                              </m:e>
                            </m:acc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</m:e>
                    </m:nary>
                    <m:r>
                      <m:t xml:space="preserve">Δp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5" name=""/>
          <p:cNvSpPr/>
          <p:nvPr/>
        </p:nvSpPr>
        <p:spPr>
          <a:xfrm>
            <a:off x="6858000" y="6172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(mm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172200" y="57913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m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934320" y="5029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gr/k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H="1">
            <a:off x="5029200" y="54864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5562360" y="6172200"/>
            <a:ext cx="68580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500"/>
                            </p:stCondLst>
                            <p:childTnLst>
                              <p:par>
                                <p:cTn id="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500"/>
                            </p:stCondLst>
                            <p:childTnLst>
                              <p:par>
                                <p:cTn id="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2000"/>
                            </p:stCondLst>
                            <p:childTnLst>
                              <p:par>
                                <p:cTn id="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2500"/>
                            </p:stCondLst>
                            <p:childTnLst>
                              <p:par>
                                <p:cTn id="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60" name=""/>
              <p:cNvSpPr txBox="1"/>
              <p:nvPr/>
            </p:nvSpPr>
            <p:spPr>
              <a:xfrm>
                <a:off x="357120" y="304920"/>
                <a:ext cx="1895400" cy="109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z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g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1" name=""/>
              <p:cNvSpPr txBox="1"/>
              <p:nvPr/>
            </p:nvSpPr>
            <p:spPr>
              <a:xfrm>
                <a:off x="3581280" y="533520"/>
                <a:ext cx="3009960" cy="76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T</m:t>
                        </m:r>
                      </m:den>
                    </m:f>
                    <m:m>
                      <m:mr>
                        <m:e/>
                        <m:e/>
                        <m:e/>
                      </m:mr>
                    </m:m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z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2" name=""/>
              <p:cNvSpPr txBox="1"/>
              <p:nvPr/>
            </p:nvSpPr>
            <p:spPr>
              <a:xfrm>
                <a:off x="396720" y="1981080"/>
                <a:ext cx="6551640" cy="116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  <m:r>
                      <m:t xml:space="preserve">=</m:t>
                    </m:r>
                    <m:r>
                      <m:t xml:space="preserve">(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g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T</m:t>
                        </m:r>
                      </m:den>
                    </m:f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dz</m:t>
                    </m:r>
                    <m:r>
                      <m:t xml:space="preserve">=</m:t>
                    </m:r>
                    <m:r>
                      <m:t xml:space="preserve">(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g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T</m:t>
                        </m:r>
                      </m:den>
                    </m:f>
                    <m:r>
                      <m:t xml:space="preserve">)</m:t>
                    </m:r>
                    <m:r>
                      <m:t xml:space="preserve">(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num>
                      <m:den>
                        <m:r>
                          <m:t xml:space="preserve">−</m:t>
                        </m:r>
                        <m:r>
                          <m:t xml:space="preserve">α</m:t>
                        </m:r>
                      </m:den>
                    </m:f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g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α</m:t>
                        </m:r>
                      </m:den>
                    </m:f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3" name=""/>
              <p:cNvSpPr txBox="1"/>
              <p:nvPr/>
            </p:nvSpPr>
            <p:spPr>
              <a:xfrm>
                <a:off x="838080" y="4038480"/>
                <a:ext cx="2971800" cy="16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  <m:sup>
                        <m:f>
                          <m:num>
                            <m:r>
                              <m:t xml:space="preserve">g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αR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4" name=""/>
              <p:cNvSpPr txBox="1"/>
              <p:nvPr/>
            </p:nvSpPr>
            <p:spPr>
              <a:xfrm>
                <a:off x="3657600" y="5943600"/>
                <a:ext cx="3962520" cy="70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5" name=""/>
              <p:cNvSpPr txBox="1"/>
              <p:nvPr/>
            </p:nvSpPr>
            <p:spPr>
              <a:xfrm>
                <a:off x="5257800" y="3657600"/>
                <a:ext cx="190512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608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762120" y="762120"/>
            <a:ext cx="7391160" cy="11912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Tahoma"/>
              </a:rPr>
              <a:t>Existen gráficos y tablas para calcular entre 1000 mb (nivel del mar) y 200 mb o 12 Km en atmósfera seudo adiabática saturad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2743200" y="2666520"/>
            <a:ext cx="0" cy="2514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743200" y="5181480"/>
            <a:ext cx="35812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029200" y="541008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Agua prec (mm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295280" y="259092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P (mb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352680" y="2971800"/>
            <a:ext cx="990720" cy="1981080"/>
          </a:xfrm>
          <a:custGeom>
            <a:avLst/>
            <a:gdLst/>
            <a:ahLst/>
            <a:rect l="l" t="t" r="r" b="b"/>
            <a:pathLst>
              <a:path w="624" h="1248">
                <a:moveTo>
                  <a:pt x="0" y="1248"/>
                </a:moveTo>
                <a:cubicBezTo>
                  <a:pt x="116" y="1136"/>
                  <a:pt x="232" y="1024"/>
                  <a:pt x="336" y="816"/>
                </a:cubicBezTo>
                <a:cubicBezTo>
                  <a:pt x="440" y="608"/>
                  <a:pt x="576" y="136"/>
                  <a:pt x="624" y="0"/>
                </a:cubicBezTo>
              </a:path>
            </a:pathLst>
          </a:custGeom>
          <a:noFill/>
          <a:ln w="38160">
            <a:solidFill>
              <a:srgbClr val="ff5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809880" y="2819520"/>
            <a:ext cx="990720" cy="1981080"/>
          </a:xfrm>
          <a:custGeom>
            <a:avLst/>
            <a:gdLst/>
            <a:ahLst/>
            <a:rect l="l" t="t" r="r" b="b"/>
            <a:pathLst>
              <a:path w="624" h="1248">
                <a:moveTo>
                  <a:pt x="0" y="1248"/>
                </a:moveTo>
                <a:cubicBezTo>
                  <a:pt x="116" y="1136"/>
                  <a:pt x="232" y="1024"/>
                  <a:pt x="336" y="816"/>
                </a:cubicBezTo>
                <a:cubicBezTo>
                  <a:pt x="440" y="608"/>
                  <a:pt x="576" y="136"/>
                  <a:pt x="624" y="0"/>
                </a:cubicBezTo>
              </a:path>
            </a:pathLst>
          </a:custGeom>
          <a:noFill/>
          <a:ln w="38160">
            <a:solidFill>
              <a:srgbClr val="ff5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191120" y="2971800"/>
            <a:ext cx="990360" cy="1981080"/>
          </a:xfrm>
          <a:custGeom>
            <a:avLst/>
            <a:gdLst/>
            <a:ahLst/>
            <a:rect l="l" t="t" r="r" b="b"/>
            <a:pathLst>
              <a:path w="624" h="1248">
                <a:moveTo>
                  <a:pt x="0" y="1248"/>
                </a:moveTo>
                <a:cubicBezTo>
                  <a:pt x="116" y="1136"/>
                  <a:pt x="232" y="1024"/>
                  <a:pt x="336" y="816"/>
                </a:cubicBezTo>
                <a:cubicBezTo>
                  <a:pt x="440" y="608"/>
                  <a:pt x="576" y="136"/>
                  <a:pt x="624" y="0"/>
                </a:cubicBezTo>
              </a:path>
            </a:pathLst>
          </a:custGeom>
          <a:noFill/>
          <a:ln w="38160">
            <a:solidFill>
              <a:srgbClr val="ff5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724280" y="2895480"/>
            <a:ext cx="990720" cy="1981440"/>
          </a:xfrm>
          <a:custGeom>
            <a:avLst/>
            <a:gdLst/>
            <a:ahLst/>
            <a:rect l="l" t="t" r="r" b="b"/>
            <a:pathLst>
              <a:path w="624" h="1248">
                <a:moveTo>
                  <a:pt x="0" y="1248"/>
                </a:moveTo>
                <a:cubicBezTo>
                  <a:pt x="116" y="1136"/>
                  <a:pt x="232" y="1024"/>
                  <a:pt x="336" y="816"/>
                </a:cubicBezTo>
                <a:cubicBezTo>
                  <a:pt x="440" y="608"/>
                  <a:pt x="576" y="136"/>
                  <a:pt x="624" y="0"/>
                </a:cubicBezTo>
              </a:path>
            </a:pathLst>
          </a:custGeom>
          <a:noFill/>
          <a:ln w="38160">
            <a:solidFill>
              <a:srgbClr val="ff5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900520" y="3295800"/>
            <a:ext cx="3509640" cy="423720"/>
          </a:xfrm>
          <a:custGeom>
            <a:avLst/>
            <a:gdLst/>
            <a:ahLst/>
            <a:rect l="l" t="t" r="r" b="b"/>
            <a:pathLst>
              <a:path w="2211" h="267">
                <a:moveTo>
                  <a:pt x="152" y="0"/>
                </a:moveTo>
                <a:cubicBezTo>
                  <a:pt x="184" y="12"/>
                  <a:pt x="0" y="18"/>
                  <a:pt x="343" y="62"/>
                </a:cubicBezTo>
                <a:cubicBezTo>
                  <a:pt x="686" y="106"/>
                  <a:pt x="1822" y="224"/>
                  <a:pt x="2211" y="267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048120" y="3657600"/>
            <a:ext cx="3510000" cy="423720"/>
          </a:xfrm>
          <a:custGeom>
            <a:avLst/>
            <a:gdLst/>
            <a:ahLst/>
            <a:rect l="l" t="t" r="r" b="b"/>
            <a:pathLst>
              <a:path w="2211" h="267">
                <a:moveTo>
                  <a:pt x="152" y="0"/>
                </a:moveTo>
                <a:cubicBezTo>
                  <a:pt x="184" y="12"/>
                  <a:pt x="0" y="18"/>
                  <a:pt x="343" y="62"/>
                </a:cubicBezTo>
                <a:cubicBezTo>
                  <a:pt x="686" y="106"/>
                  <a:pt x="1822" y="224"/>
                  <a:pt x="2211" y="267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200400" y="3886200"/>
            <a:ext cx="3510000" cy="423720"/>
          </a:xfrm>
          <a:custGeom>
            <a:avLst/>
            <a:gdLst/>
            <a:ahLst/>
            <a:rect l="l" t="t" r="r" b="b"/>
            <a:pathLst>
              <a:path w="2211" h="267">
                <a:moveTo>
                  <a:pt x="152" y="0"/>
                </a:moveTo>
                <a:cubicBezTo>
                  <a:pt x="184" y="12"/>
                  <a:pt x="0" y="18"/>
                  <a:pt x="343" y="62"/>
                </a:cubicBezTo>
                <a:cubicBezTo>
                  <a:pt x="686" y="106"/>
                  <a:pt x="1822" y="224"/>
                  <a:pt x="2211" y="267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124080" y="4267080"/>
            <a:ext cx="3510000" cy="424080"/>
          </a:xfrm>
          <a:custGeom>
            <a:avLst/>
            <a:gdLst/>
            <a:ahLst/>
            <a:rect l="l" t="t" r="r" b="b"/>
            <a:pathLst>
              <a:path w="2211" h="267">
                <a:moveTo>
                  <a:pt x="152" y="0"/>
                </a:moveTo>
                <a:cubicBezTo>
                  <a:pt x="184" y="12"/>
                  <a:pt x="0" y="18"/>
                  <a:pt x="343" y="62"/>
                </a:cubicBezTo>
                <a:cubicBezTo>
                  <a:pt x="686" y="106"/>
                  <a:pt x="1822" y="224"/>
                  <a:pt x="2211" y="267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086600" y="40384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altur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038480" y="2362320"/>
            <a:ext cx="4572000" cy="8254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5050"/>
                </a:solidFill>
                <a:latin typeface="Tahoma"/>
              </a:rPr>
              <a:t>Temperatura de punto de rocí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066680" y="3657600"/>
            <a:ext cx="990720" cy="1981080"/>
          </a:xfrm>
          <a:custGeom>
            <a:avLst/>
            <a:gdLst/>
            <a:ahLst/>
            <a:rect l="l" t="t" r="r" b="b"/>
            <a:pathLst>
              <a:path w="624" h="1248">
                <a:moveTo>
                  <a:pt x="0" y="1248"/>
                </a:moveTo>
                <a:cubicBezTo>
                  <a:pt x="116" y="1136"/>
                  <a:pt x="232" y="1024"/>
                  <a:pt x="336" y="816"/>
                </a:cubicBezTo>
                <a:cubicBezTo>
                  <a:pt x="440" y="608"/>
                  <a:pt x="576" y="136"/>
                  <a:pt x="624" y="0"/>
                </a:cubicBezTo>
              </a:path>
            </a:pathLst>
          </a:custGeom>
          <a:noFill/>
          <a:ln w="38160">
            <a:solidFill>
              <a:srgbClr val="ff5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762120" y="4952880"/>
            <a:ext cx="8380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600200" y="4952880"/>
            <a:ext cx="0" cy="10670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533520" y="4419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Tahoma"/>
              </a:rPr>
              <a:t>presió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066680" y="6095880"/>
            <a:ext cx="221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ahoma"/>
              </a:rPr>
              <a:t>Agua precipitabl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4267080" y="6248520"/>
            <a:ext cx="373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ES_tradnl" sz="1600" spc="-1" strike="noStrike">
                <a:solidFill>
                  <a:srgbClr val="ffffff"/>
                </a:solidFill>
                <a:latin typeface="Tahoma"/>
              </a:rPr>
              <a:t>a &gt; T rocío</a:t>
            </a:r>
            <a:r>
              <a:rPr b="0" lang="es-ES_tradnl" sz="3200" spc="-1" strike="noStrike">
                <a:solidFill>
                  <a:srgbClr val="ff5050"/>
                </a:solidFill>
                <a:latin typeface="SPSS Marker Set"/>
                <a:ea typeface="SPSS Marker Set"/>
              </a:rPr>
              <a:t></a:t>
            </a:r>
            <a:r>
              <a:rPr b="1" lang="es-ES_tradnl" sz="1600" spc="-1" strike="noStrike">
                <a:solidFill>
                  <a:srgbClr val="ff5050"/>
                </a:solidFill>
                <a:latin typeface="Tahoma"/>
              </a:rPr>
              <a:t>&gt; agua precip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500"/>
                            </p:stCondLst>
                            <p:childTnLst>
                              <p:par>
                                <p:cTn id="7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"/>
                            </p:stCondLst>
                            <p:childTnLst>
                              <p:par>
                                <p:cTn id="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500"/>
                            </p:stCondLst>
                            <p:childTnLst>
                              <p:par>
                                <p:cTn id="79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2500"/>
                            </p:stCondLst>
                            <p:childTnLst>
                              <p:par>
                                <p:cTn id="9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3000"/>
                            </p:stCondLst>
                            <p:childTnLst>
                              <p:par>
                                <p:cTn id="9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500"/>
                            </p:stCondLst>
                            <p:childTnLst>
                              <p:par>
                                <p:cTn id="1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4000"/>
                            </p:stCondLst>
                            <p:childTnLst>
                              <p:par>
                                <p:cTn id="1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4500"/>
                            </p:stCondLst>
                            <p:childTnLst>
                              <p:par>
                                <p:cTn id="109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16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5500"/>
                            </p:stCondLst>
                            <p:childTnLst>
                              <p:par>
                                <p:cTn id="123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6000"/>
                            </p:stCondLst>
                            <p:childTnLst>
                              <p:par>
                                <p:cTn id="130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6500"/>
                            </p:stCondLst>
                            <p:childTnLst>
                              <p:par>
                                <p:cTn id="137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7000"/>
                            </p:stCondLst>
                            <p:childTnLst>
                              <p:par>
                                <p:cTn id="144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500"/>
                            </p:stCondLst>
                            <p:childTnLst>
                              <p:par>
                                <p:cTn id="1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1000"/>
                            </p:stCondLst>
                            <p:childTnLst>
                              <p:par>
                                <p:cTn id="16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2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1500"/>
                            </p:stCondLst>
                            <p:childTnLst>
                              <p:par>
                                <p:cTn id="16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2000"/>
                            </p:stCondLst>
                            <p:childTnLst>
                              <p:par>
                                <p:cTn id="16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66"/>
                </a:solidFill>
                <a:latin typeface="Arial"/>
              </a:rPr>
              <a:t>Propiedad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901"/>
              </a:spcBef>
              <a:buClr>
                <a:srgbClr val="ffff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Times New Roman"/>
              </a:rPr>
              <a:t>Presión de Vap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901"/>
              </a:spcBef>
              <a:buClr>
                <a:srgbClr val="ffff00"/>
              </a:buClr>
              <a:buSzPct val="80000"/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Times New Roman"/>
              </a:rPr>
              <a:t>Calor de Condensación y de evaporació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901"/>
              </a:spcBef>
              <a:buClr>
                <a:srgbClr val="ffff00"/>
              </a:buClr>
              <a:buSzPct val="80000"/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Times New Roman"/>
              </a:rPr>
              <a:t>Densidad del aire seco y aire húmed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66"/>
                </a:solidFill>
                <a:latin typeface="Arial"/>
              </a:rPr>
              <a:t>Presión de Vapor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Presión parcial ejercida por las moléculas de vapor de agu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e = p</a:t>
            </a:r>
            <a:r>
              <a:rPr b="0" lang="es-ES_tradnl" sz="3200" spc="-1" strike="noStrike" baseline="-25000">
                <a:solidFill>
                  <a:srgbClr val="ffffff"/>
                </a:solidFill>
                <a:latin typeface="Times New Roman"/>
              </a:rPr>
              <a:t>h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– p</a:t>
            </a:r>
            <a:r>
              <a:rPr b="0" lang="es-ES_tradnl" sz="3200" spc="-1" strike="noStrike" baseline="-25000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Donde: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p</a:t>
            </a:r>
            <a:r>
              <a:rPr b="0" lang="es-ES_tradnl" sz="3200" spc="-1" strike="noStrike" baseline="-25000">
                <a:solidFill>
                  <a:srgbClr val="ffffff"/>
                </a:solidFill>
                <a:latin typeface="Times New Roman"/>
              </a:rPr>
              <a:t>h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: Presión aire húmed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baseline="-25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 baseline="-25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 baseline="-25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 baseline="-25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 baseline="-25000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es-ES_tradnl" sz="3200" spc="-1" strike="noStrike" baseline="-25000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: Presión aire sec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457200" y="990720"/>
            <a:ext cx="8229600" cy="263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Presión de vapor saturado(e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):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Un determinado volumen de aire a temperatura T puede absorber una máxima cantidad de vapor de agua (pto. de saturación)  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1644480" y="3657600"/>
                <a:ext cx="3643560" cy="14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611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7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7</m:t>
                            </m:r>
                            <m:r>
                              <m:t xml:space="preserve">T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37</m:t>
                            </m:r>
                            <m:r>
                              <m:t xml:space="preserve">,</m:t>
                            </m:r>
                            <m:r>
                              <m:t xml:space="preserve">3</m:t>
                            </m:r>
                            <m:r>
                              <m:t xml:space="preserve">+</m:t>
                            </m:r>
                            <m:r>
                              <m:t xml:space="preserve">T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98" name=""/>
          <p:cNvSpPr/>
          <p:nvPr/>
        </p:nvSpPr>
        <p:spPr>
          <a:xfrm>
            <a:off x="1116000" y="5445000"/>
            <a:ext cx="5105520" cy="164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T° en °C                     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 en P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1mb=1hPa=100Pa     1 atm=1013m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5943600" y="4457880"/>
            <a:ext cx="3200400" cy="24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79280" y="1413000"/>
            <a:ext cx="8244000" cy="302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" name=""/>
          <p:cNvGrpSpPr/>
          <p:nvPr/>
        </p:nvGrpSpPr>
        <p:grpSpPr>
          <a:xfrm>
            <a:off x="762120" y="457200"/>
            <a:ext cx="7543440" cy="6095520"/>
            <a:chOff x="762120" y="457200"/>
            <a:chExt cx="7543440" cy="6095520"/>
          </a:xfrm>
        </p:grpSpPr>
        <p:grpSp>
          <p:nvGrpSpPr>
            <p:cNvPr id="102" name=""/>
            <p:cNvGrpSpPr/>
            <p:nvPr/>
          </p:nvGrpSpPr>
          <p:grpSpPr>
            <a:xfrm>
              <a:off x="768600" y="463320"/>
              <a:ext cx="7529400" cy="6082200"/>
              <a:chOff x="768600" y="463320"/>
              <a:chExt cx="7529400" cy="6082200"/>
            </a:xfrm>
          </p:grpSpPr>
          <p:grpSp>
            <p:nvGrpSpPr>
              <p:cNvPr id="103" name=""/>
              <p:cNvGrpSpPr/>
              <p:nvPr/>
            </p:nvGrpSpPr>
            <p:grpSpPr>
              <a:xfrm>
                <a:off x="768600" y="463320"/>
                <a:ext cx="7529400" cy="1116000"/>
                <a:chOff x="768600" y="463320"/>
                <a:chExt cx="7529400" cy="1116000"/>
              </a:xfrm>
            </p:grpSpPr>
            <p:sp>
              <p:nvSpPr>
                <p:cNvPr id="104" name=""/>
                <p:cNvSpPr/>
                <p:nvPr/>
              </p:nvSpPr>
              <p:spPr>
                <a:xfrm>
                  <a:off x="768600" y="463320"/>
                  <a:ext cx="7529400" cy="1116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2400" spc="-1" strike="noStrike">
                      <a:solidFill>
                        <a:srgbClr val="ffffff"/>
                      </a:solidFill>
                      <a:latin typeface="Comic Sans MS"/>
                    </a:rPr>
                    <a:t>Humedad de saturación del vapor de agua en el aire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>
                  <a:off x="768600" y="463320"/>
                  <a:ext cx="7529400" cy="1116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6" name=""/>
              <p:cNvGrpSpPr/>
              <p:nvPr/>
            </p:nvGrpSpPr>
            <p:grpSpPr>
              <a:xfrm>
                <a:off x="768600" y="1579680"/>
                <a:ext cx="3612600" cy="620280"/>
                <a:chOff x="768600" y="1579680"/>
                <a:chExt cx="3612600" cy="620280"/>
              </a:xfrm>
            </p:grpSpPr>
            <p:sp>
              <p:nvSpPr>
                <p:cNvPr id="107" name=""/>
                <p:cNvSpPr/>
                <p:nvPr/>
              </p:nvSpPr>
              <p:spPr>
                <a:xfrm>
                  <a:off x="768600" y="1579680"/>
                  <a:ext cx="3612600" cy="620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2400" spc="-1" strike="noStrike">
                      <a:solidFill>
                        <a:srgbClr val="ffffff"/>
                      </a:solidFill>
                      <a:latin typeface="Comic Sans MS"/>
                    </a:rPr>
                    <a:t>Temperatura ºC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768600" y="1579680"/>
                  <a:ext cx="3612600" cy="620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9" name=""/>
              <p:cNvGrpSpPr/>
              <p:nvPr/>
            </p:nvGrpSpPr>
            <p:grpSpPr>
              <a:xfrm>
                <a:off x="4381560" y="1579680"/>
                <a:ext cx="3916440" cy="620280"/>
                <a:chOff x="4381560" y="1579680"/>
                <a:chExt cx="3916440" cy="620280"/>
              </a:xfrm>
            </p:grpSpPr>
            <p:sp>
              <p:nvSpPr>
                <p:cNvPr id="110" name=""/>
                <p:cNvSpPr/>
                <p:nvPr/>
              </p:nvSpPr>
              <p:spPr>
                <a:xfrm>
                  <a:off x="4381560" y="1579680"/>
                  <a:ext cx="3916440" cy="620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2400" spc="-1" strike="noStrike">
                      <a:solidFill>
                        <a:srgbClr val="ffffff"/>
                      </a:solidFill>
                      <a:latin typeface="Comic Sans MS"/>
                    </a:rPr>
                    <a:t>Saturación g · m</a:t>
                  </a:r>
                  <a:r>
                    <a:rPr b="0" lang="es-CL" sz="2400" spc="-1" strike="noStrike" baseline="30000">
                      <a:solidFill>
                        <a:srgbClr val="ffffff"/>
                      </a:solidFill>
                      <a:latin typeface="Comic Sans MS"/>
                    </a:rPr>
                    <a:t>-3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4381560" y="1579680"/>
                  <a:ext cx="3916440" cy="620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2" name=""/>
              <p:cNvGrpSpPr/>
              <p:nvPr/>
            </p:nvGrpSpPr>
            <p:grpSpPr>
              <a:xfrm>
                <a:off x="768600" y="2200320"/>
                <a:ext cx="3612600" cy="620280"/>
                <a:chOff x="768600" y="2200320"/>
                <a:chExt cx="3612600" cy="620280"/>
              </a:xfrm>
            </p:grpSpPr>
            <p:sp>
              <p:nvSpPr>
                <p:cNvPr id="113" name=""/>
                <p:cNvSpPr/>
                <p:nvPr/>
              </p:nvSpPr>
              <p:spPr>
                <a:xfrm>
                  <a:off x="768600" y="2200320"/>
                  <a:ext cx="3612600" cy="620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2400" spc="-1" strike="noStrike">
                      <a:solidFill>
                        <a:srgbClr val="ffffff"/>
                      </a:solidFill>
                      <a:latin typeface="Comic Sans MS"/>
                    </a:rPr>
                    <a:t>- 20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768600" y="2200320"/>
                  <a:ext cx="3612600" cy="620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5" name=""/>
              <p:cNvGrpSpPr/>
              <p:nvPr/>
            </p:nvGrpSpPr>
            <p:grpSpPr>
              <a:xfrm>
                <a:off x="4381560" y="2200320"/>
                <a:ext cx="3916440" cy="620280"/>
                <a:chOff x="4381560" y="2200320"/>
                <a:chExt cx="3916440" cy="620280"/>
              </a:xfrm>
            </p:grpSpPr>
            <p:sp>
              <p:nvSpPr>
                <p:cNvPr id="116" name=""/>
                <p:cNvSpPr/>
                <p:nvPr/>
              </p:nvSpPr>
              <p:spPr>
                <a:xfrm>
                  <a:off x="4381560" y="2200320"/>
                  <a:ext cx="3916440" cy="620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CL" sz="2400" spc="-1" strike="noStrike" baseline="30000">
                      <a:solidFill>
                        <a:srgbClr val="ffffff"/>
                      </a:solidFill>
                      <a:latin typeface="Comic Sans MS"/>
                    </a:rPr>
                    <a:t>0.89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4381560" y="2200320"/>
                  <a:ext cx="3916440" cy="620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8" name=""/>
              <p:cNvGrpSpPr/>
              <p:nvPr/>
            </p:nvGrpSpPr>
            <p:grpSpPr>
              <a:xfrm>
                <a:off x="768600" y="2821320"/>
                <a:ext cx="3612600" cy="620280"/>
                <a:chOff x="768600" y="2821320"/>
                <a:chExt cx="3612600" cy="62028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768600" y="2821320"/>
                  <a:ext cx="3612600" cy="620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2400" spc="-1" strike="noStrike">
                      <a:solidFill>
                        <a:srgbClr val="ffffff"/>
                      </a:solidFill>
                      <a:latin typeface="Comic Sans MS"/>
                    </a:rPr>
                    <a:t>-10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768600" y="2821320"/>
                  <a:ext cx="3612600" cy="620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1" name=""/>
              <p:cNvGrpSpPr/>
              <p:nvPr/>
            </p:nvGrpSpPr>
            <p:grpSpPr>
              <a:xfrm>
                <a:off x="4381560" y="2821320"/>
                <a:ext cx="3916440" cy="620280"/>
                <a:chOff x="4381560" y="2821320"/>
                <a:chExt cx="3916440" cy="620280"/>
              </a:xfrm>
            </p:grpSpPr>
            <p:sp>
              <p:nvSpPr>
                <p:cNvPr id="122" name=""/>
                <p:cNvSpPr/>
                <p:nvPr/>
              </p:nvSpPr>
              <p:spPr>
                <a:xfrm>
                  <a:off x="4381560" y="2821320"/>
                  <a:ext cx="3916440" cy="620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CL" sz="2400" spc="-1" strike="noStrike" baseline="30000">
                      <a:solidFill>
                        <a:srgbClr val="ffffff"/>
                      </a:solidFill>
                      <a:latin typeface="Comic Sans MS"/>
                    </a:rPr>
                    <a:t>2.16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4381560" y="2821320"/>
                  <a:ext cx="3916440" cy="620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4" name=""/>
              <p:cNvGrpSpPr/>
              <p:nvPr/>
            </p:nvGrpSpPr>
            <p:grpSpPr>
              <a:xfrm>
                <a:off x="768600" y="3441960"/>
                <a:ext cx="3612600" cy="620280"/>
                <a:chOff x="768600" y="3441960"/>
                <a:chExt cx="3612600" cy="62028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768600" y="3441960"/>
                  <a:ext cx="3612600" cy="620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2400" spc="-1" strike="noStrike">
                      <a:solidFill>
                        <a:srgbClr val="ffffff"/>
                      </a:solidFill>
                      <a:latin typeface="Comic Sans MS"/>
                    </a:rPr>
                    <a:t>0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768600" y="3441960"/>
                  <a:ext cx="3612600" cy="620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7" name=""/>
              <p:cNvGrpSpPr/>
              <p:nvPr/>
            </p:nvGrpSpPr>
            <p:grpSpPr>
              <a:xfrm>
                <a:off x="4381560" y="3441960"/>
                <a:ext cx="3916440" cy="620280"/>
                <a:chOff x="4381560" y="3441960"/>
                <a:chExt cx="3916440" cy="62028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4381560" y="3441960"/>
                  <a:ext cx="3916440" cy="620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CL" sz="2400" spc="-1" strike="noStrike" baseline="30000">
                      <a:solidFill>
                        <a:srgbClr val="ffffff"/>
                      </a:solidFill>
                      <a:latin typeface="Comic Sans MS"/>
                    </a:rPr>
                    <a:t>4.85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4381560" y="3441960"/>
                  <a:ext cx="3916440" cy="620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0" name=""/>
              <p:cNvGrpSpPr/>
              <p:nvPr/>
            </p:nvGrpSpPr>
            <p:grpSpPr>
              <a:xfrm>
                <a:off x="768600" y="4062600"/>
                <a:ext cx="3612600" cy="620280"/>
                <a:chOff x="768600" y="4062600"/>
                <a:chExt cx="3612600" cy="62028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768600" y="4062600"/>
                  <a:ext cx="3612600" cy="620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2400" spc="-1" strike="noStrike">
                      <a:solidFill>
                        <a:srgbClr val="ffffff"/>
                      </a:solidFill>
                      <a:latin typeface="Comic Sans MS"/>
                    </a:rPr>
                    <a:t>10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768600" y="4062600"/>
                  <a:ext cx="3612600" cy="620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3" name=""/>
              <p:cNvGrpSpPr/>
              <p:nvPr/>
            </p:nvGrpSpPr>
            <p:grpSpPr>
              <a:xfrm>
                <a:off x="4381560" y="4062600"/>
                <a:ext cx="3916440" cy="620280"/>
                <a:chOff x="4381560" y="4062600"/>
                <a:chExt cx="3916440" cy="620280"/>
              </a:xfrm>
            </p:grpSpPr>
            <p:sp>
              <p:nvSpPr>
                <p:cNvPr id="134" name=""/>
                <p:cNvSpPr/>
                <p:nvPr/>
              </p:nvSpPr>
              <p:spPr>
                <a:xfrm>
                  <a:off x="4381560" y="4062600"/>
                  <a:ext cx="3916440" cy="620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CL" sz="2400" spc="-1" strike="noStrike" baseline="30000">
                      <a:solidFill>
                        <a:srgbClr val="ffffff"/>
                      </a:solidFill>
                      <a:latin typeface="Comic Sans MS"/>
                    </a:rPr>
                    <a:t>9.40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4381560" y="4062600"/>
                  <a:ext cx="3916440" cy="620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6" name=""/>
              <p:cNvGrpSpPr/>
              <p:nvPr/>
            </p:nvGrpSpPr>
            <p:grpSpPr>
              <a:xfrm>
                <a:off x="768600" y="4683600"/>
                <a:ext cx="3612600" cy="620280"/>
                <a:chOff x="768600" y="4683600"/>
                <a:chExt cx="3612600" cy="620280"/>
              </a:xfrm>
            </p:grpSpPr>
            <p:sp>
              <p:nvSpPr>
                <p:cNvPr id="137" name=""/>
                <p:cNvSpPr/>
                <p:nvPr/>
              </p:nvSpPr>
              <p:spPr>
                <a:xfrm>
                  <a:off x="768600" y="4683600"/>
                  <a:ext cx="3612600" cy="620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2400" spc="-1" strike="noStrike">
                      <a:solidFill>
                        <a:srgbClr val="ffffff"/>
                      </a:solidFill>
                      <a:latin typeface="Comic Sans MS"/>
                    </a:rPr>
                    <a:t>20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768600" y="4683600"/>
                  <a:ext cx="3612600" cy="620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9" name=""/>
              <p:cNvGrpSpPr/>
              <p:nvPr/>
            </p:nvGrpSpPr>
            <p:grpSpPr>
              <a:xfrm>
                <a:off x="4381560" y="4683600"/>
                <a:ext cx="3916440" cy="620280"/>
                <a:chOff x="4381560" y="4683600"/>
                <a:chExt cx="3916440" cy="620280"/>
              </a:xfrm>
            </p:grpSpPr>
            <p:sp>
              <p:nvSpPr>
                <p:cNvPr id="140" name=""/>
                <p:cNvSpPr/>
                <p:nvPr/>
              </p:nvSpPr>
              <p:spPr>
                <a:xfrm>
                  <a:off x="4381560" y="4683600"/>
                  <a:ext cx="3916440" cy="620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CL" sz="2400" spc="-1" strike="noStrike" baseline="30000">
                      <a:solidFill>
                        <a:srgbClr val="ffffff"/>
                      </a:solidFill>
                      <a:latin typeface="Comic Sans MS"/>
                    </a:rPr>
                    <a:t>17.30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381560" y="4683600"/>
                  <a:ext cx="3916440" cy="620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2" name=""/>
              <p:cNvGrpSpPr/>
              <p:nvPr/>
            </p:nvGrpSpPr>
            <p:grpSpPr>
              <a:xfrm>
                <a:off x="768600" y="5304240"/>
                <a:ext cx="3612600" cy="620280"/>
                <a:chOff x="768600" y="5304240"/>
                <a:chExt cx="3612600" cy="620280"/>
              </a:xfrm>
            </p:grpSpPr>
            <p:sp>
              <p:nvSpPr>
                <p:cNvPr id="143" name=""/>
                <p:cNvSpPr/>
                <p:nvPr/>
              </p:nvSpPr>
              <p:spPr>
                <a:xfrm>
                  <a:off x="768600" y="5304240"/>
                  <a:ext cx="3612600" cy="620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2400" spc="-1" strike="noStrike">
                      <a:solidFill>
                        <a:srgbClr val="ffffff"/>
                      </a:solidFill>
                      <a:latin typeface="Comic Sans MS"/>
                    </a:rPr>
                    <a:t>30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768600" y="5304240"/>
                  <a:ext cx="3612600" cy="620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5" name=""/>
              <p:cNvGrpSpPr/>
              <p:nvPr/>
            </p:nvGrpSpPr>
            <p:grpSpPr>
              <a:xfrm>
                <a:off x="4381560" y="5304240"/>
                <a:ext cx="3916440" cy="620280"/>
                <a:chOff x="4381560" y="5304240"/>
                <a:chExt cx="3916440" cy="62028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4381560" y="5304240"/>
                  <a:ext cx="3916440" cy="620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CL" sz="2400" spc="-1" strike="noStrike" baseline="30000">
                      <a:solidFill>
                        <a:srgbClr val="ffffff"/>
                      </a:solidFill>
                      <a:latin typeface="Comic Sans MS"/>
                    </a:rPr>
                    <a:t>30.37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4381560" y="5304240"/>
                  <a:ext cx="3916440" cy="620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8" name=""/>
              <p:cNvGrpSpPr/>
              <p:nvPr/>
            </p:nvGrpSpPr>
            <p:grpSpPr>
              <a:xfrm>
                <a:off x="768600" y="5925240"/>
                <a:ext cx="3612600" cy="620280"/>
                <a:chOff x="768600" y="5925240"/>
                <a:chExt cx="3612600" cy="620280"/>
              </a:xfrm>
            </p:grpSpPr>
            <p:sp>
              <p:nvSpPr>
                <p:cNvPr id="149" name=""/>
                <p:cNvSpPr/>
                <p:nvPr/>
              </p:nvSpPr>
              <p:spPr>
                <a:xfrm>
                  <a:off x="768600" y="5925240"/>
                  <a:ext cx="3612600" cy="620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2400" spc="-1" strike="noStrike">
                      <a:solidFill>
                        <a:srgbClr val="ffffff"/>
                      </a:solidFill>
                      <a:latin typeface="Comic Sans MS"/>
                    </a:rPr>
                    <a:t>40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68600" y="5925240"/>
                  <a:ext cx="3612600" cy="620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1" name=""/>
              <p:cNvGrpSpPr/>
              <p:nvPr/>
            </p:nvGrpSpPr>
            <p:grpSpPr>
              <a:xfrm>
                <a:off x="4381560" y="5925240"/>
                <a:ext cx="3916440" cy="620280"/>
                <a:chOff x="4381560" y="5925240"/>
                <a:chExt cx="3916440" cy="620280"/>
              </a:xfrm>
            </p:grpSpPr>
            <p:sp>
              <p:nvSpPr>
                <p:cNvPr id="152" name=""/>
                <p:cNvSpPr/>
                <p:nvPr/>
              </p:nvSpPr>
              <p:spPr>
                <a:xfrm>
                  <a:off x="4381560" y="5925240"/>
                  <a:ext cx="3916440" cy="620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CL" sz="2400" spc="-1" strike="noStrike" baseline="30000">
                      <a:solidFill>
                        <a:srgbClr val="ffffff"/>
                      </a:solidFill>
                      <a:latin typeface="Comic Sans MS"/>
                    </a:rPr>
                    <a:t>51.17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4381560" y="5925240"/>
                  <a:ext cx="3916440" cy="620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54" name=""/>
            <p:cNvSpPr/>
            <p:nvPr/>
          </p:nvSpPr>
          <p:spPr>
            <a:xfrm>
              <a:off x="762120" y="457200"/>
              <a:ext cx="7543440" cy="609552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66"/>
                </a:solidFill>
                <a:latin typeface="Arial"/>
              </a:rPr>
              <a:t>Calor de Condensación y de Vaporizació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Líquido   </a:t>
            </a: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       Vap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Evapora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600 cal/gr (de agua 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evaporada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Vapor </a:t>
            </a: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      Líquid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Condensa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600 cal/ gr ( de agua condensada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133720" y="2819520"/>
            <a:ext cx="83808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438280" y="3657600"/>
            <a:ext cx="0" cy="762120"/>
          </a:xfrm>
          <a:prstGeom prst="line">
            <a:avLst/>
          </a:prstGeom>
          <a:ln w="7632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172200" y="2743200"/>
            <a:ext cx="83808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6553080" y="3580920"/>
            <a:ext cx="0" cy="838440"/>
          </a:xfrm>
          <a:prstGeom prst="line">
            <a:avLst/>
          </a:prstGeom>
          <a:ln w="7632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648320" y="1981080"/>
            <a:ext cx="3886200" cy="4114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0" y="6248520"/>
            <a:ext cx="9144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L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=-L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=597-0,57T    para T en º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66"/>
                </a:solidFill>
                <a:latin typeface="Arial"/>
              </a:rPr>
              <a:t>Densidad del Aire Seco y del aire Húmedo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Densidad aire seco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Donde: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es-ES_tradnl" sz="2800" spc="-1" strike="noStrike" baseline="-25000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: Pres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lang="es-ES_tradnl" sz="2800" spc="-1" strike="noStrike" baseline="-25000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: Constante de los gases para   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       aire seco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baseline="30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 baseline="30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 baseline="30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T : Temperatura absoluta  º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3141720" y="3105000"/>
                <a:ext cx="22525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0T22:06:38Z</dcterms:created>
  <dc:creator>martinez-pizarro</dc:creator>
  <dc:description/>
  <dc:language>en-US</dc:language>
  <cp:lastModifiedBy>academico</cp:lastModifiedBy>
  <dcterms:modified xsi:type="dcterms:W3CDTF">2007-03-28T15:26:53Z</dcterms:modified>
  <cp:revision>44</cp:revision>
  <dc:subject/>
  <dc:title>Presentación de PowerPoint</dc:title>
</cp:coreProperties>
</file>