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0AF-6B57-4FD0-8081-98E1A7B7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E4F-4920-47CF-BDEB-27CD0D5B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7E4-0B50-4FEE-9795-22B7925B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B1E-948C-41F1-9A96-8857E443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EF2-73D7-4096-8FE0-381B18D2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205F-E838-4385-B15F-427A8F1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34D2-C8EA-40E1-87F7-5838795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3EA-54FA-4A7C-9607-909879B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B328-7233-45A7-AEA0-2E916B45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6C3-A7BD-4510-905B-792C242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48AF-6157-4828-85AA-87699026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6D8-6318-41EE-869A-16717CBA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225-5DCE-4D69-B15E-3B465A5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47E9-4B4B-46BA-8B2F-7FA4FB6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EE06-27DB-4742-BF98-77CE6B4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9953-72BA-465E-90AC-70B8929C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E8F9-7DFB-47A4-B353-E477573F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187-50CB-4012-B7F7-672D9995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410-8D15-4137-8D49-00D98BC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D8E-C68B-4594-8A53-F4FE3C2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7BA-7C0D-4E9F-8612-4129A6AE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30D-1784-4F76-821E-A3E4292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582-3873-44D1-8284-0326E1F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6B8-9462-424F-A75F-9797F2DC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54B-C544-4553-B7BD-A8FF8D8A19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233-7D35-4A16-AC41-3504E66016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90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5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7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44480" y="3657600"/>
                <a:ext cx="3643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116000" y="5445000"/>
            <a:ext cx="510552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mb=1hPa=100Pa     1 atm=1013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24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2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academico</cp:lastModifiedBy>
  <dcterms:modified xsi:type="dcterms:W3CDTF">2007-03-28T15:26:53Z</dcterms:modified>
  <cp:revision>44</cp:revision>
  <dc:subject/>
  <dc:title>Presentación de PowerPoint</dc:title>
</cp:coreProperties>
</file>