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9F0-8B5D-4395-A976-84CCE048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D98-2BB3-4993-9C68-1B31E34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5E4-2291-43AC-9C4E-D408B4D6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2E-D6B7-4F41-8AC9-4BFC4A6A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777-D619-4785-98B8-50A45A60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B630-FD07-45A7-9C2D-E140BE7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7F2B-2F6F-4B92-B1EE-0A8C97E2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A74-C98D-4A79-BC8F-03CC222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7319-1AF9-4D47-BA85-C8659AD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FFC5-B091-4601-B9F2-CE8F87E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9F00-B9BB-4B8A-8CFB-CCE9CC1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CA5-AE3A-44DC-A686-FA0546E0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DC5F-9A08-483C-8B20-48B6AC26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80E-16C6-4B82-8A0B-4444061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E5E8-379E-49AA-98A3-7C07CD0E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844-6005-4C79-9A67-350C5F7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450-A61F-4617-B39C-19607808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78D-B063-41BA-B21A-128EB58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422-A4EA-4BBB-8F32-82BCF4D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B50-DA0A-473F-9E52-CAF3E57C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638-AB87-4C13-9E92-DCCA9DB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5C7-F8D0-4972-B96C-6EB9C9C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64D-BF2E-4236-A37C-FCBCFFA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01C-B249-41BF-BA7E-BB6D471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3BD6-3C8B-4B6D-A85C-708A5016F0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9906-922B-4361-A266-3F69D3282E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90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5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7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44480" y="3657600"/>
                <a:ext cx="36435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116000" y="5445000"/>
            <a:ext cx="510552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mb=1hPa=100Pa     1 atm=1013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244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2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academico</cp:lastModifiedBy>
  <dcterms:modified xsi:type="dcterms:W3CDTF">2007-03-28T15:26:53Z</dcterms:modified>
  <cp:revision>44</cp:revision>
  <dc:subject/>
  <dc:title>Presentación de PowerPoint</dc:title>
</cp:coreProperties>
</file>