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6291-E8FD-4678-ADF7-0BA18E36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01A0-1CD7-4BD6-A668-1907B7FA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63E5-3F91-4114-A8AF-3D26E31D3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606A-C8F9-426B-AA12-3D4EF842F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A6E6-FD53-437E-9AD0-DF29130D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59D5-25D2-4271-BF6B-43D2362B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8181-E0B1-4408-9E27-095137D3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AC28-291E-43C9-AF87-91149BBC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12D6-764B-467B-9F37-C17A9EC8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C013-0D53-4687-9251-02798EED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FEF0-11F9-4927-A930-66C261DA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26D2-CB33-4C7D-85C4-61B38BBE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DB9D-C8BA-4F21-B97E-7CE8A88C1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geography.uoregon.edu/envchange/clim_animations/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9280" y="-9360"/>
            <a:ext cx="867564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RADIAC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1449360" y="1523880"/>
            <a:ext cx="6406200" cy="4527000"/>
            <a:chOff x="1449360" y="1523880"/>
            <a:chExt cx="6406200" cy="4527000"/>
          </a:xfrm>
        </p:grpSpPr>
        <p:sp>
          <p:nvSpPr>
            <p:cNvPr id="197" name=""/>
            <p:cNvSpPr/>
            <p:nvPr/>
          </p:nvSpPr>
          <p:spPr>
            <a:xfrm>
              <a:off x="1449360" y="5105160"/>
              <a:ext cx="174096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CÉAN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SUE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82720" y="5090760"/>
              <a:ext cx="4952520" cy="0"/>
            </a:xfrm>
            <a:prstGeom prst="line">
              <a:avLst/>
            </a:prstGeom>
            <a:ln w="507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803400" y="227160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05200" y="3492360"/>
              <a:ext cx="10652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976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976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5251320" y="2423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927480" y="24235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331040" y="44046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949800" y="47098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54440" y="3147840"/>
              <a:ext cx="858600" cy="477720"/>
            </a:xfrm>
            <a:custGeom>
              <a:avLst/>
              <a:gdLst/>
              <a:ahLst/>
              <a:rect l="l" t="t" r="r" b="b"/>
              <a:pathLst>
                <a:path w="541" h="301">
                  <a:moveTo>
                    <a:pt x="24" y="264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36" y="144"/>
                  </a:lnTo>
                  <a:lnTo>
                    <a:pt x="72" y="120"/>
                  </a:lnTo>
                  <a:lnTo>
                    <a:pt x="132" y="108"/>
                  </a:lnTo>
                  <a:lnTo>
                    <a:pt x="168" y="96"/>
                  </a:lnTo>
                  <a:lnTo>
                    <a:pt x="180" y="60"/>
                  </a:lnTo>
                  <a:lnTo>
                    <a:pt x="192" y="24"/>
                  </a:lnTo>
                  <a:lnTo>
                    <a:pt x="228" y="12"/>
                  </a:lnTo>
                  <a:lnTo>
                    <a:pt x="264" y="0"/>
                  </a:lnTo>
                  <a:lnTo>
                    <a:pt x="300" y="12"/>
                  </a:lnTo>
                  <a:lnTo>
                    <a:pt x="336" y="12"/>
                  </a:lnTo>
                  <a:lnTo>
                    <a:pt x="372" y="12"/>
                  </a:lnTo>
                  <a:lnTo>
                    <a:pt x="384" y="48"/>
                  </a:lnTo>
                  <a:lnTo>
                    <a:pt x="420" y="48"/>
                  </a:lnTo>
                  <a:lnTo>
                    <a:pt x="456" y="60"/>
                  </a:lnTo>
                  <a:lnTo>
                    <a:pt x="480" y="96"/>
                  </a:lnTo>
                  <a:lnTo>
                    <a:pt x="492" y="132"/>
                  </a:lnTo>
                  <a:lnTo>
                    <a:pt x="516" y="168"/>
                  </a:lnTo>
                  <a:lnTo>
                    <a:pt x="540" y="204"/>
                  </a:lnTo>
                  <a:lnTo>
                    <a:pt x="504" y="228"/>
                  </a:lnTo>
                  <a:lnTo>
                    <a:pt x="420" y="264"/>
                  </a:lnTo>
                  <a:lnTo>
                    <a:pt x="372" y="276"/>
                  </a:lnTo>
                  <a:lnTo>
                    <a:pt x="336" y="276"/>
                  </a:lnTo>
                  <a:lnTo>
                    <a:pt x="300" y="276"/>
                  </a:lnTo>
                  <a:lnTo>
                    <a:pt x="204" y="300"/>
                  </a:lnTo>
                  <a:lnTo>
                    <a:pt x="168" y="300"/>
                  </a:lnTo>
                  <a:lnTo>
                    <a:pt x="132" y="288"/>
                  </a:lnTo>
                  <a:lnTo>
                    <a:pt x="96" y="288"/>
                  </a:lnTo>
                  <a:lnTo>
                    <a:pt x="24" y="264"/>
                  </a:lnTo>
                  <a:lnTo>
                    <a:pt x="24" y="264"/>
                  </a:lnTo>
                </a:path>
              </a:pathLst>
            </a:cu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71080" y="3416040"/>
              <a:ext cx="45576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5" y="0"/>
                  </a:moveTo>
                  <a:arcTo wR="10800" hR="10800" stAng="-5423873" swAng="5423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5" y="0"/>
                  </a:moveTo>
                  <a:arcTo wR="10800" hR="10800" stAng="-5423873" swAng="54238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29680" y="205704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05800" y="198108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3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81920" y="190476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28520" y="1523880"/>
              <a:ext cx="2597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NDA LARG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24440" y="4495680"/>
              <a:ext cx="1764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EM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51600" y="518148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80960" y="502884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13760" y="510516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06480" y="2742840"/>
              <a:ext cx="1793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ATMOSF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78960" y="2057040"/>
              <a:ext cx="176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ESPAC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82800" y="4130640"/>
              <a:ext cx="16909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33"/>
                  </a:solidFill>
                  <a:latin typeface="Times New Roman"/>
                </a:rPr>
                <a:t>Flujo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33"/>
                  </a:solidFill>
                  <a:latin typeface="Times New Roman"/>
                </a:rPr>
                <a:t>calor Sensi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209680" y="2743200"/>
            <a:ext cx="495324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81080" y="27432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343400" y="34290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304920"/>
            <a:ext cx="27432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ADIACIÓN EMIT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67480" y="3962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Flujo de calor lat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594360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mbios de tempera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715000" y="4800240"/>
            <a:ext cx="6094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67280" y="6324480"/>
            <a:ext cx="306396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Por evaporación o condens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8001000" y="4647960"/>
            <a:ext cx="2286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85800" y="1077840"/>
            <a:ext cx="708660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766960" y="452520"/>
            <a:ext cx="1959120" cy="519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ME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8920" y="1260360"/>
            <a:ext cx="77576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lacas o Anillos de Metal conectados a termocup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rotegidos por cúpula de vidrio o plástico espe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iferencia de temperatura  debido a difer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reflectividad      fuerza electromotriz en termocup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que se registra con mecanismo inscrip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olarímetros, actinógrafos o pirohelióme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90920" y="25146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3025800" cy="19814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 flipH="1">
            <a:off x="2742840" y="388620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6019920" y="3833640"/>
            <a:ext cx="3124080" cy="30243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5334120" y="38098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511800" cy="2609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324480" y="4572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SOLARÍMETRO o PIRANÓ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3671400">
            <a:off x="5334120" y="609120"/>
            <a:ext cx="304560" cy="106704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62360" y="3657600"/>
            <a:ext cx="5967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Nubosidad:% de cielo cubierto de n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Insolación: intervalo de tiempo en que el s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                    </a:t>
            </a: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no está cubier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21000" y="5075280"/>
            <a:ext cx="208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HELIÓGRAF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74800" y="4594320"/>
            <a:ext cx="520560" cy="520560"/>
          </a:xfrm>
          <a:prstGeom prst="downArrow">
            <a:avLst>
              <a:gd name="adj1" fmla="val 75009"/>
              <a:gd name="adj2" fmla="val 50005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0680" y="5532480"/>
            <a:ext cx="3065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RADIÓMETROS N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640560" y="5173560"/>
          <a:ext cx="1376280" cy="121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40560" y="5173560"/>
                    <a:ext cx="1376280" cy="12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3821040" cy="41702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838080" y="49528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HELIÓGRA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495288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066680" y="1066680"/>
            <a:ext cx="7543800" cy="397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VARIACIÓN DIARIA Y ANUAL (Posición sol y nubos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46400" y="1467000"/>
            <a:ext cx="206280" cy="819000"/>
          </a:xfrm>
          <a:prstGeom prst="downArrow">
            <a:avLst>
              <a:gd name="adj1" fmla="val 50000"/>
              <a:gd name="adj2" fmla="val 19853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2438280"/>
            <a:ext cx="1314720" cy="702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Sinusoid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9620000">
            <a:off x="4555800" y="1479240"/>
            <a:ext cx="368280" cy="431640"/>
          </a:xfrm>
          <a:prstGeom prst="downArrow">
            <a:avLst>
              <a:gd name="adj1" fmla="val 50000"/>
              <a:gd name="adj2" fmla="val 5860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76920" y="1905120"/>
            <a:ext cx="2625480" cy="702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latitud y época del 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84960" y="3657600"/>
            <a:ext cx="8119080" cy="824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Importante en estudios de evapotranspiración, derret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de nieves y hielos y de temperaturas de sue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3124080" cy="21621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572000" y="762120"/>
            <a:ext cx="3514680" cy="21589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304920" y="3675240"/>
            <a:ext cx="4038480" cy="2379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4724280" y="3602160"/>
            <a:ext cx="3505320" cy="24368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295280" y="228600"/>
            <a:ext cx="48006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diación solar en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042920" y="1204920"/>
            <a:ext cx="705816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071720" y="1409760"/>
            <a:ext cx="7000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440" y="273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916280" y="2735280"/>
            <a:ext cx="5313240" cy="1387440"/>
            <a:chOff x="1916280" y="2735280"/>
            <a:chExt cx="5313240" cy="1387440"/>
          </a:xfrm>
        </p:grpSpPr>
        <p:sp>
          <p:nvSpPr>
            <p:cNvPr id="262" name=""/>
            <p:cNvSpPr/>
            <p:nvPr/>
          </p:nvSpPr>
          <p:spPr>
            <a:xfrm>
              <a:off x="1916280" y="2735280"/>
              <a:ext cx="5313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16280" y="2735280"/>
              <a:ext cx="5313240" cy="13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67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4" name="" descr="Net Short-Wave Radia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1397160"/>
            <a:ext cx="4495680" cy="34876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998280" y="5562720"/>
            <a:ext cx="611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geography.uoregon.edu/envchange/clim_animation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838080"/>
            <a:ext cx="7848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Radiación Solar :  Se puede definir como la energía radiante producida por el s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Temperatura sol es 6000º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2971800"/>
            <a:ext cx="7848360" cy="120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1 cal=4,186 Jo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Radiación por unidad de área: [cal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]=[ly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Tasa de radiación: [ly/día]; [ly/mi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4876920"/>
            <a:ext cx="86108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Tierra recibe fracción (2*10</a:t>
            </a:r>
            <a:r>
              <a:rPr b="1" lang="es-ES_tradnl" sz="18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) de la radiación solar emitida por unidad de á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828800" y="1371600"/>
            <a:ext cx="2133720" cy="1905120"/>
            <a:chOff x="1828800" y="1371600"/>
            <a:chExt cx="2133720" cy="1905120"/>
          </a:xfrm>
        </p:grpSpPr>
        <p:sp>
          <p:nvSpPr>
            <p:cNvPr id="47" name=""/>
            <p:cNvSpPr/>
            <p:nvPr/>
          </p:nvSpPr>
          <p:spPr>
            <a:xfrm>
              <a:off x="1828800" y="1371600"/>
              <a:ext cx="2133720" cy="1905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2362320" y="17524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273400" y="1676520"/>
              <a:ext cx="654120" cy="583920"/>
            </a:xfrm>
            <a:custGeom>
              <a:avLst/>
              <a:gdLst/>
              <a:ahLst/>
              <a:rect l="l" t="t" r="r" b="b"/>
              <a:pathLst>
                <a:path w="412" h="368">
                  <a:moveTo>
                    <a:pt x="56" y="336"/>
                  </a:moveTo>
                  <a:cubicBezTo>
                    <a:pt x="64" y="368"/>
                    <a:pt x="84" y="277"/>
                    <a:pt x="104" y="240"/>
                  </a:cubicBezTo>
                  <a:cubicBezTo>
                    <a:pt x="124" y="203"/>
                    <a:pt x="130" y="144"/>
                    <a:pt x="178" y="112"/>
                  </a:cubicBezTo>
                  <a:cubicBezTo>
                    <a:pt x="226" y="80"/>
                    <a:pt x="412" y="59"/>
                    <a:pt x="392" y="48"/>
                  </a:cubicBezTo>
                  <a:cubicBezTo>
                    <a:pt x="372" y="37"/>
                    <a:pt x="112" y="0"/>
                    <a:pt x="56" y="48"/>
                  </a:cubicBezTo>
                  <a:cubicBezTo>
                    <a:pt x="0" y="96"/>
                    <a:pt x="48" y="304"/>
                    <a:pt x="56" y="336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65320" y="2368440"/>
              <a:ext cx="652680" cy="592200"/>
            </a:xfrm>
            <a:custGeom>
              <a:avLst/>
              <a:gdLst/>
              <a:ahLst/>
              <a:rect l="l" t="t" r="r" b="b"/>
              <a:pathLst>
                <a:path w="411" h="373">
                  <a:moveTo>
                    <a:pt x="366" y="35"/>
                  </a:moveTo>
                  <a:cubicBezTo>
                    <a:pt x="359" y="0"/>
                    <a:pt x="330" y="78"/>
                    <a:pt x="310" y="110"/>
                  </a:cubicBezTo>
                  <a:cubicBezTo>
                    <a:pt x="290" y="142"/>
                    <a:pt x="296" y="190"/>
                    <a:pt x="247" y="228"/>
                  </a:cubicBezTo>
                  <a:cubicBezTo>
                    <a:pt x="198" y="266"/>
                    <a:pt x="0" y="323"/>
                    <a:pt x="18" y="339"/>
                  </a:cubicBezTo>
                  <a:cubicBezTo>
                    <a:pt x="36" y="355"/>
                    <a:pt x="295" y="373"/>
                    <a:pt x="353" y="322"/>
                  </a:cubicBezTo>
                  <a:cubicBezTo>
                    <a:pt x="411" y="271"/>
                    <a:pt x="373" y="67"/>
                    <a:pt x="366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92480" y="2367000"/>
              <a:ext cx="587160" cy="654120"/>
            </a:xfrm>
            <a:custGeom>
              <a:avLst/>
              <a:gdLst/>
              <a:ahLst/>
              <a:rect l="l" t="t" r="r" b="b"/>
              <a:pathLst>
                <a:path w="370" h="412">
                  <a:moveTo>
                    <a:pt x="339" y="345"/>
                  </a:moveTo>
                  <a:cubicBezTo>
                    <a:pt x="370" y="335"/>
                    <a:pt x="273" y="323"/>
                    <a:pt x="240" y="302"/>
                  </a:cubicBezTo>
                  <a:cubicBezTo>
                    <a:pt x="207" y="281"/>
                    <a:pt x="176" y="267"/>
                    <a:pt x="142" y="221"/>
                  </a:cubicBezTo>
                  <a:cubicBezTo>
                    <a:pt x="108" y="175"/>
                    <a:pt x="50" y="0"/>
                    <a:pt x="35" y="23"/>
                  </a:cubicBezTo>
                  <a:cubicBezTo>
                    <a:pt x="20" y="46"/>
                    <a:pt x="0" y="305"/>
                    <a:pt x="51" y="359"/>
                  </a:cubicBezTo>
                  <a:cubicBezTo>
                    <a:pt x="102" y="412"/>
                    <a:pt x="307" y="355"/>
                    <a:pt x="339" y="34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990880" y="1689120"/>
              <a:ext cx="576360" cy="706320"/>
            </a:xfrm>
            <a:custGeom>
              <a:avLst/>
              <a:gdLst/>
              <a:ahLst/>
              <a:rect l="l" t="t" r="r" b="b"/>
              <a:pathLst>
                <a:path w="363" h="445">
                  <a:moveTo>
                    <a:pt x="32" y="35"/>
                  </a:moveTo>
                  <a:cubicBezTo>
                    <a:pt x="0" y="41"/>
                    <a:pt x="89" y="68"/>
                    <a:pt x="124" y="91"/>
                  </a:cubicBezTo>
                  <a:cubicBezTo>
                    <a:pt x="159" y="114"/>
                    <a:pt x="213" y="131"/>
                    <a:pt x="246" y="176"/>
                  </a:cubicBezTo>
                  <a:cubicBezTo>
                    <a:pt x="279" y="221"/>
                    <a:pt x="317" y="328"/>
                    <a:pt x="325" y="364"/>
                  </a:cubicBezTo>
                  <a:cubicBezTo>
                    <a:pt x="333" y="400"/>
                    <a:pt x="293" y="445"/>
                    <a:pt x="292" y="394"/>
                  </a:cubicBezTo>
                  <a:cubicBezTo>
                    <a:pt x="291" y="343"/>
                    <a:pt x="363" y="119"/>
                    <a:pt x="319" y="59"/>
                  </a:cubicBezTo>
                  <a:cubicBezTo>
                    <a:pt x="276" y="0"/>
                    <a:pt x="65" y="30"/>
                    <a:pt x="32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447920" y="1143000"/>
            <a:ext cx="68580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828440" y="13716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12680" y="-68400"/>
            <a:ext cx="988920" cy="795600"/>
          </a:xfrm>
          <a:custGeom>
            <a:avLst/>
            <a:gdLst/>
            <a:ahLst/>
            <a:rect l="l" t="t" r="r" b="b"/>
            <a:pathLst>
              <a:path w="623" h="501">
                <a:moveTo>
                  <a:pt x="537" y="43"/>
                </a:moveTo>
                <a:cubicBezTo>
                  <a:pt x="554" y="70"/>
                  <a:pt x="565" y="88"/>
                  <a:pt x="592" y="106"/>
                </a:cubicBezTo>
                <a:cubicBezTo>
                  <a:pt x="600" y="129"/>
                  <a:pt x="612" y="147"/>
                  <a:pt x="623" y="169"/>
                </a:cubicBezTo>
                <a:lnTo>
                  <a:pt x="503" y="147"/>
                </a:lnTo>
                <a:lnTo>
                  <a:pt x="551" y="291"/>
                </a:lnTo>
                <a:lnTo>
                  <a:pt x="407" y="243"/>
                </a:lnTo>
                <a:lnTo>
                  <a:pt x="359" y="387"/>
                </a:lnTo>
                <a:lnTo>
                  <a:pt x="263" y="339"/>
                </a:lnTo>
                <a:lnTo>
                  <a:pt x="263" y="435"/>
                </a:lnTo>
                <a:lnTo>
                  <a:pt x="167" y="387"/>
                </a:lnTo>
                <a:lnTo>
                  <a:pt x="79" y="501"/>
                </a:lnTo>
                <a:lnTo>
                  <a:pt x="63" y="351"/>
                </a:lnTo>
                <a:cubicBezTo>
                  <a:pt x="94" y="302"/>
                  <a:pt x="0" y="102"/>
                  <a:pt x="79" y="51"/>
                </a:cubicBezTo>
                <a:cubicBezTo>
                  <a:pt x="158" y="0"/>
                  <a:pt x="442" y="45"/>
                  <a:pt x="537" y="43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762120"/>
            <a:ext cx="495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Constante Solar W</a:t>
            </a:r>
            <a:r>
              <a:rPr b="1" lang="es-ES_tradnl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=1,94 cal/(cm</a:t>
            </a:r>
            <a:r>
              <a:rPr b="1" lang="es-ES_tradnl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m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3733920"/>
            <a:ext cx="708660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Declinación solar: latitud a la cual el eje Tierra –Sol pasa perpendicular a plano tangente en dicho p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4876920"/>
            <a:ext cx="99072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648320" y="5867280"/>
            <a:ext cx="533160" cy="533520"/>
            <a:chOff x="4648320" y="5867280"/>
            <a:chExt cx="533160" cy="533520"/>
          </a:xfrm>
        </p:grpSpPr>
        <p:sp>
          <p:nvSpPr>
            <p:cNvPr id="60" name=""/>
            <p:cNvSpPr/>
            <p:nvPr/>
          </p:nvSpPr>
          <p:spPr>
            <a:xfrm>
              <a:off x="4648320" y="5867280"/>
              <a:ext cx="533160" cy="53352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4781520" y="5973840"/>
              <a:ext cx="285480" cy="32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759200" y="5952600"/>
              <a:ext cx="163440" cy="163440"/>
            </a:xfrm>
            <a:custGeom>
              <a:avLst/>
              <a:gdLst/>
              <a:ahLst/>
              <a:rect l="l" t="t" r="r" b="b"/>
              <a:pathLst>
                <a:path w="412" h="368">
                  <a:moveTo>
                    <a:pt x="56" y="336"/>
                  </a:moveTo>
                  <a:cubicBezTo>
                    <a:pt x="64" y="368"/>
                    <a:pt x="84" y="277"/>
                    <a:pt x="104" y="240"/>
                  </a:cubicBezTo>
                  <a:cubicBezTo>
                    <a:pt x="124" y="203"/>
                    <a:pt x="130" y="144"/>
                    <a:pt x="178" y="112"/>
                  </a:cubicBezTo>
                  <a:cubicBezTo>
                    <a:pt x="226" y="80"/>
                    <a:pt x="412" y="59"/>
                    <a:pt x="392" y="48"/>
                  </a:cubicBezTo>
                  <a:cubicBezTo>
                    <a:pt x="372" y="37"/>
                    <a:pt x="112" y="0"/>
                    <a:pt x="56" y="48"/>
                  </a:cubicBezTo>
                  <a:cubicBezTo>
                    <a:pt x="0" y="96"/>
                    <a:pt x="48" y="304"/>
                    <a:pt x="56" y="336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932360" y="6146280"/>
              <a:ext cx="163080" cy="165600"/>
            </a:xfrm>
            <a:custGeom>
              <a:avLst/>
              <a:gdLst/>
              <a:ahLst/>
              <a:rect l="l" t="t" r="r" b="b"/>
              <a:pathLst>
                <a:path w="411" h="373">
                  <a:moveTo>
                    <a:pt x="366" y="35"/>
                  </a:moveTo>
                  <a:cubicBezTo>
                    <a:pt x="359" y="0"/>
                    <a:pt x="330" y="78"/>
                    <a:pt x="310" y="110"/>
                  </a:cubicBezTo>
                  <a:cubicBezTo>
                    <a:pt x="290" y="142"/>
                    <a:pt x="296" y="190"/>
                    <a:pt x="247" y="228"/>
                  </a:cubicBezTo>
                  <a:cubicBezTo>
                    <a:pt x="198" y="266"/>
                    <a:pt x="0" y="323"/>
                    <a:pt x="18" y="339"/>
                  </a:cubicBezTo>
                  <a:cubicBezTo>
                    <a:pt x="36" y="355"/>
                    <a:pt x="295" y="373"/>
                    <a:pt x="353" y="322"/>
                  </a:cubicBezTo>
                  <a:cubicBezTo>
                    <a:pt x="411" y="271"/>
                    <a:pt x="373" y="67"/>
                    <a:pt x="366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764240" y="6145920"/>
              <a:ext cx="146520" cy="183240"/>
            </a:xfrm>
            <a:custGeom>
              <a:avLst/>
              <a:gdLst/>
              <a:ahLst/>
              <a:rect l="l" t="t" r="r" b="b"/>
              <a:pathLst>
                <a:path w="370" h="412">
                  <a:moveTo>
                    <a:pt x="339" y="345"/>
                  </a:moveTo>
                  <a:cubicBezTo>
                    <a:pt x="370" y="335"/>
                    <a:pt x="273" y="323"/>
                    <a:pt x="240" y="302"/>
                  </a:cubicBezTo>
                  <a:cubicBezTo>
                    <a:pt x="207" y="281"/>
                    <a:pt x="176" y="267"/>
                    <a:pt x="142" y="221"/>
                  </a:cubicBezTo>
                  <a:cubicBezTo>
                    <a:pt x="108" y="175"/>
                    <a:pt x="50" y="0"/>
                    <a:pt x="35" y="23"/>
                  </a:cubicBezTo>
                  <a:cubicBezTo>
                    <a:pt x="20" y="46"/>
                    <a:pt x="0" y="305"/>
                    <a:pt x="51" y="359"/>
                  </a:cubicBezTo>
                  <a:cubicBezTo>
                    <a:pt x="102" y="412"/>
                    <a:pt x="307" y="355"/>
                    <a:pt x="339" y="34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38840" y="5956200"/>
              <a:ext cx="144000" cy="197640"/>
            </a:xfrm>
            <a:custGeom>
              <a:avLst/>
              <a:gdLst/>
              <a:ahLst/>
              <a:rect l="l" t="t" r="r" b="b"/>
              <a:pathLst>
                <a:path w="363" h="445">
                  <a:moveTo>
                    <a:pt x="32" y="35"/>
                  </a:moveTo>
                  <a:cubicBezTo>
                    <a:pt x="0" y="41"/>
                    <a:pt x="89" y="68"/>
                    <a:pt x="124" y="91"/>
                  </a:cubicBezTo>
                  <a:cubicBezTo>
                    <a:pt x="159" y="114"/>
                    <a:pt x="213" y="131"/>
                    <a:pt x="246" y="176"/>
                  </a:cubicBezTo>
                  <a:cubicBezTo>
                    <a:pt x="279" y="221"/>
                    <a:pt x="317" y="328"/>
                    <a:pt x="325" y="364"/>
                  </a:cubicBezTo>
                  <a:cubicBezTo>
                    <a:pt x="333" y="400"/>
                    <a:pt x="293" y="445"/>
                    <a:pt x="292" y="394"/>
                  </a:cubicBezTo>
                  <a:cubicBezTo>
                    <a:pt x="291" y="343"/>
                    <a:pt x="363" y="119"/>
                    <a:pt x="319" y="59"/>
                  </a:cubicBezTo>
                  <a:cubicBezTo>
                    <a:pt x="276" y="0"/>
                    <a:pt x="65" y="30"/>
                    <a:pt x="32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905120" y="5410080"/>
            <a:ext cx="30477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4800600"/>
            <a:ext cx="556236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Tasa de Radiación Incidente por unidad de área, en tope de atmósfe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781680" y="5356080"/>
                <a:ext cx="19051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5791320" y="6477120"/>
            <a:ext cx="30477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titud s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781680" y="5714640"/>
            <a:ext cx="1600200" cy="7621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133360" y="58672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647960" y="63244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838800">
            <a:off x="2971440" y="6172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5943600"/>
            <a:ext cx="243864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00400" y="1905120"/>
            <a:ext cx="1447920" cy="152388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d4ebe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733920" y="2438280"/>
            <a:ext cx="457200" cy="471600"/>
            <a:chOff x="3733920" y="2438280"/>
            <a:chExt cx="457200" cy="471600"/>
          </a:xfrm>
        </p:grpSpPr>
        <p:sp>
          <p:nvSpPr>
            <p:cNvPr id="77" name=""/>
            <p:cNvSpPr/>
            <p:nvPr/>
          </p:nvSpPr>
          <p:spPr>
            <a:xfrm>
              <a:off x="3733920" y="2438280"/>
              <a:ext cx="457200" cy="4572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95560" y="2540160"/>
              <a:ext cx="222480" cy="369720"/>
            </a:xfrm>
            <a:custGeom>
              <a:avLst/>
              <a:gdLst/>
              <a:ahLst/>
              <a:rect l="l" t="t" r="r" b="b"/>
              <a:pathLst>
                <a:path w="140" h="233">
                  <a:moveTo>
                    <a:pt x="55" y="215"/>
                  </a:moveTo>
                  <a:cubicBezTo>
                    <a:pt x="29" y="175"/>
                    <a:pt x="27" y="128"/>
                    <a:pt x="0" y="89"/>
                  </a:cubicBezTo>
                  <a:cubicBezTo>
                    <a:pt x="16" y="86"/>
                    <a:pt x="36" y="92"/>
                    <a:pt x="47" y="81"/>
                  </a:cubicBezTo>
                  <a:cubicBezTo>
                    <a:pt x="54" y="74"/>
                    <a:pt x="32" y="69"/>
                    <a:pt x="24" y="65"/>
                  </a:cubicBezTo>
                  <a:cubicBezTo>
                    <a:pt x="16" y="61"/>
                    <a:pt x="8" y="60"/>
                    <a:pt x="0" y="57"/>
                  </a:cubicBezTo>
                  <a:cubicBezTo>
                    <a:pt x="19" y="0"/>
                    <a:pt x="0" y="6"/>
                    <a:pt x="47" y="18"/>
                  </a:cubicBezTo>
                  <a:cubicBezTo>
                    <a:pt x="55" y="23"/>
                    <a:pt x="62" y="30"/>
                    <a:pt x="71" y="33"/>
                  </a:cubicBezTo>
                  <a:cubicBezTo>
                    <a:pt x="86" y="38"/>
                    <a:pt x="106" y="31"/>
                    <a:pt x="118" y="41"/>
                  </a:cubicBezTo>
                  <a:cubicBezTo>
                    <a:pt x="140" y="59"/>
                    <a:pt x="100" y="69"/>
                    <a:pt x="87" y="73"/>
                  </a:cubicBezTo>
                  <a:cubicBezTo>
                    <a:pt x="59" y="114"/>
                    <a:pt x="81" y="107"/>
                    <a:pt x="118" y="120"/>
                  </a:cubicBezTo>
                  <a:cubicBezTo>
                    <a:pt x="130" y="157"/>
                    <a:pt x="112" y="193"/>
                    <a:pt x="79" y="215"/>
                  </a:cubicBezTo>
                  <a:cubicBezTo>
                    <a:pt x="52" y="233"/>
                    <a:pt x="55" y="229"/>
                    <a:pt x="55" y="215"/>
                  </a:cubicBez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396252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962520" y="228600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19810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52880" y="2819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72428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343400" y="1981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2438280"/>
            <a:ext cx="104760" cy="228600"/>
          </a:xfrm>
          <a:custGeom>
            <a:avLst/>
            <a:gdLst/>
            <a:ahLst/>
            <a:rect l="l" t="t" r="r" b="b"/>
            <a:pathLst>
              <a:path w="66" h="144">
                <a:moveTo>
                  <a:pt x="48" y="144"/>
                </a:moveTo>
                <a:cubicBezTo>
                  <a:pt x="50" y="132"/>
                  <a:pt x="66" y="98"/>
                  <a:pt x="58" y="74"/>
                </a:cubicBezTo>
                <a:cubicBezTo>
                  <a:pt x="50" y="50"/>
                  <a:pt x="12" y="16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59320" y="1981080"/>
            <a:ext cx="42840" cy="123840"/>
          </a:xfrm>
          <a:custGeom>
            <a:avLst/>
            <a:gdLst/>
            <a:ahLst/>
            <a:rect l="l" t="t" r="r" b="b"/>
            <a:pathLst>
              <a:path w="27" h="78">
                <a:moveTo>
                  <a:pt x="0" y="78"/>
                </a:moveTo>
                <a:cubicBezTo>
                  <a:pt x="5" y="73"/>
                  <a:pt x="19" y="61"/>
                  <a:pt x="23" y="48"/>
                </a:cubicBezTo>
                <a:cubicBezTo>
                  <a:pt x="27" y="35"/>
                  <a:pt x="27" y="20"/>
                  <a:pt x="2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2273400"/>
            <a:ext cx="152280" cy="88920"/>
          </a:xfrm>
          <a:custGeom>
            <a:avLst/>
            <a:gdLst/>
            <a:ahLst/>
            <a:rect l="l" t="t" r="r" b="b"/>
            <a:pathLst>
              <a:path w="96" h="56">
                <a:moveTo>
                  <a:pt x="0" y="56"/>
                </a:moveTo>
                <a:cubicBezTo>
                  <a:pt x="16" y="36"/>
                  <a:pt x="32" y="16"/>
                  <a:pt x="48" y="8"/>
                </a:cubicBezTo>
                <a:cubicBezTo>
                  <a:pt x="64" y="0"/>
                  <a:pt x="80" y="4"/>
                  <a:pt x="96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4266720" y="25909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4648320" y="2361960"/>
            <a:ext cx="380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175248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838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Tope atmósf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12193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723920" y="198108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723920" y="251460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380880"/>
            <a:ext cx="3276720" cy="368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OLST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ano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23º27`S (Trópico de Capricorn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lo Sur recibe luz permanente mientras Polo Norte no ve el s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ierno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23º27`N (Trópico de Cánc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lo Norte recibe luz permanente y polo Sur No ve 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4343400"/>
            <a:ext cx="1447560" cy="152388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d4ebe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638680" y="4876920"/>
            <a:ext cx="457200" cy="470880"/>
            <a:chOff x="5638680" y="4876920"/>
            <a:chExt cx="457200" cy="470880"/>
          </a:xfrm>
        </p:grpSpPr>
        <p:sp>
          <p:nvSpPr>
            <p:cNvPr id="99" name=""/>
            <p:cNvSpPr/>
            <p:nvPr/>
          </p:nvSpPr>
          <p:spPr>
            <a:xfrm>
              <a:off x="5638680" y="4876920"/>
              <a:ext cx="457200" cy="4568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00320" y="4978440"/>
              <a:ext cx="222480" cy="369360"/>
            </a:xfrm>
            <a:custGeom>
              <a:avLst/>
              <a:gdLst/>
              <a:ahLst/>
              <a:rect l="l" t="t" r="r" b="b"/>
              <a:pathLst>
                <a:path w="140" h="233">
                  <a:moveTo>
                    <a:pt x="55" y="215"/>
                  </a:moveTo>
                  <a:cubicBezTo>
                    <a:pt x="29" y="175"/>
                    <a:pt x="27" y="128"/>
                    <a:pt x="0" y="89"/>
                  </a:cubicBezTo>
                  <a:cubicBezTo>
                    <a:pt x="16" y="86"/>
                    <a:pt x="36" y="92"/>
                    <a:pt x="47" y="81"/>
                  </a:cubicBezTo>
                  <a:cubicBezTo>
                    <a:pt x="54" y="74"/>
                    <a:pt x="32" y="69"/>
                    <a:pt x="24" y="65"/>
                  </a:cubicBezTo>
                  <a:cubicBezTo>
                    <a:pt x="16" y="61"/>
                    <a:pt x="8" y="60"/>
                    <a:pt x="0" y="57"/>
                  </a:cubicBezTo>
                  <a:cubicBezTo>
                    <a:pt x="19" y="0"/>
                    <a:pt x="0" y="6"/>
                    <a:pt x="47" y="18"/>
                  </a:cubicBezTo>
                  <a:cubicBezTo>
                    <a:pt x="55" y="23"/>
                    <a:pt x="62" y="30"/>
                    <a:pt x="71" y="33"/>
                  </a:cubicBezTo>
                  <a:cubicBezTo>
                    <a:pt x="86" y="38"/>
                    <a:pt x="106" y="31"/>
                    <a:pt x="118" y="41"/>
                  </a:cubicBezTo>
                  <a:cubicBezTo>
                    <a:pt x="140" y="59"/>
                    <a:pt x="100" y="69"/>
                    <a:pt x="87" y="73"/>
                  </a:cubicBezTo>
                  <a:cubicBezTo>
                    <a:pt x="59" y="114"/>
                    <a:pt x="81" y="107"/>
                    <a:pt x="118" y="120"/>
                  </a:cubicBezTo>
                  <a:cubicBezTo>
                    <a:pt x="130" y="157"/>
                    <a:pt x="112" y="193"/>
                    <a:pt x="79" y="215"/>
                  </a:cubicBezTo>
                  <a:cubicBezTo>
                    <a:pt x="52" y="233"/>
                    <a:pt x="55" y="229"/>
                    <a:pt x="55" y="215"/>
                  </a:cubicBez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594360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629040" y="480060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629040" y="533412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55308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4191120"/>
            <a:ext cx="2743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QUINOCCIOS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0 (ecuad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47242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emisferios tienen exactamente 12 hrs de día y 12 de n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457200"/>
            <a:ext cx="15242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ltitud s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066680" y="1295280"/>
                <a:ext cx="629280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φ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φ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5638680" y="2209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Ángulo horario sol (0 a 360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7086600" y="18288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666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r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295280" y="3048120"/>
                <a:ext cx="56642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5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72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e>
                    </m:d>
                    <m:m>
                      <m:mr>
                        <m:e/>
                        <m:e/>
                      </m:mr>
                    </m:m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5334120" y="41148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Día juliano  (1 a 3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5105160" y="37339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990720" y="4876920"/>
                <a:ext cx="61722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3352680" y="45720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Si sol al este de longitud observ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200040" y="4800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57150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Si sol al oeste de longitud observ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3047760" y="54860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6172200"/>
            <a:ext cx="304812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Tiempo estándar en horas (0 a 23h50`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2438280" y="571500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6324480"/>
            <a:ext cx="396252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Diferencia de t entre longitud local y está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5334120"/>
            <a:ext cx="609480" cy="914400"/>
          </a:xfrm>
          <a:custGeom>
            <a:avLst/>
            <a:gdLst/>
            <a:ahLst/>
            <a:rect l="l" t="t" r="r" b="b"/>
            <a:pathLst>
              <a:path w="415" h="545">
                <a:moveTo>
                  <a:pt x="373" y="545"/>
                </a:moveTo>
                <a:cubicBezTo>
                  <a:pt x="374" y="502"/>
                  <a:pt x="415" y="353"/>
                  <a:pt x="389" y="285"/>
                </a:cubicBezTo>
                <a:cubicBezTo>
                  <a:pt x="363" y="217"/>
                  <a:pt x="280" y="183"/>
                  <a:pt x="215" y="135"/>
                </a:cubicBezTo>
                <a:cubicBezTo>
                  <a:pt x="150" y="87"/>
                  <a:pt x="45" y="2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5791320"/>
            <a:ext cx="3048120" cy="459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Diferencia de t entre tiempo solar real y tiempo solar medio (</a:t>
            </a:r>
            <a:r>
              <a:rPr b="1" lang="es-ES_tradnl" sz="1200" spc="-1" strike="noStrike">
                <a:solidFill>
                  <a:srgbClr val="333399"/>
                </a:solidFill>
                <a:latin typeface="Arial"/>
                <a:ea typeface="Arial"/>
              </a:rPr>
              <a:t>≈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32448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914400" y="533520"/>
                <a:ext cx="272412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5029200" y="380880"/>
            <a:ext cx="350532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333399"/>
                </a:solidFill>
                <a:latin typeface="Bradley Hand ITC"/>
              </a:rPr>
              <a:t>i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=-1 para longitud o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Bradley Hand ITC"/>
              </a:rPr>
              <a:t> </a:t>
            </a:r>
            <a:r>
              <a:rPr b="1" lang="es-ES_tradnl" sz="1800" spc="-1" strike="noStrike">
                <a:solidFill>
                  <a:srgbClr val="333399"/>
                </a:solidFill>
                <a:latin typeface="Bradley Hand ITC"/>
              </a:rPr>
              <a:t>i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=+1 para longitud 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175248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Longitud meridiano está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137160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Longitud meridiano lo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590560" y="1218960"/>
            <a:ext cx="759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3429000" y="12193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609480" y="23623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adiación incidente en su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666880" y="3581280"/>
                <a:ext cx="226080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34" name=""/>
          <p:cNvGrpSpPr/>
          <p:nvPr/>
        </p:nvGrpSpPr>
        <p:grpSpPr>
          <a:xfrm>
            <a:off x="4267080" y="2895480"/>
            <a:ext cx="3276720" cy="1067040"/>
            <a:chOff x="4267080" y="2895480"/>
            <a:chExt cx="3276720" cy="1067040"/>
          </a:xfrm>
        </p:grpSpPr>
        <p:sp>
          <p:nvSpPr>
            <p:cNvPr id="135" name=""/>
            <p:cNvSpPr/>
            <p:nvPr/>
          </p:nvSpPr>
          <p:spPr>
            <a:xfrm>
              <a:off x="4343400" y="2895480"/>
              <a:ext cx="3200400" cy="8323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Factor de turbiedad del ai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2 cielo claro de montañ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4 a 5 smog área urb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267080" y="37339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419360" y="4266720"/>
            <a:ext cx="4496040" cy="505440"/>
            <a:chOff x="4419360" y="4266720"/>
            <a:chExt cx="4496040" cy="505440"/>
          </a:xfrm>
        </p:grpSpPr>
        <p:sp>
          <p:nvSpPr>
            <p:cNvPr id="138" name=""/>
            <p:cNvSpPr/>
            <p:nvPr/>
          </p:nvSpPr>
          <p:spPr>
            <a:xfrm>
              <a:off x="4495680" y="4495680"/>
              <a:ext cx="441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Coeficiente de dispersión molecul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4419360" y="4266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066680" y="5029200"/>
            <a:ext cx="7696440" cy="627120"/>
            <a:chOff x="1066680" y="5029200"/>
            <a:chExt cx="7696440" cy="627120"/>
          </a:xfrm>
        </p:grpSpPr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066680" y="5105520"/>
                  <a:ext cx="388620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128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054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2" name=""/>
            <p:cNvSpPr/>
            <p:nvPr/>
          </p:nvSpPr>
          <p:spPr>
            <a:xfrm>
              <a:off x="5181480" y="5029200"/>
              <a:ext cx="3581640" cy="276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Espesor relativo masa de ai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952520" y="5257800"/>
              <a:ext cx="304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600200" y="5889600"/>
                <a:ext cx="51814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8077320" y="59436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1221120" y="685800"/>
            <a:ext cx="6872040" cy="5898960"/>
            <a:chOff x="1221120" y="685800"/>
            <a:chExt cx="6872040" cy="5898960"/>
          </a:xfrm>
        </p:grpSpPr>
        <p:sp>
          <p:nvSpPr>
            <p:cNvPr id="147" name=""/>
            <p:cNvSpPr/>
            <p:nvPr/>
          </p:nvSpPr>
          <p:spPr>
            <a:xfrm>
              <a:off x="2302200" y="1967040"/>
              <a:ext cx="57909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01640" y="838440"/>
              <a:ext cx="176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ESPAC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520" y="1219320"/>
              <a:ext cx="1277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Times New Roman"/>
                </a:rPr>
                <a:t>Ri=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49000" y="2057400"/>
              <a:ext cx="1791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ATMOSF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73800" y="196704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97480" y="47102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73800" y="1967040"/>
              <a:ext cx="838080" cy="33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25880" y="5319720"/>
              <a:ext cx="5867280" cy="0"/>
            </a:xfrm>
            <a:prstGeom prst="line">
              <a:avLst/>
            </a:prstGeom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511880" y="4252680"/>
              <a:ext cx="45720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5121360" y="1662120"/>
              <a:ext cx="91440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283280" y="1585800"/>
              <a:ext cx="68580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73800" y="1967040"/>
              <a:ext cx="4572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4131000" y="1661760"/>
              <a:ext cx="30456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25880" y="3814920"/>
              <a:ext cx="725400" cy="458640"/>
            </a:xfrm>
            <a:custGeom>
              <a:avLst/>
              <a:gdLst/>
              <a:ahLst/>
              <a:rect l="l" t="t" r="r" b="b"/>
              <a:pathLst>
                <a:path w="457" h="289">
                  <a:moveTo>
                    <a:pt x="0" y="228"/>
                  </a:moveTo>
                  <a:lnTo>
                    <a:pt x="24" y="180"/>
                  </a:lnTo>
                  <a:lnTo>
                    <a:pt x="24" y="144"/>
                  </a:lnTo>
                  <a:lnTo>
                    <a:pt x="60" y="120"/>
                  </a:lnTo>
                  <a:lnTo>
                    <a:pt x="72" y="84"/>
                  </a:lnTo>
                  <a:lnTo>
                    <a:pt x="96" y="48"/>
                  </a:lnTo>
                  <a:lnTo>
                    <a:pt x="132" y="48"/>
                  </a:lnTo>
                  <a:lnTo>
                    <a:pt x="168" y="48"/>
                  </a:lnTo>
                  <a:lnTo>
                    <a:pt x="204" y="48"/>
                  </a:lnTo>
                  <a:lnTo>
                    <a:pt x="240" y="36"/>
                  </a:lnTo>
                  <a:lnTo>
                    <a:pt x="276" y="12"/>
                  </a:lnTo>
                  <a:lnTo>
                    <a:pt x="312" y="0"/>
                  </a:lnTo>
                  <a:lnTo>
                    <a:pt x="336" y="36"/>
                  </a:lnTo>
                  <a:lnTo>
                    <a:pt x="372" y="48"/>
                  </a:lnTo>
                  <a:lnTo>
                    <a:pt x="408" y="60"/>
                  </a:lnTo>
                  <a:lnTo>
                    <a:pt x="408" y="96"/>
                  </a:lnTo>
                  <a:lnTo>
                    <a:pt x="420" y="132"/>
                  </a:lnTo>
                  <a:lnTo>
                    <a:pt x="444" y="168"/>
                  </a:lnTo>
                  <a:lnTo>
                    <a:pt x="456" y="204"/>
                  </a:lnTo>
                  <a:lnTo>
                    <a:pt x="444" y="240"/>
                  </a:lnTo>
                  <a:lnTo>
                    <a:pt x="444" y="276"/>
                  </a:lnTo>
                  <a:lnTo>
                    <a:pt x="408" y="288"/>
                  </a:lnTo>
                  <a:lnTo>
                    <a:pt x="372" y="288"/>
                  </a:lnTo>
                  <a:lnTo>
                    <a:pt x="336" y="288"/>
                  </a:lnTo>
                  <a:lnTo>
                    <a:pt x="300" y="288"/>
                  </a:lnTo>
                  <a:lnTo>
                    <a:pt x="300" y="252"/>
                  </a:lnTo>
                  <a:lnTo>
                    <a:pt x="264" y="276"/>
                  </a:lnTo>
                  <a:lnTo>
                    <a:pt x="228" y="276"/>
                  </a:lnTo>
                  <a:lnTo>
                    <a:pt x="192" y="288"/>
                  </a:lnTo>
                  <a:lnTo>
                    <a:pt x="180" y="252"/>
                  </a:lnTo>
                  <a:lnTo>
                    <a:pt x="144" y="276"/>
                  </a:lnTo>
                  <a:lnTo>
                    <a:pt x="108" y="276"/>
                  </a:lnTo>
                  <a:lnTo>
                    <a:pt x="84" y="240"/>
                  </a:lnTo>
                  <a:lnTo>
                    <a:pt x="48" y="240"/>
                  </a:lnTo>
                  <a:lnTo>
                    <a:pt x="0" y="228"/>
                  </a:lnTo>
                  <a:lnTo>
                    <a:pt x="0" y="228"/>
                  </a:lnTo>
                </a:path>
              </a:pathLst>
            </a:cu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14240" y="381024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96920" y="3033720"/>
              <a:ext cx="167652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302200" y="2424600"/>
              <a:ext cx="137124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13880" y="274320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66720" y="121932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52160" y="137160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19200" y="144792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48320" y="3810240"/>
              <a:ext cx="1646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Reflejad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13520" y="4267440"/>
              <a:ext cx="1786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Absorbid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04240" y="533412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5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22600" y="685800"/>
              <a:ext cx="2597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NDA COR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21120" y="5639040"/>
              <a:ext cx="174096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CÉAN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SUE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657600" y="1981080"/>
            <a:ext cx="6094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124080"/>
            <a:ext cx="725400" cy="459000"/>
          </a:xfrm>
          <a:custGeom>
            <a:avLst/>
            <a:gdLst/>
            <a:ahLst/>
            <a:rect l="l" t="t" r="r" b="b"/>
            <a:pathLst>
              <a:path w="457" h="289">
                <a:moveTo>
                  <a:pt x="0" y="228"/>
                </a:moveTo>
                <a:lnTo>
                  <a:pt x="24" y="180"/>
                </a:lnTo>
                <a:lnTo>
                  <a:pt x="24" y="144"/>
                </a:lnTo>
                <a:lnTo>
                  <a:pt x="60" y="120"/>
                </a:lnTo>
                <a:lnTo>
                  <a:pt x="72" y="84"/>
                </a:lnTo>
                <a:lnTo>
                  <a:pt x="96" y="48"/>
                </a:lnTo>
                <a:lnTo>
                  <a:pt x="132" y="48"/>
                </a:lnTo>
                <a:lnTo>
                  <a:pt x="168" y="48"/>
                </a:lnTo>
                <a:lnTo>
                  <a:pt x="204" y="48"/>
                </a:lnTo>
                <a:lnTo>
                  <a:pt x="240" y="36"/>
                </a:lnTo>
                <a:lnTo>
                  <a:pt x="276" y="12"/>
                </a:lnTo>
                <a:lnTo>
                  <a:pt x="312" y="0"/>
                </a:lnTo>
                <a:lnTo>
                  <a:pt x="336" y="36"/>
                </a:lnTo>
                <a:lnTo>
                  <a:pt x="372" y="48"/>
                </a:lnTo>
                <a:lnTo>
                  <a:pt x="408" y="60"/>
                </a:lnTo>
                <a:lnTo>
                  <a:pt x="408" y="96"/>
                </a:lnTo>
                <a:lnTo>
                  <a:pt x="420" y="132"/>
                </a:lnTo>
                <a:lnTo>
                  <a:pt x="444" y="168"/>
                </a:lnTo>
                <a:lnTo>
                  <a:pt x="456" y="204"/>
                </a:lnTo>
                <a:lnTo>
                  <a:pt x="444" y="240"/>
                </a:lnTo>
                <a:lnTo>
                  <a:pt x="444" y="276"/>
                </a:lnTo>
                <a:lnTo>
                  <a:pt x="408" y="288"/>
                </a:lnTo>
                <a:lnTo>
                  <a:pt x="372" y="288"/>
                </a:lnTo>
                <a:lnTo>
                  <a:pt x="336" y="288"/>
                </a:lnTo>
                <a:lnTo>
                  <a:pt x="300" y="288"/>
                </a:lnTo>
                <a:lnTo>
                  <a:pt x="300" y="252"/>
                </a:lnTo>
                <a:lnTo>
                  <a:pt x="264" y="276"/>
                </a:lnTo>
                <a:lnTo>
                  <a:pt x="228" y="276"/>
                </a:lnTo>
                <a:lnTo>
                  <a:pt x="192" y="288"/>
                </a:lnTo>
                <a:lnTo>
                  <a:pt x="180" y="252"/>
                </a:lnTo>
                <a:lnTo>
                  <a:pt x="144" y="276"/>
                </a:lnTo>
                <a:lnTo>
                  <a:pt x="108" y="276"/>
                </a:lnTo>
                <a:lnTo>
                  <a:pt x="84" y="240"/>
                </a:lnTo>
                <a:lnTo>
                  <a:pt x="48" y="240"/>
                </a:lnTo>
                <a:lnTo>
                  <a:pt x="0" y="228"/>
                </a:lnTo>
                <a:lnTo>
                  <a:pt x="0" y="228"/>
                </a:lnTo>
              </a:path>
            </a:pathLst>
          </a:custGeom>
          <a:solidFill>
            <a:srgbClr val="99cc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777240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0"/>
            <a:ext cx="85345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Longitud de onda es inversamente proporcional a la 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971800" y="2971800"/>
            <a:ext cx="4483080" cy="1892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40120" y="2921040"/>
            <a:ext cx="4419360" cy="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9860000">
            <a:off x="3580920" y="990720"/>
            <a:ext cx="1282680" cy="2033640"/>
          </a:xfrm>
          <a:prstGeom prst="downArrow">
            <a:avLst>
              <a:gd name="adj1" fmla="val 75009"/>
              <a:gd name="adj2" fmla="val 7928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280000">
            <a:off x="5155920" y="870120"/>
            <a:ext cx="901800" cy="2044440"/>
          </a:xfrm>
          <a:prstGeom prst="upArrow">
            <a:avLst>
              <a:gd name="adj1" fmla="val 75009"/>
              <a:gd name="adj2" fmla="val 113343"/>
            </a:avLst>
          </a:prstGeom>
          <a:solidFill>
            <a:srgbClr val="f5c80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57200" y="344520"/>
            <a:ext cx="4989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29000" y="573120"/>
            <a:ext cx="7228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99080" y="3156120"/>
            <a:ext cx="673200" cy="901440"/>
          </a:xfrm>
          <a:prstGeom prst="downArrow">
            <a:avLst>
              <a:gd name="adj1" fmla="val 50000"/>
              <a:gd name="adj2" fmla="val 66958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21360" y="1835280"/>
            <a:ext cx="706680" cy="1049040"/>
          </a:xfrm>
          <a:custGeom>
            <a:avLst/>
            <a:gdLst/>
            <a:ahLst/>
            <a:rect l="l" t="t" r="r" b="b"/>
            <a:pathLst>
              <a:path w="445" h="661">
                <a:moveTo>
                  <a:pt x="84" y="588"/>
                </a:moveTo>
                <a:lnTo>
                  <a:pt x="48" y="540"/>
                </a:lnTo>
                <a:lnTo>
                  <a:pt x="48" y="504"/>
                </a:lnTo>
                <a:lnTo>
                  <a:pt x="60" y="468"/>
                </a:lnTo>
                <a:lnTo>
                  <a:pt x="72" y="432"/>
                </a:lnTo>
                <a:lnTo>
                  <a:pt x="96" y="396"/>
                </a:lnTo>
                <a:lnTo>
                  <a:pt x="132" y="396"/>
                </a:lnTo>
                <a:lnTo>
                  <a:pt x="168" y="396"/>
                </a:lnTo>
                <a:lnTo>
                  <a:pt x="180" y="360"/>
                </a:lnTo>
                <a:lnTo>
                  <a:pt x="144" y="348"/>
                </a:lnTo>
                <a:lnTo>
                  <a:pt x="108" y="348"/>
                </a:lnTo>
                <a:lnTo>
                  <a:pt x="72" y="348"/>
                </a:lnTo>
                <a:lnTo>
                  <a:pt x="48" y="312"/>
                </a:lnTo>
                <a:lnTo>
                  <a:pt x="84" y="300"/>
                </a:lnTo>
                <a:lnTo>
                  <a:pt x="120" y="288"/>
                </a:lnTo>
                <a:lnTo>
                  <a:pt x="132" y="252"/>
                </a:lnTo>
                <a:lnTo>
                  <a:pt x="144" y="216"/>
                </a:lnTo>
                <a:lnTo>
                  <a:pt x="108" y="216"/>
                </a:lnTo>
                <a:lnTo>
                  <a:pt x="72" y="216"/>
                </a:lnTo>
                <a:lnTo>
                  <a:pt x="36" y="216"/>
                </a:lnTo>
                <a:lnTo>
                  <a:pt x="0" y="216"/>
                </a:lnTo>
                <a:lnTo>
                  <a:pt x="36" y="192"/>
                </a:lnTo>
                <a:lnTo>
                  <a:pt x="72" y="168"/>
                </a:lnTo>
                <a:lnTo>
                  <a:pt x="108" y="144"/>
                </a:lnTo>
                <a:lnTo>
                  <a:pt x="132" y="108"/>
                </a:lnTo>
                <a:lnTo>
                  <a:pt x="168" y="84"/>
                </a:lnTo>
                <a:lnTo>
                  <a:pt x="204" y="60"/>
                </a:lnTo>
                <a:lnTo>
                  <a:pt x="228" y="24"/>
                </a:lnTo>
                <a:lnTo>
                  <a:pt x="264" y="0"/>
                </a:lnTo>
                <a:lnTo>
                  <a:pt x="300" y="12"/>
                </a:lnTo>
                <a:lnTo>
                  <a:pt x="324" y="48"/>
                </a:lnTo>
                <a:lnTo>
                  <a:pt x="348" y="84"/>
                </a:lnTo>
                <a:lnTo>
                  <a:pt x="372" y="120"/>
                </a:lnTo>
                <a:lnTo>
                  <a:pt x="396" y="156"/>
                </a:lnTo>
                <a:lnTo>
                  <a:pt x="432" y="180"/>
                </a:lnTo>
                <a:lnTo>
                  <a:pt x="444" y="216"/>
                </a:lnTo>
                <a:lnTo>
                  <a:pt x="408" y="216"/>
                </a:lnTo>
                <a:lnTo>
                  <a:pt x="372" y="216"/>
                </a:lnTo>
                <a:lnTo>
                  <a:pt x="336" y="216"/>
                </a:lnTo>
                <a:lnTo>
                  <a:pt x="300" y="216"/>
                </a:lnTo>
                <a:lnTo>
                  <a:pt x="300" y="252"/>
                </a:lnTo>
                <a:lnTo>
                  <a:pt x="264" y="264"/>
                </a:lnTo>
                <a:lnTo>
                  <a:pt x="240" y="300"/>
                </a:lnTo>
                <a:lnTo>
                  <a:pt x="276" y="336"/>
                </a:lnTo>
                <a:lnTo>
                  <a:pt x="300" y="372"/>
                </a:lnTo>
                <a:lnTo>
                  <a:pt x="312" y="408"/>
                </a:lnTo>
                <a:lnTo>
                  <a:pt x="276" y="432"/>
                </a:lnTo>
                <a:lnTo>
                  <a:pt x="240" y="444"/>
                </a:lnTo>
                <a:lnTo>
                  <a:pt x="204" y="456"/>
                </a:lnTo>
                <a:lnTo>
                  <a:pt x="192" y="492"/>
                </a:lnTo>
                <a:lnTo>
                  <a:pt x="192" y="528"/>
                </a:lnTo>
                <a:lnTo>
                  <a:pt x="192" y="564"/>
                </a:lnTo>
                <a:lnTo>
                  <a:pt x="204" y="600"/>
                </a:lnTo>
                <a:lnTo>
                  <a:pt x="204" y="636"/>
                </a:lnTo>
                <a:lnTo>
                  <a:pt x="168" y="660"/>
                </a:lnTo>
                <a:lnTo>
                  <a:pt x="132" y="660"/>
                </a:lnTo>
                <a:lnTo>
                  <a:pt x="96" y="660"/>
                </a:lnTo>
                <a:lnTo>
                  <a:pt x="84" y="588"/>
                </a:lnTo>
                <a:lnTo>
                  <a:pt x="84" y="588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6920" y="4154400"/>
            <a:ext cx="129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(1-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)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8680" y="3429000"/>
            <a:ext cx="22971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n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=(1-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)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-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1760" y="4572000"/>
            <a:ext cx="1625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: albe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90360" y="5257800"/>
            <a:ext cx="117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0&lt;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&lt;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5410080"/>
            <a:ext cx="4013280" cy="94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Aguas Profundas 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~ 0,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Nieve                        0,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399080" y="1295280"/>
            <a:ext cx="5324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74440" y="604800"/>
            <a:ext cx="1549080" cy="519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Emis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26200" y="1290600"/>
            <a:ext cx="4918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e = e 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T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  (Stefan-Boltzm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97760" y="1976400"/>
            <a:ext cx="219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e: emisiv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53480" y="2509920"/>
            <a:ext cx="52020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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constante de Stefan-Boltz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= 5,67 *10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-8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W/(m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T: temperatura absolu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75160" y="3881520"/>
            <a:ext cx="43837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Cuerpo negro   e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Superficies de agua e~=0,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3T15:49:17Z</dcterms:created>
  <dc:creator>Iñigo Otondo</dc:creator>
  <dc:description/>
  <dc:language>en-US</dc:language>
  <cp:lastModifiedBy>xv</cp:lastModifiedBy>
  <dcterms:modified xsi:type="dcterms:W3CDTF">2006-03-17T15:53:26Z</dcterms:modified>
  <cp:revision>19</cp:revision>
  <dc:subject/>
  <dc:title>Proyecto WMS – MM5 Cuenca del Mataquito</dc:title>
</cp:coreProperties>
</file>