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6E0-78FE-4B62-83D7-8663F19B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1D8-43D6-4848-BCD3-3F5FE11D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2CB-3B83-49D7-A41B-90E8FF07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330-0704-4D0B-8854-3BFC3740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F0D-6B41-44B0-A631-81F5B533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286-3206-4C49-ADA6-03672FD6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22E-1696-4544-8298-7171DD75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5CC-838F-41E2-A009-8AB65591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950-7BB1-4F2A-A34B-960312A9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C71-9540-4A24-851C-ECDC889B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165-089C-4E43-839E-6E1CEB03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760-14DD-4C75-81D6-B3CD5833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732B-09E1-456C-B42E-14CE26977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-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6-03-17T15:53:26Z</dcterms:modified>
  <cp:revision>19</cp:revision>
  <dc:subject/>
  <dc:title>Proyecto WMS – MM5 Cuenca del Mataquito</dc:title>
</cp:coreProperties>
</file>