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AC3C-5934-44C4-8098-40693482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4B3B-7E18-43B0-AF02-25D14E42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DDA8-3F1A-4BE8-B96C-296FCED3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5762-2E61-473B-A04F-0275B8FE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4B7-E058-499D-A84F-354ED4DC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58A2-0FD7-49D8-BEE7-AC1160F0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7B63-B11D-414C-BCA9-5D5B98AA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8BF0-CF17-45E2-AB52-05CE5311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5E8-6072-4E08-A670-52F87952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5839-375A-403B-8662-88A1E9EF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AC1-8A01-4769-8582-F8D92047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475E-CF7C-4050-A0ED-329A3517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676F-1DA2-4792-B9D7-4AD68B5C5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eography.uoregon.edu/envchange/clim_animations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-9360"/>
            <a:ext cx="867564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ADI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449360" y="1523880"/>
            <a:ext cx="6406200" cy="4527000"/>
            <a:chOff x="1449360" y="1523880"/>
            <a:chExt cx="6406200" cy="4527000"/>
          </a:xfrm>
        </p:grpSpPr>
        <p:sp>
          <p:nvSpPr>
            <p:cNvPr id="197" name=""/>
            <p:cNvSpPr/>
            <p:nvPr/>
          </p:nvSpPr>
          <p:spPr>
            <a:xfrm>
              <a:off x="1449360" y="510516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2720" y="5090760"/>
              <a:ext cx="4952520" cy="0"/>
            </a:xfrm>
            <a:prstGeom prst="line">
              <a:avLst/>
            </a:prstGeom>
            <a:ln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803400" y="227160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5200" y="3492360"/>
              <a:ext cx="1065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9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97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251320" y="2423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927480" y="2423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331040" y="44046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949800" y="47098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54440" y="3147840"/>
              <a:ext cx="858600" cy="477720"/>
            </a:xfrm>
            <a:custGeom>
              <a:avLst/>
              <a:gdLst/>
              <a:ahLst/>
              <a:rect l="l" t="t" r="r" b="b"/>
              <a:pathLst>
                <a:path w="541" h="301">
                  <a:moveTo>
                    <a:pt x="24" y="264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36" y="144"/>
                  </a:lnTo>
                  <a:lnTo>
                    <a:pt x="72" y="120"/>
                  </a:lnTo>
                  <a:lnTo>
                    <a:pt x="132" y="108"/>
                  </a:lnTo>
                  <a:lnTo>
                    <a:pt x="168" y="96"/>
                  </a:lnTo>
                  <a:lnTo>
                    <a:pt x="180" y="60"/>
                  </a:lnTo>
                  <a:lnTo>
                    <a:pt x="192" y="24"/>
                  </a:lnTo>
                  <a:lnTo>
                    <a:pt x="228" y="12"/>
                  </a:lnTo>
                  <a:lnTo>
                    <a:pt x="264" y="0"/>
                  </a:lnTo>
                  <a:lnTo>
                    <a:pt x="300" y="12"/>
                  </a:lnTo>
                  <a:lnTo>
                    <a:pt x="336" y="12"/>
                  </a:lnTo>
                  <a:lnTo>
                    <a:pt x="372" y="12"/>
                  </a:lnTo>
                  <a:lnTo>
                    <a:pt x="384" y="48"/>
                  </a:lnTo>
                  <a:lnTo>
                    <a:pt x="420" y="48"/>
                  </a:lnTo>
                  <a:lnTo>
                    <a:pt x="456" y="60"/>
                  </a:lnTo>
                  <a:lnTo>
                    <a:pt x="480" y="96"/>
                  </a:lnTo>
                  <a:lnTo>
                    <a:pt x="492" y="132"/>
                  </a:lnTo>
                  <a:lnTo>
                    <a:pt x="516" y="168"/>
                  </a:lnTo>
                  <a:lnTo>
                    <a:pt x="540" y="204"/>
                  </a:lnTo>
                  <a:lnTo>
                    <a:pt x="504" y="228"/>
                  </a:lnTo>
                  <a:lnTo>
                    <a:pt x="420" y="264"/>
                  </a:lnTo>
                  <a:lnTo>
                    <a:pt x="372" y="276"/>
                  </a:lnTo>
                  <a:lnTo>
                    <a:pt x="336" y="276"/>
                  </a:lnTo>
                  <a:lnTo>
                    <a:pt x="300" y="276"/>
                  </a:lnTo>
                  <a:lnTo>
                    <a:pt x="204" y="300"/>
                  </a:lnTo>
                  <a:lnTo>
                    <a:pt x="168" y="300"/>
                  </a:lnTo>
                  <a:lnTo>
                    <a:pt x="132" y="288"/>
                  </a:lnTo>
                  <a:lnTo>
                    <a:pt x="96" y="288"/>
                  </a:lnTo>
                  <a:lnTo>
                    <a:pt x="24" y="264"/>
                  </a:lnTo>
                  <a:lnTo>
                    <a:pt x="24" y="264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71080" y="3416040"/>
              <a:ext cx="45576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5" y="0"/>
                  </a:moveTo>
                  <a:arcTo wR="10800" hR="10800" stAng="-5423873" swAng="54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5" y="0"/>
                  </a:moveTo>
                  <a:arcTo wR="10800" hR="10800" stAng="-5423873" swAng="54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29680" y="205704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05800" y="19810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81920" y="19047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28520" y="152388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LARG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24440" y="4495680"/>
              <a:ext cx="1764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M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51600" y="51814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80960" y="50288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3760" y="510516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06480" y="2742840"/>
              <a:ext cx="179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78960" y="20570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82800" y="4130640"/>
              <a:ext cx="16909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Fluj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calor Sen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209680" y="2743200"/>
            <a:ext cx="495324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27432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3429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04920"/>
            <a:ext cx="2743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DIACIÓN E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3962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lujo de calor la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9436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mbios de tempera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715000" y="480024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6324480"/>
            <a:ext cx="30639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Por evaporación o condens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8001000" y="4647960"/>
            <a:ext cx="228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077840"/>
            <a:ext cx="70866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766960" y="452520"/>
            <a:ext cx="195912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8920" y="1260360"/>
            <a:ext cx="7757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lacas o Anillos de Metal conectados a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tegidos por cúpula de vidrio o plástico 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ferencia de temperatura  debido a difer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flectividad      fuerza electromotriz en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se registra con mecanismo inscri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olarímetros, actinógrafos o pirohelióme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2514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3025800" cy="1981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H="1">
            <a:off x="2742840" y="388620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019920" y="3833640"/>
            <a:ext cx="3124080" cy="3024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334120" y="38098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11800" cy="2609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324480" y="457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OLARÍMETRO o PIRAN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3671400">
            <a:off x="5334120" y="609120"/>
            <a:ext cx="304560" cy="106704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2360" y="3657600"/>
            <a:ext cx="5967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ubosidad:% de cielo cubierto de n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nsolación: intervalo de tiempo en que el s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o está cub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1000" y="5075280"/>
            <a:ext cx="208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HELIÓGRA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74800" y="4594320"/>
            <a:ext cx="520560" cy="52056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0680" y="5532480"/>
            <a:ext cx="306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RADIÓMETROS N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640560" y="5173560"/>
          <a:ext cx="1376280" cy="12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40560" y="5173560"/>
                    <a:ext cx="137628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821040" cy="4170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38080" y="49528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HELIÓGRA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9528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66680" y="1066680"/>
            <a:ext cx="7543800" cy="397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VARIACIÓN DIARIA Y ANUAL (Posición sol y nubos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46400" y="1467000"/>
            <a:ext cx="206280" cy="819000"/>
          </a:xfrm>
          <a:prstGeom prst="downArrow">
            <a:avLst>
              <a:gd name="adj1" fmla="val 50000"/>
              <a:gd name="adj2" fmla="val 19853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438280"/>
            <a:ext cx="131472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Sinusoi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9620000">
            <a:off x="4555800" y="1479240"/>
            <a:ext cx="368280" cy="431640"/>
          </a:xfrm>
          <a:prstGeom prst="downArrow">
            <a:avLst>
              <a:gd name="adj1" fmla="val 50000"/>
              <a:gd name="adj2" fmla="val 586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1905120"/>
            <a:ext cx="262548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latitud y época del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84960" y="3657600"/>
            <a:ext cx="8119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mportante en estudios de evapotranspiración, derret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de nieves y hielos y de temperaturas de su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124080" cy="2162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514680" cy="2158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04920" y="3675240"/>
            <a:ext cx="4038480" cy="2379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4724280" y="3602160"/>
            <a:ext cx="3505320" cy="2436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95280" y="228600"/>
            <a:ext cx="4800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ación solar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42920" y="1204920"/>
            <a:ext cx="70581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71720" y="1409760"/>
            <a:ext cx="7000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4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916280" y="2735280"/>
            <a:ext cx="5313240" cy="1387440"/>
            <a:chOff x="1916280" y="2735280"/>
            <a:chExt cx="5313240" cy="1387440"/>
          </a:xfrm>
        </p:grpSpPr>
        <p:sp>
          <p:nvSpPr>
            <p:cNvPr id="262" name=""/>
            <p:cNvSpPr/>
            <p:nvPr/>
          </p:nvSpPr>
          <p:spPr>
            <a:xfrm>
              <a:off x="1916280" y="2735280"/>
              <a:ext cx="5313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16280" y="2735280"/>
              <a:ext cx="531324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7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" descr="Net Short-Wave Radi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397160"/>
            <a:ext cx="4495680" cy="3487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98280" y="5562720"/>
            <a:ext cx="611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geography.uoregon.edu/envchange/clim_animatio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838080"/>
            <a:ext cx="78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Radiación Solar :  Se puede definir como la energía radiante producida por el s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Temperatura sol es 6000º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971800"/>
            <a:ext cx="7848360" cy="120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 cal=4,186 J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adiación por unidad de área: [cal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]=[l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asa de radiación: [ly/día]; [ly/mi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876920"/>
            <a:ext cx="8610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ierra recibe fracción (2*10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) de la radiación solar emitida por unidad de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828800" y="1371600"/>
            <a:ext cx="2133720" cy="1905120"/>
            <a:chOff x="1828800" y="1371600"/>
            <a:chExt cx="2133720" cy="1905120"/>
          </a:xfrm>
        </p:grpSpPr>
        <p:sp>
          <p:nvSpPr>
            <p:cNvPr id="47" name=""/>
            <p:cNvSpPr/>
            <p:nvPr/>
          </p:nvSpPr>
          <p:spPr>
            <a:xfrm>
              <a:off x="1828800" y="1371600"/>
              <a:ext cx="2133720" cy="1905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2362320" y="1752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73400" y="1676520"/>
              <a:ext cx="654120" cy="58392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65320" y="2368440"/>
              <a:ext cx="652680" cy="5922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92480" y="2367000"/>
              <a:ext cx="587160" cy="65412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90880" y="1689120"/>
              <a:ext cx="576360" cy="70632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447920" y="1143000"/>
            <a:ext cx="6858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828440" y="13716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12680" y="-68400"/>
            <a:ext cx="988920" cy="795600"/>
          </a:xfrm>
          <a:custGeom>
            <a:avLst/>
            <a:gdLst/>
            <a:ahLst/>
            <a:rect l="l" t="t" r="r" b="b"/>
            <a:pathLst>
              <a:path w="623" h="501">
                <a:moveTo>
                  <a:pt x="537" y="43"/>
                </a:moveTo>
                <a:cubicBezTo>
                  <a:pt x="554" y="70"/>
                  <a:pt x="565" y="88"/>
                  <a:pt x="592" y="106"/>
                </a:cubicBezTo>
                <a:cubicBezTo>
                  <a:pt x="600" y="129"/>
                  <a:pt x="612" y="147"/>
                  <a:pt x="623" y="169"/>
                </a:cubicBezTo>
                <a:lnTo>
                  <a:pt x="503" y="147"/>
                </a:lnTo>
                <a:lnTo>
                  <a:pt x="551" y="291"/>
                </a:lnTo>
                <a:lnTo>
                  <a:pt x="407" y="243"/>
                </a:lnTo>
                <a:lnTo>
                  <a:pt x="359" y="387"/>
                </a:lnTo>
                <a:lnTo>
                  <a:pt x="263" y="339"/>
                </a:lnTo>
                <a:lnTo>
                  <a:pt x="263" y="435"/>
                </a:lnTo>
                <a:lnTo>
                  <a:pt x="167" y="387"/>
                </a:lnTo>
                <a:lnTo>
                  <a:pt x="79" y="501"/>
                </a:lnTo>
                <a:lnTo>
                  <a:pt x="63" y="351"/>
                </a:lnTo>
                <a:cubicBezTo>
                  <a:pt x="94" y="302"/>
                  <a:pt x="0" y="102"/>
                  <a:pt x="79" y="51"/>
                </a:cubicBezTo>
                <a:cubicBezTo>
                  <a:pt x="158" y="0"/>
                  <a:pt x="442" y="45"/>
                  <a:pt x="537" y="4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762120"/>
            <a:ext cx="495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onstante Solar W</a:t>
            </a:r>
            <a:r>
              <a:rPr b="1" lang="es-ES_tradnl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=1,94 cal/(cm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733920"/>
            <a:ext cx="708660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eclinación solar: latitud a la cual el eje Tierra –Sol pasa perpendicular a plano tangente en dicho 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876920"/>
            <a:ext cx="99072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648320" y="5867280"/>
            <a:ext cx="533160" cy="533520"/>
            <a:chOff x="4648320" y="5867280"/>
            <a:chExt cx="533160" cy="533520"/>
          </a:xfrm>
        </p:grpSpPr>
        <p:sp>
          <p:nvSpPr>
            <p:cNvPr id="60" name=""/>
            <p:cNvSpPr/>
            <p:nvPr/>
          </p:nvSpPr>
          <p:spPr>
            <a:xfrm>
              <a:off x="4648320" y="5867280"/>
              <a:ext cx="533160" cy="5335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781520" y="5973840"/>
              <a:ext cx="2854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759200" y="5952600"/>
              <a:ext cx="163440" cy="16344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32360" y="6146280"/>
              <a:ext cx="163080" cy="1656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64240" y="6145920"/>
              <a:ext cx="146520" cy="18324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38840" y="5956200"/>
              <a:ext cx="144000" cy="19764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905120" y="5410080"/>
            <a:ext cx="3047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800600"/>
            <a:ext cx="556236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asa de Radiación Incidente por unidad de área, en tope de atmósf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781680" y="5356080"/>
                <a:ext cx="1905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791320" y="6477120"/>
            <a:ext cx="3047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81680" y="5714640"/>
            <a:ext cx="1600200" cy="7621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133360" y="58672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647960" y="63244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838800">
            <a:off x="2971440" y="617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5943600"/>
            <a:ext cx="24386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00400" y="1905120"/>
            <a:ext cx="144792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33920" y="2438280"/>
            <a:ext cx="457200" cy="471600"/>
            <a:chOff x="3733920" y="2438280"/>
            <a:chExt cx="457200" cy="471600"/>
          </a:xfrm>
        </p:grpSpPr>
        <p:sp>
          <p:nvSpPr>
            <p:cNvPr id="77" name=""/>
            <p:cNvSpPr/>
            <p:nvPr/>
          </p:nvSpPr>
          <p:spPr>
            <a:xfrm>
              <a:off x="3733920" y="2438280"/>
              <a:ext cx="457200" cy="457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5560" y="2540160"/>
              <a:ext cx="222480" cy="36972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9625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62520" y="22860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1981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7242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3434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438280"/>
            <a:ext cx="104760" cy="228600"/>
          </a:xfrm>
          <a:custGeom>
            <a:avLst/>
            <a:gdLst/>
            <a:ahLst/>
            <a:rect l="l" t="t" r="r" b="b"/>
            <a:pathLst>
              <a:path w="66" h="144">
                <a:moveTo>
                  <a:pt x="48" y="144"/>
                </a:moveTo>
                <a:cubicBezTo>
                  <a:pt x="50" y="132"/>
                  <a:pt x="66" y="98"/>
                  <a:pt x="58" y="74"/>
                </a:cubicBezTo>
                <a:cubicBezTo>
                  <a:pt x="50" y="50"/>
                  <a:pt x="12" y="1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59320" y="1981080"/>
            <a:ext cx="42840" cy="123840"/>
          </a:xfrm>
          <a:custGeom>
            <a:avLst/>
            <a:gdLst/>
            <a:ahLst/>
            <a:rect l="l" t="t" r="r" b="b"/>
            <a:pathLst>
              <a:path w="27" h="78">
                <a:moveTo>
                  <a:pt x="0" y="78"/>
                </a:moveTo>
                <a:cubicBezTo>
                  <a:pt x="5" y="73"/>
                  <a:pt x="19" y="61"/>
                  <a:pt x="23" y="48"/>
                </a:cubicBezTo>
                <a:cubicBezTo>
                  <a:pt x="27" y="35"/>
                  <a:pt x="27" y="20"/>
                  <a:pt x="2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273400"/>
            <a:ext cx="1522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4"/>
                  <a:pt x="96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266720" y="2590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648320" y="236196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17524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ope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193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3920" y="198108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23920" y="2514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380880"/>
            <a:ext cx="3276720" cy="368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LST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a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S (Trópico de Capricorn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Sur recibe luz permanente mientras Polo Norte no ve el s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ier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N (Trópico de Cán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Norte recibe luz permanente y polo Sur No v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4343400"/>
            <a:ext cx="144756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638680" y="4876920"/>
            <a:ext cx="457200" cy="470880"/>
            <a:chOff x="5638680" y="4876920"/>
            <a:chExt cx="457200" cy="470880"/>
          </a:xfrm>
        </p:grpSpPr>
        <p:sp>
          <p:nvSpPr>
            <p:cNvPr id="99" name=""/>
            <p:cNvSpPr/>
            <p:nvPr/>
          </p:nvSpPr>
          <p:spPr>
            <a:xfrm>
              <a:off x="5638680" y="4876920"/>
              <a:ext cx="457200" cy="4568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00320" y="4978440"/>
              <a:ext cx="222480" cy="36936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94360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629040" y="4800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629040" y="53341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55308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QUINOCCIOS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0 (ecu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724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misferios tienen exactamente 12 hrs de día y 12 de n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457200"/>
            <a:ext cx="1524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1295280"/>
                <a:ext cx="62928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φ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638680" y="2209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Ángulo horario sol (0 a 360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086600" y="18288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95280" y="3048120"/>
                <a:ext cx="5664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2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d>
                    <m:m>
                      <m:mr>
                        <m:e/>
                        <m:e/>
                      </m:mr>
                    </m:m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5334120" y="4114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ía juliano  (1 a 3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105160" y="3733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90720" y="4876920"/>
                <a:ext cx="6172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352680" y="4572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0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57150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o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047760" y="54860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172200"/>
            <a:ext cx="30481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Tiempo estándar en horas (0 a 23h50`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438280" y="57150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6324480"/>
            <a:ext cx="39625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longitud local y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5334120"/>
            <a:ext cx="609480" cy="914400"/>
          </a:xfrm>
          <a:custGeom>
            <a:avLst/>
            <a:gdLst/>
            <a:ahLst/>
            <a:rect l="l" t="t" r="r" b="b"/>
            <a:pathLst>
              <a:path w="415" h="545">
                <a:moveTo>
                  <a:pt x="373" y="545"/>
                </a:moveTo>
                <a:cubicBezTo>
                  <a:pt x="374" y="502"/>
                  <a:pt x="415" y="353"/>
                  <a:pt x="389" y="285"/>
                </a:cubicBezTo>
                <a:cubicBezTo>
                  <a:pt x="363" y="217"/>
                  <a:pt x="280" y="183"/>
                  <a:pt x="215" y="135"/>
                </a:cubicBezTo>
                <a:cubicBezTo>
                  <a:pt x="150" y="87"/>
                  <a:pt x="45" y="2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5791320"/>
            <a:ext cx="3048120" cy="45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tiempo solar real y tiempo solar medio (</a:t>
            </a:r>
            <a:r>
              <a:rPr b="1" lang="es-ES_tradnl" sz="1200" spc="-1" strike="noStrike">
                <a:solidFill>
                  <a:srgbClr val="333399"/>
                </a:solidFill>
                <a:latin typeface="Arial"/>
                <a:ea typeface="Arial"/>
              </a:rPr>
              <a:t>≈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3244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14400" y="533520"/>
                <a:ext cx="2724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029200" y="380880"/>
            <a:ext cx="35053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-1 para longitud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Bradley Hand ITC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+1 para longitud 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17524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137160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590560" y="121896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429000" y="1219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609480" y="23623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ación incidente en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66880" y="3581280"/>
                <a:ext cx="226080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4267080" y="2895480"/>
            <a:ext cx="3276720" cy="1067040"/>
            <a:chOff x="4267080" y="2895480"/>
            <a:chExt cx="3276720" cy="1067040"/>
          </a:xfrm>
        </p:grpSpPr>
        <p:sp>
          <p:nvSpPr>
            <p:cNvPr id="135" name=""/>
            <p:cNvSpPr/>
            <p:nvPr/>
          </p:nvSpPr>
          <p:spPr>
            <a:xfrm>
              <a:off x="4343400" y="2895480"/>
              <a:ext cx="3200400" cy="8323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Factor de turbiedad del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2 cielo claro de montañ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4 a 5 smog área urb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267080" y="37339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19360" y="4266720"/>
            <a:ext cx="4496040" cy="505440"/>
            <a:chOff x="4419360" y="4266720"/>
            <a:chExt cx="4496040" cy="505440"/>
          </a:xfrm>
        </p:grpSpPr>
        <p:sp>
          <p:nvSpPr>
            <p:cNvPr id="138" name=""/>
            <p:cNvSpPr/>
            <p:nvPr/>
          </p:nvSpPr>
          <p:spPr>
            <a:xfrm>
              <a:off x="4495680" y="4495680"/>
              <a:ext cx="441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Coeficiente de dispersión molecu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419360" y="4266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6680" y="5029200"/>
            <a:ext cx="7696440" cy="627120"/>
            <a:chOff x="1066680" y="5029200"/>
            <a:chExt cx="7696440" cy="62712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066680" y="5105520"/>
                  <a:ext cx="38862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28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5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5181480" y="5029200"/>
              <a:ext cx="3581640" cy="276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pesor relativo masa de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952520" y="52578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600200" y="5889600"/>
                <a:ext cx="51814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077320" y="59436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221120" y="685800"/>
            <a:ext cx="6872040" cy="5898960"/>
            <a:chOff x="1221120" y="685800"/>
            <a:chExt cx="6872040" cy="5898960"/>
          </a:xfrm>
        </p:grpSpPr>
        <p:sp>
          <p:nvSpPr>
            <p:cNvPr id="147" name=""/>
            <p:cNvSpPr/>
            <p:nvPr/>
          </p:nvSpPr>
          <p:spPr>
            <a:xfrm>
              <a:off x="2302200" y="1967040"/>
              <a:ext cx="57909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1640" y="8384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520" y="1219320"/>
              <a:ext cx="1277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Ri=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9000" y="2057400"/>
              <a:ext cx="1791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800" y="196704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97480" y="47102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3800" y="1967040"/>
              <a:ext cx="83808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25880" y="5319720"/>
              <a:ext cx="5867280" cy="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11880" y="425268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121360" y="1662120"/>
              <a:ext cx="91440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283280" y="1585800"/>
              <a:ext cx="6858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73800" y="1967040"/>
              <a:ext cx="4572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131000" y="1661760"/>
              <a:ext cx="3045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5880" y="3814920"/>
              <a:ext cx="725400" cy="458640"/>
            </a:xfrm>
            <a:custGeom>
              <a:avLst/>
              <a:gdLst/>
              <a:ahLst/>
              <a:rect l="l" t="t" r="r" b="b"/>
              <a:pathLst>
                <a:path w="457" h="289">
                  <a:moveTo>
                    <a:pt x="0" y="228"/>
                  </a:moveTo>
                  <a:lnTo>
                    <a:pt x="24" y="180"/>
                  </a:lnTo>
                  <a:lnTo>
                    <a:pt x="24" y="144"/>
                  </a:lnTo>
                  <a:lnTo>
                    <a:pt x="60" y="120"/>
                  </a:lnTo>
                  <a:lnTo>
                    <a:pt x="72" y="84"/>
                  </a:lnTo>
                  <a:lnTo>
                    <a:pt x="96" y="48"/>
                  </a:lnTo>
                  <a:lnTo>
                    <a:pt x="132" y="48"/>
                  </a:lnTo>
                  <a:lnTo>
                    <a:pt x="168" y="48"/>
                  </a:lnTo>
                  <a:lnTo>
                    <a:pt x="204" y="48"/>
                  </a:lnTo>
                  <a:lnTo>
                    <a:pt x="240" y="36"/>
                  </a:lnTo>
                  <a:lnTo>
                    <a:pt x="276" y="12"/>
                  </a:lnTo>
                  <a:lnTo>
                    <a:pt x="312" y="0"/>
                  </a:lnTo>
                  <a:lnTo>
                    <a:pt x="336" y="36"/>
                  </a:lnTo>
                  <a:lnTo>
                    <a:pt x="372" y="48"/>
                  </a:lnTo>
                  <a:lnTo>
                    <a:pt x="408" y="60"/>
                  </a:lnTo>
                  <a:lnTo>
                    <a:pt x="408" y="96"/>
                  </a:lnTo>
                  <a:lnTo>
                    <a:pt x="420" y="132"/>
                  </a:lnTo>
                  <a:lnTo>
                    <a:pt x="444" y="168"/>
                  </a:lnTo>
                  <a:lnTo>
                    <a:pt x="456" y="204"/>
                  </a:lnTo>
                  <a:lnTo>
                    <a:pt x="444" y="240"/>
                  </a:lnTo>
                  <a:lnTo>
                    <a:pt x="444" y="276"/>
                  </a:lnTo>
                  <a:lnTo>
                    <a:pt x="408" y="288"/>
                  </a:lnTo>
                  <a:lnTo>
                    <a:pt x="372" y="288"/>
                  </a:lnTo>
                  <a:lnTo>
                    <a:pt x="336" y="288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264" y="276"/>
                  </a:lnTo>
                  <a:lnTo>
                    <a:pt x="228" y="276"/>
                  </a:lnTo>
                  <a:lnTo>
                    <a:pt x="192" y="288"/>
                  </a:lnTo>
                  <a:lnTo>
                    <a:pt x="180" y="252"/>
                  </a:lnTo>
                  <a:lnTo>
                    <a:pt x="144" y="276"/>
                  </a:lnTo>
                  <a:lnTo>
                    <a:pt x="108" y="276"/>
                  </a:lnTo>
                  <a:lnTo>
                    <a:pt x="84" y="240"/>
                  </a:lnTo>
                  <a:lnTo>
                    <a:pt x="48" y="240"/>
                  </a:lnTo>
                  <a:lnTo>
                    <a:pt x="0" y="228"/>
                  </a:lnTo>
                  <a:lnTo>
                    <a:pt x="0" y="228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14240" y="38102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96920" y="3033720"/>
              <a:ext cx="16765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02200" y="2424600"/>
              <a:ext cx="137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3880" y="27432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6720" y="12193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160" y="13716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200" y="14479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48320" y="3810240"/>
              <a:ext cx="1646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Refleja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3520" y="4267440"/>
              <a:ext cx="1786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bsorbi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4240" y="533412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5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22600" y="68580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COR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21120" y="563904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657600" y="19810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124080"/>
            <a:ext cx="725400" cy="459000"/>
          </a:xfrm>
          <a:custGeom>
            <a:avLst/>
            <a:gdLst/>
            <a:ahLst/>
            <a:rect l="l" t="t" r="r" b="b"/>
            <a:pathLst>
              <a:path w="457" h="289">
                <a:moveTo>
                  <a:pt x="0" y="228"/>
                </a:moveTo>
                <a:lnTo>
                  <a:pt x="24" y="180"/>
                </a:lnTo>
                <a:lnTo>
                  <a:pt x="24" y="144"/>
                </a:lnTo>
                <a:lnTo>
                  <a:pt x="60" y="120"/>
                </a:lnTo>
                <a:lnTo>
                  <a:pt x="72" y="84"/>
                </a:lnTo>
                <a:lnTo>
                  <a:pt x="96" y="48"/>
                </a:lnTo>
                <a:lnTo>
                  <a:pt x="132" y="48"/>
                </a:lnTo>
                <a:lnTo>
                  <a:pt x="168" y="48"/>
                </a:lnTo>
                <a:lnTo>
                  <a:pt x="204" y="48"/>
                </a:lnTo>
                <a:lnTo>
                  <a:pt x="240" y="36"/>
                </a:lnTo>
                <a:lnTo>
                  <a:pt x="276" y="12"/>
                </a:lnTo>
                <a:lnTo>
                  <a:pt x="312" y="0"/>
                </a:lnTo>
                <a:lnTo>
                  <a:pt x="336" y="36"/>
                </a:lnTo>
                <a:lnTo>
                  <a:pt x="372" y="48"/>
                </a:lnTo>
                <a:lnTo>
                  <a:pt x="408" y="60"/>
                </a:lnTo>
                <a:lnTo>
                  <a:pt x="408" y="96"/>
                </a:lnTo>
                <a:lnTo>
                  <a:pt x="420" y="132"/>
                </a:lnTo>
                <a:lnTo>
                  <a:pt x="444" y="168"/>
                </a:lnTo>
                <a:lnTo>
                  <a:pt x="456" y="204"/>
                </a:lnTo>
                <a:lnTo>
                  <a:pt x="444" y="240"/>
                </a:lnTo>
                <a:lnTo>
                  <a:pt x="444" y="276"/>
                </a:lnTo>
                <a:lnTo>
                  <a:pt x="408" y="288"/>
                </a:lnTo>
                <a:lnTo>
                  <a:pt x="372" y="288"/>
                </a:lnTo>
                <a:lnTo>
                  <a:pt x="336" y="288"/>
                </a:lnTo>
                <a:lnTo>
                  <a:pt x="300" y="288"/>
                </a:lnTo>
                <a:lnTo>
                  <a:pt x="300" y="252"/>
                </a:lnTo>
                <a:lnTo>
                  <a:pt x="264" y="276"/>
                </a:lnTo>
                <a:lnTo>
                  <a:pt x="228" y="276"/>
                </a:lnTo>
                <a:lnTo>
                  <a:pt x="192" y="288"/>
                </a:lnTo>
                <a:lnTo>
                  <a:pt x="180" y="252"/>
                </a:lnTo>
                <a:lnTo>
                  <a:pt x="144" y="276"/>
                </a:lnTo>
                <a:lnTo>
                  <a:pt x="108" y="276"/>
                </a:lnTo>
                <a:lnTo>
                  <a:pt x="84" y="240"/>
                </a:lnTo>
                <a:lnTo>
                  <a:pt x="48" y="240"/>
                </a:lnTo>
                <a:lnTo>
                  <a:pt x="0" y="228"/>
                </a:lnTo>
                <a:lnTo>
                  <a:pt x="0" y="228"/>
                </a:lnTo>
              </a:path>
            </a:pathLst>
          </a:custGeom>
          <a:solidFill>
            <a:srgbClr val="99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77240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0"/>
            <a:ext cx="85345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ongitud de onda es inversamente proporcional a la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71800" y="2971800"/>
            <a:ext cx="4483080" cy="18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40120" y="2921040"/>
            <a:ext cx="441936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860000">
            <a:off x="3580920" y="990720"/>
            <a:ext cx="1282680" cy="2033640"/>
          </a:xfrm>
          <a:prstGeom prst="downArrow">
            <a:avLst>
              <a:gd name="adj1" fmla="val 75009"/>
              <a:gd name="adj2" fmla="val 7928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280000">
            <a:off x="5155920" y="870120"/>
            <a:ext cx="901800" cy="2044440"/>
          </a:xfrm>
          <a:prstGeom prst="upArrow">
            <a:avLst>
              <a:gd name="adj1" fmla="val 75009"/>
              <a:gd name="adj2" fmla="val 113343"/>
            </a:avLst>
          </a:prstGeom>
          <a:solidFill>
            <a:srgbClr val="f5c80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57200" y="344520"/>
            <a:ext cx="4989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29000" y="573120"/>
            <a:ext cx="722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9080" y="3156120"/>
            <a:ext cx="673200" cy="901440"/>
          </a:xfrm>
          <a:prstGeom prst="downArrow">
            <a:avLst>
              <a:gd name="adj1" fmla="val 50000"/>
              <a:gd name="adj2" fmla="val 66958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21360" y="1835280"/>
            <a:ext cx="706680" cy="1049040"/>
          </a:xfrm>
          <a:custGeom>
            <a:avLst/>
            <a:gdLst/>
            <a:ahLst/>
            <a:rect l="l" t="t" r="r" b="b"/>
            <a:pathLst>
              <a:path w="445" h="661">
                <a:moveTo>
                  <a:pt x="84" y="588"/>
                </a:moveTo>
                <a:lnTo>
                  <a:pt x="48" y="540"/>
                </a:lnTo>
                <a:lnTo>
                  <a:pt x="48" y="504"/>
                </a:lnTo>
                <a:lnTo>
                  <a:pt x="60" y="468"/>
                </a:lnTo>
                <a:lnTo>
                  <a:pt x="72" y="432"/>
                </a:lnTo>
                <a:lnTo>
                  <a:pt x="96" y="396"/>
                </a:lnTo>
                <a:lnTo>
                  <a:pt x="132" y="396"/>
                </a:lnTo>
                <a:lnTo>
                  <a:pt x="168" y="396"/>
                </a:lnTo>
                <a:lnTo>
                  <a:pt x="180" y="360"/>
                </a:lnTo>
                <a:lnTo>
                  <a:pt x="144" y="348"/>
                </a:lnTo>
                <a:lnTo>
                  <a:pt x="108" y="348"/>
                </a:lnTo>
                <a:lnTo>
                  <a:pt x="72" y="348"/>
                </a:lnTo>
                <a:lnTo>
                  <a:pt x="48" y="312"/>
                </a:lnTo>
                <a:lnTo>
                  <a:pt x="84" y="300"/>
                </a:lnTo>
                <a:lnTo>
                  <a:pt x="120" y="288"/>
                </a:lnTo>
                <a:lnTo>
                  <a:pt x="132" y="252"/>
                </a:lnTo>
                <a:lnTo>
                  <a:pt x="144" y="216"/>
                </a:lnTo>
                <a:lnTo>
                  <a:pt x="108" y="216"/>
                </a:lnTo>
                <a:lnTo>
                  <a:pt x="72" y="216"/>
                </a:lnTo>
                <a:lnTo>
                  <a:pt x="36" y="216"/>
                </a:lnTo>
                <a:lnTo>
                  <a:pt x="0" y="216"/>
                </a:lnTo>
                <a:lnTo>
                  <a:pt x="36" y="192"/>
                </a:lnTo>
                <a:lnTo>
                  <a:pt x="72" y="168"/>
                </a:lnTo>
                <a:lnTo>
                  <a:pt x="108" y="144"/>
                </a:lnTo>
                <a:lnTo>
                  <a:pt x="132" y="108"/>
                </a:lnTo>
                <a:lnTo>
                  <a:pt x="168" y="84"/>
                </a:lnTo>
                <a:lnTo>
                  <a:pt x="204" y="60"/>
                </a:lnTo>
                <a:lnTo>
                  <a:pt x="228" y="24"/>
                </a:lnTo>
                <a:lnTo>
                  <a:pt x="264" y="0"/>
                </a:lnTo>
                <a:lnTo>
                  <a:pt x="300" y="12"/>
                </a:lnTo>
                <a:lnTo>
                  <a:pt x="324" y="48"/>
                </a:lnTo>
                <a:lnTo>
                  <a:pt x="348" y="84"/>
                </a:lnTo>
                <a:lnTo>
                  <a:pt x="372" y="120"/>
                </a:lnTo>
                <a:lnTo>
                  <a:pt x="396" y="156"/>
                </a:lnTo>
                <a:lnTo>
                  <a:pt x="432" y="180"/>
                </a:lnTo>
                <a:lnTo>
                  <a:pt x="444" y="216"/>
                </a:lnTo>
                <a:lnTo>
                  <a:pt x="408" y="216"/>
                </a:lnTo>
                <a:lnTo>
                  <a:pt x="372" y="216"/>
                </a:lnTo>
                <a:lnTo>
                  <a:pt x="336" y="216"/>
                </a:lnTo>
                <a:lnTo>
                  <a:pt x="300" y="216"/>
                </a:lnTo>
                <a:lnTo>
                  <a:pt x="300" y="252"/>
                </a:lnTo>
                <a:lnTo>
                  <a:pt x="264" y="264"/>
                </a:lnTo>
                <a:lnTo>
                  <a:pt x="240" y="300"/>
                </a:lnTo>
                <a:lnTo>
                  <a:pt x="276" y="336"/>
                </a:lnTo>
                <a:lnTo>
                  <a:pt x="300" y="372"/>
                </a:lnTo>
                <a:lnTo>
                  <a:pt x="312" y="408"/>
                </a:lnTo>
                <a:lnTo>
                  <a:pt x="276" y="432"/>
                </a:lnTo>
                <a:lnTo>
                  <a:pt x="240" y="444"/>
                </a:lnTo>
                <a:lnTo>
                  <a:pt x="204" y="456"/>
                </a:lnTo>
                <a:lnTo>
                  <a:pt x="192" y="492"/>
                </a:lnTo>
                <a:lnTo>
                  <a:pt x="192" y="528"/>
                </a:lnTo>
                <a:lnTo>
                  <a:pt x="192" y="564"/>
                </a:lnTo>
                <a:lnTo>
                  <a:pt x="204" y="600"/>
                </a:lnTo>
                <a:lnTo>
                  <a:pt x="204" y="636"/>
                </a:lnTo>
                <a:lnTo>
                  <a:pt x="168" y="660"/>
                </a:lnTo>
                <a:lnTo>
                  <a:pt x="132" y="660"/>
                </a:lnTo>
                <a:lnTo>
                  <a:pt x="96" y="660"/>
                </a:lnTo>
                <a:lnTo>
                  <a:pt x="84" y="588"/>
                </a:lnTo>
                <a:lnTo>
                  <a:pt x="84" y="588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6920" y="4154400"/>
            <a:ext cx="129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8680" y="3429000"/>
            <a:ext cx="2297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-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1760" y="4572000"/>
            <a:ext cx="16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: alb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360" y="5257800"/>
            <a:ext cx="117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0&lt;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5410080"/>
            <a:ext cx="40132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Aguas Profundas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~ 0,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Nieve                        0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99080" y="1295280"/>
            <a:ext cx="532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74440" y="604800"/>
            <a:ext cx="154908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mi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6200" y="1290600"/>
            <a:ext cx="491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e = e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T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(Stefan-Boltz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7760" y="1976400"/>
            <a:ext cx="219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: emis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53480" y="2509920"/>
            <a:ext cx="5202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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onstante de Stefan-Boltz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 5,67 *10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-8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W/(m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T: temperatura absol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5160" y="3881520"/>
            <a:ext cx="4383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uerpo negro   e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Superficies de agua e~=0,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5:49:17Z</dcterms:created>
  <dc:creator>Iñigo Otondo</dc:creator>
  <dc:description/>
  <dc:language>en-US</dc:language>
  <cp:lastModifiedBy>xv</cp:lastModifiedBy>
  <dcterms:modified xsi:type="dcterms:W3CDTF">2006-03-17T15:53:26Z</dcterms:modified>
  <cp:revision>19</cp:revision>
  <dc:subject/>
  <dc:title>Proyecto WMS – MM5 Cuenca del Mataquito</dc:title>
</cp:coreProperties>
</file>