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B79-1521-495F-878F-6D779F23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2E6-1185-4748-8CCE-EE0555BD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E37-A9D1-4BE3-BB17-F7D81314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771-5A62-409F-99DF-41F1CACB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7E2-747C-4054-AE78-25EAB8EB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5F2-00C0-4A8D-BD28-40881606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4BC-2BCB-4808-B213-34618C86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DEB-55B6-486A-9273-1D71E74E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395-C2AE-41E3-AE3F-19B50647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AD4-2A1E-4354-8665-9B5B58C7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B76-8EBF-4912-BA8E-7FC39E0C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6D6-1142-42FC-96E9-75DAD73F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FE8E-806B-44FF-8115-435B0C840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-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6-03-17T15:53:26Z</dcterms:modified>
  <cp:revision>19</cp:revision>
  <dc:subject/>
  <dc:title>Proyecto WMS – MM5 Cuenca del Mataquito</dc:title>
</cp:coreProperties>
</file>