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A07D-4D27-4281-B592-7AA5C2F8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3C17-E54F-46B6-AD11-68BF46EE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B5D6-C0CF-4D5F-9BBB-B83DA8D8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9721-FC11-441A-BB18-8F476EAE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909-2718-484F-BDEA-54E3C145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FF17-1F91-4742-9D8A-0A8F642C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332-5304-48AF-9DB9-C84528EF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DA2-44AF-4D5D-9022-885F791A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CBD-B216-422A-8808-247F552F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51D-D93D-4B33-B54D-A4F7C526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E6E-DFB8-4396-B607-1D74F616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1A9-51BE-48CF-8604-4C767F62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8112-62AB-425E-AEB4-FFBCF7827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03280" y="692280"/>
            <a:ext cx="6624720" cy="6097320"/>
            <a:chOff x="1403280" y="692280"/>
            <a:chExt cx="662472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403280" y="692280"/>
              <a:ext cx="662472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20050200">
              <a:off x="2341080" y="2899800"/>
              <a:ext cx="144000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lu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perfi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39920" y="3443040"/>
              <a:ext cx="642960" cy="241200"/>
            </a:xfrm>
            <a:custGeom>
              <a:avLst/>
              <a:gdLst/>
              <a:ahLst/>
              <a:rect l="l" t="t" r="r" b="b"/>
              <a:pathLst>
                <a:path w="405" h="152">
                  <a:moveTo>
                    <a:pt x="4" y="152"/>
                  </a:moveTo>
                  <a:cubicBezTo>
                    <a:pt x="79" y="79"/>
                    <a:pt x="0" y="141"/>
                    <a:pt x="142" y="102"/>
                  </a:cubicBezTo>
                  <a:cubicBezTo>
                    <a:pt x="156" y="98"/>
                    <a:pt x="165" y="82"/>
                    <a:pt x="179" y="77"/>
                  </a:cubicBezTo>
                  <a:cubicBezTo>
                    <a:pt x="203" y="69"/>
                    <a:pt x="229" y="69"/>
                    <a:pt x="254" y="65"/>
                  </a:cubicBezTo>
                  <a:cubicBezTo>
                    <a:pt x="264" y="37"/>
                    <a:pt x="265" y="8"/>
                    <a:pt x="304" y="2"/>
                  </a:cubicBezTo>
                  <a:cubicBezTo>
                    <a:pt x="317" y="0"/>
                    <a:pt x="329" y="13"/>
                    <a:pt x="342" y="15"/>
                  </a:cubicBezTo>
                  <a:cubicBezTo>
                    <a:pt x="363" y="18"/>
                    <a:pt x="384" y="15"/>
                    <a:pt x="405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372360" y="4437000"/>
            <a:ext cx="107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068640"/>
            <a:ext cx="10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456200">
            <a:off x="4168800" y="3039840"/>
            <a:ext cx="793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uj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283400">
            <a:off x="4501080" y="2565000"/>
            <a:ext cx="64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692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907920"/>
            <a:ext cx="6337440" cy="1513080"/>
          </a:xfrm>
          <a:custGeom>
            <a:avLst/>
            <a:gdLst/>
            <a:ahLst/>
            <a:rect l="l" t="t" r="r" b="b"/>
            <a:pathLst>
              <a:path w="3992" h="953">
                <a:moveTo>
                  <a:pt x="0" y="953"/>
                </a:moveTo>
                <a:cubicBezTo>
                  <a:pt x="200" y="900"/>
                  <a:pt x="401" y="848"/>
                  <a:pt x="635" y="772"/>
                </a:cubicBezTo>
                <a:cubicBezTo>
                  <a:pt x="869" y="696"/>
                  <a:pt x="1224" y="567"/>
                  <a:pt x="1406" y="499"/>
                </a:cubicBezTo>
                <a:cubicBezTo>
                  <a:pt x="1588" y="431"/>
                  <a:pt x="1558" y="416"/>
                  <a:pt x="1724" y="363"/>
                </a:cubicBezTo>
                <a:cubicBezTo>
                  <a:pt x="1890" y="310"/>
                  <a:pt x="2117" y="235"/>
                  <a:pt x="2404" y="182"/>
                </a:cubicBezTo>
                <a:cubicBezTo>
                  <a:pt x="2691" y="129"/>
                  <a:pt x="3183" y="76"/>
                  <a:pt x="3448" y="46"/>
                </a:cubicBezTo>
                <a:cubicBezTo>
                  <a:pt x="3713" y="16"/>
                  <a:pt x="3901" y="8"/>
                  <a:pt x="39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2:53:21Z</dcterms:created>
  <dc:creator>Usuario</dc:creator>
  <dc:description/>
  <dc:language>en-US</dc:language>
  <cp:lastModifiedBy>academico</cp:lastModifiedBy>
  <dcterms:modified xsi:type="dcterms:W3CDTF">2007-07-27T15:08:18Z</dcterms:modified>
  <cp:revision>7</cp:revision>
  <dc:subject/>
  <dc:title>Diapositiva 1</dc:title>
</cp:coreProperties>
</file>