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CEB-7A91-462D-A034-1864DC85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784-9EE8-4FAB-9960-63976DF6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BEC-FCD2-4F29-962D-DC212E27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540-C541-4A3F-844D-C828BDDE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D78-2D6E-43AC-87B7-62B8EB2E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F0E3-09F9-4781-8BC3-7747CF5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1D86-D886-42AB-91EF-43E01DE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435F-5D50-4747-ADD0-A31E957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146-1441-416F-A56F-9EDFCD17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715B-AC6F-42A6-AF23-8746FC18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367-9332-4446-B5F7-B7FDF133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F353-2390-4693-8A6A-89032178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FD96-A9D6-4E70-998A-B606A3F6C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907920"/>
            <a:ext cx="6337440" cy="1513080"/>
          </a:xfrm>
          <a:custGeom>
            <a:avLst/>
            <a:gdLst/>
            <a:ahLst/>
            <a:rect l="l" t="t" r="r" b="b"/>
            <a:pathLst>
              <a:path w="3992" h="953">
                <a:moveTo>
                  <a:pt x="0" y="953"/>
                </a:moveTo>
                <a:cubicBezTo>
                  <a:pt x="200" y="900"/>
                  <a:pt x="401" y="848"/>
                  <a:pt x="635" y="772"/>
                </a:cubicBezTo>
                <a:cubicBezTo>
                  <a:pt x="869" y="696"/>
                  <a:pt x="1224" y="567"/>
                  <a:pt x="1406" y="499"/>
                </a:cubicBezTo>
                <a:cubicBezTo>
                  <a:pt x="1588" y="431"/>
                  <a:pt x="1558" y="416"/>
                  <a:pt x="1724" y="363"/>
                </a:cubicBezTo>
                <a:cubicBezTo>
                  <a:pt x="1890" y="310"/>
                  <a:pt x="2117" y="235"/>
                  <a:pt x="2404" y="182"/>
                </a:cubicBezTo>
                <a:cubicBezTo>
                  <a:pt x="2691" y="129"/>
                  <a:pt x="3183" y="76"/>
                  <a:pt x="3448" y="46"/>
                </a:cubicBezTo>
                <a:cubicBezTo>
                  <a:pt x="3713" y="16"/>
                  <a:pt x="3901" y="8"/>
                  <a:pt x="39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academico</cp:lastModifiedBy>
  <dcterms:modified xsi:type="dcterms:W3CDTF">2007-07-27T15:08:18Z</dcterms:modified>
  <cp:revision>7</cp:revision>
  <dc:subject/>
  <dc:title>Diapositiva 1</dc:title>
</cp:coreProperties>
</file>