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21B-172D-498C-8313-6A8C69D0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139-3372-4215-A743-4358825B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DCC-9726-46A8-82E3-0686FAF9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CE32-86AE-4480-8FEA-DE809B81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685-D5B8-4E62-9F71-0559FB25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327-2BEC-497C-9250-BB679CB2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F61-4A37-418D-9703-5F098B99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73B-EA0C-468C-A703-9D85BD45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32B-8B0F-40B7-9E3D-2CD9691D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6DA1-795E-4416-BA0D-6A7870FB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2EA-FFF1-484B-B5C7-931388EB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056-11F8-4B4A-B4A4-CD77CA5D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FED1-259E-4F04-AD5F-149B3D3DE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03280" y="692280"/>
            <a:ext cx="6624720" cy="6097320"/>
            <a:chOff x="1403280" y="692280"/>
            <a:chExt cx="662472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403280" y="692280"/>
              <a:ext cx="662472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20050200">
              <a:off x="2341080" y="2899800"/>
              <a:ext cx="144000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lu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perfi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39920" y="3443040"/>
              <a:ext cx="642960" cy="241200"/>
            </a:xfrm>
            <a:custGeom>
              <a:avLst/>
              <a:gdLst/>
              <a:ahLst/>
              <a:rect l="l" t="t" r="r" b="b"/>
              <a:pathLst>
                <a:path w="405" h="152">
                  <a:moveTo>
                    <a:pt x="4" y="152"/>
                  </a:moveTo>
                  <a:cubicBezTo>
                    <a:pt x="79" y="79"/>
                    <a:pt x="0" y="141"/>
                    <a:pt x="142" y="102"/>
                  </a:cubicBezTo>
                  <a:cubicBezTo>
                    <a:pt x="156" y="98"/>
                    <a:pt x="165" y="82"/>
                    <a:pt x="179" y="77"/>
                  </a:cubicBezTo>
                  <a:cubicBezTo>
                    <a:pt x="203" y="69"/>
                    <a:pt x="229" y="69"/>
                    <a:pt x="254" y="65"/>
                  </a:cubicBezTo>
                  <a:cubicBezTo>
                    <a:pt x="264" y="37"/>
                    <a:pt x="265" y="8"/>
                    <a:pt x="304" y="2"/>
                  </a:cubicBezTo>
                  <a:cubicBezTo>
                    <a:pt x="317" y="0"/>
                    <a:pt x="329" y="13"/>
                    <a:pt x="342" y="15"/>
                  </a:cubicBezTo>
                  <a:cubicBezTo>
                    <a:pt x="363" y="18"/>
                    <a:pt x="384" y="15"/>
                    <a:pt x="405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372360" y="4437000"/>
            <a:ext cx="107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068640"/>
            <a:ext cx="10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456200">
            <a:off x="4168800" y="3039840"/>
            <a:ext cx="793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uj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283400">
            <a:off x="4501080" y="2565000"/>
            <a:ext cx="64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692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907920"/>
            <a:ext cx="6337440" cy="1513080"/>
          </a:xfrm>
          <a:custGeom>
            <a:avLst/>
            <a:gdLst/>
            <a:ahLst/>
            <a:rect l="l" t="t" r="r" b="b"/>
            <a:pathLst>
              <a:path w="3992" h="953">
                <a:moveTo>
                  <a:pt x="0" y="953"/>
                </a:moveTo>
                <a:cubicBezTo>
                  <a:pt x="200" y="900"/>
                  <a:pt x="401" y="848"/>
                  <a:pt x="635" y="772"/>
                </a:cubicBezTo>
                <a:cubicBezTo>
                  <a:pt x="869" y="696"/>
                  <a:pt x="1224" y="567"/>
                  <a:pt x="1406" y="499"/>
                </a:cubicBezTo>
                <a:cubicBezTo>
                  <a:pt x="1588" y="431"/>
                  <a:pt x="1558" y="416"/>
                  <a:pt x="1724" y="363"/>
                </a:cubicBezTo>
                <a:cubicBezTo>
                  <a:pt x="1890" y="310"/>
                  <a:pt x="2117" y="235"/>
                  <a:pt x="2404" y="182"/>
                </a:cubicBezTo>
                <a:cubicBezTo>
                  <a:pt x="2691" y="129"/>
                  <a:pt x="3183" y="76"/>
                  <a:pt x="3448" y="46"/>
                </a:cubicBezTo>
                <a:cubicBezTo>
                  <a:pt x="3713" y="16"/>
                  <a:pt x="3901" y="8"/>
                  <a:pt x="39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2:53:21Z</dcterms:created>
  <dc:creator>Usuario</dc:creator>
  <dc:description/>
  <dc:language>en-US</dc:language>
  <cp:lastModifiedBy>academico</cp:lastModifiedBy>
  <dcterms:modified xsi:type="dcterms:W3CDTF">2007-07-27T15:08:18Z</dcterms:modified>
  <cp:revision>7</cp:revision>
  <dc:subject/>
  <dc:title>Diapositiva 1</dc:title>
</cp:coreProperties>
</file>