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9DC-AA95-4C57-B28F-119FC7D3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0DC-C4A3-40B0-8477-00F7D04B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8FA-E1E8-4F80-8775-CF40626C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050-56AD-451B-A19E-8223B6E9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3F5-4496-46CA-8337-AB0AC9B4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F1A-941F-40B8-9DFD-47FF01A2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949-D2D9-4A48-BC3B-92BE5B13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3F9-640D-47B0-BABA-7875964C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B50-7B64-41A9-AEF9-29EFFB89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B04-641D-45C0-A4C7-82A0362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5AF-760A-42FC-A6F7-CB86378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929-85F2-4D3D-BC87-61462F17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775B-ECC2-4262-A8D4-3B906119A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907920"/>
            <a:ext cx="6337440" cy="1513080"/>
          </a:xfrm>
          <a:custGeom>
            <a:avLst/>
            <a:gdLst/>
            <a:ahLst/>
            <a:rect l="l" t="t" r="r" b="b"/>
            <a:pathLst>
              <a:path w="3992" h="953">
                <a:moveTo>
                  <a:pt x="0" y="953"/>
                </a:moveTo>
                <a:cubicBezTo>
                  <a:pt x="200" y="900"/>
                  <a:pt x="401" y="848"/>
                  <a:pt x="635" y="772"/>
                </a:cubicBezTo>
                <a:cubicBezTo>
                  <a:pt x="869" y="696"/>
                  <a:pt x="1224" y="567"/>
                  <a:pt x="1406" y="499"/>
                </a:cubicBezTo>
                <a:cubicBezTo>
                  <a:pt x="1588" y="431"/>
                  <a:pt x="1558" y="416"/>
                  <a:pt x="1724" y="363"/>
                </a:cubicBezTo>
                <a:cubicBezTo>
                  <a:pt x="1890" y="310"/>
                  <a:pt x="2117" y="235"/>
                  <a:pt x="2404" y="182"/>
                </a:cubicBezTo>
                <a:cubicBezTo>
                  <a:pt x="2691" y="129"/>
                  <a:pt x="3183" y="76"/>
                  <a:pt x="3448" y="46"/>
                </a:cubicBezTo>
                <a:cubicBezTo>
                  <a:pt x="3713" y="16"/>
                  <a:pt x="3901" y="8"/>
                  <a:pt x="39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academico</cp:lastModifiedBy>
  <dcterms:modified xsi:type="dcterms:W3CDTF">2007-07-27T15:08:18Z</dcterms:modified>
  <cp:revision>7</cp:revision>
  <dc:subject/>
  <dc:title>Diapositiva 1</dc:title>
</cp:coreProperties>
</file>