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14B4-39A0-4106-85C7-5789CEF7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9B73-0EA9-4899-B4F9-6CC9F7E2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E945-35A0-454C-8124-96EB7837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FEE1-4B5E-4F55-8696-1CFBB123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0729-9920-4954-969D-45B254E2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FF55-98AC-4671-ADA4-604D57C4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B521-7D98-407F-BBFB-83251135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A0E6-5D3E-4B4C-B288-3B123B35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8915-DD3A-431E-8CD4-9E41959D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1DAF-A276-4DEA-BDED-5D5319F5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177D-D8F0-4E89-A33C-3B336C5E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AA2E-955E-4F2B-834D-4CBE27A8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E952-9163-4C1B-9532-06B8121C6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03280" y="692280"/>
            <a:ext cx="6624720" cy="6097320"/>
            <a:chOff x="1403280" y="692280"/>
            <a:chExt cx="6624720" cy="60973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403280" y="692280"/>
              <a:ext cx="6624720" cy="60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20050200">
              <a:off x="2341080" y="2899800"/>
              <a:ext cx="144000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Flu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perfi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239920" y="3443040"/>
              <a:ext cx="642960" cy="241200"/>
            </a:xfrm>
            <a:custGeom>
              <a:avLst/>
              <a:gdLst/>
              <a:ahLst/>
              <a:rect l="l" t="t" r="r" b="b"/>
              <a:pathLst>
                <a:path w="405" h="152">
                  <a:moveTo>
                    <a:pt x="4" y="152"/>
                  </a:moveTo>
                  <a:cubicBezTo>
                    <a:pt x="79" y="79"/>
                    <a:pt x="0" y="141"/>
                    <a:pt x="142" y="102"/>
                  </a:cubicBezTo>
                  <a:cubicBezTo>
                    <a:pt x="156" y="98"/>
                    <a:pt x="165" y="82"/>
                    <a:pt x="179" y="77"/>
                  </a:cubicBezTo>
                  <a:cubicBezTo>
                    <a:pt x="203" y="69"/>
                    <a:pt x="229" y="69"/>
                    <a:pt x="254" y="65"/>
                  </a:cubicBezTo>
                  <a:cubicBezTo>
                    <a:pt x="264" y="37"/>
                    <a:pt x="265" y="8"/>
                    <a:pt x="304" y="2"/>
                  </a:cubicBezTo>
                  <a:cubicBezTo>
                    <a:pt x="317" y="0"/>
                    <a:pt x="329" y="13"/>
                    <a:pt x="342" y="15"/>
                  </a:cubicBezTo>
                  <a:cubicBezTo>
                    <a:pt x="363" y="18"/>
                    <a:pt x="384" y="15"/>
                    <a:pt x="405" y="1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6372360" y="4437000"/>
            <a:ext cx="107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vis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3068640"/>
            <a:ext cx="107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a 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456200">
            <a:off x="4168800" y="3039840"/>
            <a:ext cx="793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lujo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9283400">
            <a:off x="4501080" y="2565000"/>
            <a:ext cx="649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1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1916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1773360"/>
            <a:ext cx="503280" cy="287280"/>
          </a:xfrm>
          <a:prstGeom prst="leftArrow">
            <a:avLst>
              <a:gd name="adj1" fmla="val 50000"/>
              <a:gd name="adj2" fmla="val 437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263700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44000" y="249228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101200">
            <a:off x="752508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9830000">
            <a:off x="6012360" y="836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0101200">
            <a:off x="241164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101200">
            <a:off x="435636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35002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ímite Cerro 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2781360"/>
            <a:ext cx="287280" cy="647640"/>
          </a:xfrm>
          <a:custGeom>
            <a:avLst/>
            <a:gdLst/>
            <a:ahLst/>
            <a:rect l="l" t="t" r="r" b="b"/>
            <a:pathLst>
              <a:path w="181" h="408">
                <a:moveTo>
                  <a:pt x="0" y="408"/>
                </a:moveTo>
                <a:lnTo>
                  <a:pt x="181" y="363"/>
                </a:lnTo>
                <a:lnTo>
                  <a:pt x="1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2349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r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62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134136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126828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278136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285264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03640" y="1916280"/>
            <a:ext cx="287640" cy="7207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1640" y="119700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014800" y="198576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184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364000" y="1915920"/>
            <a:ext cx="142920" cy="36036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159520" y="213048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938840" y="2474640"/>
            <a:ext cx="420840" cy="1767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03640" y="2349360"/>
            <a:ext cx="216000" cy="216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4221000"/>
            <a:ext cx="2738520" cy="1332000"/>
          </a:xfrm>
          <a:custGeom>
            <a:avLst/>
            <a:gdLst/>
            <a:ahLst/>
            <a:rect l="l" t="t" r="r" b="b"/>
            <a:pathLst>
              <a:path w="1725" h="839">
                <a:moveTo>
                  <a:pt x="0" y="76"/>
                </a:moveTo>
                <a:cubicBezTo>
                  <a:pt x="41" y="83"/>
                  <a:pt x="83" y="91"/>
                  <a:pt x="136" y="121"/>
                </a:cubicBezTo>
                <a:cubicBezTo>
                  <a:pt x="189" y="151"/>
                  <a:pt x="242" y="174"/>
                  <a:pt x="317" y="257"/>
                </a:cubicBezTo>
                <a:cubicBezTo>
                  <a:pt x="392" y="340"/>
                  <a:pt x="498" y="537"/>
                  <a:pt x="589" y="620"/>
                </a:cubicBezTo>
                <a:cubicBezTo>
                  <a:pt x="680" y="703"/>
                  <a:pt x="764" y="839"/>
                  <a:pt x="862" y="756"/>
                </a:cubicBezTo>
                <a:cubicBezTo>
                  <a:pt x="960" y="673"/>
                  <a:pt x="1111" y="242"/>
                  <a:pt x="1179" y="121"/>
                </a:cubicBezTo>
                <a:cubicBezTo>
                  <a:pt x="1247" y="0"/>
                  <a:pt x="1210" y="37"/>
                  <a:pt x="1270" y="31"/>
                </a:cubicBezTo>
                <a:cubicBezTo>
                  <a:pt x="1330" y="25"/>
                  <a:pt x="1465" y="44"/>
                  <a:pt x="1541" y="86"/>
                </a:cubicBezTo>
                <a:cubicBezTo>
                  <a:pt x="1617" y="128"/>
                  <a:pt x="1687" y="241"/>
                  <a:pt x="1725" y="282"/>
                </a:cubicBezTo>
              </a:path>
            </a:pathLst>
          </a:cu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4175280"/>
            <a:ext cx="2705400" cy="1390320"/>
          </a:xfrm>
          <a:custGeom>
            <a:avLst/>
            <a:gdLst/>
            <a:ahLst/>
            <a:rect l="l" t="t" r="r" b="b"/>
            <a:pathLst>
              <a:path w="1704" h="876">
                <a:moveTo>
                  <a:pt x="0" y="105"/>
                </a:moveTo>
                <a:cubicBezTo>
                  <a:pt x="41" y="112"/>
                  <a:pt x="83" y="120"/>
                  <a:pt x="136" y="150"/>
                </a:cubicBezTo>
                <a:cubicBezTo>
                  <a:pt x="189" y="180"/>
                  <a:pt x="242" y="203"/>
                  <a:pt x="317" y="286"/>
                </a:cubicBezTo>
                <a:cubicBezTo>
                  <a:pt x="392" y="369"/>
                  <a:pt x="507" y="565"/>
                  <a:pt x="589" y="649"/>
                </a:cubicBezTo>
                <a:cubicBezTo>
                  <a:pt x="671" y="733"/>
                  <a:pt x="720" y="876"/>
                  <a:pt x="810" y="789"/>
                </a:cubicBezTo>
                <a:cubicBezTo>
                  <a:pt x="900" y="702"/>
                  <a:pt x="1050" y="254"/>
                  <a:pt x="1128" y="127"/>
                </a:cubicBezTo>
                <a:cubicBezTo>
                  <a:pt x="1206" y="0"/>
                  <a:pt x="1216" y="33"/>
                  <a:pt x="1275" y="29"/>
                </a:cubicBezTo>
                <a:cubicBezTo>
                  <a:pt x="1334" y="25"/>
                  <a:pt x="1413" y="56"/>
                  <a:pt x="1484" y="103"/>
                </a:cubicBezTo>
                <a:cubicBezTo>
                  <a:pt x="1555" y="150"/>
                  <a:pt x="1658" y="268"/>
                  <a:pt x="1704" y="311"/>
                </a:cubicBezTo>
              </a:path>
            </a:pathLst>
          </a:cu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692280"/>
            <a:ext cx="0" cy="2881080"/>
          </a:xfrm>
          <a:prstGeom prst="line">
            <a:avLst/>
          </a:prstGeom>
          <a:ln w="93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276720" y="3500280"/>
            <a:ext cx="3585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654800">
            <a:off x="4355280" y="407592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708360" y="2636640"/>
            <a:ext cx="719280" cy="143964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1280" y="1916280"/>
            <a:ext cx="2881440" cy="730080"/>
          </a:xfrm>
          <a:custGeom>
            <a:avLst/>
            <a:gdLst/>
            <a:ahLst/>
            <a:rect l="l" t="t" r="r" b="b"/>
            <a:pathLst>
              <a:path w="1815" h="460">
                <a:moveTo>
                  <a:pt x="1815" y="0"/>
                </a:moveTo>
                <a:cubicBezTo>
                  <a:pt x="1781" y="68"/>
                  <a:pt x="1747" y="137"/>
                  <a:pt x="1724" y="182"/>
                </a:cubicBezTo>
                <a:cubicBezTo>
                  <a:pt x="1701" y="227"/>
                  <a:pt x="1701" y="242"/>
                  <a:pt x="1679" y="273"/>
                </a:cubicBezTo>
                <a:cubicBezTo>
                  <a:pt x="1657" y="304"/>
                  <a:pt x="1618" y="343"/>
                  <a:pt x="1591" y="367"/>
                </a:cubicBezTo>
                <a:cubicBezTo>
                  <a:pt x="1564" y="391"/>
                  <a:pt x="1546" y="405"/>
                  <a:pt x="1515" y="419"/>
                </a:cubicBezTo>
                <a:cubicBezTo>
                  <a:pt x="1484" y="433"/>
                  <a:pt x="1447" y="448"/>
                  <a:pt x="1406" y="454"/>
                </a:cubicBezTo>
                <a:cubicBezTo>
                  <a:pt x="1365" y="460"/>
                  <a:pt x="1315" y="454"/>
                  <a:pt x="1270" y="454"/>
                </a:cubicBezTo>
                <a:cubicBezTo>
                  <a:pt x="1225" y="454"/>
                  <a:pt x="1225" y="454"/>
                  <a:pt x="1134" y="454"/>
                </a:cubicBezTo>
                <a:cubicBezTo>
                  <a:pt x="1043" y="454"/>
                  <a:pt x="915" y="454"/>
                  <a:pt x="726" y="454"/>
                </a:cubicBezTo>
                <a:cubicBezTo>
                  <a:pt x="537" y="454"/>
                  <a:pt x="268" y="454"/>
                  <a:pt x="0" y="45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1916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773360"/>
            <a:ext cx="503280" cy="287280"/>
          </a:xfrm>
          <a:prstGeom prst="leftArrow">
            <a:avLst>
              <a:gd name="adj1" fmla="val 50000"/>
              <a:gd name="adj2" fmla="val 437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63700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44000" y="249228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0101200">
            <a:off x="752508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830000">
            <a:off x="6012360" y="836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101200">
            <a:off x="241164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101200">
            <a:off x="435636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48360" y="35002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ímite Cerro 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72360" y="2781360"/>
            <a:ext cx="287280" cy="647640"/>
          </a:xfrm>
          <a:custGeom>
            <a:avLst/>
            <a:gdLst/>
            <a:ahLst/>
            <a:rect l="l" t="t" r="r" b="b"/>
            <a:pathLst>
              <a:path w="181" h="408">
                <a:moveTo>
                  <a:pt x="0" y="408"/>
                </a:moveTo>
                <a:lnTo>
                  <a:pt x="181" y="363"/>
                </a:lnTo>
                <a:lnTo>
                  <a:pt x="1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43280" y="2349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r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162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134136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126828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278136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285264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003640" y="1916280"/>
            <a:ext cx="287640" cy="7207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119700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014800" y="198576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2720" y="184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364000" y="1915920"/>
            <a:ext cx="142920" cy="36036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159520" y="213048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938840" y="2474640"/>
            <a:ext cx="420840" cy="1767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003640" y="2349360"/>
            <a:ext cx="216000" cy="216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4221000"/>
            <a:ext cx="2738520" cy="1332000"/>
          </a:xfrm>
          <a:custGeom>
            <a:avLst/>
            <a:gdLst/>
            <a:ahLst/>
            <a:rect l="l" t="t" r="r" b="b"/>
            <a:pathLst>
              <a:path w="1725" h="839">
                <a:moveTo>
                  <a:pt x="0" y="76"/>
                </a:moveTo>
                <a:cubicBezTo>
                  <a:pt x="41" y="83"/>
                  <a:pt x="83" y="91"/>
                  <a:pt x="136" y="121"/>
                </a:cubicBezTo>
                <a:cubicBezTo>
                  <a:pt x="189" y="151"/>
                  <a:pt x="242" y="174"/>
                  <a:pt x="317" y="257"/>
                </a:cubicBezTo>
                <a:cubicBezTo>
                  <a:pt x="392" y="340"/>
                  <a:pt x="498" y="537"/>
                  <a:pt x="589" y="620"/>
                </a:cubicBezTo>
                <a:cubicBezTo>
                  <a:pt x="680" y="703"/>
                  <a:pt x="764" y="839"/>
                  <a:pt x="862" y="756"/>
                </a:cubicBezTo>
                <a:cubicBezTo>
                  <a:pt x="960" y="673"/>
                  <a:pt x="1111" y="242"/>
                  <a:pt x="1179" y="121"/>
                </a:cubicBezTo>
                <a:cubicBezTo>
                  <a:pt x="1247" y="0"/>
                  <a:pt x="1210" y="37"/>
                  <a:pt x="1270" y="31"/>
                </a:cubicBezTo>
                <a:cubicBezTo>
                  <a:pt x="1330" y="25"/>
                  <a:pt x="1465" y="44"/>
                  <a:pt x="1541" y="86"/>
                </a:cubicBezTo>
                <a:cubicBezTo>
                  <a:pt x="1617" y="128"/>
                  <a:pt x="1687" y="241"/>
                  <a:pt x="1725" y="282"/>
                </a:cubicBezTo>
              </a:path>
            </a:pathLst>
          </a:cu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4175280"/>
            <a:ext cx="2705400" cy="1390320"/>
          </a:xfrm>
          <a:custGeom>
            <a:avLst/>
            <a:gdLst/>
            <a:ahLst/>
            <a:rect l="l" t="t" r="r" b="b"/>
            <a:pathLst>
              <a:path w="1704" h="876">
                <a:moveTo>
                  <a:pt x="0" y="105"/>
                </a:moveTo>
                <a:cubicBezTo>
                  <a:pt x="41" y="112"/>
                  <a:pt x="83" y="120"/>
                  <a:pt x="136" y="150"/>
                </a:cubicBezTo>
                <a:cubicBezTo>
                  <a:pt x="189" y="180"/>
                  <a:pt x="242" y="203"/>
                  <a:pt x="317" y="286"/>
                </a:cubicBezTo>
                <a:cubicBezTo>
                  <a:pt x="392" y="369"/>
                  <a:pt x="507" y="565"/>
                  <a:pt x="589" y="649"/>
                </a:cubicBezTo>
                <a:cubicBezTo>
                  <a:pt x="671" y="733"/>
                  <a:pt x="720" y="876"/>
                  <a:pt x="810" y="789"/>
                </a:cubicBezTo>
                <a:cubicBezTo>
                  <a:pt x="900" y="702"/>
                  <a:pt x="1050" y="254"/>
                  <a:pt x="1128" y="127"/>
                </a:cubicBezTo>
                <a:cubicBezTo>
                  <a:pt x="1206" y="0"/>
                  <a:pt x="1216" y="33"/>
                  <a:pt x="1275" y="29"/>
                </a:cubicBezTo>
                <a:cubicBezTo>
                  <a:pt x="1334" y="25"/>
                  <a:pt x="1413" y="56"/>
                  <a:pt x="1484" y="103"/>
                </a:cubicBezTo>
                <a:cubicBezTo>
                  <a:pt x="1555" y="150"/>
                  <a:pt x="1658" y="268"/>
                  <a:pt x="1704" y="311"/>
                </a:cubicBezTo>
              </a:path>
            </a:pathLst>
          </a:cu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692280"/>
            <a:ext cx="0" cy="2881080"/>
          </a:xfrm>
          <a:prstGeom prst="line">
            <a:avLst/>
          </a:prstGeom>
          <a:ln w="93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276720" y="3500280"/>
            <a:ext cx="3585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654800">
            <a:off x="4355280" y="407592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708360" y="2636640"/>
            <a:ext cx="719280" cy="143964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1916280"/>
            <a:ext cx="2881440" cy="730080"/>
          </a:xfrm>
          <a:custGeom>
            <a:avLst/>
            <a:gdLst/>
            <a:ahLst/>
            <a:rect l="l" t="t" r="r" b="b"/>
            <a:pathLst>
              <a:path w="1815" h="460">
                <a:moveTo>
                  <a:pt x="1815" y="0"/>
                </a:moveTo>
                <a:cubicBezTo>
                  <a:pt x="1781" y="68"/>
                  <a:pt x="1747" y="137"/>
                  <a:pt x="1724" y="182"/>
                </a:cubicBezTo>
                <a:cubicBezTo>
                  <a:pt x="1701" y="227"/>
                  <a:pt x="1701" y="242"/>
                  <a:pt x="1679" y="273"/>
                </a:cubicBezTo>
                <a:cubicBezTo>
                  <a:pt x="1657" y="304"/>
                  <a:pt x="1618" y="343"/>
                  <a:pt x="1591" y="367"/>
                </a:cubicBezTo>
                <a:cubicBezTo>
                  <a:pt x="1564" y="391"/>
                  <a:pt x="1546" y="405"/>
                  <a:pt x="1515" y="419"/>
                </a:cubicBezTo>
                <a:cubicBezTo>
                  <a:pt x="1484" y="433"/>
                  <a:pt x="1447" y="448"/>
                  <a:pt x="1406" y="454"/>
                </a:cubicBezTo>
                <a:cubicBezTo>
                  <a:pt x="1365" y="460"/>
                  <a:pt x="1315" y="454"/>
                  <a:pt x="1270" y="454"/>
                </a:cubicBezTo>
                <a:cubicBezTo>
                  <a:pt x="1225" y="454"/>
                  <a:pt x="1225" y="454"/>
                  <a:pt x="1134" y="454"/>
                </a:cubicBezTo>
                <a:cubicBezTo>
                  <a:pt x="1043" y="454"/>
                  <a:pt x="915" y="454"/>
                  <a:pt x="726" y="454"/>
                </a:cubicBezTo>
                <a:cubicBezTo>
                  <a:pt x="537" y="454"/>
                  <a:pt x="268" y="454"/>
                  <a:pt x="0" y="45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35280" y="6922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tezu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27280" y="907920"/>
            <a:ext cx="6337440" cy="1513080"/>
          </a:xfrm>
          <a:custGeom>
            <a:avLst/>
            <a:gdLst/>
            <a:ahLst/>
            <a:rect l="l" t="t" r="r" b="b"/>
            <a:pathLst>
              <a:path w="3992" h="953">
                <a:moveTo>
                  <a:pt x="0" y="953"/>
                </a:moveTo>
                <a:cubicBezTo>
                  <a:pt x="200" y="900"/>
                  <a:pt x="401" y="848"/>
                  <a:pt x="635" y="772"/>
                </a:cubicBezTo>
                <a:cubicBezTo>
                  <a:pt x="869" y="696"/>
                  <a:pt x="1224" y="567"/>
                  <a:pt x="1406" y="499"/>
                </a:cubicBezTo>
                <a:cubicBezTo>
                  <a:pt x="1588" y="431"/>
                  <a:pt x="1558" y="416"/>
                  <a:pt x="1724" y="363"/>
                </a:cubicBezTo>
                <a:cubicBezTo>
                  <a:pt x="1890" y="310"/>
                  <a:pt x="2117" y="235"/>
                  <a:pt x="2404" y="182"/>
                </a:cubicBezTo>
                <a:cubicBezTo>
                  <a:pt x="2691" y="129"/>
                  <a:pt x="3183" y="76"/>
                  <a:pt x="3448" y="46"/>
                </a:cubicBezTo>
                <a:cubicBezTo>
                  <a:pt x="3713" y="16"/>
                  <a:pt x="3901" y="8"/>
                  <a:pt x="399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22:53:21Z</dcterms:created>
  <dc:creator>Usuario</dc:creator>
  <dc:description/>
  <dc:language>en-US</dc:language>
  <cp:lastModifiedBy>academico</cp:lastModifiedBy>
  <dcterms:modified xsi:type="dcterms:W3CDTF">2007-07-27T15:08:18Z</dcterms:modified>
  <cp:revision>7</cp:revision>
  <dc:subject/>
  <dc:title>Diapositiva 1</dc:title>
</cp:coreProperties>
</file>