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9.jpeg" ContentType="image/jpeg"/>
  <Override PartName="/ppt/media/image6.png" ContentType="image/png"/>
  <Override PartName="/ppt/media/image14.wmf" ContentType="image/x-wmf"/>
  <Override PartName="/ppt/media/image4.png" ContentType="image/png"/>
  <Override PartName="/ppt/media/image3.jpeg" ContentType="image/jpeg"/>
  <Override PartName="/ppt/media/image2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0.png" ContentType="image/png"/>
  <Override PartName="/ppt/media/image28.wmf" ContentType="image/x-wmf"/>
  <Override PartName="/ppt/media/image27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1A74-D61E-4AD4-9C9A-7A0F7E8F6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5A0-6C9F-4572-BCB9-FA77483F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66C-8A05-41BA-BA74-EBB2D4FD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351-A573-414F-A649-94E87673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D17E-87AE-4D0C-BB71-41A5B553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568-2943-48CE-A838-E74F37A5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299-C5FF-475F-A307-0EC6C8FA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778C-4675-4FA2-80B5-54E553A2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04A-2218-40DC-AA52-EEA50C9D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DB3-3CFB-4B39-B7D7-9592B9C2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9E9-6765-4E1C-A543-B6697C87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905-EF1A-4984-82D4-D42568B3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BB9A-B853-4684-A6C9-3B1D8DC52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marine.vacon.com/_FileRoot/265089.jpg&amp;imgrefurl=http://www.marine.vacon.com/265395.html&amp;h=262&amp;w=480&amp;sz=15&amp;tbnid=2GST67jUYniSIM:&amp;tbnh=68&amp;tbnw=126&amp;hl=es&amp;start=1&amp;prev=/images%3Fq%3Dtransporte%2Bfluvial%26svnum%3D10%26hl%3Des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online.petco.com.co/PetcoWebAdminCom/imagesCom/RIEGO%2520final313184646.jpg&amp;imgrefurl=http://online.petco.com.co/petcoWebUI/secure/login.aspx&amp;h=260&amp;w=250&amp;sz=38&amp;tbnid=HcqeWiyj_FFQYM:&amp;tbnh=107&amp;tbnw=102&amp;hl=es&amp;start=6&amp;prev=/images%3Fq%3Driego%26svnum%3D10%26hl%3Des%26lr%3D%26sa%3DG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04920"/>
            <a:ext cx="8077320" cy="1842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        </a:t>
            </a:r>
            <a:r>
              <a:rPr b="1" lang="es-ES_tradnl" sz="3600" spc="-1" strike="noStrike">
                <a:solidFill>
                  <a:srgbClr val="0033cc"/>
                </a:solidFill>
                <a:latin typeface="NSimSun"/>
              </a:rPr>
              <a:t>Enfrentando la Escas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828800"/>
            <a:ext cx="79250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Ciudades cerca del agua; nos bañamos en el agua; jugamos en el agua;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</a:rPr>
              <a:t>trabajamos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con e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s economías están en gran parte basadas sobre la fuerza de su corriente, el transporte a través de ella y, todos los productos que compramos y vendemos están vinculados, de una u otra manera, a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5005440"/>
            <a:ext cx="2049480" cy="1106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5105520"/>
            <a:ext cx="1164960" cy="1222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352680" y="5105520"/>
            <a:ext cx="1189080" cy="1189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8240760" y="333360"/>
            <a:ext cx="9032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04640"/>
            <a:ext cx="9144000" cy="64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os países en vías de desarrollo sufren de manera desproporcionada las consecuencias de los desastres naturales, siendo sus pérdidas unas 5 veces más elevadas por unidad de Producto Interior Bruto (PIB) que las de los países 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419640" y="981000"/>
            <a:ext cx="5429160" cy="356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2036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533520"/>
            <a:ext cx="9144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CI41C HIDROLOGÍA CURSO ENTRADA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OBLIGATORIO</a:t>
            </a:r>
            <a:r>
              <a:rPr b="1" lang="en-US" sz="3600" spc="-1" strike="noStrike">
                <a:solidFill>
                  <a:srgbClr val="0033cc"/>
                </a:solidFill>
                <a:latin typeface="NSimSu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PARA LA CARRERA INGENIERÍA CIVIL MENCIÓN HIDRÁULICA SANITARIA-AMBIENTAL Y DEL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NSimSun"/>
              </a:rPr>
              <a:t>MAGÍSTER</a:t>
            </a: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 EN CIENCIAS DE LA INGENIERÍA MENCIÓN RECURSOS Y MEDIO AMBIENTE HÍDRICO</a:t>
            </a:r>
            <a:r>
              <a:rPr b="1" lang="en-US" sz="3200" spc="-1" strike="noStrike">
                <a:solidFill>
                  <a:srgbClr val="0099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" y="5059440"/>
            <a:ext cx="7619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ff"/>
                </a:solidFill>
                <a:latin typeface="Trebuchet MS"/>
              </a:rPr>
              <a:t>¿</a:t>
            </a: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POR QUÉ DECIDIÓ SEGUIR ESTA MENCIÓN O EL MAGÍS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NSimSun"/>
              </a:rPr>
              <a:t>¿QUÉ ESPERA DEL CUR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8763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Viaducto del Malleco"/>
          <p:cNvPicPr/>
          <p:nvPr/>
        </p:nvPicPr>
        <p:blipFill>
          <a:blip r:embed="rId1"/>
          <a:stretch/>
        </p:blipFill>
        <p:spPr>
          <a:xfrm>
            <a:off x="0" y="0"/>
            <a:ext cx="9144000" cy="1542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1752480"/>
            <a:ext cx="647712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PROGRAMA DEL 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86000"/>
            <a:ext cx="891540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Times New Roman"/>
              </a:rPr>
              <a:t>	</a:t>
            </a:r>
            <a:r>
              <a:rPr b="1" lang="fr-FR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I-41C HIDROLOGIA    </a:t>
            </a:r>
            <a:r>
              <a:rPr b="1" lang="fr-FR" sz="2400" spc="-1" strike="noStrike">
                <a:solidFill>
                  <a:srgbClr val="3333cc"/>
                </a:solidFill>
                <a:latin typeface="NSimSun"/>
                <a:ea typeface="Arial"/>
              </a:rPr>
              <a:t>10 U.D.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DH:(4,5-2-3,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REQUISITOS CI-41A, MA34B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OBJETIVOS: Al término del curso el alumno 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expl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os conceptos básicos relativos a la ocurrencia del agua en la superficie de la Tierra, conceptualizando los procesos a los que este recurso queda sometido y las interrelaciones del agua con el me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	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rá capaz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NSimSun"/>
                <a:ea typeface="Arial"/>
              </a:rPr>
              <a:t>cuantificar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la disponibilidad del recurso y variables asociadas, con el fin de definir los parámetros de diseño de obras de ingenier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90720" y="1447920"/>
            <a:ext cx="23619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Trebuchet MS"/>
              </a:rPr>
              <a:t>CALEND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2096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Cálculo de la Nota Fi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F = 0,67 NC + 0,33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NC = (C1+C2+EX)/3; EX tiene ponderación doble si esta nota reemplaza a una nota de control Ci &lt;  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  <a:ea typeface="Arial"/>
              </a:rPr>
              <a:t>El promedio de las presentaciones P  se considera equivalente a un ejercicio obligatorio. Su evaluación será en función de la presentación oral y de los informes correspondientes 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Se aprueba el curso si EX &gt; 2, C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  y  E </a:t>
            </a:r>
            <a:r>
              <a:rPr b="1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  <a:ea typeface="Arial"/>
              </a:rPr>
              <a:t> 4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334120" y="2514600"/>
            <a:ext cx="228600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26920" y="907920"/>
            <a:ext cx="7201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Qué es Hidrologí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Ciencias de la Tierra se relaciona y por qué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SimSun"/>
              </a:rPr>
              <a:t>¿Con qué disciplinas se relacio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72000" y="2762280"/>
            <a:ext cx="5472000" cy="4095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9480" y="304920"/>
            <a:ext cx="8077320" cy="1015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2 DE MARZO: DÍA MUNDIAL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NSimSun"/>
              </a:rPr>
              <a:t>2007: </a:t>
            </a:r>
            <a:r>
              <a:rPr b="1" lang="es-ES_tradnl" sz="2400" spc="-1" strike="noStrike">
                <a:solidFill>
                  <a:srgbClr val="0033cc"/>
                </a:solidFill>
                <a:latin typeface="Trebuchet MS"/>
              </a:rPr>
              <a:t>Enfrentando la Escas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773360"/>
            <a:ext cx="79246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vida diaria se desarrolla y se configura en torno al agua. Sin el agua que nos rodea - la humedad del aire,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fuerza de la corriente fluvi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el agua del grifo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nuestra exist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sería inconceb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51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2849400"/>
              <a:ext cx="9144000" cy="115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6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91628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Basándose en el título del primer Informe de las Naciones Unidas sobre el Desarrollo de los Recursos Hídricos en el mundo “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Agua para Todos, Agua para la Vida”,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Asamblea de las Naciones Unidas decidió proclamar, el período 2005-2015 Decenio Internacional para la Acción "El agua, fuente de vida", empezando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Día Mundial del Agua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 (22 de marzo de 2005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4581360"/>
          <a:ext cx="7707240" cy="22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4581360"/>
                    <a:ext cx="770724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Water for Life logo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1209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3880" y="380880"/>
            <a:ext cx="746784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2005-2015: Decenio Internacional para la Acción " 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El agua, fuente de vida</a:t>
            </a:r>
            <a:r>
              <a:rPr b="1" lang="es-CL" sz="2400" spc="-1" strike="noStrike">
                <a:solidFill>
                  <a:srgbClr val="0467a2"/>
                </a:solidFill>
                <a:latin typeface="NSimSun"/>
              </a:rPr>
              <a:t> 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789360"/>
            <a:ext cx="868680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La Resolución indica que el Decenio ha de tener como objetivo principal ocuparse más a fondo de las cuestiones relativas al agua y de la ejecución de programas y  proyectos sobre agua, con el fin de ayudar a alcanzar los objetivos relativos al agua acordados a nivel internacional y contenidos en el 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Programa 21</a:t>
            </a:r>
            <a:r>
              <a:rPr b="1" lang="es-CL" sz="2400" spc="-1" strike="noStrike">
                <a:solidFill>
                  <a:srgbClr val="3333cc"/>
                </a:solidFill>
                <a:latin typeface="NSimSun"/>
              </a:rPr>
              <a:t>, entre o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140940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651640" y="1341360"/>
            <a:ext cx="33336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268360" y="1341360"/>
            <a:ext cx="35769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404640"/>
            <a:ext cx="8820000" cy="69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60 y 2004, se produjo un aumento significativo de eventos extremos relacionados con el agua, como inundaciones, vendavales, sequías y desprendimientos de ti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estadísticas del Centro de Investigación sobre Epidemiología de Desastres (CRED) en Bélgica, indican que durante el período entre 1996 y 2005, cerca del 80% de todos los desastres naturales fueron de origen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meteo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 o </a:t>
            </a:r>
            <a:r>
              <a:rPr b="1" lang="en-US" sz="2400" spc="-1" strike="noStrike">
                <a:solidFill>
                  <a:srgbClr val="0033cc"/>
                </a:solidFill>
                <a:latin typeface="NSimSun"/>
              </a:rPr>
              <a:t>hidrológico</a:t>
            </a: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2371680" cy="1666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88000" y="2276640"/>
            <a:ext cx="1905120" cy="2266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381480" y="2629080"/>
            <a:ext cx="2381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404640"/>
            <a:ext cx="9144000" cy="73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Se calcula que entre 1992 y 2001 las pérdidas por desastres relacionados con el agua se elevaron a 446.000 millones de USD a nivel mundial, lo que representa un 65% de las pérdidas económicas causadas por la totalidad de los desastres natu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l aumento de personas afectadas por desastres naturales desde principios del siglo XXI es alarmante: durante el período de 2000 a 2004, 1.942 desastres relacionados con el agua se cobraron la vida de 427.045 personas y afectaron a más de 1.500 millones de personas, según la información recogida en la base de datos del CRED </a:t>
            </a:r>
            <a:r>
              <a:rPr b="1" lang="en-US" sz="800" spc="-1" strike="noStrike">
                <a:solidFill>
                  <a:srgbClr val="0033cc"/>
                </a:solidFill>
                <a:latin typeface="NSimSun"/>
              </a:rPr>
              <a:t>(CENTRO DE INVESTIGACIÓN DE EPIDEMIOLOGÍA DE  DESASTRE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46098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04640"/>
            <a:ext cx="9144000" cy="32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0 y 2004 la distribución de desastres relacionados con el agua por región fue: Asia 38%, América 25%, África 21%, Europa 11% y Oceanía 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Las inundaciones representaron más del 65% de las personas afectadas por desastres naturales, mientras que el hambre afectó casi al 2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50920" y="3500280"/>
          <a:ext cx="4600440" cy="24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500280"/>
                    <a:ext cx="460044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364000" y="3645000"/>
            <a:ext cx="33354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401760"/>
            <a:ext cx="9144000" cy="72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NSimSun"/>
              </a:rPr>
              <a:t>HECHOS Y CIFRAS SOBRE EL AGUA Y LOS DESASTRE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73 y 1997, cerca de 66 millones de personas al año sufrieron daños a causa de las inundaciones, por lo que se considera que las inundaciones son los desastres naturales de efectos más devast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33cc"/>
              </a:buClr>
              <a:buFont typeface="NSimSu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SimSun"/>
              </a:rPr>
              <a:t>Entre 1991 y 2000 las sequías fueron responsables de más de 280.000 muertes y se cobraron decenas de millones de USD en d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708280"/>
            <a:ext cx="280836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SimSun"/>
              </a:rPr>
              <a:t>http://teletrece.canal13.cl/t13/html/Noticias/Chile/Idiaq8Amesq6Aanoq2006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42544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3722760" cy="2563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291440" y="0"/>
            <a:ext cx="185256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3240000" cy="240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79640" y="249228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Turista en el Vaticano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56000" y="404640"/>
            <a:ext cx="302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a mujer bengalí abandona su casa debido al desborde del Río Padma (Bangladesh)Em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805360"/>
            <a:ext cx="345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Un joven rema en su bote a través de las aguas en Evesham, en el centro de Inglaterra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48360" y="3357720"/>
            <a:ext cx="359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NSimSun"/>
              </a:rPr>
              <a:t>En el pueblo de Banyra (Pakistán) un alud provocado por las lluvias mató a 30 personas. (Emo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194440" y="4114800"/>
            <a:ext cx="3625560" cy="2643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68360" y="65530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NSimSun"/>
              </a:rPr>
              <a:t>Emol, Domingo 22 de julio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20:39:56Z</dcterms:created>
  <dc:creator>xv</dc:creator>
  <dc:description/>
  <dc:language>en-US</dc:language>
  <cp:lastModifiedBy>academico</cp:lastModifiedBy>
  <dcterms:modified xsi:type="dcterms:W3CDTF">2007-07-22T23:07:33Z</dcterms:modified>
  <cp:revision>16</cp:revision>
  <dc:subject/>
  <dc:title>Presentación de PowerPoint</dc:title>
</cp:coreProperties>
</file>