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5.wmf" ContentType="image/x-wmf"/>
  <Override PartName="/ppt/media/image11.png" ContentType="image/png"/>
  <Override PartName="/ppt/media/image19.jpeg" ContentType="image/jpeg"/>
  <Override PartName="/ppt/media/image6.png" ContentType="image/png"/>
  <Override PartName="/ppt/media/image14.wmf" ContentType="image/x-wmf"/>
  <Override PartName="/ppt/media/image4.png" ContentType="image/png"/>
  <Override PartName="/ppt/media/image3.jpeg" ContentType="image/jpeg"/>
  <Override PartName="/ppt/media/image2.jpeg" ContentType="image/jpeg"/>
  <Override PartName="/ppt/media/image26.jpeg" ContentType="image/jpeg"/>
  <Override PartName="/ppt/media/image25.jpeg" ContentType="image/jpeg"/>
  <Override PartName="/ppt/media/image24.png" ContentType="image/png"/>
  <Override PartName="/ppt/media/image18.jpeg" ContentType="image/jpeg"/>
  <Override PartName="/ppt/media/image23.png" ContentType="image/png"/>
  <Override PartName="/ppt/media/image5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7.png" ContentType="image/png"/>
  <Override PartName="/ppt/media/image10.png" ContentType="image/png"/>
  <Override PartName="/ppt/media/image28.wmf" ContentType="image/x-wmf"/>
  <Override PartName="/ppt/media/image27.jpeg" ContentType="image/jpe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7602-D253-4DFB-846A-64F6D1D1A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5069-4872-454B-8008-A576A8AC3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D925-C990-458E-B0EC-605384345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471F-9670-4C1E-9144-1C95B9E67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84A7-96E9-4BE2-B846-CD89D59D0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D8A5-2B2A-4FEA-8204-9E92E73D2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8955-42C5-4259-9DD2-DC757198C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58BB-0F8F-4EFE-9743-157055ADD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54DC-42E5-49CE-A78E-6D586506B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E526-474F-44C3-9208-C9FDFBEF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4CED-11D1-4394-B2ED-086BDFECB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79D5-E462-4C83-89D2-DB847D0D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9D5A2-037D-4BC5-BE3A-57774D7E43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www.marine.vacon.com/_FileRoot/265089.jpg&amp;imgrefurl=http://www.marine.vacon.com/265395.html&amp;h=262&amp;w=480&amp;sz=15&amp;tbnid=2GST67jUYniSIM:&amp;tbnh=68&amp;tbnw=126&amp;hl=es&amp;start=1&amp;prev=/images%3Fq%3Dtransporte%2Bfluvial%26svnum%3D10%26hl%3Des%26lr%3D%26sa%3D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l/imgres?imgurl=http://online.petco.com.co/PetcoWebAdminCom/imagesCom/RIEGO%2520final313184646.jpg&amp;imgrefurl=http://online.petco.com.co/petcoWebUI/secure/login.aspx&amp;h=260&amp;w=250&amp;sz=38&amp;tbnid=HcqeWiyj_FFQYM:&amp;tbnh=107&amp;tbnw=102&amp;hl=es&amp;start=6&amp;prev=/images%3Fq%3Driego%26svnum%3D10%26hl%3Des%26lr%3D%26sa%3DG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304920"/>
            <a:ext cx="8077320" cy="1842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NSimSun"/>
              </a:rPr>
              <a:t>22 DE MARZO: DÍA MUNDIAL DEL A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NSimSun"/>
              </a:rPr>
              <a:t> </a:t>
            </a:r>
            <a:r>
              <a:rPr b="1" lang="es-ES_tradnl" sz="2400" spc="-1" strike="noStrike">
                <a:solidFill>
                  <a:srgbClr val="3333cc"/>
                </a:solidFill>
                <a:latin typeface="NSimSun"/>
              </a:rPr>
              <a:t>2007:         </a:t>
            </a:r>
            <a:r>
              <a:rPr b="1" lang="es-ES_tradnl" sz="3600" spc="-1" strike="noStrike">
                <a:solidFill>
                  <a:srgbClr val="0033cc"/>
                </a:solidFill>
                <a:latin typeface="NSimSun"/>
              </a:rPr>
              <a:t>Enfrentando la Escase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1828800"/>
            <a:ext cx="792504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Ciudades cerca del agua; nos bañamos en el agua; jugamos en el agua; </a:t>
            </a:r>
            <a:r>
              <a:rPr b="1" lang="es-CL" sz="2400" spc="-1" strike="noStrike" u="sng">
                <a:solidFill>
                  <a:srgbClr val="3333cc"/>
                </a:solidFill>
                <a:uFillTx/>
                <a:latin typeface="NSimSun"/>
              </a:rPr>
              <a:t>trabajamos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 con el agu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Nuestras economías están en gran parte basadas sobre la fuerza de su corriente, el transporte a través de ella y, todos los productos que compramos y vendemos están vinculados, de una u otra manera, al agu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72200" y="5005440"/>
            <a:ext cx="2049480" cy="1106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62120" y="5105520"/>
            <a:ext cx="1164960" cy="1222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3352680" y="5105520"/>
            <a:ext cx="1189080" cy="1189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8240760" y="333360"/>
            <a:ext cx="903240" cy="12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404640"/>
            <a:ext cx="9144000" cy="64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NSimSun"/>
              </a:rPr>
              <a:t>HECHOS Y CIFRAS SOBRE EL AGUA Y LOS DESASTRES NATU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SimSun"/>
              </a:rPr>
              <a:t>Los países en vías de desarrollo sufren de manera desproporcionada las consecuencias de los desastres naturales, siendo sus pérdidas unas 5 veces más elevadas por unidad de Producto Interior Bruto (PIB) que las de los países r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419640" y="981000"/>
            <a:ext cx="5429160" cy="35625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320364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0400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" dur="1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5335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SimSun"/>
              </a:rPr>
              <a:t>CI41C HIDROLOGÍA CURSO ENTRADA </a:t>
            </a:r>
            <a:r>
              <a:rPr b="1" lang="en-US" sz="3600" spc="-1" strike="noStrike" u="sng">
                <a:solidFill>
                  <a:srgbClr val="0033cc"/>
                </a:solidFill>
                <a:uFillTx/>
                <a:latin typeface="NSimSun"/>
              </a:rPr>
              <a:t>OBLIGATORIO</a:t>
            </a:r>
            <a:r>
              <a:rPr b="1" lang="en-US" sz="3600" spc="-1" strike="noStrike">
                <a:solidFill>
                  <a:srgbClr val="0033cc"/>
                </a:solidFill>
                <a:latin typeface="NSimSun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NSimSun"/>
              </a:rPr>
              <a:t>PARA LA CARRERA INGENIERÍA CIVIL MENCIÓN HIDRÁULICA SANITARIA-AMBIENTAL Y DEL </a:t>
            </a:r>
            <a:r>
              <a:rPr b="1" lang="en-US" sz="3600" spc="-1" strike="noStrike" u="sng">
                <a:solidFill>
                  <a:srgbClr val="0033cc"/>
                </a:solidFill>
                <a:uFillTx/>
                <a:latin typeface="NSimSun"/>
              </a:rPr>
              <a:t>MAGÍSTER</a:t>
            </a:r>
            <a:r>
              <a:rPr b="1" lang="en-US" sz="3200" spc="-1" strike="noStrike">
                <a:solidFill>
                  <a:srgbClr val="0033cc"/>
                </a:solidFill>
                <a:latin typeface="NSimSun"/>
              </a:rPr>
              <a:t> EN CIENCIAS DE LA INGENIERÍA MENCIÓN RECURSOS Y MEDIO AMBIENTE HÍDRICO</a:t>
            </a:r>
            <a:r>
              <a:rPr b="1" lang="en-US" sz="3200" spc="-1" strike="noStrike">
                <a:solidFill>
                  <a:srgbClr val="0099ff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4360" y="5059440"/>
            <a:ext cx="7619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99ff"/>
                </a:solidFill>
                <a:latin typeface="Trebuchet MS"/>
              </a:rPr>
              <a:t>¿</a:t>
            </a:r>
            <a:r>
              <a:rPr b="1" lang="es-ES_tradnl" sz="3200" spc="-1" strike="noStrike">
                <a:solidFill>
                  <a:srgbClr val="0033cc"/>
                </a:solidFill>
                <a:latin typeface="NSimSun"/>
              </a:rPr>
              <a:t>POR QUÉ DECIDIÓ SEGUIR ESTA MENCIÓN O EL MAGÍST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NSimSun"/>
              </a:rPr>
              <a:t>¿QUÉ ESPERA DEL CURS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3573360"/>
            <a:ext cx="876312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Viaducto del Malleco"/>
          <p:cNvPicPr/>
          <p:nvPr/>
        </p:nvPicPr>
        <p:blipFill>
          <a:blip r:embed="rId1"/>
          <a:stretch/>
        </p:blipFill>
        <p:spPr>
          <a:xfrm>
            <a:off x="0" y="0"/>
            <a:ext cx="9144000" cy="15429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85800" y="1752480"/>
            <a:ext cx="647712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Trebuchet MS"/>
              </a:rPr>
              <a:t>PROGRAMA DEL CUR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2286000"/>
            <a:ext cx="8915400" cy="54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Times New Roman"/>
              </a:rPr>
              <a:t>	</a:t>
            </a:r>
            <a:r>
              <a:rPr b="1" lang="fr-FR" sz="2400" spc="-1" strike="noStrike" u="sng">
                <a:solidFill>
                  <a:srgbClr val="3333cc"/>
                </a:solidFill>
                <a:uFillTx/>
                <a:latin typeface="NSimSun"/>
                <a:ea typeface="Arial"/>
              </a:rPr>
              <a:t>CI-41C HIDROLOGIA    </a:t>
            </a:r>
            <a:r>
              <a:rPr b="1" lang="fr-FR" sz="2400" spc="-1" strike="noStrike">
                <a:solidFill>
                  <a:srgbClr val="3333cc"/>
                </a:solidFill>
                <a:latin typeface="NSimSun"/>
                <a:ea typeface="Arial"/>
              </a:rPr>
              <a:t>10 U.D. 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DH:(4,5-2-3,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REQUISITOS CI-41A, MA34B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	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OBJETIVOS: Al término del curso el alumno será capaz de </a:t>
            </a:r>
            <a:r>
              <a:rPr b="1" lang="es-CL" sz="2400" spc="-1" strike="noStrike" u="sng">
                <a:solidFill>
                  <a:srgbClr val="3333cc"/>
                </a:solidFill>
                <a:uFillTx/>
                <a:latin typeface="NSimSun"/>
                <a:ea typeface="Arial"/>
              </a:rPr>
              <a:t>explicar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 los conceptos básicos relativos a la ocurrencia del agua en la superficie de la Tierra, conceptualizando los procesos a los que este recurso queda sometido y las interrelaciones del agua con el med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 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	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Será capaz de </a:t>
            </a:r>
            <a:r>
              <a:rPr b="1" lang="es-CL" sz="2400" spc="-1" strike="noStrike" u="sng">
                <a:solidFill>
                  <a:srgbClr val="3333cc"/>
                </a:solidFill>
                <a:uFillTx/>
                <a:latin typeface="NSimSun"/>
                <a:ea typeface="Arial"/>
              </a:rPr>
              <a:t>cuantificar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 la disponibilidad del recurso y variables asociadas, con el fin de definir los parámetros de diseño de obras de ingenierí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990720" y="1447920"/>
            <a:ext cx="23619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Trebuchet MS"/>
              </a:rPr>
              <a:t>CALEND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209680"/>
            <a:ext cx="822960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Cálculo de la Nota Fin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NF = 0,67 NC + 0,33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NC = (C1+C2+EX)/3; EX tiene ponderación doble si esta nota reemplaza a una nota de control Ci &lt;  EX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NSimSun"/>
                <a:ea typeface="Arial"/>
              </a:rPr>
              <a:t>El promedio de las presentaciones P  se considera equivalente a un ejercicio obligatorio. Su evaluación será en función de la presentación oral y de los informes correspondientes  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Se aprueba el curso si EX &gt; 2, C </a:t>
            </a:r>
            <a:r>
              <a:rPr b="1" lang="es-CL" sz="2400" spc="-1" strike="noStrike">
                <a:solidFill>
                  <a:srgbClr val="3333cc"/>
                </a:solidFill>
                <a:latin typeface="Symbol"/>
                <a:ea typeface="Symbol"/>
              </a:rPr>
              <a:t>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 4,0  y  E </a:t>
            </a:r>
            <a:r>
              <a:rPr b="1" lang="es-CL" sz="2400" spc="-1" strike="noStrike">
                <a:solidFill>
                  <a:srgbClr val="3333cc"/>
                </a:solidFill>
                <a:latin typeface="Symbol"/>
                <a:ea typeface="Symbol"/>
              </a:rPr>
              <a:t>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 4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334120" y="2514600"/>
            <a:ext cx="2286000" cy="8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826920" y="907920"/>
            <a:ext cx="720108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SimSun"/>
              </a:rPr>
              <a:t>¿Qué es Hidrologí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SimSun"/>
              </a:rPr>
              <a:t>¿Con qué Ciencias de la Tierra se relaciona y por qué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SimSun"/>
              </a:rPr>
              <a:t>¿Con qué disciplinas se relacion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672000" y="2762280"/>
            <a:ext cx="5472000" cy="4095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09480" y="304920"/>
            <a:ext cx="8077320" cy="1015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NSimSun"/>
              </a:rPr>
              <a:t>22 DE MARZO: DÍA MUNDIAL DEL A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NSimSun"/>
              </a:rPr>
              <a:t> </a:t>
            </a:r>
            <a:r>
              <a:rPr b="1" lang="es-ES_tradnl" sz="2400" spc="-1" strike="noStrike">
                <a:solidFill>
                  <a:srgbClr val="3333cc"/>
                </a:solidFill>
                <a:latin typeface="NSimSun"/>
              </a:rPr>
              <a:t>2007: </a:t>
            </a:r>
            <a:r>
              <a:rPr b="1" lang="es-ES_tradnl" sz="2400" spc="-1" strike="noStrike">
                <a:solidFill>
                  <a:srgbClr val="0033cc"/>
                </a:solidFill>
                <a:latin typeface="Trebuchet MS"/>
              </a:rPr>
              <a:t>Enfrentando la Escas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1773360"/>
            <a:ext cx="792468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Nuestra vida diaria se desarrolla y se configura en torno al agua. Sin el agua que nos rodea - la humedad del aire, 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fuerza de la corriente fluvia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el agua del grifo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nuestra existenc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sería inconcebib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2849400"/>
            <a:ext cx="9144000" cy="1158840"/>
            <a:chOff x="0" y="2849400"/>
            <a:chExt cx="9144000" cy="1158840"/>
          </a:xfrm>
        </p:grpSpPr>
        <p:sp>
          <p:nvSpPr>
            <p:cNvPr id="51" name=""/>
            <p:cNvSpPr/>
            <p:nvPr/>
          </p:nvSpPr>
          <p:spPr>
            <a:xfrm>
              <a:off x="0" y="2849400"/>
              <a:ext cx="9144000" cy="115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2849400"/>
              <a:ext cx="9144000" cy="115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60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                     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3" name="" descr="Water for Life logo"/>
          <p:cNvPicPr/>
          <p:nvPr/>
        </p:nvPicPr>
        <p:blipFill>
          <a:blip r:embed="rId1"/>
          <a:stretch/>
        </p:blipFill>
        <p:spPr>
          <a:xfrm>
            <a:off x="228600" y="304920"/>
            <a:ext cx="1295280" cy="12096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523880" y="380880"/>
            <a:ext cx="7467840" cy="825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467a2"/>
                </a:solidFill>
                <a:latin typeface="NSimSun"/>
              </a:rPr>
              <a:t>2005-2015: Decenio Internacional para la Acción " </a:t>
            </a:r>
            <a:r>
              <a:rPr b="1" lang="es-CL" sz="2400" spc="-1" strike="noStrike">
                <a:solidFill>
                  <a:srgbClr val="0467a2"/>
                </a:solidFill>
                <a:latin typeface="NSimSun"/>
              </a:rPr>
              <a:t>El agua, fuente de vida</a:t>
            </a:r>
            <a:r>
              <a:rPr b="1" lang="es-CL" sz="2400" spc="-1" strike="noStrike">
                <a:solidFill>
                  <a:srgbClr val="0467a2"/>
                </a:solidFill>
                <a:latin typeface="NSimSun"/>
              </a:rPr>
              <a:t> 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1916280"/>
            <a:ext cx="8686800" cy="3020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Basándose en el título del primer Informe de las Naciones Unidas sobre el Desarrollo de los Recursos Hídricos en el mundo “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Agua para Todos, Agua para la Vida”,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la Asamblea de las Naciones Unidas decidió proclamar, el período 2005-2015 Decenio Internacional para la Acción "El agua, fuente de vida", empezando el 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Día Mundial del Agua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 (22 de marzo de 2005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684360" y="4581360"/>
          <a:ext cx="7707240" cy="2276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4581360"/>
                    <a:ext cx="7707240" cy="22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Water for Life logo"/>
          <p:cNvPicPr/>
          <p:nvPr/>
        </p:nvPicPr>
        <p:blipFill>
          <a:blip r:embed="rId1"/>
          <a:stretch/>
        </p:blipFill>
        <p:spPr>
          <a:xfrm>
            <a:off x="228600" y="304920"/>
            <a:ext cx="1295280" cy="12096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523880" y="380880"/>
            <a:ext cx="7467840" cy="825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467a2"/>
                </a:solidFill>
                <a:latin typeface="NSimSun"/>
              </a:rPr>
              <a:t>2005-2015: Decenio Internacional para la Acción " </a:t>
            </a:r>
            <a:r>
              <a:rPr b="1" lang="es-CL" sz="2400" spc="-1" strike="noStrike">
                <a:solidFill>
                  <a:srgbClr val="0467a2"/>
                </a:solidFill>
                <a:latin typeface="NSimSun"/>
              </a:rPr>
              <a:t>El agua, fuente de vida</a:t>
            </a:r>
            <a:r>
              <a:rPr b="1" lang="es-CL" sz="2400" spc="-1" strike="noStrike">
                <a:solidFill>
                  <a:srgbClr val="0467a2"/>
                </a:solidFill>
                <a:latin typeface="NSimSun"/>
              </a:rPr>
              <a:t> 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3789360"/>
            <a:ext cx="8686800" cy="3020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La Resolución indica que el Decenio ha de tener como objetivo principal ocuparse más a fondo de las cuestiones relativas al agua y de la ejecución de programas y  proyectos sobre agua, con el fin de ayudar a alcanzar los objetivos relativos al agua acordados a nivel internacional y contenidos en el 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Programa 21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, entre otr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84360" y="1844640"/>
            <a:ext cx="1409400" cy="17524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651640" y="1341360"/>
            <a:ext cx="3333600" cy="2286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2268360" y="1341360"/>
            <a:ext cx="357696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24000" y="404640"/>
            <a:ext cx="8820000" cy="69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NSimSun"/>
              </a:rPr>
              <a:t>HECHOS Y CIFRAS SOBRE EL AGUA Y LOS DESASTRES NATU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SimSun"/>
              </a:rPr>
              <a:t>Entre 1960 y 2004, se produjo un aumento significativo de eventos extremos relacionados con el agua, como inundaciones, vendavales, sequías y desprendimientos de tier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SimSun"/>
              </a:rPr>
              <a:t>Las estadísticas del Centro de Investigación sobre Epidemiología de Desastres (CRED) en Bélgica, indican que durante el período entre 1996 y 2005, cerca del 80% de todos los desastres naturales fueron de origen </a:t>
            </a:r>
            <a:r>
              <a:rPr b="1" lang="en-US" sz="2400" spc="-1" strike="noStrike">
                <a:solidFill>
                  <a:srgbClr val="0033cc"/>
                </a:solidFill>
                <a:latin typeface="NSimSun"/>
              </a:rPr>
              <a:t>meteorológico</a:t>
            </a:r>
            <a:r>
              <a:rPr b="1" lang="en-US" sz="2000" spc="-1" strike="noStrike">
                <a:solidFill>
                  <a:srgbClr val="0033cc"/>
                </a:solidFill>
                <a:latin typeface="NSimSun"/>
              </a:rPr>
              <a:t> o </a:t>
            </a:r>
            <a:r>
              <a:rPr b="1" lang="en-US" sz="2400" spc="-1" strike="noStrike">
                <a:solidFill>
                  <a:srgbClr val="0033cc"/>
                </a:solidFill>
                <a:latin typeface="NSimSun"/>
              </a:rPr>
              <a:t>hidrológico</a:t>
            </a:r>
            <a:r>
              <a:rPr b="1" lang="en-US" sz="2000" spc="-1" strike="noStrike">
                <a:solidFill>
                  <a:srgbClr val="0033cc"/>
                </a:solidFill>
                <a:latin typeface="NSimSu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39640" y="2205000"/>
            <a:ext cx="2371680" cy="16668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588000" y="2276640"/>
            <a:ext cx="1905120" cy="2266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3381480" y="2629080"/>
            <a:ext cx="23810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404640"/>
            <a:ext cx="9144000" cy="73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NSimSun"/>
              </a:rPr>
              <a:t>HECHOS Y CIFRAS SOBRE EL AGUA Y LOS DESASTRES NATU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SimSun"/>
              </a:rPr>
              <a:t>Se calcula que entre 1992 y 2001 las pérdidas por desastres relacionados con el agua se elevaron a 446.000 millones de USD a nivel mundial, lo que representa un 65% de las pérdidas económicas causadas por la totalidad de los desastres natur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SimSun"/>
              </a:rPr>
              <a:t>El aumento de personas afectadas por desastres naturales desde principios del siglo XXI es alarmante: durante el período de 2000 a 2004, 1.942 desastres relacionados con el agua se cobraron la vida de 427.045 personas y afectaron a más de 1.500 millones de personas, según la información recogida en la base de datos del CRED </a:t>
            </a:r>
            <a:r>
              <a:rPr b="1" lang="en-US" sz="800" spc="-1" strike="noStrike">
                <a:solidFill>
                  <a:srgbClr val="0033cc"/>
                </a:solidFill>
                <a:latin typeface="NSimSun"/>
              </a:rPr>
              <a:t>(CENTRO DE INVESTIGACIÓN DE EPIDEMIOLOGÍA DE  DESASTRES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835280" y="2276640"/>
            <a:ext cx="460980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404640"/>
            <a:ext cx="9144000" cy="32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NSimSun"/>
              </a:rPr>
              <a:t>HECHOS Y CIFRAS SOBRE EL AGUA Y LOS DESASTRES NATU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SimSun"/>
              </a:rPr>
              <a:t>Entre 1990 y 2004 la distribución de desastres relacionados con el agua por región fue: Asia 38%, América 25%, África 21%, Europa 11% y Oceanía 5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SimSun"/>
              </a:rPr>
              <a:t>Las inundaciones representaron más del 65% de las personas afectadas por desastres naturales, mientras que el hambre afectó casi al 20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250920" y="3500280"/>
          <a:ext cx="4600440" cy="2400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3500280"/>
                    <a:ext cx="4600440" cy="24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5364000" y="3645000"/>
            <a:ext cx="3335400" cy="25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401760"/>
            <a:ext cx="9144000" cy="72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cc"/>
                </a:solidFill>
                <a:uFillTx/>
                <a:latin typeface="NSimSun"/>
              </a:rPr>
              <a:t>HECHOS Y CIFRAS SOBRE EL AGUA Y LOS DESASTRES NATUR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SimSun"/>
              </a:rPr>
              <a:t>Entre 1973 y 1997, cerca de 66 millones de personas al año sufrieron daños a causa de las inundaciones, por lo que se considera que las inundaciones son los desastres naturales de efectos más devast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SimSun"/>
              </a:rPr>
              <a:t>Entre 1991 y 2000 las sequías fueron responsables de más de 280.000 muertes y se cobraron decenas de millones de USD en dañ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9640" y="2708280"/>
            <a:ext cx="2808360" cy="3020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SimSun"/>
              </a:rPr>
              <a:t>http://teletrece.canal13.cl/t13/html/Noticias/Chile/Idiaq8Amesq6Aanoq2006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067280" y="2492280"/>
            <a:ext cx="425448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3722760" cy="25639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291440" y="0"/>
            <a:ext cx="1852560" cy="2781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324000" y="3284640"/>
            <a:ext cx="3240000" cy="24048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979640" y="2492280"/>
            <a:ext cx="28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NSimSun"/>
              </a:rPr>
              <a:t>Turista en el Vaticano (Emo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56000" y="404640"/>
            <a:ext cx="3024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NSimSun"/>
              </a:rPr>
              <a:t>Una mujer bengalí abandona su casa debido al desborde del Río Padma (Bangladesh)Em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11280" y="5805360"/>
            <a:ext cx="345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NSimSun"/>
              </a:rPr>
              <a:t>Un joven rema en su bote a través de las aguas en Evesham, en el centro de Inglaterra (Emo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48360" y="3357720"/>
            <a:ext cx="3598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NSimSun"/>
              </a:rPr>
              <a:t>En el pueblo de Banyra (Pakistán) un alud provocado por las lluvias mató a 30 personas. (Emo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5194440" y="4114800"/>
            <a:ext cx="3625560" cy="2643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68360" y="6553080"/>
            <a:ext cx="40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NSimSun"/>
              </a:rPr>
              <a:t>Emol, Domingo 22 de julio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8T20:39:56Z</dcterms:created>
  <dc:creator>xv</dc:creator>
  <dc:description/>
  <dc:language>en-US</dc:language>
  <cp:lastModifiedBy>academico</cp:lastModifiedBy>
  <dcterms:modified xsi:type="dcterms:W3CDTF">2007-07-22T23:07:33Z</dcterms:modified>
  <cp:revision>16</cp:revision>
  <dc:subject/>
  <dc:title>Presentación de PowerPoint</dc:title>
</cp:coreProperties>
</file>