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B4B-F83A-4FB1-8F69-C47D3D20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C5D-13F9-4134-80D8-8353C598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A5DD-BD72-4B6B-8EC3-3D840911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120-9AB4-492E-B3E6-8DB31BF1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5DE-FDF5-4982-9FB3-EC6A0B42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0EA-540B-4FC8-B3E0-21E43E01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8E2-51EB-4F33-A64F-92C47C16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F07F-7665-4E11-8237-85E5BC32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9BA-587C-477A-94BB-1BD6F916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77E5-8020-44AE-9FAC-539FB2BE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004-16F1-48A2-81E8-560AF4F0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9435-8C5E-45B4-8F65-F5555348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BFF5-AD41-47FB-B6EC-1CDE6B721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745" r="0" b="0"/>
          <a:stretch/>
        </p:blipFill>
        <p:spPr>
          <a:xfrm>
            <a:off x="2209680" y="0"/>
            <a:ext cx="50594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6T12:49:12Z</dcterms:created>
  <dc:creator>IDIEM</dc:creator>
  <dc:description/>
  <dc:language>en-US</dc:language>
  <cp:lastModifiedBy> ivan</cp:lastModifiedBy>
  <cp:lastPrinted>2000-07-02T22:20:01Z</cp:lastPrinted>
  <dcterms:modified xsi:type="dcterms:W3CDTF">2005-06-09T03:51:30Z</dcterms:modified>
  <cp:revision>35</cp:revision>
  <dc:subject/>
  <dc:title>Sin título de diapositiva</dc:title>
</cp:coreProperties>
</file>