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2B7-EA5C-46A8-991A-262D7DF2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2D4-1E6D-488E-A076-31472D39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B0B-BBA8-43D7-91F1-384C44D6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7FD-0A0F-4E32-BD08-70DA5EE3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038-1A9C-4DF9-AC41-AAF15C8D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AFC-E7C0-45E0-9285-5ED9F65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690-9F92-47F0-B306-6E1ABA2E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DB9-815D-48BB-BD7A-A10AE40B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897-8906-4512-8D40-2F46D35D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01A-A61A-40F8-B638-F761CC10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10B-82D5-4619-A0D2-FF1D4331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7BE-1584-457F-B2B3-D116740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DB05-851D-4B72-B95B-5D04291CC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544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</a:rPr>
              <a:t>Prof. Aldo Tamburrino Tavantz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9280" y="260640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ECUACIÓN DE BERNOULLI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4843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2133720"/>
            <a:ext cx="3097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rvación de la energí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349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355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356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357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358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359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0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1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2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3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64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365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6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7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8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0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1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2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75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376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7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8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379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0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81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382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3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84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5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6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7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8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9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9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24000" y="2997360"/>
                <a:ext cx="20430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395280" y="5589720"/>
            <a:ext cx="7993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ideremos que la tubería es horizontal y que el nivel de referencia está en el eje de la tubería. Esto significa que 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y las ecuaciones de Bernoulli se reducen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416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420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422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423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424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425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426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7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8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9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0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31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432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3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4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5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6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7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8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9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0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1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42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443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4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5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446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7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8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449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0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451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2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5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6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6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9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84360" y="2133720"/>
                <a:ext cx="1546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32400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o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 , tenemos que la presión en cada sección es igual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1547640" y="5084640"/>
                <a:ext cx="5923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324000" y="60865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 sea, en las secciones de menor diámetro, el área es menor, la velocidad es mayor y la presión es men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4000" y="2708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presión es menor en las secciones de mayor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57718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19640" y="1916280"/>
            <a:ext cx="525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UBO DE VEN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 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enturi tuvo la idea de medir las presiones en la sección de mayor área y en la de menor área para determinar el caudal que escurre por la tub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24000" y="2060640"/>
            <a:ext cx="2919240" cy="4370760"/>
            <a:chOff x="324000" y="2060640"/>
            <a:chExt cx="2919240" cy="437076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324000" y="2060640"/>
              <a:ext cx="291924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396720" y="5877000"/>
              <a:ext cx="2808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GIOVANNI BATISTA VENTURI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(1746 – 182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716360" y="4221000"/>
                <a:ext cx="2241720" cy="21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1280" y="1700280"/>
            <a:ext cx="316872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dem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emplazando en la ecuación anteri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851280" y="2565360"/>
                <a:ext cx="2521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132000" y="3716280"/>
                <a:ext cx="3446640" cy="28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1700280"/>
            <a:ext cx="8640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as aplicaciones prácticas se 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onde C es una constante empírica que se calibra para cada venturí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419640" y="3284640"/>
                <a:ext cx="23047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C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4000" y="1700280"/>
            <a:ext cx="8640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AFRAGMA o PLACA ORIF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ismo principio que el usado en el venturímetro se utiliza en la placa orificio o diafrag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340000" y="3213000"/>
            <a:ext cx="5049720" cy="2673360"/>
            <a:chOff x="2340000" y="3213000"/>
            <a:chExt cx="5049720" cy="2673360"/>
          </a:xfrm>
        </p:grpSpPr>
        <p:grpSp>
          <p:nvGrpSpPr>
            <p:cNvPr id="502" name=""/>
            <p:cNvGrpSpPr/>
            <p:nvPr/>
          </p:nvGrpSpPr>
          <p:grpSpPr>
            <a:xfrm>
              <a:off x="2340000" y="3213000"/>
              <a:ext cx="5049720" cy="2592000"/>
              <a:chOff x="2340000" y="3213000"/>
              <a:chExt cx="5049720" cy="259200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2340000" y="3213000"/>
                <a:ext cx="5049720" cy="2016000"/>
                <a:chOff x="2340000" y="3213000"/>
                <a:chExt cx="5049720" cy="2016000"/>
              </a:xfrm>
            </p:grpSpPr>
            <p:grpSp>
              <p:nvGrpSpPr>
                <p:cNvPr id="504" name=""/>
                <p:cNvGrpSpPr/>
                <p:nvPr/>
              </p:nvGrpSpPr>
              <p:grpSpPr>
                <a:xfrm>
                  <a:off x="2340000" y="3213000"/>
                  <a:ext cx="5049720" cy="2016000"/>
                  <a:chOff x="2340000" y="3213000"/>
                  <a:chExt cx="5049720" cy="2016000"/>
                </a:xfrm>
              </p:grpSpPr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2340000" y="3789000"/>
                    <a:ext cx="5049720" cy="1440000"/>
                    <a:chOff x="2340000" y="3789000"/>
                    <a:chExt cx="5049720" cy="1440000"/>
                  </a:xfrm>
                </p:grpSpPr>
                <p:grpSp>
                  <p:nvGrpSpPr>
                    <p:cNvPr id="506" name=""/>
                    <p:cNvGrpSpPr/>
                    <p:nvPr/>
                  </p:nvGrpSpPr>
                  <p:grpSpPr>
                    <a:xfrm>
                      <a:off x="2340000" y="4077000"/>
                      <a:ext cx="5049720" cy="1152000"/>
                      <a:chOff x="2340000" y="4077000"/>
                      <a:chExt cx="5049720" cy="1152000"/>
                    </a:xfrm>
                  </p:grpSpPr>
                  <p:grpSp>
                    <p:nvGrpSpPr>
                      <p:cNvPr id="507" name=""/>
                      <p:cNvGrpSpPr/>
                      <p:nvPr/>
                    </p:nvGrpSpPr>
                    <p:grpSpPr>
                      <a:xfrm>
                        <a:off x="2340000" y="4077000"/>
                        <a:ext cx="5049720" cy="1152000"/>
                        <a:chOff x="2340000" y="4077000"/>
                        <a:chExt cx="5049720" cy="1152000"/>
                      </a:xfrm>
                    </p:grpSpPr>
                    <p:grpSp>
                      <p:nvGrpSpPr>
                        <p:cNvPr id="508" name=""/>
                        <p:cNvGrpSpPr/>
                        <p:nvPr/>
                      </p:nvGrpSpPr>
                      <p:grpSpPr>
                        <a:xfrm>
                          <a:off x="2340000" y="4077000"/>
                          <a:ext cx="5049720" cy="1152000"/>
                          <a:chOff x="2340000" y="4077000"/>
                          <a:chExt cx="5049720" cy="1152000"/>
                        </a:xfrm>
                      </p:grpSpPr>
                      <p:sp>
                        <p:nvSpPr>
                          <p:cNvPr id="509" name=""/>
                          <p:cNvSpPr/>
                          <p:nvPr/>
                        </p:nvSpPr>
                        <p:spPr>
                          <a:xfrm>
                            <a:off x="2340000" y="4077000"/>
                            <a:ext cx="5049720" cy="1152000"/>
                          </a:xfrm>
                          <a:prstGeom prst="rect">
                            <a:avLst/>
                          </a:prstGeom>
                          <a:solidFill>
                            <a:srgbClr val="3366ff"/>
                          </a:solidFill>
                          <a:ln w="9360">
                            <a:solidFill>
                              <a:srgbClr val="3366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0" name=""/>
                          <p:cNvSpPr/>
                          <p:nvPr/>
                        </p:nvSpPr>
                        <p:spPr>
                          <a:xfrm>
                            <a:off x="4023000" y="4077000"/>
                            <a:ext cx="0" cy="2876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1" name=""/>
                          <p:cNvSpPr/>
                          <p:nvPr/>
                        </p:nvSpPr>
                        <p:spPr>
                          <a:xfrm>
                            <a:off x="4023000" y="4941000"/>
                            <a:ext cx="0" cy="2880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>
                          <a:off x="2340000" y="4077000"/>
                          <a:ext cx="504972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>
                          <a:off x="2340000" y="5229000"/>
                          <a:ext cx="504972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4023000" y="4119120"/>
                        <a:ext cx="1526400" cy="32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9" h="410">
                            <a:moveTo>
                              <a:pt x="0" y="307"/>
                            </a:moveTo>
                            <a:cubicBezTo>
                              <a:pt x="19" y="318"/>
                              <a:pt x="55" y="359"/>
                              <a:pt x="114" y="375"/>
                            </a:cubicBezTo>
                            <a:cubicBezTo>
                              <a:pt x="173" y="391"/>
                              <a:pt x="279" y="410"/>
                              <a:pt x="354" y="405"/>
                            </a:cubicBezTo>
                            <a:cubicBezTo>
                              <a:pt x="429" y="400"/>
                              <a:pt x="484" y="375"/>
                              <a:pt x="564" y="345"/>
                            </a:cubicBezTo>
                            <a:cubicBezTo>
                              <a:pt x="644" y="315"/>
                              <a:pt x="737" y="262"/>
                              <a:pt x="834" y="225"/>
                            </a:cubicBezTo>
                            <a:cubicBezTo>
                              <a:pt x="931" y="188"/>
                              <a:pt x="1047" y="150"/>
                              <a:pt x="1149" y="120"/>
                            </a:cubicBezTo>
                            <a:cubicBezTo>
                              <a:pt x="1251" y="90"/>
                              <a:pt x="1314" y="65"/>
                              <a:pt x="1449" y="45"/>
                            </a:cubicBezTo>
                            <a:cubicBezTo>
                              <a:pt x="1584" y="25"/>
                              <a:pt x="1853" y="9"/>
                              <a:pt x="195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flipV="1">
                        <a:off x="4011480" y="4844880"/>
                        <a:ext cx="1526400" cy="34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9" h="410">
                            <a:moveTo>
                              <a:pt x="0" y="307"/>
                            </a:moveTo>
                            <a:cubicBezTo>
                              <a:pt x="19" y="318"/>
                              <a:pt x="55" y="359"/>
                              <a:pt x="114" y="375"/>
                            </a:cubicBezTo>
                            <a:cubicBezTo>
                              <a:pt x="173" y="391"/>
                              <a:pt x="279" y="410"/>
                              <a:pt x="354" y="405"/>
                            </a:cubicBezTo>
                            <a:cubicBezTo>
                              <a:pt x="429" y="400"/>
                              <a:pt x="484" y="375"/>
                              <a:pt x="564" y="345"/>
                            </a:cubicBezTo>
                            <a:cubicBezTo>
                              <a:pt x="644" y="315"/>
                              <a:pt x="737" y="262"/>
                              <a:pt x="834" y="225"/>
                            </a:cubicBezTo>
                            <a:cubicBezTo>
                              <a:pt x="931" y="188"/>
                              <a:pt x="1047" y="150"/>
                              <a:pt x="1149" y="120"/>
                            </a:cubicBezTo>
                            <a:cubicBezTo>
                              <a:pt x="1251" y="90"/>
                              <a:pt x="1314" y="65"/>
                              <a:pt x="1449" y="45"/>
                            </a:cubicBezTo>
                            <a:cubicBezTo>
                              <a:pt x="1584" y="25"/>
                              <a:pt x="1853" y="9"/>
                              <a:pt x="195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3181320" y="3789000"/>
                      <a:ext cx="0" cy="2880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4303440" y="3789000"/>
                      <a:ext cx="0" cy="2880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3181320" y="3789000"/>
                      <a:ext cx="0" cy="576000"/>
                    </a:xfrm>
                    <a:prstGeom prst="line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4303440" y="3789000"/>
                      <a:ext cx="0" cy="576000"/>
                    </a:xfrm>
                    <a:prstGeom prst="line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2900880" y="3213000"/>
                    <a:ext cx="560880" cy="57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4023000" y="3213000"/>
                    <a:ext cx="560880" cy="57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3041280" y="3356640"/>
                    <a:ext cx="2804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4163400" y="3356640"/>
                    <a:ext cx="2804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4" name=""/>
                <p:cNvSpPr/>
                <p:nvPr/>
              </p:nvSpPr>
              <p:spPr>
                <a:xfrm>
                  <a:off x="6408000" y="4653360"/>
                  <a:ext cx="700920" cy="0"/>
                </a:xfrm>
                <a:prstGeom prst="line">
                  <a:avLst/>
                </a:prstGeom>
                <a:ln w="381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3181320" y="4077000"/>
                <a:ext cx="0" cy="17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03440" y="4077000"/>
                <a:ext cx="0" cy="17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132000" y="551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1640" y="551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1700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FRAGMA o PLACA ORIF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6000" y="2276640"/>
            <a:ext cx="392436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a A el área de la tubería y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l de la placa orif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sección (2) el área del chorro es c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problema es esencialmente el mismo que el del venturímetro, resultando, reemplazando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or A y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or c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expresión 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059360" y="2205000"/>
            <a:ext cx="5049720" cy="2673360"/>
            <a:chOff x="4059360" y="2205000"/>
            <a:chExt cx="5049720" cy="2673360"/>
          </a:xfrm>
        </p:grpSpPr>
        <p:grpSp>
          <p:nvGrpSpPr>
            <p:cNvPr id="533" name=""/>
            <p:cNvGrpSpPr/>
            <p:nvPr/>
          </p:nvGrpSpPr>
          <p:grpSpPr>
            <a:xfrm>
              <a:off x="4059360" y="2205000"/>
              <a:ext cx="5049720" cy="2673360"/>
              <a:chOff x="4059360" y="2205000"/>
              <a:chExt cx="5049720" cy="26733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4059360" y="2205000"/>
                <a:ext cx="5049720" cy="2592000"/>
                <a:chOff x="4059360" y="2205000"/>
                <a:chExt cx="5049720" cy="259200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4059360" y="2205000"/>
                  <a:ext cx="5049720" cy="2016000"/>
                  <a:chOff x="4059360" y="2205000"/>
                  <a:chExt cx="5049720" cy="2016000"/>
                </a:xfrm>
              </p:grpSpPr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4059360" y="2205000"/>
                    <a:ext cx="5049720" cy="2016000"/>
                    <a:chOff x="4059360" y="2205000"/>
                    <a:chExt cx="5049720" cy="2016000"/>
                  </a:xfrm>
                </p:grpSpPr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4059360" y="2781000"/>
                      <a:ext cx="5049720" cy="1440000"/>
                      <a:chOff x="4059360" y="2781000"/>
                      <a:chExt cx="5049720" cy="1440000"/>
                    </a:xfrm>
                  </p:grpSpPr>
                  <p:grpSp>
                    <p:nvGrpSpPr>
                      <p:cNvPr id="538" name=""/>
                      <p:cNvGrpSpPr/>
                      <p:nvPr/>
                    </p:nvGrpSpPr>
                    <p:grpSpPr>
                      <a:xfrm>
                        <a:off x="4059360" y="3069000"/>
                        <a:ext cx="5049720" cy="1152000"/>
                        <a:chOff x="4059360" y="3069000"/>
                        <a:chExt cx="5049720" cy="1152000"/>
                      </a:xfrm>
                    </p:grpSpPr>
                    <p:grpSp>
                      <p:nvGrpSpPr>
                        <p:cNvPr id="539" name=""/>
                        <p:cNvGrpSpPr/>
                        <p:nvPr/>
                      </p:nvGrpSpPr>
                      <p:grpSpPr>
                        <a:xfrm>
                          <a:off x="4059360" y="3069000"/>
                          <a:ext cx="5049720" cy="1152000"/>
                          <a:chOff x="4059360" y="3069000"/>
                          <a:chExt cx="5049720" cy="1152000"/>
                        </a:xfrm>
                      </p:grpSpPr>
                      <p:grpSp>
                        <p:nvGrpSpPr>
                          <p:cNvPr id="540" name=""/>
                          <p:cNvGrpSpPr/>
                          <p:nvPr/>
                        </p:nvGrpSpPr>
                        <p:grpSpPr>
                          <a:xfrm>
                            <a:off x="4059360" y="3069000"/>
                            <a:ext cx="5049720" cy="1152000"/>
                            <a:chOff x="4059360" y="3069000"/>
                            <a:chExt cx="5049720" cy="1152000"/>
                          </a:xfrm>
                        </p:grpSpPr>
                        <p:sp>
                          <p:nvSpPr>
                            <p:cNvPr id="541" name=""/>
                            <p:cNvSpPr/>
                            <p:nvPr/>
                          </p:nvSpPr>
                          <p:spPr>
                            <a:xfrm>
                              <a:off x="4059360" y="3069000"/>
                              <a:ext cx="5049720" cy="1152000"/>
                            </a:xfrm>
                            <a:prstGeom prst="rect">
                              <a:avLst/>
                            </a:prstGeom>
                            <a:solidFill>
                              <a:srgbClr val="3366ff"/>
                            </a:solidFill>
                            <a:ln w="9360">
                              <a:solidFill>
                                <a:srgbClr val="3366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2" name=""/>
                            <p:cNvSpPr/>
                            <p:nvPr/>
                          </p:nvSpPr>
                          <p:spPr>
                            <a:xfrm>
                              <a:off x="5742360" y="3069000"/>
                              <a:ext cx="0" cy="28764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3" name=""/>
                            <p:cNvSpPr/>
                            <p:nvPr/>
                          </p:nvSpPr>
                          <p:spPr>
                            <a:xfrm>
                              <a:off x="5742360" y="3933000"/>
                              <a:ext cx="0" cy="28800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4" name=""/>
                          <p:cNvSpPr/>
                          <p:nvPr/>
                        </p:nvSpPr>
                        <p:spPr>
                          <a:xfrm>
                            <a:off x="4059360" y="3069000"/>
                            <a:ext cx="504972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5" name=""/>
                          <p:cNvSpPr/>
                          <p:nvPr/>
                        </p:nvSpPr>
                        <p:spPr>
                          <a:xfrm>
                            <a:off x="4059360" y="4221000"/>
                            <a:ext cx="504972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>
                          <a:off x="5742360" y="3111120"/>
                          <a:ext cx="1526400" cy="32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9" h="410">
                              <a:moveTo>
                                <a:pt x="0" y="307"/>
                              </a:moveTo>
                              <a:cubicBezTo>
                                <a:pt x="19" y="318"/>
                                <a:pt x="55" y="359"/>
                                <a:pt x="114" y="375"/>
                              </a:cubicBezTo>
                              <a:cubicBezTo>
                                <a:pt x="173" y="391"/>
                                <a:pt x="279" y="410"/>
                                <a:pt x="354" y="405"/>
                              </a:cubicBezTo>
                              <a:cubicBezTo>
                                <a:pt x="429" y="400"/>
                                <a:pt x="484" y="375"/>
                                <a:pt x="564" y="345"/>
                              </a:cubicBezTo>
                              <a:cubicBezTo>
                                <a:pt x="644" y="315"/>
                                <a:pt x="737" y="262"/>
                                <a:pt x="834" y="225"/>
                              </a:cubicBezTo>
                              <a:cubicBezTo>
                                <a:pt x="931" y="188"/>
                                <a:pt x="1047" y="150"/>
                                <a:pt x="1149" y="120"/>
                              </a:cubicBezTo>
                              <a:cubicBezTo>
                                <a:pt x="1251" y="90"/>
                                <a:pt x="1314" y="65"/>
                                <a:pt x="1449" y="45"/>
                              </a:cubicBezTo>
                              <a:cubicBezTo>
                                <a:pt x="1584" y="25"/>
                                <a:pt x="1853" y="9"/>
                                <a:pt x="1959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 flipV="1">
                          <a:off x="5730840" y="3836880"/>
                          <a:ext cx="1526400" cy="347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9" h="410">
                              <a:moveTo>
                                <a:pt x="0" y="307"/>
                              </a:moveTo>
                              <a:cubicBezTo>
                                <a:pt x="19" y="318"/>
                                <a:pt x="55" y="359"/>
                                <a:pt x="114" y="375"/>
                              </a:cubicBezTo>
                              <a:cubicBezTo>
                                <a:pt x="173" y="391"/>
                                <a:pt x="279" y="410"/>
                                <a:pt x="354" y="405"/>
                              </a:cubicBezTo>
                              <a:cubicBezTo>
                                <a:pt x="429" y="400"/>
                                <a:pt x="484" y="375"/>
                                <a:pt x="564" y="345"/>
                              </a:cubicBezTo>
                              <a:cubicBezTo>
                                <a:pt x="644" y="315"/>
                                <a:pt x="737" y="262"/>
                                <a:pt x="834" y="225"/>
                              </a:cubicBezTo>
                              <a:cubicBezTo>
                                <a:pt x="931" y="188"/>
                                <a:pt x="1047" y="150"/>
                                <a:pt x="1149" y="120"/>
                              </a:cubicBezTo>
                              <a:cubicBezTo>
                                <a:pt x="1251" y="90"/>
                                <a:pt x="1314" y="65"/>
                                <a:pt x="1449" y="45"/>
                              </a:cubicBezTo>
                              <a:cubicBezTo>
                                <a:pt x="1584" y="25"/>
                                <a:pt x="1853" y="9"/>
                                <a:pt x="1959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48" name=""/>
                      <p:cNvSpPr/>
                      <p:nvPr/>
                    </p:nvSpPr>
                    <p:spPr>
                      <a:xfrm flipV="1">
                        <a:off x="4900680" y="2781000"/>
                        <a:ext cx="0" cy="28800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 flipV="1">
                        <a:off x="6022800" y="2781000"/>
                        <a:ext cx="0" cy="28800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 flipV="1">
                        <a:off x="4900680" y="2781000"/>
                        <a:ext cx="0" cy="576000"/>
                      </a:xfrm>
                      <a:prstGeom prst="line">
                        <a:avLst/>
                      </a:prstGeom>
                      <a:ln w="28440">
                        <a:solidFill>
                          <a:srgbClr val="33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 flipV="1">
                        <a:off x="6022800" y="2781000"/>
                        <a:ext cx="0" cy="576000"/>
                      </a:xfrm>
                      <a:prstGeom prst="line">
                        <a:avLst/>
                      </a:prstGeom>
                      <a:ln w="28440">
                        <a:solidFill>
                          <a:srgbClr val="33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4620240" y="2205000"/>
                      <a:ext cx="560880" cy="576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5742360" y="2205000"/>
                      <a:ext cx="560880" cy="576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V="1">
                      <a:off x="4760640" y="2348640"/>
                      <a:ext cx="280440" cy="2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V="1">
                      <a:off x="5882760" y="2348640"/>
                      <a:ext cx="280440" cy="2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6" name=""/>
                  <p:cNvSpPr/>
                  <p:nvPr/>
                </p:nvSpPr>
                <p:spPr>
                  <a:xfrm>
                    <a:off x="8127360" y="3645360"/>
                    <a:ext cx="700920" cy="0"/>
                  </a:xfrm>
                  <a:prstGeom prst="line">
                    <a:avLst/>
                  </a:prstGeom>
                  <a:ln w="38160">
                    <a:solidFill>
                      <a:srgbClr val="99cc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"/>
                <p:cNvSpPr/>
                <p:nvPr/>
              </p:nvSpPr>
              <p:spPr>
                <a:xfrm>
                  <a:off x="4900680" y="3069000"/>
                  <a:ext cx="0" cy="172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022800" y="3069000"/>
                  <a:ext cx="0" cy="172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4851360" y="451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931000" y="451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4202280" y="220500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91360" y="220500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24000" y="5229360"/>
                <a:ext cx="34560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4500720" y="501336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aplicaciones prácticas se uti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nde C’ se calibra experimen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867280" y="5445000"/>
                <a:ext cx="17812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´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5137200" cy="38527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50920" y="1916280"/>
            <a:ext cx="34574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Los puntos de estancamiento son puntos del flujo en los que la velocidad es n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Ellos surgen para compatibilizar físicamente puntos en los que las líneas de corriente tienen radio de curvatura tendiendo a c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6920" y="2046240"/>
            <a:ext cx="7180200" cy="2940120"/>
            <a:chOff x="826920" y="2046240"/>
            <a:chExt cx="7180200" cy="2940120"/>
          </a:xfrm>
        </p:grpSpPr>
        <p:sp>
          <p:nvSpPr>
            <p:cNvPr id="571" name=""/>
            <p:cNvSpPr/>
            <p:nvPr/>
          </p:nvSpPr>
          <p:spPr>
            <a:xfrm>
              <a:off x="1042920" y="3284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826920" y="2046240"/>
              <a:ext cx="7180200" cy="2940120"/>
              <a:chOff x="826920" y="2046240"/>
              <a:chExt cx="7180200" cy="29401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4761000" y="2693880"/>
                <a:ext cx="3246120" cy="1177560"/>
                <a:chOff x="4761000" y="2693880"/>
                <a:chExt cx="3246120" cy="11775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761000" y="2693880"/>
                  <a:ext cx="1105920" cy="117756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276520" y="2693880"/>
                  <a:ext cx="265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351400" y="3871440"/>
                  <a:ext cx="265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826920" y="2046240"/>
                <a:ext cx="7032600" cy="2940120"/>
                <a:chOff x="826920" y="2046240"/>
                <a:chExt cx="7032600" cy="2940120"/>
              </a:xfrm>
            </p:grpSpPr>
            <p:grpSp>
              <p:nvGrpSpPr>
                <p:cNvPr id="578" name=""/>
                <p:cNvGrpSpPr/>
                <p:nvPr/>
              </p:nvGrpSpPr>
              <p:grpSpPr>
                <a:xfrm>
                  <a:off x="1332000" y="2046240"/>
                  <a:ext cx="6527520" cy="2940120"/>
                  <a:chOff x="1332000" y="2046240"/>
                  <a:chExt cx="6527520" cy="2940120"/>
                </a:xfrm>
              </p:grpSpPr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1332000" y="2406600"/>
                    <a:ext cx="6527520" cy="1794960"/>
                    <a:chOff x="1332000" y="2406600"/>
                    <a:chExt cx="6527520" cy="1794960"/>
                  </a:xfrm>
                </p:grpSpPr>
                <p:grpSp>
                  <p:nvGrpSpPr>
                    <p:cNvPr id="580" name=""/>
                    <p:cNvGrpSpPr/>
                    <p:nvPr/>
                  </p:nvGrpSpPr>
                  <p:grpSpPr>
                    <a:xfrm>
                      <a:off x="1332000" y="2406600"/>
                      <a:ext cx="6527520" cy="1794960"/>
                      <a:chOff x="1332000" y="2406600"/>
                      <a:chExt cx="6527520" cy="1794960"/>
                    </a:xfrm>
                  </p:grpSpPr>
                  <p:grpSp>
                    <p:nvGrpSpPr>
                      <p:cNvPr id="581" name=""/>
                      <p:cNvGrpSpPr/>
                      <p:nvPr/>
                    </p:nvGrpSpPr>
                    <p:grpSpPr>
                      <a:xfrm>
                        <a:off x="1339200" y="2716920"/>
                        <a:ext cx="6516000" cy="1142280"/>
                        <a:chOff x="1339200" y="2716920"/>
                        <a:chExt cx="6516000" cy="1142280"/>
                      </a:xfrm>
                    </p:grpSpPr>
                    <p:grpSp>
                      <p:nvGrpSpPr>
                        <p:cNvPr id="582" name=""/>
                        <p:cNvGrpSpPr/>
                        <p:nvPr/>
                      </p:nvGrpSpPr>
                      <p:grpSpPr>
                        <a:xfrm>
                          <a:off x="4768920" y="2716920"/>
                          <a:ext cx="3086280" cy="1142280"/>
                          <a:chOff x="4768920" y="2716920"/>
                          <a:chExt cx="3086280" cy="1142280"/>
                        </a:xfrm>
                      </p:grpSpPr>
                      <p:sp>
                        <p:nvSpPr>
                          <p:cNvPr id="583" name=""/>
                          <p:cNvSpPr/>
                          <p:nvPr/>
                        </p:nvSpPr>
                        <p:spPr>
                          <a:xfrm>
                            <a:off x="4768920" y="2716920"/>
                            <a:ext cx="1028880" cy="114228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4" name=""/>
                          <p:cNvSpPr/>
                          <p:nvPr/>
                        </p:nvSpPr>
                        <p:spPr>
                          <a:xfrm>
                            <a:off x="5283000" y="2716920"/>
                            <a:ext cx="2572200" cy="114228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1339200" y="3288240"/>
                          <a:ext cx="3429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6" name=""/>
                      <p:cNvGrpSpPr/>
                      <p:nvPr/>
                    </p:nvGrpSpPr>
                    <p:grpSpPr>
                      <a:xfrm>
                        <a:off x="1335600" y="2406600"/>
                        <a:ext cx="6523920" cy="708840"/>
                        <a:chOff x="1335600" y="2406600"/>
                        <a:chExt cx="6523920" cy="708840"/>
                      </a:xfrm>
                    </p:grpSpPr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>
                          <a:off x="1335600" y="2583000"/>
                          <a:ext cx="6520320" cy="53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1354320" y="2406600"/>
                          <a:ext cx="6505200" cy="439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9" name=""/>
                      <p:cNvGrpSpPr/>
                      <p:nvPr/>
                    </p:nvGrpSpPr>
                    <p:grpSpPr>
                      <a:xfrm>
                        <a:off x="1332000" y="3449520"/>
                        <a:ext cx="6523560" cy="752040"/>
                        <a:chOff x="1332000" y="3449520"/>
                        <a:chExt cx="6523560" cy="752040"/>
                      </a:xfrm>
                    </p:grpSpPr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 flipV="1">
                          <a:off x="1332000" y="3448800"/>
                          <a:ext cx="6519960" cy="56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flipV="1">
                          <a:off x="1350720" y="3735360"/>
                          <a:ext cx="6504840" cy="46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1682280" y="2831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3054240" y="2831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5683680" y="2421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055640" y="2421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1663200" y="3107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3054240" y="3107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5664960" y="2583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7036920" y="2583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1663200" y="32882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3054240" y="32882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1672920" y="344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3063960" y="344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1663200" y="3745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3054240" y="3745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5731560" y="40021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7122600" y="40021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5760000" y="4192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7151040" y="4192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>
                    <a:off x="1692360" y="2046240"/>
                    <a:ext cx="2952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ÍNEAS DE CORRIEN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708360" y="4709880"/>
                    <a:ext cx="2808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UNTO DE ESTANCAMIENTO (PE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3564000" y="2190600"/>
                    <a:ext cx="31104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788000" y="3270240"/>
                    <a:ext cx="614160" cy="136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4" name=""/>
                <p:cNvSpPr/>
                <p:nvPr/>
              </p:nvSpPr>
              <p:spPr>
                <a:xfrm>
                  <a:off x="826920" y="2982960"/>
                  <a:ext cx="79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88000" y="2982960"/>
                  <a:ext cx="79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6" name=""/>
          <p:cNvSpPr/>
          <p:nvPr/>
        </p:nvSpPr>
        <p:spPr>
          <a:xfrm>
            <a:off x="2484360" y="57340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cumple: 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664160" y="3284640"/>
                <a:ext cx="23349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395280" y="2060640"/>
            <a:ext cx="2543040" cy="3517920"/>
            <a:chOff x="395280" y="2060640"/>
            <a:chExt cx="2543040" cy="35179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95280" y="2060640"/>
              <a:ext cx="2543040" cy="31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68360" y="5302080"/>
              <a:ext cx="237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aniel Bernoulli (1700 – 178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276720" y="1700280"/>
            <a:ext cx="540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SUMA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419640" y="1700280"/>
            <a:ext cx="5091120" cy="2037960"/>
            <a:chOff x="3419640" y="1700280"/>
            <a:chExt cx="5091120" cy="2037960"/>
          </a:xfrm>
        </p:grpSpPr>
        <p:sp>
          <p:nvSpPr>
            <p:cNvPr id="619" name=""/>
            <p:cNvSpPr/>
            <p:nvPr/>
          </p:nvSpPr>
          <p:spPr>
            <a:xfrm>
              <a:off x="3572640" y="2519640"/>
              <a:ext cx="2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419640" y="1700280"/>
              <a:ext cx="5091120" cy="2037960"/>
              <a:chOff x="3419640" y="1700280"/>
              <a:chExt cx="5091120" cy="20379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6208920" y="2128680"/>
                <a:ext cx="2301840" cy="779400"/>
                <a:chOff x="6208920" y="2128680"/>
                <a:chExt cx="2301840" cy="7794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208920" y="2128680"/>
                  <a:ext cx="784080" cy="77940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574320" y="212868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627600" y="290808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3419640" y="1700280"/>
                <a:ext cx="4986000" cy="2037960"/>
                <a:chOff x="3419640" y="1700280"/>
                <a:chExt cx="4986000" cy="2037960"/>
              </a:xfrm>
            </p:grpSpPr>
            <p:grpSp>
              <p:nvGrpSpPr>
                <p:cNvPr id="626" name=""/>
                <p:cNvGrpSpPr/>
                <p:nvPr/>
              </p:nvGrpSpPr>
              <p:grpSpPr>
                <a:xfrm>
                  <a:off x="3777480" y="1700280"/>
                  <a:ext cx="4628160" cy="2037960"/>
                  <a:chOff x="3777480" y="1700280"/>
                  <a:chExt cx="4628160" cy="2037960"/>
                </a:xfrm>
              </p:grpSpPr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3777480" y="1938600"/>
                    <a:ext cx="4628160" cy="1188000"/>
                    <a:chOff x="3777480" y="1938600"/>
                    <a:chExt cx="4628160" cy="1188000"/>
                  </a:xfrm>
                </p:grpSpPr>
                <p:grpSp>
                  <p:nvGrpSpPr>
                    <p:cNvPr id="628" name=""/>
                    <p:cNvGrpSpPr/>
                    <p:nvPr/>
                  </p:nvGrpSpPr>
                  <p:grpSpPr>
                    <a:xfrm>
                      <a:off x="3777480" y="1938600"/>
                      <a:ext cx="4628160" cy="1188000"/>
                      <a:chOff x="3777480" y="1938600"/>
                      <a:chExt cx="4628160" cy="1188000"/>
                    </a:xfrm>
                  </p:grpSpPr>
                  <p:grpSp>
                    <p:nvGrpSpPr>
                      <p:cNvPr id="629" name=""/>
                      <p:cNvGrpSpPr/>
                      <p:nvPr/>
                    </p:nvGrpSpPr>
                    <p:grpSpPr>
                      <a:xfrm>
                        <a:off x="3782520" y="2143800"/>
                        <a:ext cx="4620240" cy="755640"/>
                        <a:chOff x="3782520" y="2143800"/>
                        <a:chExt cx="4620240" cy="755640"/>
                      </a:xfrm>
                    </p:grpSpPr>
                    <p:grpSp>
                      <p:nvGrpSpPr>
                        <p:cNvPr id="630" name=""/>
                        <p:cNvGrpSpPr/>
                        <p:nvPr/>
                      </p:nvGrpSpPr>
                      <p:grpSpPr>
                        <a:xfrm>
                          <a:off x="6214320" y="2143800"/>
                          <a:ext cx="2188440" cy="755640"/>
                          <a:chOff x="6214320" y="2143800"/>
                          <a:chExt cx="2188440" cy="755640"/>
                        </a:xfrm>
                      </p:grpSpPr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>
                            <a:off x="6214320" y="2143800"/>
                            <a:ext cx="729360" cy="75564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2" name=""/>
                          <p:cNvSpPr/>
                          <p:nvPr/>
                        </p:nvSpPr>
                        <p:spPr>
                          <a:xfrm>
                            <a:off x="6579000" y="2143800"/>
                            <a:ext cx="1823760" cy="75564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>
                          <a:off x="3782520" y="2521800"/>
                          <a:ext cx="2431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4" name=""/>
                      <p:cNvGrpSpPr/>
                      <p:nvPr/>
                    </p:nvGrpSpPr>
                    <p:grpSpPr>
                      <a:xfrm>
                        <a:off x="3780000" y="1938600"/>
                        <a:ext cx="4625640" cy="469080"/>
                        <a:chOff x="3780000" y="1938600"/>
                        <a:chExt cx="4625640" cy="469080"/>
                      </a:xfrm>
                    </p:grpSpPr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>
                          <a:off x="3780000" y="2055240"/>
                          <a:ext cx="4623120" cy="35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"/>
                        <p:cNvSpPr/>
                        <p:nvPr/>
                      </p:nvSpPr>
                      <p:spPr>
                        <a:xfrm>
                          <a:off x="3793320" y="1938600"/>
                          <a:ext cx="4612320" cy="29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7" name=""/>
                      <p:cNvGrpSpPr/>
                      <p:nvPr/>
                    </p:nvGrpSpPr>
                    <p:grpSpPr>
                      <a:xfrm>
                        <a:off x="3777480" y="2629080"/>
                        <a:ext cx="4625640" cy="497520"/>
                        <a:chOff x="3777480" y="2629080"/>
                        <a:chExt cx="4625640" cy="497520"/>
                      </a:xfrm>
                    </p:grpSpPr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 flipV="1">
                          <a:off x="3777480" y="2628720"/>
                          <a:ext cx="4623120" cy="37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 flipV="1">
                          <a:off x="3790800" y="2818080"/>
                          <a:ext cx="4612320" cy="30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4025880" y="22194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4998600" y="22194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6863040" y="19486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7835400" y="19486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4012200" y="24022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998600" y="24022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6849360" y="20556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7822080" y="20556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4012200" y="252180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4998600" y="25218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4019040" y="26290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5005440" y="26290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4012200" y="282420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4998600" y="28242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6896520" y="2994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7882920" y="2994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6917040" y="3120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7903080" y="3120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8" name=""/>
                  <p:cNvSpPr/>
                  <p:nvPr/>
                </p:nvSpPr>
                <p:spPr>
                  <a:xfrm>
                    <a:off x="4032720" y="1700280"/>
                    <a:ext cx="209340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463360" y="3464280"/>
                    <a:ext cx="198972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5359680" y="1795680"/>
                    <a:ext cx="2203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227640" y="2510280"/>
                    <a:ext cx="435240" cy="9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" name=""/>
                <p:cNvSpPr/>
                <p:nvPr/>
              </p:nvSpPr>
              <p:spPr>
                <a:xfrm>
                  <a:off x="3419640" y="231876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228000" y="2318760"/>
                  <a:ext cx="56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4" name=""/>
          <p:cNvSpPr/>
          <p:nvPr/>
        </p:nvSpPr>
        <p:spPr>
          <a:xfrm>
            <a:off x="755640" y="220500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611280" y="3429000"/>
            <a:ext cx="3529080" cy="2738880"/>
            <a:chOff x="611280" y="3429000"/>
            <a:chExt cx="3529080" cy="2738880"/>
          </a:xfrm>
        </p:grpSpPr>
        <mc:AlternateContent>
          <mc:Choice xmlns:a14="http://schemas.microsoft.com/office/drawing/2010/main" Requires="a14">
            <p:sp>
              <p:nvSpPr>
                <p:cNvPr id="666" name=""/>
                <p:cNvSpPr txBox="1"/>
                <p:nvPr/>
              </p:nvSpPr>
              <p:spPr>
                <a:xfrm>
                  <a:off x="611280" y="3429000"/>
                  <a:ext cx="2927520" cy="14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g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E</m:t>
                              </m:r>
                            </m:sub>
                          </m:sSub>
                        </m:num>
                        <m:den>
                          <m:r>
                            <m:t xml:space="preserve">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67" name=""/>
            <p:cNvGrpSpPr/>
            <p:nvPr/>
          </p:nvGrpSpPr>
          <p:grpSpPr>
            <a:xfrm>
              <a:off x="1509840" y="3429000"/>
              <a:ext cx="863640" cy="1944000"/>
              <a:chOff x="1509840" y="3429000"/>
              <a:chExt cx="863640" cy="1944000"/>
            </a:xfrm>
          </p:grpSpPr>
          <p:sp>
            <p:nvSpPr>
              <p:cNvPr id="668" name=""/>
              <p:cNvSpPr/>
              <p:nvPr/>
            </p:nvSpPr>
            <p:spPr>
              <a:xfrm>
                <a:off x="1548000" y="3429000"/>
                <a:ext cx="792000" cy="1441080"/>
              </a:xfrm>
              <a:prstGeom prst="ellipse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1509840" y="4870080"/>
                <a:ext cx="863640" cy="502920"/>
                <a:chOff x="1509840" y="4870080"/>
                <a:chExt cx="863640" cy="5029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941480" y="4870080"/>
                  <a:ext cx="0" cy="50292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509840" y="5373000"/>
                  <a:ext cx="86364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2700720" y="3429000"/>
              <a:ext cx="934920" cy="2376360"/>
              <a:chOff x="2700720" y="3429000"/>
              <a:chExt cx="934920" cy="2376360"/>
            </a:xfrm>
          </p:grpSpPr>
          <p:sp>
            <p:nvSpPr>
              <p:cNvPr id="673" name=""/>
              <p:cNvSpPr/>
              <p:nvPr/>
            </p:nvSpPr>
            <p:spPr>
              <a:xfrm>
                <a:off x="2700720" y="3429000"/>
                <a:ext cx="792000" cy="144108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132360" y="4870080"/>
                <a:ext cx="0" cy="93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00720" y="5805360"/>
                <a:ext cx="93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00360" y="54450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66"/>
                  </a:solidFill>
                  <a:latin typeface="Arial"/>
                </a:rPr>
                <a:t>PRESIÓN ESTÁ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24360" y="58608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3300"/>
                  </a:solidFill>
                  <a:latin typeface="Arial"/>
                </a:rPr>
                <a:t>PRESIÓN DINÁ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788000" y="4724280"/>
                <a:ext cx="33606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4572000" y="4149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demos conocer la veloc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708360" y="1557360"/>
            <a:ext cx="5091120" cy="2037960"/>
            <a:chOff x="3708360" y="1557360"/>
            <a:chExt cx="5091120" cy="2037960"/>
          </a:xfrm>
        </p:grpSpPr>
        <p:sp>
          <p:nvSpPr>
            <p:cNvPr id="682" name=""/>
            <p:cNvSpPr/>
            <p:nvPr/>
          </p:nvSpPr>
          <p:spPr>
            <a:xfrm>
              <a:off x="3861360" y="2376720"/>
              <a:ext cx="2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3708360" y="1557360"/>
              <a:ext cx="5091120" cy="2037960"/>
              <a:chOff x="3708360" y="1557360"/>
              <a:chExt cx="5091120" cy="203796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6497640" y="1985760"/>
                <a:ext cx="2301840" cy="779400"/>
                <a:chOff x="6497640" y="1985760"/>
                <a:chExt cx="2301840" cy="7794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6497640" y="1985760"/>
                  <a:ext cx="784080" cy="77940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863040" y="198576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916320" y="276516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3708360" y="1557360"/>
                <a:ext cx="4986000" cy="2037960"/>
                <a:chOff x="3708360" y="1557360"/>
                <a:chExt cx="4986000" cy="203796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4066200" y="1557360"/>
                  <a:ext cx="4628160" cy="2037960"/>
                  <a:chOff x="4066200" y="1557360"/>
                  <a:chExt cx="4628160" cy="2037960"/>
                </a:xfrm>
              </p:grpSpPr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4066200" y="1795680"/>
                    <a:ext cx="4628160" cy="1188000"/>
                    <a:chOff x="4066200" y="1795680"/>
                    <a:chExt cx="4628160" cy="1188000"/>
                  </a:xfrm>
                </p:grpSpPr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066200" y="1795680"/>
                      <a:ext cx="4628160" cy="1188000"/>
                      <a:chOff x="4066200" y="1795680"/>
                      <a:chExt cx="4628160" cy="1188000"/>
                    </a:xfrm>
                  </p:grpSpPr>
                  <p:grpSp>
                    <p:nvGrpSpPr>
                      <p:cNvPr id="692" name=""/>
                      <p:cNvGrpSpPr/>
                      <p:nvPr/>
                    </p:nvGrpSpPr>
                    <p:grpSpPr>
                      <a:xfrm>
                        <a:off x="4071240" y="2000880"/>
                        <a:ext cx="4620240" cy="755640"/>
                        <a:chOff x="4071240" y="2000880"/>
                        <a:chExt cx="4620240" cy="755640"/>
                      </a:xfrm>
                    </p:grpSpPr>
                    <p:grpSp>
                      <p:nvGrpSpPr>
                        <p:cNvPr id="693" name=""/>
                        <p:cNvGrpSpPr/>
                        <p:nvPr/>
                      </p:nvGrpSpPr>
                      <p:grpSpPr>
                        <a:xfrm>
                          <a:off x="6503040" y="2000880"/>
                          <a:ext cx="2188440" cy="755640"/>
                          <a:chOff x="6503040" y="2000880"/>
                          <a:chExt cx="2188440" cy="755640"/>
                        </a:xfrm>
                      </p:grpSpPr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>
                            <a:off x="6503040" y="2000880"/>
                            <a:ext cx="729360" cy="75564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5" name=""/>
                          <p:cNvSpPr/>
                          <p:nvPr/>
                        </p:nvSpPr>
                        <p:spPr>
                          <a:xfrm>
                            <a:off x="6867720" y="2000880"/>
                            <a:ext cx="1823760" cy="75564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>
                          <a:off x="4071240" y="2378880"/>
                          <a:ext cx="2431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7" name=""/>
                      <p:cNvGrpSpPr/>
                      <p:nvPr/>
                    </p:nvGrpSpPr>
                    <p:grpSpPr>
                      <a:xfrm>
                        <a:off x="4068720" y="1795680"/>
                        <a:ext cx="4625640" cy="469080"/>
                        <a:chOff x="4068720" y="1795680"/>
                        <a:chExt cx="4625640" cy="469080"/>
                      </a:xfrm>
                    </p:grpSpPr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4068720" y="1912320"/>
                          <a:ext cx="4623120" cy="35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4082040" y="1795680"/>
                          <a:ext cx="4612320" cy="29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00" name=""/>
                      <p:cNvGrpSpPr/>
                      <p:nvPr/>
                    </p:nvGrpSpPr>
                    <p:grpSpPr>
                      <a:xfrm>
                        <a:off x="4066200" y="2486160"/>
                        <a:ext cx="4625640" cy="497520"/>
                        <a:chOff x="4066200" y="2486160"/>
                        <a:chExt cx="4625640" cy="497520"/>
                      </a:xfrm>
                    </p:grpSpPr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 flipV="1">
                          <a:off x="4066200" y="2485800"/>
                          <a:ext cx="4623120" cy="37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2" name=""/>
                        <p:cNvSpPr/>
                        <p:nvPr/>
                      </p:nvSpPr>
                      <p:spPr>
                        <a:xfrm flipV="1">
                          <a:off x="4079520" y="2675160"/>
                          <a:ext cx="4612320" cy="30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314600" y="2076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5287320" y="2076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7151760" y="18057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8124120" y="18057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4300920" y="22593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5287320" y="22593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7138080" y="19126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8110800" y="19126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4300920" y="23788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5287320" y="23788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4307760" y="24861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5294160" y="24861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4300920" y="26812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5287320" y="26812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7185240" y="28515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8171640" y="2851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7205760" y="2977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8191800" y="2977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" name=""/>
                  <p:cNvSpPr/>
                  <p:nvPr/>
                </p:nvSpPr>
                <p:spPr>
                  <a:xfrm>
                    <a:off x="4321440" y="1557360"/>
                    <a:ext cx="209340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5752080" y="3321360"/>
                    <a:ext cx="198972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5648400" y="1652760"/>
                    <a:ext cx="2203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516360" y="2367360"/>
                    <a:ext cx="435240" cy="9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>
                  <a:off x="3708360" y="217584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516720" y="2175840"/>
                  <a:ext cx="56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7" name=""/>
          <p:cNvSpPr/>
          <p:nvPr/>
        </p:nvSpPr>
        <p:spPr>
          <a:xfrm>
            <a:off x="32400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demos conocer la veloc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55520" y="1989000"/>
            <a:ext cx="8593200" cy="4672080"/>
            <a:chOff x="155520" y="1989000"/>
            <a:chExt cx="8593200" cy="4672080"/>
          </a:xfrm>
        </p:grpSpPr>
        <p:grpSp>
          <p:nvGrpSpPr>
            <p:cNvPr id="729" name=""/>
            <p:cNvGrpSpPr/>
            <p:nvPr/>
          </p:nvGrpSpPr>
          <p:grpSpPr>
            <a:xfrm>
              <a:off x="155520" y="1989000"/>
              <a:ext cx="3887640" cy="1938240"/>
              <a:chOff x="155520" y="1989000"/>
              <a:chExt cx="3887640" cy="1938240"/>
            </a:xfrm>
          </p:grpSpPr>
          <mc:AlternateContent>
            <mc:Choice xmlns:a14="http://schemas.microsoft.com/office/drawing/2010/main" Requires="a14">
              <p:sp>
                <p:nvSpPr>
                  <p:cNvPr id="730" name=""/>
                  <p:cNvSpPr txBox="1"/>
                  <p:nvPr/>
                </p:nvSpPr>
                <p:spPr>
                  <a:xfrm>
                    <a:off x="828720" y="1989000"/>
                    <a:ext cx="2495520" cy="1401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E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  <m:e>
                            <m:r>
                              <m:t xml:space="preserve">⇓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1" name=""/>
              <p:cNvSpPr/>
              <p:nvPr/>
            </p:nvSpPr>
            <p:spPr>
              <a:xfrm>
                <a:off x="155520" y="3284640"/>
                <a:ext cx="388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Instrumento para medir la velocidad de los fluidos: TUBO DE PIT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32" name=""/>
            <p:cNvGraphicFramePr/>
            <p:nvPr/>
          </p:nvGraphicFramePr>
          <p:xfrm>
            <a:off x="4332240" y="3284640"/>
            <a:ext cx="4416480" cy="289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32240" y="3284640"/>
                      <a:ext cx="4416480" cy="28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4" name=""/>
            <p:cNvGraphicFramePr/>
            <p:nvPr/>
          </p:nvGraphicFramePr>
          <p:xfrm>
            <a:off x="515880" y="4076640"/>
            <a:ext cx="3446640" cy="258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5880" y="4076640"/>
                      <a:ext cx="3446640" cy="258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6" name=""/>
            <p:cNvGrpSpPr/>
            <p:nvPr/>
          </p:nvGrpSpPr>
          <p:grpSpPr>
            <a:xfrm>
              <a:off x="1957320" y="3860640"/>
              <a:ext cx="5400720" cy="2210400"/>
              <a:chOff x="1957320" y="3860640"/>
              <a:chExt cx="5400720" cy="2210400"/>
            </a:xfrm>
          </p:grpSpPr>
          <p:sp>
            <p:nvSpPr>
              <p:cNvPr id="737" name=""/>
              <p:cNvSpPr/>
              <p:nvPr/>
            </p:nvSpPr>
            <p:spPr>
              <a:xfrm>
                <a:off x="6492600" y="3860640"/>
                <a:ext cx="865440" cy="72072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288200">
                <a:off x="2531880" y="4868640"/>
                <a:ext cx="865440" cy="108108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957320" y="3933720"/>
                <a:ext cx="172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2965320" y="3955680"/>
                <a:ext cx="287280" cy="93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>
                <a:off x="3252600" y="3956040"/>
                <a:ext cx="3240000" cy="287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4546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Inventado en 1732 por Henri de Pitot (1695 – 1771) para determinar el caudal del río Sena (Fra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5568840" y="836640"/>
          <a:ext cx="282276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8840" y="836640"/>
                    <a:ext cx="28227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1042920" y="2563920"/>
          <a:ext cx="3079800" cy="39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563920"/>
                    <a:ext cx="30798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454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306600" cy="3529080"/>
          </a:xfrm>
          <a:prstGeom prst="rect">
            <a:avLst/>
          </a:prstGeom>
          <a:ln w="0">
            <a:noFill/>
          </a:ln>
        </p:spPr>
      </p:pic>
      <p:grpSp>
        <p:nvGrpSpPr>
          <p:cNvPr id="749" name=""/>
          <p:cNvGrpSpPr/>
          <p:nvPr/>
        </p:nvGrpSpPr>
        <p:grpSpPr>
          <a:xfrm>
            <a:off x="4859280" y="1484280"/>
            <a:ext cx="3960720" cy="3673440"/>
            <a:chOff x="4859280" y="1484280"/>
            <a:chExt cx="3960720" cy="3673440"/>
          </a:xfrm>
        </p:grpSpPr>
        <p:sp>
          <p:nvSpPr>
            <p:cNvPr id="750" name=""/>
            <p:cNvSpPr/>
            <p:nvPr/>
          </p:nvSpPr>
          <p:spPr>
            <a:xfrm>
              <a:off x="6659640" y="3073320"/>
              <a:ext cx="360360" cy="228600"/>
            </a:xfrm>
            <a:custGeom>
              <a:avLst/>
              <a:gdLst/>
              <a:ahLst/>
              <a:rect l="l" t="t" r="r" b="b"/>
              <a:pathLst>
                <a:path w="227" h="144">
                  <a:moveTo>
                    <a:pt x="0" y="0"/>
                  </a:moveTo>
                  <a:cubicBezTo>
                    <a:pt x="26" y="64"/>
                    <a:pt x="53" y="128"/>
                    <a:pt x="91" y="136"/>
                  </a:cubicBezTo>
                  <a:cubicBezTo>
                    <a:pt x="129" y="144"/>
                    <a:pt x="204" y="61"/>
                    <a:pt x="227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4859280" y="1484280"/>
              <a:ext cx="3960720" cy="3673440"/>
              <a:chOff x="4859280" y="1484280"/>
              <a:chExt cx="3960720" cy="367344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4859280" y="1484280"/>
                <a:ext cx="3960720" cy="3673440"/>
                <a:chOff x="4859280" y="1484280"/>
                <a:chExt cx="3960720" cy="367344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4859280" y="1484280"/>
                  <a:ext cx="3960720" cy="3673440"/>
                  <a:chOff x="4859280" y="1484280"/>
                  <a:chExt cx="3960720" cy="3673440"/>
                </a:xfrm>
              </p:grpSpPr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4859280" y="1484280"/>
                    <a:ext cx="3960720" cy="3673440"/>
                    <a:chOff x="4859280" y="1484280"/>
                    <a:chExt cx="3960720" cy="3673440"/>
                  </a:xfrm>
                </p:grpSpPr>
                <p:grpSp>
                  <p:nvGrpSpPr>
                    <p:cNvPr id="755" name=""/>
                    <p:cNvGrpSpPr/>
                    <p:nvPr/>
                  </p:nvGrpSpPr>
                  <p:grpSpPr>
                    <a:xfrm>
                      <a:off x="4859280" y="1484280"/>
                      <a:ext cx="3960720" cy="3673440"/>
                      <a:chOff x="4859280" y="1484280"/>
                      <a:chExt cx="3960720" cy="3673440"/>
                    </a:xfrm>
                  </p:grpSpPr>
                  <p:grpSp>
                    <p:nvGrpSpPr>
                      <p:cNvPr id="756" name=""/>
                      <p:cNvGrpSpPr/>
                      <p:nvPr/>
                    </p:nvGrpSpPr>
                    <p:grpSpPr>
                      <a:xfrm>
                        <a:off x="4859280" y="1484280"/>
                        <a:ext cx="3960720" cy="3673440"/>
                        <a:chOff x="4859280" y="1484280"/>
                        <a:chExt cx="3960720" cy="3673440"/>
                      </a:xfrm>
                    </p:grpSpPr>
                    <p:grpSp>
                      <p:nvGrpSpPr>
                        <p:cNvPr id="757" name=""/>
                        <p:cNvGrpSpPr/>
                        <p:nvPr/>
                      </p:nvGrpSpPr>
                      <p:grpSpPr>
                        <a:xfrm>
                          <a:off x="4859280" y="1484280"/>
                          <a:ext cx="3960720" cy="3673440"/>
                          <a:chOff x="4859280" y="1484280"/>
                          <a:chExt cx="3960720" cy="3673440"/>
                        </a:xfrm>
                      </p:grpSpPr>
                      <p:grpSp>
                        <p:nvGrpSpPr>
                          <p:cNvPr id="758" name=""/>
                          <p:cNvGrpSpPr/>
                          <p:nvPr/>
                        </p:nvGrpSpPr>
                        <p:grpSpPr>
                          <a:xfrm>
                            <a:off x="4859280" y="1484280"/>
                            <a:ext cx="3960720" cy="3673440"/>
                            <a:chOff x="4859280" y="1484280"/>
                            <a:chExt cx="3960720" cy="3673440"/>
                          </a:xfrm>
                        </p:grpSpPr>
                        <p:grpSp>
                          <p:nvGrpSpPr>
                            <p:cNvPr id="759" name=""/>
                            <p:cNvGrpSpPr/>
                            <p:nvPr/>
                          </p:nvGrpSpPr>
                          <p:grpSpPr>
                            <a:xfrm>
                              <a:off x="4859280" y="1484280"/>
                              <a:ext cx="3960720" cy="3673440"/>
                              <a:chOff x="485928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760" name=""/>
                              <p:cNvGrpSpPr/>
                              <p:nvPr/>
                            </p:nvGrpSpPr>
                            <p:grpSpPr>
                              <a:xfrm>
                                <a:off x="4859280" y="1484280"/>
                                <a:ext cx="3960720" cy="3673440"/>
                                <a:chOff x="485928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761" name=""/>
                                <p:cNvGrpSpPr/>
                                <p:nvPr/>
                              </p:nvGrpSpPr>
                              <p:grpSpPr>
                                <a:xfrm>
                                  <a:off x="4859280" y="1484280"/>
                                  <a:ext cx="3960720" cy="3673440"/>
                                  <a:chOff x="485928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7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859280" y="1484280"/>
                                    <a:ext cx="3960720" cy="3673440"/>
                                    <a:chOff x="485928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763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565960" y="2953800"/>
                                      <a:ext cx="424440" cy="587520"/>
                                      <a:chOff x="5565960" y="2953800"/>
                                      <a:chExt cx="424440" cy="587520"/>
                                    </a:xfrm>
                                  </p:grpSpPr>
                                  <p:sp>
                                    <p:nvSpPr>
                                      <p:cNvPr id="764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5707440" y="2953800"/>
                                        <a:ext cx="28296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65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5565960" y="3541320"/>
                                        <a:ext cx="42444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6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5849280" y="2953800"/>
                                        <a:ext cx="0" cy="5875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  <a:headEnd len="lg" type="stealth" w="sm"/>
                                        <a:tailEnd len="lg" type="stealth" w="sm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76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859280" y="1484280"/>
                                      <a:ext cx="3960720" cy="3673440"/>
                                      <a:chOff x="485928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768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859280" y="1484280"/>
                                        <a:ext cx="3960720" cy="3673440"/>
                                        <a:chOff x="485928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76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859280" y="1484280"/>
                                          <a:ext cx="3960720" cy="3673440"/>
                                          <a:chOff x="485928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770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859280" y="1484280"/>
                                            <a:ext cx="3960720" cy="3673440"/>
                                            <a:chOff x="485928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771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859280" y="1484280"/>
                                              <a:ext cx="3960720" cy="3673440"/>
                                              <a:chOff x="485928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772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859280" y="1484280"/>
                                                <a:ext cx="3960720" cy="3673440"/>
                                                <a:chOff x="485928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773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859280" y="1484280"/>
                                                  <a:ext cx="3960720" cy="3673440"/>
                                                  <a:chOff x="4859280" y="1484280"/>
                                                  <a:chExt cx="3960720" cy="367344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77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4859280" y="3982320"/>
                                                    <a:ext cx="3960720" cy="117540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3366ff"/>
                                                  </a:solidFill>
                                                  <a:ln w="936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grpSp>
                                                <p:nvGrpSpPr>
                                                  <p:cNvPr id="77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425560" y="1484280"/>
                                                    <a:ext cx="990000" cy="2791800"/>
                                                    <a:chOff x="5425560" y="1484280"/>
                                                    <a:chExt cx="990000" cy="279180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776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425560" y="2953440"/>
                                                      <a:ext cx="990000" cy="1322280"/>
                                                      <a:chOff x="5425560" y="2953440"/>
                                                      <a:chExt cx="990000" cy="132228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77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120" y="2953440"/>
                                                        <a:ext cx="141480" cy="13222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7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480" y="4128840"/>
                                                        <a:ext cx="424080" cy="1468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7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425200" y="3540960"/>
                                                        <a:ext cx="141480" cy="73440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78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425560" y="1484280"/>
                                                      <a:ext cx="990000" cy="2791800"/>
                                                      <a:chOff x="5425560" y="1484280"/>
                                                      <a:chExt cx="990000" cy="279180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781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6132960" y="4129200"/>
                                                        <a:ext cx="28260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5850000" y="1484280"/>
                                                        <a:ext cx="0" cy="2937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3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850000" y="1778040"/>
                                                        <a:ext cx="28296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4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708520" y="1484280"/>
                                                        <a:ext cx="0" cy="2937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5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425560" y="1778040"/>
                                                        <a:ext cx="28296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6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425560" y="1778040"/>
                                                        <a:ext cx="0" cy="249804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5567040" y="192456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480" y="4276080"/>
                                                        <a:ext cx="42408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grpSp>
                                                    <p:nvGrpSpPr>
                                                      <p:cNvPr id="789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991480" y="1777680"/>
                                                        <a:ext cx="141480" cy="2498040"/>
                                                        <a:chOff x="5991480" y="1777680"/>
                                                        <a:chExt cx="141480" cy="249804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79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6132960" y="177768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79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5991480" y="192456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79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567400" y="1924920"/>
                                                        <a:ext cx="42408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</p:grpSp>
                                              <p:sp>
                                                <p:nvSpPr>
                                                  <p:cNvPr id="79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5707800" y="1484280"/>
                                                    <a:ext cx="141480" cy="146880"/>
                                                  </a:xfrm>
                                                  <a:custGeom>
                                                    <a:avLst/>
                                                    <a:gdLst>
                                                      <a:gd name="textAreaLeft" fmla="*/ 30960 w 141480"/>
                                                      <a:gd name="textAreaRight" fmla="*/ 110520 w 141480"/>
                                                      <a:gd name="textAreaTop" fmla="*/ 32040 h 146880"/>
                                                      <a:gd name="textAreaBottom" fmla="*/ 114840 h 146880"/>
                                                    </a:gdLst>
                                                    <a:ahLst/>
                                                    <a:rect l="textAreaLeft" t="textAreaTop" r="textAreaRight" b="textAreaBottom"/>
                                                    <a:pathLst>
                                                      <a:path w="21600" h="21600">
                                                        <a:moveTo>
                                                          <a:pt x="0" y="0"/>
                                                        </a:moveTo>
                                                        <a:lnTo>
                                                          <a:pt x="21600" y="0"/>
                                                        </a:lnTo>
                                                        <a:lnTo>
                                                          <a:pt x="16200" y="21600"/>
                                                        </a:lnTo>
                                                        <a:lnTo>
                                                          <a:pt x="5400" y="21600"/>
                                                        </a:lnTo>
                                                        <a:close/>
                                                      </a:path>
                                                    </a:pathLst>
                                                  </a:custGeom>
                                                  <a:solidFill>
                                                    <a:srgbClr val="ff6600"/>
                                                  </a:solidFill>
                                                  <a:ln w="936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36000" bIns="360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794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6981480" y="1924920"/>
                                                  <a:ext cx="990000" cy="2791800"/>
                                                  <a:chOff x="6981480" y="1924920"/>
                                                  <a:chExt cx="990000" cy="279180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79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6981480" y="3394080"/>
                                                    <a:ext cx="990000" cy="1322280"/>
                                                    <a:chOff x="6981480" y="3394080"/>
                                                    <a:chExt cx="990000" cy="132228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79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040" y="3394080"/>
                                                      <a:ext cx="141480" cy="13222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79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400" y="4569480"/>
                                                      <a:ext cx="424080" cy="1468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798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6981120" y="3981600"/>
                                                      <a:ext cx="141480" cy="73440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grpSp>
                                                <p:nvGrpSpPr>
                                                  <p:cNvPr id="799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6981480" y="1924920"/>
                                                    <a:ext cx="990000" cy="2791800"/>
                                                    <a:chOff x="6981480" y="1924920"/>
                                                    <a:chExt cx="990000" cy="279180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800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688880" y="4569840"/>
                                                      <a:ext cx="28260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7405920" y="1924920"/>
                                                      <a:ext cx="0" cy="2937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2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405920" y="2218680"/>
                                                      <a:ext cx="28296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3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264440" y="1924920"/>
                                                      <a:ext cx="0" cy="2937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4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6981480" y="2218680"/>
                                                      <a:ext cx="28296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5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6981480" y="2218680"/>
                                                      <a:ext cx="0" cy="249804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7122960" y="2365200"/>
                                                      <a:ext cx="0" cy="23511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400" y="4716720"/>
                                                      <a:ext cx="42408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grpSp>
                                                  <p:nvGrpSpPr>
                                                    <p:cNvPr id="808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7547400" y="2218320"/>
                                                      <a:ext cx="141480" cy="2498040"/>
                                                      <a:chOff x="7547400" y="2218320"/>
                                                      <a:chExt cx="141480" cy="249804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80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7688880" y="221832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810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7547400" y="236520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81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123320" y="2365560"/>
                                                      <a:ext cx="42408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</p:grpSp>
                                          </p:grpSp>
                                          <p:sp>
                                            <p:nvSpPr>
                                              <p:cNvPr id="812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839640" y="4422960"/>
                                                <a:ext cx="1272960" cy="4406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813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839640" y="4422960"/>
                                              <a:ext cx="42408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76320">
                                              <a:solidFill>
                                                <a:srgbClr val="3366ff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81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7263720" y="4276080"/>
                                            <a:ext cx="424440" cy="293760"/>
                                            <a:chOff x="7263720" y="4276080"/>
                                            <a:chExt cx="424440" cy="293760"/>
                                          </a:xfrm>
                                        </p:grpSpPr>
                                        <p:sp>
                                          <p:nvSpPr>
                                            <p:cNvPr id="815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7263720" y="4422600"/>
                                              <a:ext cx="28296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16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263720" y="4569840"/>
                                              <a:ext cx="4244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1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V="1">
                                              <a:off x="7688160" y="4276080"/>
                                              <a:ext cx="0" cy="29376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sp>
                                      <p:nvSpPr>
                                        <p:cNvPr id="818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5283360" y="4129200"/>
                                          <a:ext cx="1272960" cy="263520"/>
                                        </a:xfrm>
                                        <a:prstGeom prst="rect">
                                          <a:avLst/>
                                        </a:prstGeom>
                                        <a:solidFill>
                                          <a:srgbClr val="3366ff"/>
                                        </a:solidFill>
                                        <a:ln w="76320">
                                          <a:solidFill>
                                            <a:srgbClr val="3366ff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81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707440" y="3982320"/>
                                          <a:ext cx="424440" cy="293760"/>
                                          <a:chOff x="5707440" y="3982320"/>
                                          <a:chExt cx="424440" cy="293760"/>
                                        </a:xfrm>
                                      </p:grpSpPr>
                                      <p:sp>
                                        <p:nvSpPr>
                                          <p:cNvPr id="82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707440" y="4128840"/>
                                            <a:ext cx="28260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821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707800" y="4276080"/>
                                            <a:ext cx="42408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822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6131880" y="3982320"/>
                                            <a:ext cx="0" cy="29376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sp>
                                    <p:nvSpPr>
                                      <p:cNvPr id="823" name="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5990760" y="3982320"/>
                                        <a:ext cx="0" cy="146880"/>
                                      </a:xfrm>
                                      <a:prstGeom prst="line">
                                        <a:avLst/>
                                      </a:prstGeom>
                                      <a:ln w="2844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824" name=""/>
                                  <p:cNvSpPr/>
                                  <p:nvPr/>
                                </p:nvSpPr>
                                <p:spPr>
                                  <a:xfrm>
                                    <a:off x="5849280" y="3530880"/>
                                    <a:ext cx="0" cy="58752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  <a:headEnd len="lg" type="stealth" w="sm"/>
                                    <a:tailEnd len="med" type="stealth" w="sm"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825" name=""/>
                                <p:cNvSpPr/>
                                <p:nvPr/>
                              </p:nvSpPr>
                              <p:spPr>
                                <a:xfrm>
                                  <a:off x="7093080" y="4510080"/>
                                  <a:ext cx="272880" cy="360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2" h="227">
                                      <a:moveTo>
                                        <a:pt x="172" y="227"/>
                                      </a:moveTo>
                                      <a:cubicBezTo>
                                        <a:pt x="146" y="214"/>
                                        <a:pt x="28" y="190"/>
                                        <a:pt x="14" y="152"/>
                                      </a:cubicBezTo>
                                      <a:cubicBezTo>
                                        <a:pt x="0" y="114"/>
                                        <a:pt x="74" y="32"/>
                                        <a:pt x="89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  <a:tailEnd len="med" type="oval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26" name=""/>
                                <p:cNvSpPr/>
                                <p:nvPr/>
                              </p:nvSpPr>
                              <p:spPr>
                                <a:xfrm flipH="1" rot="6773400">
                                  <a:off x="6748920" y="4357440"/>
                                  <a:ext cx="287280" cy="288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72" h="136">
                                      <a:moveTo>
                                        <a:pt x="0" y="136"/>
                                      </a:moveTo>
                                      <a:cubicBezTo>
                                        <a:pt x="11" y="117"/>
                                        <a:pt x="22" y="38"/>
                                        <a:pt x="67" y="19"/>
                                      </a:cubicBezTo>
                                      <a:cubicBezTo>
                                        <a:pt x="112" y="0"/>
                                        <a:pt x="229" y="21"/>
                                        <a:pt x="272" y="21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  <a:tailEnd len="med" type="oval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827" name=""/>
                              <p:cNvSpPr/>
                              <p:nvPr/>
                            </p:nvSpPr>
                            <p:spPr>
                              <a:xfrm>
                                <a:off x="6319800" y="4365720"/>
                                <a:ext cx="7207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(1)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8" name=""/>
                              <p:cNvSpPr/>
                              <p:nvPr/>
                            </p:nvSpPr>
                            <p:spPr>
                              <a:xfrm>
                                <a:off x="7327800" y="4653000"/>
                                <a:ext cx="7207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(2)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29" name=""/>
                            <p:cNvSpPr/>
                            <p:nvPr/>
                          </p:nvSpPr>
                          <p:spPr>
                            <a:xfrm>
                              <a:off x="5575320" y="3049560"/>
                              <a:ext cx="7207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30" name=""/>
                            <p:cNvSpPr/>
                            <p:nvPr/>
                          </p:nvSpPr>
                          <p:spPr>
                            <a:xfrm>
                              <a:off x="5587920" y="3619440"/>
                              <a:ext cx="7207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L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>
                            <a:off x="7308720" y="3429000"/>
                            <a:ext cx="216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2" name=""/>
                          <p:cNvSpPr/>
                          <p:nvPr/>
                        </p:nvSpPr>
                        <p:spPr>
                          <a:xfrm>
                            <a:off x="7380360" y="4005360"/>
                            <a:ext cx="0" cy="431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3" name=""/>
                          <p:cNvSpPr/>
                          <p:nvPr/>
                        </p:nvSpPr>
                        <p:spPr>
                          <a:xfrm flipV="1">
                            <a:off x="7380360" y="3428640"/>
                            <a:ext cx="0" cy="5763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>
                          <a:off x="7093080" y="3500640"/>
                          <a:ext cx="7189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>
                          <a:off x="7093080" y="3998880"/>
                          <a:ext cx="7189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L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6443640" y="2718000"/>
                        <a:ext cx="649440" cy="40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r>
                          <a:rPr b="0" lang="es-MX" sz="1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atm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5003640" y="4581720"/>
                      <a:ext cx="936720" cy="0"/>
                    </a:xfrm>
                    <a:prstGeom prst="line">
                      <a:avLst/>
                    </a:prstGeom>
                    <a:ln w="38160">
                      <a:solidFill>
                        <a:srgbClr val="bbe0e3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5148360" y="4489560"/>
                      <a:ext cx="79200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bbe0e3"/>
                          </a:solidFill>
                          <a:latin typeface="Book Antiqua"/>
                        </a:rPr>
                        <a:t>v</a:t>
                      </a:r>
                      <a:r>
                        <a:rPr b="1" lang="es-MX" sz="2000" spc="-1" strike="noStrike" baseline="-25000">
                          <a:solidFill>
                            <a:srgbClr val="bbe0e3"/>
                          </a:solidFill>
                          <a:latin typeface="Book Antiqu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9" name=""/>
                  <p:cNvSpPr/>
                  <p:nvPr/>
                </p:nvSpPr>
                <p:spPr>
                  <a:xfrm>
                    <a:off x="6516720" y="3573720"/>
                    <a:ext cx="720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380360" y="2925720"/>
                    <a:ext cx="720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1" name=""/>
                <p:cNvSpPr/>
                <p:nvPr/>
              </p:nvSpPr>
              <p:spPr>
                <a:xfrm>
                  <a:off x="6659640" y="3837240"/>
                  <a:ext cx="396720" cy="120600"/>
                </a:xfrm>
                <a:custGeom>
                  <a:avLst/>
                  <a:gdLst/>
                  <a:ahLst/>
                  <a:rect l="l" t="t" r="r" b="b"/>
                  <a:pathLst>
                    <a:path w="250" h="76">
                      <a:moveTo>
                        <a:pt x="246" y="76"/>
                      </a:moveTo>
                      <a:cubicBezTo>
                        <a:pt x="243" y="72"/>
                        <a:pt x="250" y="56"/>
                        <a:pt x="220" y="52"/>
                      </a:cubicBezTo>
                      <a:cubicBezTo>
                        <a:pt x="190" y="48"/>
                        <a:pt x="105" y="61"/>
                        <a:pt x="68" y="52"/>
                      </a:cubicBezTo>
                      <a:cubicBezTo>
                        <a:pt x="31" y="43"/>
                        <a:pt x="14" y="1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>
                <a:off x="7607160" y="3186360"/>
                <a:ext cx="314640" cy="185760"/>
              </a:xfrm>
              <a:custGeom>
                <a:avLst/>
                <a:gdLst/>
                <a:ahLst/>
                <a:rect l="l" t="t" r="r" b="b"/>
                <a:pathLst>
                  <a:path w="198" h="117">
                    <a:moveTo>
                      <a:pt x="0" y="117"/>
                    </a:moveTo>
                    <a:cubicBezTo>
                      <a:pt x="6" y="111"/>
                      <a:pt x="9" y="94"/>
                      <a:pt x="38" y="90"/>
                    </a:cubicBezTo>
                    <a:cubicBezTo>
                      <a:pt x="67" y="86"/>
                      <a:pt x="152" y="105"/>
                      <a:pt x="175" y="90"/>
                    </a:cubicBezTo>
                    <a:cubicBezTo>
                      <a:pt x="198" y="75"/>
                      <a:pt x="186" y="37"/>
                      <a:pt x="17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"/>
          <p:cNvSpPr/>
          <p:nvPr/>
        </p:nvSpPr>
        <p:spPr>
          <a:xfrm>
            <a:off x="468360" y="57340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unto (2) es un punto de esta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454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79280" y="1773360"/>
            <a:ext cx="496908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o el punto (2) es un punto de estanc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las ligamos con las presión que hay dentro del tubo. En el tub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a situación es hidrostát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o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, de donde result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732720" y="450864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be0e3"/>
                </a:solidFill>
                <a:latin typeface="Book Antiqua"/>
              </a:rPr>
              <a:t>v</a:t>
            </a:r>
            <a:r>
              <a:rPr b="1" lang="es-MX" sz="2000" spc="-1" strike="noStrike" baseline="-25000">
                <a:solidFill>
                  <a:srgbClr val="bbe0e3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5148360" y="1484280"/>
            <a:ext cx="3960720" cy="3673440"/>
            <a:chOff x="5148360" y="1484280"/>
            <a:chExt cx="3960720" cy="3673440"/>
          </a:xfrm>
        </p:grpSpPr>
        <p:grpSp>
          <p:nvGrpSpPr>
            <p:cNvPr id="848" name=""/>
            <p:cNvGrpSpPr/>
            <p:nvPr/>
          </p:nvGrpSpPr>
          <p:grpSpPr>
            <a:xfrm>
              <a:off x="5148360" y="1484280"/>
              <a:ext cx="3960720" cy="3673440"/>
              <a:chOff x="5148360" y="1484280"/>
              <a:chExt cx="3960720" cy="367344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148360" y="1484280"/>
                <a:ext cx="3960720" cy="3673440"/>
                <a:chOff x="5148360" y="1484280"/>
                <a:chExt cx="3960720" cy="367344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5148360" y="1484280"/>
                  <a:ext cx="3960720" cy="3673440"/>
                  <a:chOff x="5148360" y="1484280"/>
                  <a:chExt cx="3960720" cy="367344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6948720" y="3073320"/>
                    <a:ext cx="36036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44">
                        <a:moveTo>
                          <a:pt x="0" y="0"/>
                        </a:moveTo>
                        <a:cubicBezTo>
                          <a:pt x="26" y="64"/>
                          <a:pt x="53" y="128"/>
                          <a:pt x="91" y="136"/>
                        </a:cubicBezTo>
                        <a:cubicBezTo>
                          <a:pt x="129" y="144"/>
                          <a:pt x="204" y="61"/>
                          <a:pt x="227" y="46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5148360" y="1484280"/>
                    <a:ext cx="3960720" cy="3673440"/>
                    <a:chOff x="5148360" y="1484280"/>
                    <a:chExt cx="3960720" cy="3673440"/>
                  </a:xfrm>
                </p:grpSpPr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5148360" y="1484280"/>
                      <a:ext cx="3960720" cy="3673440"/>
                      <a:chOff x="5148360" y="1484280"/>
                      <a:chExt cx="3960720" cy="3673440"/>
                    </a:xfrm>
                  </p:grpSpPr>
                  <p:grpSp>
                    <p:nvGrpSpPr>
                      <p:cNvPr id="854" name=""/>
                      <p:cNvGrpSpPr/>
                      <p:nvPr/>
                    </p:nvGrpSpPr>
                    <p:grpSpPr>
                      <a:xfrm>
                        <a:off x="5148360" y="1484280"/>
                        <a:ext cx="3960720" cy="3673440"/>
                        <a:chOff x="5148360" y="1484280"/>
                        <a:chExt cx="3960720" cy="3673440"/>
                      </a:xfrm>
                    </p:grpSpPr>
                    <p:grpSp>
                      <p:nvGrpSpPr>
                        <p:cNvPr id="855" name=""/>
                        <p:cNvGrpSpPr/>
                        <p:nvPr/>
                      </p:nvGrpSpPr>
                      <p:grpSpPr>
                        <a:xfrm>
                          <a:off x="5148360" y="1484280"/>
                          <a:ext cx="3960720" cy="3673440"/>
                          <a:chOff x="5148360" y="1484280"/>
                          <a:chExt cx="3960720" cy="3673440"/>
                        </a:xfrm>
                      </p:grpSpPr>
                      <p:grpSp>
                        <p:nvGrpSpPr>
                          <p:cNvPr id="856" name=""/>
                          <p:cNvGrpSpPr/>
                          <p:nvPr/>
                        </p:nvGrpSpPr>
                        <p:grpSpPr>
                          <a:xfrm>
                            <a:off x="5148360" y="1484280"/>
                            <a:ext cx="3960720" cy="3673440"/>
                            <a:chOff x="5148360" y="1484280"/>
                            <a:chExt cx="3960720" cy="3673440"/>
                          </a:xfrm>
                        </p:grpSpPr>
                        <p:grpSp>
                          <p:nvGrpSpPr>
                            <p:cNvPr id="857" name=""/>
                            <p:cNvGrpSpPr/>
                            <p:nvPr/>
                          </p:nvGrpSpPr>
                          <p:grpSpPr>
                            <a:xfrm>
                              <a:off x="5148360" y="1484280"/>
                              <a:ext cx="3960720" cy="3673440"/>
                              <a:chOff x="514836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858" name=""/>
                              <p:cNvGrpSpPr/>
                              <p:nvPr/>
                            </p:nvGrpSpPr>
                            <p:grpSpPr>
                              <a:xfrm>
                                <a:off x="5148360" y="1484280"/>
                                <a:ext cx="3960720" cy="3673440"/>
                                <a:chOff x="514836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859" name=""/>
                                <p:cNvGrpSpPr/>
                                <p:nvPr/>
                              </p:nvGrpSpPr>
                              <p:grpSpPr>
                                <a:xfrm>
                                  <a:off x="5148360" y="1484280"/>
                                  <a:ext cx="3960720" cy="3673440"/>
                                  <a:chOff x="514836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8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148360" y="1484280"/>
                                    <a:ext cx="3960720" cy="3673440"/>
                                    <a:chOff x="514836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86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148360" y="1484280"/>
                                      <a:ext cx="3960720" cy="3673440"/>
                                      <a:chOff x="514836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862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148360" y="1484280"/>
                                        <a:ext cx="3960720" cy="3673440"/>
                                        <a:chOff x="514836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863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148360" y="1484280"/>
                                          <a:ext cx="3960720" cy="3673440"/>
                                          <a:chOff x="514836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86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855040" y="2953800"/>
                                            <a:ext cx="424440" cy="587520"/>
                                            <a:chOff x="5855040" y="2953800"/>
                                            <a:chExt cx="424440" cy="587520"/>
                                          </a:xfrm>
                                        </p:grpSpPr>
                                        <p:sp>
                                          <p:nvSpPr>
                                            <p:cNvPr id="865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5996520" y="2953800"/>
                                              <a:ext cx="28296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66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5855040" y="3541320"/>
                                              <a:ext cx="4244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6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138360" y="2953800"/>
                                              <a:ext cx="0" cy="58752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lg" type="stealth" w="sm"/>
                                              <a:tailEnd len="lg" type="stealth" w="sm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86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148360" y="1484280"/>
                                            <a:ext cx="3960720" cy="3673440"/>
                                            <a:chOff x="514836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86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148360" y="1484280"/>
                                              <a:ext cx="3960720" cy="3673440"/>
                                              <a:chOff x="514836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87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148360" y="1484280"/>
                                                <a:ext cx="3960720" cy="3673440"/>
                                                <a:chOff x="514836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871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5148360" y="1484280"/>
                                                  <a:ext cx="3960720" cy="3673440"/>
                                                  <a:chOff x="5148360" y="1484280"/>
                                                  <a:chExt cx="3960720" cy="36734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872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148360" y="1484280"/>
                                                    <a:ext cx="3960720" cy="3673440"/>
                                                    <a:chOff x="5148360" y="1484280"/>
                                                    <a:chExt cx="3960720" cy="36734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873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48360" y="1484280"/>
                                                      <a:ext cx="3960720" cy="3673440"/>
                                                      <a:chOff x="5148360" y="1484280"/>
                                                      <a:chExt cx="3960720" cy="367344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874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148360" y="1484280"/>
                                                        <a:ext cx="3960720" cy="3673440"/>
                                                        <a:chOff x="5148360" y="1484280"/>
                                                        <a:chExt cx="3960720" cy="367344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875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148360" y="3982320"/>
                                                          <a:ext cx="3960720" cy="117540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grpSp>
                                                      <p:nvGrpSpPr>
                                                        <p:cNvPr id="8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1484280"/>
                                                          <a:ext cx="990000" cy="2791800"/>
                                                          <a:chOff x="5714640" y="148428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877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14640" y="2953440"/>
                                                            <a:ext cx="990000" cy="1322280"/>
                                                            <a:chOff x="5714640" y="2953440"/>
                                                            <a:chExt cx="990000" cy="13222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87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200" y="2953440"/>
                                                              <a:ext cx="141480" cy="13222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7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560" y="4128840"/>
                                                              <a:ext cx="424080" cy="1468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14280" y="3540960"/>
                                                              <a:ext cx="141480" cy="73440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88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14640" y="1484280"/>
                                                            <a:ext cx="990000" cy="2791800"/>
                                                            <a:chOff x="5714640" y="1484280"/>
                                                            <a:chExt cx="990000" cy="279180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88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422040" y="4129200"/>
                                                              <a:ext cx="28260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139080" y="1484280"/>
                                                              <a:ext cx="0" cy="2937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139080" y="1778040"/>
                                                              <a:ext cx="28296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997600" y="1484280"/>
                                                              <a:ext cx="0" cy="2937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14640" y="1778040"/>
                                                              <a:ext cx="28296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714640" y="1778040"/>
                                                              <a:ext cx="0" cy="249804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856120" y="192456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560" y="4276080"/>
                                                              <a:ext cx="42408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grpSp>
                                                          <p:nvGrpSpPr>
                                                            <p:cNvPr id="890" name=""/>
                                                            <p:cNvGrpSpPr/>
                                                            <p:nvPr/>
                                                          </p:nvGrpSpPr>
                                                          <p:grpSpPr>
                                                            <a:xfrm>
                                                              <a:off x="6280560" y="1777680"/>
                                                              <a:ext cx="141480" cy="2498040"/>
                                                              <a:chOff x="6280560" y="1777680"/>
                                                              <a:chExt cx="141480" cy="2498040"/>
                                                            </a:xfrm>
                                                          </p:grpSpPr>
                                                          <p:sp>
                                                            <p:nvSpPr>
                                                              <p:cNvPr id="891" name="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 flipV="1">
                                                                <a:off x="6422040" y="1777680"/>
                                                                <a:ext cx="0" cy="2351160"/>
                                                              </a:xfrm>
                                                              <a:prstGeom prst="line">
                                                                <a:avLst/>
                                                              </a:prstGeom>
                                                              <a:ln w="28440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miter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endParaRPr b="0" lang="en-US" sz="18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Arial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  <p:sp>
                                                            <p:nvSpPr>
                                                              <p:cNvPr id="892" name="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 flipV="1">
                                                                <a:off x="6280560" y="1924560"/>
                                                                <a:ext cx="0" cy="2351160"/>
                                                              </a:xfrm>
                                                              <a:prstGeom prst="line">
                                                                <a:avLst/>
                                                              </a:prstGeom>
                                                              <a:ln w="28440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miter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endParaRPr b="0" lang="en-US" sz="18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Arial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</p:grpSp>
                                                        <p:sp>
                                                          <p:nvSpPr>
                                                            <p:cNvPr id="89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856480" y="1924920"/>
                                                              <a:ext cx="42408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</p:grpSp>
                                                    <p:sp>
                                                      <p:nvSpPr>
                                                        <p:cNvPr id="89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996880" y="1484280"/>
                                                          <a:ext cx="141480" cy="146880"/>
                                                        </a:xfrm>
                                                        <a:custGeom>
                                                          <a:avLst/>
                                                          <a:gdLst>
                                                            <a:gd name="textAreaLeft" fmla="*/ 30960 w 141480"/>
                                                            <a:gd name="textAreaRight" fmla="*/ 110520 w 141480"/>
                                                            <a:gd name="textAreaTop" fmla="*/ 32040 h 146880"/>
                                                            <a:gd name="textAreaBottom" fmla="*/ 114840 h 146880"/>
                                                          </a:gdLst>
                                                          <a:ahLst/>
                                                          <a:rect l="textAreaLeft" t="textAreaTop" r="textAreaRight" b="textAreaBottom"/>
                                                          <a:pathLst>
                                                            <a:path w="21600" h="21600">
                                                              <a:moveTo>
                                                                <a:pt x="0" y="0"/>
                                                              </a:moveTo>
                                                              <a:lnTo>
                                                                <a:pt x="21600" y="0"/>
                                                              </a:lnTo>
                                                              <a:lnTo>
                                                                <a:pt x="16200" y="21600"/>
                                                              </a:lnTo>
                                                              <a:lnTo>
                                                                <a:pt x="5400" y="21600"/>
                                                              </a:lnTo>
                                                              <a:close/>
                                                            </a:path>
                                                          </a:pathLst>
                                                        </a:custGeom>
                                                        <a:solidFill>
                                                          <a:srgbClr val="ff6600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36000" bIns="360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89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1924920"/>
                                                        <a:ext cx="990000" cy="2791800"/>
                                                        <a:chOff x="7270560" y="192492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89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270560" y="3394080"/>
                                                          <a:ext cx="990000" cy="1322280"/>
                                                          <a:chOff x="7270560" y="3394080"/>
                                                          <a:chExt cx="990000" cy="13222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89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120" y="3394080"/>
                                                            <a:ext cx="141480" cy="13222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89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480" y="4569480"/>
                                                            <a:ext cx="424080" cy="1468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89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270200" y="3981600"/>
                                                            <a:ext cx="141480" cy="73440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900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270560" y="1924920"/>
                                                          <a:ext cx="990000" cy="2791800"/>
                                                          <a:chOff x="7270560" y="192492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0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977960" y="4569840"/>
                                                            <a:ext cx="28260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695000" y="192492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695000" y="221868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7553520" y="192492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270560" y="221868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7270560" y="2218680"/>
                                                            <a:ext cx="0" cy="249804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412040" y="236520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480" y="471672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grpSp>
                                                        <p:nvGrpSpPr>
                                                          <p:cNvPr id="909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7836480" y="2218320"/>
                                                            <a:ext cx="141480" cy="2498040"/>
                                                            <a:chOff x="7836480" y="2218320"/>
                                                            <a:chExt cx="141480" cy="249804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91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7977960" y="221832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91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7836480" y="236520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91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412400" y="236556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</p:grpSp>
                                                <p:sp>
                                                  <p:nvSpPr>
                                                    <p:cNvPr id="913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128720" y="4422960"/>
                                                      <a:ext cx="1272960" cy="44064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91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128720" y="4422960"/>
                                                    <a:ext cx="42408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7632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915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7552800" y="4276080"/>
                                                  <a:ext cx="424440" cy="293760"/>
                                                  <a:chOff x="7552800" y="4276080"/>
                                                  <a:chExt cx="424440" cy="29376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91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7552800" y="4422600"/>
                                                    <a:ext cx="28296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91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552800" y="4569840"/>
                                                    <a:ext cx="4244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91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7977240" y="4276080"/>
                                                    <a:ext cx="0" cy="29376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</p:grpSp>
                                          <p:sp>
                                            <p:nvSpPr>
                                              <p:cNvPr id="919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5572440" y="4129200"/>
                                                <a:ext cx="1272960" cy="26352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7632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grpSp>
                                            <p:nvGrpSpPr>
                                              <p:cNvPr id="92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996520" y="3982320"/>
                                                <a:ext cx="424440" cy="293760"/>
                                                <a:chOff x="5996520" y="3982320"/>
                                                <a:chExt cx="424440" cy="29376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921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5996520" y="4128840"/>
                                                  <a:ext cx="28260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922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5996880" y="4276080"/>
                                                  <a:ext cx="42408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92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V="1">
                                                  <a:off x="6420960" y="3982320"/>
                                                  <a:ext cx="0" cy="29376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sp>
                                          <p:nvSpPr>
                                            <p:cNvPr id="92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V="1">
                                              <a:off x="6279840" y="3982320"/>
                                              <a:ext cx="0" cy="1468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sp>
                                      <p:nvSpPr>
                                        <p:cNvPr id="925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138360" y="3530880"/>
                                          <a:ext cx="0" cy="58752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headEnd len="lg" type="stealth" w="sm"/>
                                          <a:tailEnd len="med" type="stealth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92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7382160" y="4510080"/>
                                        <a:ext cx="272880" cy="360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72" h="227">
                                            <a:moveTo>
                                              <a:pt x="172" y="227"/>
                                            </a:moveTo>
                                            <a:cubicBezTo>
                                              <a:pt x="146" y="214"/>
                                              <a:pt x="28" y="190"/>
                                              <a:pt x="14" y="152"/>
                                            </a:cubicBezTo>
                                            <a:cubicBezTo>
                                              <a:pt x="0" y="114"/>
                                              <a:pt x="74" y="32"/>
                                              <a:pt x="89" y="0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  <a:tailEnd len="med" type="oval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927" name=""/>
                                      <p:cNvSpPr/>
                                      <p:nvPr/>
                                    </p:nvSpPr>
                                    <p:spPr>
                                      <a:xfrm flipH="1" rot="6773400">
                                        <a:off x="7038000" y="4357440"/>
                                        <a:ext cx="287280" cy="288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72" h="136">
                                            <a:moveTo>
                                              <a:pt x="0" y="136"/>
                                            </a:moveTo>
                                            <a:cubicBezTo>
                                              <a:pt x="11" y="117"/>
                                              <a:pt x="22" y="38"/>
                                              <a:pt x="67" y="19"/>
                                            </a:cubicBezTo>
                                            <a:cubicBezTo>
                                              <a:pt x="112" y="0"/>
                                              <a:pt x="229" y="21"/>
                                              <a:pt x="272" y="21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  <a:tailEnd len="med" type="oval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9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08880" y="4365720"/>
                                      <a:ext cx="720720" cy="3682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125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MX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(1)</a:t>
                                      </a:r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616880" y="4653000"/>
                                      <a:ext cx="720720" cy="3682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125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MX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(2)</a:t>
                                      </a:r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930" name=""/>
                                  <p:cNvSpPr/>
                                  <p:nvPr/>
                                </p:nvSpPr>
                                <p:spPr>
                                  <a:xfrm>
                                    <a:off x="5864400" y="304956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H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31" name=""/>
                                  <p:cNvSpPr/>
                                  <p:nvPr/>
                                </p:nvSpPr>
                                <p:spPr>
                                  <a:xfrm>
                                    <a:off x="5877000" y="361944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L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932" name=""/>
                                <p:cNvSpPr/>
                                <p:nvPr/>
                              </p:nvSpPr>
                              <p:spPr>
                                <a:xfrm>
                                  <a:off x="7597800" y="3429000"/>
                                  <a:ext cx="21600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3" name=""/>
                                <p:cNvSpPr/>
                                <p:nvPr/>
                              </p:nvSpPr>
                              <p:spPr>
                                <a:xfrm>
                                  <a:off x="7669440" y="4005360"/>
                                  <a:ext cx="0" cy="4316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headEnd len="lg" type="stealth" w="sm"/>
                                  <a:tailEnd len="lg" type="stealth" w="sm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4" name=""/>
                                <p:cNvSpPr/>
                                <p:nvPr/>
                              </p:nvSpPr>
                              <p:spPr>
                                <a:xfrm flipV="1">
                                  <a:off x="7669440" y="3428640"/>
                                  <a:ext cx="0" cy="576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headEnd len="lg" type="stealth" w="sm"/>
                                  <a:tailEnd len="lg" type="stealth" w="sm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7382160" y="3500640"/>
                                <a:ext cx="7189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H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6" name=""/>
                              <p:cNvSpPr/>
                              <p:nvPr/>
                            </p:nvSpPr>
                            <p:spPr>
                              <a:xfrm>
                                <a:off x="7382160" y="3998880"/>
                                <a:ext cx="7189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L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937" name=""/>
                            <p:cNvSpPr/>
                            <p:nvPr/>
                          </p:nvSpPr>
                          <p:spPr>
                            <a:xfrm>
                              <a:off x="6732720" y="2718000"/>
                              <a:ext cx="649440" cy="405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p</a:t>
                              </a:r>
                              <a:r>
                                <a:rPr b="0" lang="es-MX" sz="1800" spc="-1" strike="noStrike" baseline="-25000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tm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38" name=""/>
                          <p:cNvSpPr/>
                          <p:nvPr/>
                        </p:nvSpPr>
                        <p:spPr>
                          <a:xfrm>
                            <a:off x="5292720" y="4581720"/>
                            <a:ext cx="9367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be0e3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9" name=""/>
                          <p:cNvSpPr/>
                          <p:nvPr/>
                        </p:nvSpPr>
                        <p:spPr>
                          <a:xfrm>
                            <a:off x="5437440" y="4489560"/>
                            <a:ext cx="792000" cy="396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25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>
                          <a:off x="6805800" y="3573720"/>
                          <a:ext cx="7207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>
                          <a:off x="7669440" y="2925720"/>
                          <a:ext cx="7207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B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6948720" y="3837240"/>
                        <a:ext cx="396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0" h="76">
                            <a:moveTo>
                              <a:pt x="246" y="76"/>
                            </a:moveTo>
                            <a:cubicBezTo>
                              <a:pt x="243" y="72"/>
                              <a:pt x="250" y="56"/>
                              <a:pt x="220" y="52"/>
                            </a:cubicBezTo>
                            <a:cubicBezTo>
                              <a:pt x="190" y="48"/>
                              <a:pt x="105" y="61"/>
                              <a:pt x="68" y="52"/>
                            </a:cubicBezTo>
                            <a:cubicBezTo>
                              <a:pt x="31" y="43"/>
                              <a:pt x="14" y="11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  <a:headEnd len="med" type="oval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7896240" y="3186360"/>
                      <a:ext cx="31464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17">
                          <a:moveTo>
                            <a:pt x="0" y="117"/>
                          </a:moveTo>
                          <a:cubicBezTo>
                            <a:pt x="6" y="111"/>
                            <a:pt x="9" y="94"/>
                            <a:pt x="38" y="90"/>
                          </a:cubicBezTo>
                          <a:cubicBezTo>
                            <a:pt x="67" y="86"/>
                            <a:pt x="152" y="105"/>
                            <a:pt x="175" y="90"/>
                          </a:cubicBezTo>
                          <a:cubicBezTo>
                            <a:pt x="198" y="75"/>
                            <a:pt x="186" y="37"/>
                            <a:pt x="175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4" name=""/>
                <p:cNvSpPr/>
                <p:nvPr/>
              </p:nvSpPr>
              <p:spPr>
                <a:xfrm>
                  <a:off x="7021800" y="4487760"/>
                  <a:ext cx="4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bbe0e3"/>
                      </a:solidFill>
                      <a:latin typeface="Book Antiqua"/>
                    </a:rPr>
                    <a:t>v</a:t>
                  </a:r>
                  <a:r>
                    <a:rPr b="1" lang="es-MX" sz="2000" spc="-1" strike="noStrike" baseline="-25000">
                      <a:solidFill>
                        <a:srgbClr val="bbe0e3"/>
                      </a:solidFill>
                      <a:latin typeface="Book Antiqua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148360" y="1484280"/>
                <a:ext cx="3960720" cy="3673440"/>
                <a:chOff x="5148360" y="1484280"/>
                <a:chExt cx="3960720" cy="36734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6948720" y="3073320"/>
                  <a:ext cx="360360" cy="228600"/>
                </a:xfrm>
                <a:custGeom>
                  <a:avLst/>
                  <a:gdLst/>
                  <a:ahLst/>
                  <a:rect l="l" t="t" r="r" b="b"/>
                  <a:pathLst>
                    <a:path w="227" h="144">
                      <a:moveTo>
                        <a:pt x="0" y="0"/>
                      </a:moveTo>
                      <a:cubicBezTo>
                        <a:pt x="26" y="64"/>
                        <a:pt x="53" y="128"/>
                        <a:pt x="91" y="136"/>
                      </a:cubicBezTo>
                      <a:cubicBezTo>
                        <a:pt x="129" y="144"/>
                        <a:pt x="204" y="61"/>
                        <a:pt x="227" y="4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7" name=""/>
                <p:cNvGrpSpPr/>
                <p:nvPr/>
              </p:nvGrpSpPr>
              <p:grpSpPr>
                <a:xfrm>
                  <a:off x="5148360" y="1484280"/>
                  <a:ext cx="3960720" cy="3673440"/>
                  <a:chOff x="5148360" y="1484280"/>
                  <a:chExt cx="3960720" cy="3673440"/>
                </a:xfrm>
              </p:grpSpPr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148360" y="1484280"/>
                    <a:ext cx="3960720" cy="3673440"/>
                    <a:chOff x="5148360" y="1484280"/>
                    <a:chExt cx="3960720" cy="3673440"/>
                  </a:xfrm>
                </p:grpSpPr>
                <p:grpSp>
                  <p:nvGrpSpPr>
                    <p:cNvPr id="949" name=""/>
                    <p:cNvGrpSpPr/>
                    <p:nvPr/>
                  </p:nvGrpSpPr>
                  <p:grpSpPr>
                    <a:xfrm>
                      <a:off x="5148360" y="1484280"/>
                      <a:ext cx="3960720" cy="3673440"/>
                      <a:chOff x="5148360" y="1484280"/>
                      <a:chExt cx="3960720" cy="3673440"/>
                    </a:xfrm>
                  </p:grpSpPr>
                  <p:grpSp>
                    <p:nvGrpSpPr>
                      <p:cNvPr id="950" name=""/>
                      <p:cNvGrpSpPr/>
                      <p:nvPr/>
                    </p:nvGrpSpPr>
                    <p:grpSpPr>
                      <a:xfrm>
                        <a:off x="5148360" y="1484280"/>
                        <a:ext cx="3960720" cy="3673440"/>
                        <a:chOff x="5148360" y="1484280"/>
                        <a:chExt cx="3960720" cy="3673440"/>
                      </a:xfrm>
                    </p:grpSpPr>
                    <p:grpSp>
                      <p:nvGrpSpPr>
                        <p:cNvPr id="951" name=""/>
                        <p:cNvGrpSpPr/>
                        <p:nvPr/>
                      </p:nvGrpSpPr>
                      <p:grpSpPr>
                        <a:xfrm>
                          <a:off x="5148360" y="1484280"/>
                          <a:ext cx="3960720" cy="3673440"/>
                          <a:chOff x="5148360" y="1484280"/>
                          <a:chExt cx="3960720" cy="3673440"/>
                        </a:xfrm>
                      </p:grpSpPr>
                      <p:grpSp>
                        <p:nvGrpSpPr>
                          <p:cNvPr id="952" name=""/>
                          <p:cNvGrpSpPr/>
                          <p:nvPr/>
                        </p:nvGrpSpPr>
                        <p:grpSpPr>
                          <a:xfrm>
                            <a:off x="5148360" y="1484280"/>
                            <a:ext cx="3960720" cy="3673440"/>
                            <a:chOff x="5148360" y="1484280"/>
                            <a:chExt cx="3960720" cy="3673440"/>
                          </a:xfrm>
                        </p:grpSpPr>
                        <p:grpSp>
                          <p:nvGrpSpPr>
                            <p:cNvPr id="953" name=""/>
                            <p:cNvGrpSpPr/>
                            <p:nvPr/>
                          </p:nvGrpSpPr>
                          <p:grpSpPr>
                            <a:xfrm>
                              <a:off x="5148360" y="1484280"/>
                              <a:ext cx="3960720" cy="3673440"/>
                              <a:chOff x="514836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954" name=""/>
                              <p:cNvGrpSpPr/>
                              <p:nvPr/>
                            </p:nvGrpSpPr>
                            <p:grpSpPr>
                              <a:xfrm>
                                <a:off x="5148360" y="1484280"/>
                                <a:ext cx="3960720" cy="3673440"/>
                                <a:chOff x="514836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955" name=""/>
                                <p:cNvGrpSpPr/>
                                <p:nvPr/>
                              </p:nvGrpSpPr>
                              <p:grpSpPr>
                                <a:xfrm>
                                  <a:off x="5148360" y="1484280"/>
                                  <a:ext cx="3960720" cy="3673440"/>
                                  <a:chOff x="514836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9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148360" y="1484280"/>
                                    <a:ext cx="3960720" cy="3673440"/>
                                    <a:chOff x="514836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95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148360" y="1484280"/>
                                      <a:ext cx="3960720" cy="3673440"/>
                                      <a:chOff x="514836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958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148360" y="1484280"/>
                                        <a:ext cx="3960720" cy="3673440"/>
                                        <a:chOff x="514836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95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855040" y="2953800"/>
                                          <a:ext cx="424440" cy="587520"/>
                                          <a:chOff x="5855040" y="2953800"/>
                                          <a:chExt cx="424440" cy="587520"/>
                                        </a:xfrm>
                                      </p:grpSpPr>
                                      <p:sp>
                                        <p:nvSpPr>
                                          <p:cNvPr id="96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996520" y="2953800"/>
                                            <a:ext cx="28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1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855040" y="3541320"/>
                                            <a:ext cx="42444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2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138360" y="2953800"/>
                                            <a:ext cx="0" cy="58752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lg" type="stealth" w="sm"/>
                                            <a:tailEnd len="lg" type="stealth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grpSp>
                                      <p:nvGrpSpPr>
                                        <p:cNvPr id="963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148360" y="1484280"/>
                                          <a:ext cx="3960720" cy="3673440"/>
                                          <a:chOff x="514836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96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148360" y="1484280"/>
                                            <a:ext cx="3960720" cy="3673440"/>
                                            <a:chOff x="514836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96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148360" y="1484280"/>
                                              <a:ext cx="3960720" cy="3673440"/>
                                              <a:chOff x="514836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966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148360" y="1484280"/>
                                                <a:ext cx="3960720" cy="3673440"/>
                                                <a:chOff x="514836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967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5148360" y="1484280"/>
                                                  <a:ext cx="3960720" cy="3673440"/>
                                                  <a:chOff x="5148360" y="1484280"/>
                                                  <a:chExt cx="3960720" cy="36734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968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148360" y="1484280"/>
                                                    <a:ext cx="3960720" cy="3673440"/>
                                                    <a:chOff x="5148360" y="1484280"/>
                                                    <a:chExt cx="3960720" cy="36734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969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48360" y="1484280"/>
                                                      <a:ext cx="3960720" cy="3673440"/>
                                                      <a:chOff x="5148360" y="1484280"/>
                                                      <a:chExt cx="3960720" cy="367344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970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148360" y="3982320"/>
                                                        <a:ext cx="3960720" cy="117540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grpSp>
                                                    <p:nvGrpSpPr>
                                                      <p:cNvPr id="97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714640" y="1484280"/>
                                                        <a:ext cx="990000" cy="2791800"/>
                                                        <a:chOff x="5714640" y="148428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972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2953440"/>
                                                          <a:ext cx="990000" cy="1322280"/>
                                                          <a:chOff x="5714640" y="2953440"/>
                                                          <a:chExt cx="990000" cy="13222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7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200" y="2953440"/>
                                                            <a:ext cx="141480" cy="13222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560" y="4128840"/>
                                                            <a:ext cx="424080" cy="1468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714280" y="3540960"/>
                                                            <a:ext cx="141480" cy="73440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9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1484280"/>
                                                          <a:ext cx="990000" cy="2791800"/>
                                                          <a:chOff x="5714640" y="148428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7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422040" y="4129200"/>
                                                            <a:ext cx="28260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6139080" y="148428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139080" y="177804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0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997600" y="148428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714640" y="177804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714640" y="1778040"/>
                                                            <a:ext cx="0" cy="249804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5856120" y="192456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560" y="427608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grpSp>
                                                        <p:nvGrpSpPr>
                                                          <p:cNvPr id="985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280560" y="1777680"/>
                                                            <a:ext cx="141480" cy="2498040"/>
                                                            <a:chOff x="6280560" y="1777680"/>
                                                            <a:chExt cx="141480" cy="249804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98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422040" y="177768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98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280560" y="192456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98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856480" y="192492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sp>
                                                    <p:nvSpPr>
                                                      <p:cNvPr id="98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6880" y="1484280"/>
                                                        <a:ext cx="141480" cy="146880"/>
                                                      </a:xfrm>
                                                      <a:custGeom>
                                                        <a:avLst/>
                                                        <a:gdLst>
                                                          <a:gd name="textAreaLeft" fmla="*/ 30960 w 141480"/>
                                                          <a:gd name="textAreaRight" fmla="*/ 110520 w 141480"/>
                                                          <a:gd name="textAreaTop" fmla="*/ 32040 h 146880"/>
                                                          <a:gd name="textAreaBottom" fmla="*/ 114840 h 146880"/>
                                                        </a:gdLst>
                                                        <a:ahLst/>
                                                        <a:rect l="textAreaLeft" t="textAreaTop" r="textAreaRight" b="textAreaBottom"/>
                                                        <a:pathLst>
                                                          <a:path w="21600" h="21600">
                                                            <a:moveTo>
                                                              <a:pt x="0" y="0"/>
                                                            </a:moveTo>
                                                            <a:lnTo>
                                                              <a:pt x="21600" y="0"/>
                                                            </a:lnTo>
                                                            <a:lnTo>
                                                              <a:pt x="16200" y="21600"/>
                                                            </a:lnTo>
                                                            <a:lnTo>
                                                              <a:pt x="5400" y="21600"/>
                                                            </a:lnTo>
                                                            <a:close/>
                                                          </a:path>
                                                        </a:pathLst>
                                                      </a:custGeom>
                                                      <a:solidFill>
                                                        <a:srgbClr val="ff6600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36000" bIns="360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99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7270560" y="1924920"/>
                                                      <a:ext cx="990000" cy="2791800"/>
                                                      <a:chOff x="7270560" y="1924920"/>
                                                      <a:chExt cx="990000" cy="279180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99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3394080"/>
                                                        <a:ext cx="990000" cy="1322280"/>
                                                        <a:chOff x="7270560" y="3394080"/>
                                                        <a:chExt cx="990000" cy="132228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99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120" y="3394080"/>
                                                          <a:ext cx="141480" cy="13222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480" y="4569480"/>
                                                          <a:ext cx="424080" cy="1468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270200" y="3981600"/>
                                                          <a:ext cx="141480" cy="73440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99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1924920"/>
                                                        <a:ext cx="990000" cy="2791800"/>
                                                        <a:chOff x="7270560" y="192492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996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977960" y="4569840"/>
                                                          <a:ext cx="28260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7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7695000" y="1924920"/>
                                                          <a:ext cx="0" cy="2937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8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695000" y="2218680"/>
                                                          <a:ext cx="28296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9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7553520" y="1924920"/>
                                                          <a:ext cx="0" cy="2937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270560" y="2218680"/>
                                                          <a:ext cx="28296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7270560" y="2218680"/>
                                                          <a:ext cx="0" cy="249804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7412040" y="236520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480" y="4716720"/>
                                                          <a:ext cx="42408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grpSp>
                                                      <p:nvGrpSpPr>
                                                        <p:cNvPr id="1004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836480" y="2218320"/>
                                                          <a:ext cx="141480" cy="2498040"/>
                                                          <a:chOff x="7836480" y="2218320"/>
                                                          <a:chExt cx="141480" cy="249804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100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977960" y="221832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10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836480" y="236520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1007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412400" y="2365560"/>
                                                          <a:ext cx="42408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</p:grpSp>
                                              </p:grpSp>
                                              <p:sp>
                                                <p:nvSpPr>
                                                  <p:cNvPr id="100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128720" y="4422960"/>
                                                    <a:ext cx="1272960" cy="44064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3366ff"/>
                                                  </a:solidFill>
                                                  <a:ln w="936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1009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7128720" y="4422960"/>
                                                  <a:ext cx="42408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7632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101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7552800" y="4276080"/>
                                                <a:ext cx="424440" cy="293760"/>
                                                <a:chOff x="7552800" y="4276080"/>
                                                <a:chExt cx="424440" cy="29376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1011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7552800" y="4422600"/>
                                                  <a:ext cx="28296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12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7552800" y="4569840"/>
                                                  <a:ext cx="42444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1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V="1">
                                                  <a:off x="7977240" y="4276080"/>
                                                  <a:ext cx="0" cy="29376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sp>
                                          <p:nvSpPr>
                                            <p:cNvPr id="101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572440" y="4129200"/>
                                              <a:ext cx="1272960" cy="26352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3366ff"/>
                                            </a:solidFill>
                                            <a:ln w="76320">
                                              <a:solidFill>
                                                <a:srgbClr val="3366ff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grpSp>
                                          <p:nvGrpSpPr>
                                            <p:cNvPr id="101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996520" y="3982320"/>
                                              <a:ext cx="424440" cy="293760"/>
                                              <a:chOff x="5996520" y="3982320"/>
                                              <a:chExt cx="424440" cy="293760"/>
                                            </a:xfrm>
                                          </p:grpSpPr>
                                          <p:sp>
                                            <p:nvSpPr>
                                              <p:cNvPr id="101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5996520" y="4128840"/>
                                                <a:ext cx="28260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5996880" y="4276080"/>
                                                <a:ext cx="42408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420960" y="3982320"/>
                                                <a:ext cx="0" cy="2937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  <p:sp>
                                        <p:nvSpPr>
                                          <p:cNvPr id="1019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6279840" y="3982320"/>
                                            <a:ext cx="0" cy="1468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sp>
                                    <p:nvSpPr>
                                      <p:cNvPr id="1020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138360" y="3530880"/>
                                        <a:ext cx="0" cy="5875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  <a:headEnd len="lg" type="stealth" w="sm"/>
                                        <a:tailEnd len="med" type="stealth" w="sm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0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382160" y="4510080"/>
                                      <a:ext cx="272880" cy="360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2" h="227">
                                          <a:moveTo>
                                            <a:pt x="172" y="227"/>
                                          </a:moveTo>
                                          <a:cubicBezTo>
                                            <a:pt x="146" y="214"/>
                                            <a:pt x="28" y="190"/>
                                            <a:pt x="14" y="152"/>
                                          </a:cubicBezTo>
                                          <a:cubicBezTo>
                                            <a:pt x="0" y="114"/>
                                            <a:pt x="74" y="32"/>
                                            <a:pt x="89" y="0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9360">
                                      <a:solidFill>
                                        <a:srgbClr val="000000"/>
                                      </a:solidFill>
                                      <a:round/>
                                      <a:tailEnd len="med" type="oval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22" name=""/>
                                    <p:cNvSpPr/>
                                    <p:nvPr/>
                                  </p:nvSpPr>
                                  <p:spPr>
                                    <a:xfrm flipH="1" rot="6773400">
                                      <a:off x="7038000" y="4357440"/>
                                      <a:ext cx="287280" cy="288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72" h="136">
                                          <a:moveTo>
                                            <a:pt x="0" y="136"/>
                                          </a:moveTo>
                                          <a:cubicBezTo>
                                            <a:pt x="11" y="117"/>
                                            <a:pt x="22" y="38"/>
                                            <a:pt x="67" y="19"/>
                                          </a:cubicBezTo>
                                          <a:cubicBezTo>
                                            <a:pt x="112" y="0"/>
                                            <a:pt x="229" y="21"/>
                                            <a:pt x="272" y="21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9360">
                                      <a:solidFill>
                                        <a:srgbClr val="000000"/>
                                      </a:solidFill>
                                      <a:round/>
                                      <a:tailEnd len="med" type="oval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023" name=""/>
                                  <p:cNvSpPr/>
                                  <p:nvPr/>
                                </p:nvSpPr>
                                <p:spPr>
                                  <a:xfrm>
                                    <a:off x="6608880" y="436572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(1)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24" name=""/>
                                  <p:cNvSpPr/>
                                  <p:nvPr/>
                                </p:nvSpPr>
                                <p:spPr>
                                  <a:xfrm>
                                    <a:off x="7616880" y="465300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(2)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1025" name=""/>
                                <p:cNvSpPr/>
                                <p:nvPr/>
                              </p:nvSpPr>
                              <p:spPr>
                                <a:xfrm>
                                  <a:off x="5864400" y="3049560"/>
                                  <a:ext cx="720720" cy="3682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125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MX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H</a:t>
                                  </a: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26" name=""/>
                                <p:cNvSpPr/>
                                <p:nvPr/>
                              </p:nvSpPr>
                              <p:spPr>
                                <a:xfrm>
                                  <a:off x="5877000" y="3619440"/>
                                  <a:ext cx="720720" cy="3682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125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MX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L</a:t>
                                  </a: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27" name=""/>
                              <p:cNvSpPr/>
                              <p:nvPr/>
                            </p:nvSpPr>
                            <p:spPr>
                              <a:xfrm>
                                <a:off x="7597800" y="3429000"/>
                                <a:ext cx="21600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8" name=""/>
                              <p:cNvSpPr/>
                              <p:nvPr/>
                            </p:nvSpPr>
                            <p:spPr>
                              <a:xfrm>
                                <a:off x="7669440" y="4005360"/>
                                <a:ext cx="0" cy="4316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lg" type="stealth" w="sm"/>
                                <a:tailEnd len="lg" type="stealth" w="sm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9" name=""/>
                              <p:cNvSpPr/>
                              <p:nvPr/>
                            </p:nvSpPr>
                            <p:spPr>
                              <a:xfrm flipV="1">
                                <a:off x="7669440" y="3428640"/>
                                <a:ext cx="0" cy="576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lg" type="stealth" w="sm"/>
                                <a:tailEnd len="lg" type="stealth" w="sm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30" name=""/>
                            <p:cNvSpPr/>
                            <p:nvPr/>
                          </p:nvSpPr>
                          <p:spPr>
                            <a:xfrm>
                              <a:off x="7382160" y="3500640"/>
                              <a:ext cx="7189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1" name=""/>
                            <p:cNvSpPr/>
                            <p:nvPr/>
                          </p:nvSpPr>
                          <p:spPr>
                            <a:xfrm>
                              <a:off x="7382160" y="3998880"/>
                              <a:ext cx="7189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L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32" name=""/>
                          <p:cNvSpPr/>
                          <p:nvPr/>
                        </p:nvSpPr>
                        <p:spPr>
                          <a:xfrm>
                            <a:off x="6732720" y="2718000"/>
                            <a:ext cx="649440" cy="405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MX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</a:t>
                            </a:r>
                            <a:r>
                              <a:rPr b="0" lang="es-MX" sz="18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atm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33" name=""/>
                        <p:cNvSpPr/>
                        <p:nvPr/>
                      </p:nvSpPr>
                      <p:spPr>
                        <a:xfrm>
                          <a:off x="5292720" y="4581720"/>
                          <a:ext cx="9367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be0e3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>
                          <a:off x="5437440" y="4489560"/>
                          <a:ext cx="792000" cy="396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35" name=""/>
                      <p:cNvSpPr/>
                      <p:nvPr/>
                    </p:nvSpPr>
                    <p:spPr>
                      <a:xfrm>
                        <a:off x="6805800" y="3573720"/>
                        <a:ext cx="7207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7669440" y="2925720"/>
                        <a:ext cx="7207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6948720" y="3837240"/>
                      <a:ext cx="396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76">
                          <a:moveTo>
                            <a:pt x="246" y="76"/>
                          </a:moveTo>
                          <a:cubicBezTo>
                            <a:pt x="243" y="72"/>
                            <a:pt x="250" y="56"/>
                            <a:pt x="220" y="52"/>
                          </a:cubicBezTo>
                          <a:cubicBezTo>
                            <a:pt x="190" y="48"/>
                            <a:pt x="105" y="61"/>
                            <a:pt x="68" y="52"/>
                          </a:cubicBezTo>
                          <a:cubicBezTo>
                            <a:pt x="31" y="43"/>
                            <a:pt x="14" y="11"/>
                            <a:pt x="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8" name=""/>
                  <p:cNvSpPr/>
                  <p:nvPr/>
                </p:nvSpPr>
                <p:spPr>
                  <a:xfrm>
                    <a:off x="7896240" y="3186360"/>
                    <a:ext cx="3146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17">
                        <a:moveTo>
                          <a:pt x="0" y="117"/>
                        </a:moveTo>
                        <a:cubicBezTo>
                          <a:pt x="6" y="111"/>
                          <a:pt x="9" y="94"/>
                          <a:pt x="38" y="90"/>
                        </a:cubicBezTo>
                        <a:cubicBezTo>
                          <a:pt x="67" y="86"/>
                          <a:pt x="152" y="105"/>
                          <a:pt x="175" y="90"/>
                        </a:cubicBezTo>
                        <a:cubicBezTo>
                          <a:pt x="198" y="75"/>
                          <a:pt x="186" y="37"/>
                          <a:pt x="175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9" name=""/>
              <p:cNvSpPr/>
              <p:nvPr/>
            </p:nvSpPr>
            <p:spPr>
              <a:xfrm>
                <a:off x="6948720" y="4487760"/>
                <a:ext cx="504720" cy="0"/>
              </a:xfrm>
              <a:prstGeom prst="line">
                <a:avLst/>
              </a:prstGeom>
              <a:ln w="38160">
                <a:solidFill>
                  <a:srgbClr val="bbe0e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5292720" y="4344840"/>
              <a:ext cx="1008360" cy="503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1979640" y="2637000"/>
                <a:ext cx="15271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1692360" y="3573360"/>
                <a:ext cx="2190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684360" y="5300640"/>
                <a:ext cx="38750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L</m:t>
                    </m:r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4140360" y="5927760"/>
                <a:ext cx="3816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H</m:t>
                    </m:r>
                    <m:m>
                      <m:mr>
                        <m:e/>
                        <m:e>
                          <m:r>
                            <m:t xml:space="preserve">⇒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826920" y="189000"/>
            <a:ext cx="7705800" cy="576000"/>
            <a:chOff x="826920" y="189000"/>
            <a:chExt cx="7705800" cy="576000"/>
          </a:xfrm>
        </p:grpSpPr>
        <p:sp>
          <p:nvSpPr>
            <p:cNvPr id="1047" name=""/>
            <p:cNvSpPr/>
            <p:nvPr/>
          </p:nvSpPr>
          <p:spPr>
            <a:xfrm>
              <a:off x="2124000" y="189000"/>
              <a:ext cx="64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Copperplate Gothic Bold"/>
                </a:rPr>
                <a:t>Curso de Capacitación en Mecánica de Fluidos Bás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826920" y="299880"/>
              <a:ext cx="1366560" cy="360000"/>
              <a:chOff x="826920" y="299880"/>
              <a:chExt cx="1366560" cy="360000"/>
            </a:xfrm>
          </p:grpSpPr>
          <p:pic>
            <p:nvPicPr>
              <p:cNvPr id="10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99880"/>
                <a:ext cx="81972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46640" y="299880"/>
                <a:ext cx="546840" cy="36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042920" y="1197000"/>
            <a:ext cx="3600360" cy="4177440"/>
            <a:chOff x="1042920" y="1197000"/>
            <a:chExt cx="3600360" cy="4177440"/>
          </a:xfrm>
        </p:grpSpPr>
        <p:grpSp>
          <p:nvGrpSpPr>
            <p:cNvPr id="51" name=""/>
            <p:cNvGrpSpPr/>
            <p:nvPr/>
          </p:nvGrpSpPr>
          <p:grpSpPr>
            <a:xfrm>
              <a:off x="1042920" y="1197000"/>
              <a:ext cx="3384360" cy="3531240"/>
              <a:chOff x="1042920" y="1197000"/>
              <a:chExt cx="3384360" cy="353124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1042920" y="1197000"/>
                <a:ext cx="3313080" cy="3531240"/>
                <a:chOff x="1042920" y="1197000"/>
                <a:chExt cx="3313080" cy="353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3" name=""/>
                    <p:cNvSpPr txBox="1"/>
                    <p:nvPr/>
                  </p:nvSpPr>
                  <p:spPr>
                    <a:xfrm>
                      <a:off x="1042920" y="1197000"/>
                      <a:ext cx="2808360" cy="14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γ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54" name=""/>
                <p:cNvGrpSpPr/>
                <p:nvPr/>
              </p:nvGrpSpPr>
              <p:grpSpPr>
                <a:xfrm>
                  <a:off x="1474920" y="2679840"/>
                  <a:ext cx="1368360" cy="953640"/>
                  <a:chOff x="1474920" y="2679840"/>
                  <a:chExt cx="1368360" cy="953640"/>
                </a:xfrm>
              </p:grpSpPr>
              <p:grpSp>
                <p:nvGrpSpPr>
                  <p:cNvPr id="55" name=""/>
                  <p:cNvGrpSpPr/>
                  <p:nvPr/>
                </p:nvGrpSpPr>
                <p:grpSpPr>
                  <a:xfrm>
                    <a:off x="1474920" y="3113280"/>
                    <a:ext cx="1368360" cy="520200"/>
                    <a:chOff x="1474920" y="3113280"/>
                    <a:chExt cx="1368360" cy="520200"/>
                  </a:xfrm>
                </p:grpSpPr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1474920" y="3113280"/>
                      <a:ext cx="136836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 DE VELO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1546200" y="3127320"/>
                      <a:ext cx="1224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"/>
                  <p:cNvSpPr/>
                  <p:nvPr/>
                </p:nvSpPr>
                <p:spPr>
                  <a:xfrm flipV="1">
                    <a:off x="2122560" y="2679840"/>
                    <a:ext cx="0" cy="43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2266920" y="2695680"/>
                  <a:ext cx="1368360" cy="1528200"/>
                  <a:chOff x="2266920" y="2695680"/>
                  <a:chExt cx="1368360" cy="1528200"/>
                </a:xfrm>
              </p:grpSpPr>
              <p:grpSp>
                <p:nvGrpSpPr>
                  <p:cNvPr id="60" name=""/>
                  <p:cNvGrpSpPr/>
                  <p:nvPr/>
                </p:nvGrpSpPr>
                <p:grpSpPr>
                  <a:xfrm>
                    <a:off x="2266920" y="3703680"/>
                    <a:ext cx="1368360" cy="520200"/>
                    <a:chOff x="2266920" y="3703680"/>
                    <a:chExt cx="1368360" cy="52020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>
                      <a:off x="2266920" y="3703680"/>
                      <a:ext cx="136836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 DE 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338200" y="3718080"/>
                      <a:ext cx="1224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" name=""/>
                  <p:cNvSpPr/>
                  <p:nvPr/>
                </p:nvSpPr>
                <p:spPr>
                  <a:xfrm flipV="1">
                    <a:off x="2949480" y="2695680"/>
                    <a:ext cx="0" cy="10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2987640" y="2405160"/>
                  <a:ext cx="1368360" cy="2323080"/>
                  <a:chOff x="2987640" y="2405160"/>
                  <a:chExt cx="1368360" cy="232308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987640" y="4421160"/>
                    <a:ext cx="1368360" cy="307080"/>
                    <a:chOff x="2987640" y="4421160"/>
                    <a:chExt cx="1368360" cy="3070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987640" y="4421160"/>
                      <a:ext cx="13683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3287520" y="4421160"/>
                      <a:ext cx="71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" name=""/>
                  <p:cNvSpPr/>
                  <p:nvPr/>
                </p:nvSpPr>
                <p:spPr>
                  <a:xfrm flipV="1">
                    <a:off x="3686040" y="2405160"/>
                    <a:ext cx="0" cy="20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" name=""/>
              <p:cNvSpPr/>
              <p:nvPr/>
            </p:nvSpPr>
            <p:spPr>
              <a:xfrm>
                <a:off x="2268360" y="3645000"/>
                <a:ext cx="2158920" cy="10810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122200" y="50371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cc0000"/>
                  </a:solidFill>
                  <a:latin typeface="Arial"/>
                </a:rPr>
                <a:t>COTA PIEZOMÉT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4726080"/>
              <a:ext cx="0" cy="360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219640" y="2276640"/>
            <a:ext cx="3168720" cy="1694880"/>
            <a:chOff x="5219640" y="2276640"/>
            <a:chExt cx="3168720" cy="169488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5938920" y="2709720"/>
                  <a:ext cx="1871640" cy="12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5219640" y="2276640"/>
              <a:ext cx="31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TA PIEZOMÉTRIC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95280" y="57340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BERNOULLI Y LA COTA PIEZOMÉTRICA TIENEN DIMENSIONES DE LONG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248000" cy="503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SUMA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76720" y="619200"/>
                <a:ext cx="24480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684360" y="1773360"/>
            <a:ext cx="7488000" cy="4899600"/>
            <a:chOff x="684360" y="1773360"/>
            <a:chExt cx="7488000" cy="4899600"/>
          </a:xfrm>
        </p:grpSpPr>
        <p:grpSp>
          <p:nvGrpSpPr>
            <p:cNvPr id="80" name=""/>
            <p:cNvGrpSpPr/>
            <p:nvPr/>
          </p:nvGrpSpPr>
          <p:grpSpPr>
            <a:xfrm>
              <a:off x="684360" y="1773360"/>
              <a:ext cx="7488000" cy="4899600"/>
              <a:chOff x="684360" y="1773360"/>
              <a:chExt cx="7488000" cy="489960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1115640" y="2113200"/>
                <a:ext cx="7056720" cy="4559760"/>
                <a:chOff x="1115640" y="2113200"/>
                <a:chExt cx="7056720" cy="455976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1115640" y="2113200"/>
                  <a:ext cx="6480720" cy="4252680"/>
                  <a:chOff x="1115640" y="2113200"/>
                  <a:chExt cx="6480720" cy="425268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83" name=""/>
                      <p:cNvSpPr txBox="1"/>
                      <p:nvPr/>
                    </p:nvSpPr>
                    <p:spPr>
                      <a:xfrm>
                        <a:off x="6084720" y="3413160"/>
                        <a:ext cx="246240" cy="652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4" name=""/>
                      <p:cNvSpPr txBox="1"/>
                      <p:nvPr/>
                    </p:nvSpPr>
                    <p:spPr>
                      <a:xfrm>
                        <a:off x="6156360" y="5429520"/>
                        <a:ext cx="193680" cy="2570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h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5" name=""/>
                      <p:cNvSpPr txBox="1"/>
                      <p:nvPr/>
                    </p:nvSpPr>
                    <p:spPr>
                      <a:xfrm>
                        <a:off x="6093000" y="2113200"/>
                        <a:ext cx="290160" cy="563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p:grpSp>
                <p:nvGrpSpPr>
                  <p:cNvPr id="86" name=""/>
                  <p:cNvGrpSpPr/>
                  <p:nvPr/>
                </p:nvGrpSpPr>
                <p:grpSpPr>
                  <a:xfrm>
                    <a:off x="1115640" y="2189160"/>
                    <a:ext cx="6480720" cy="4176720"/>
                    <a:chOff x="1115640" y="2189160"/>
                    <a:chExt cx="6480720" cy="417672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1115640" y="2189160"/>
                      <a:ext cx="6480720" cy="4176720"/>
                      <a:chOff x="1115640" y="2189160"/>
                      <a:chExt cx="6480720" cy="4176720"/>
                    </a:xfrm>
                  </p:grpSpPr>
                  <p:grpSp>
                    <p:nvGrpSpPr>
                      <p:cNvPr id="88" name=""/>
                      <p:cNvGrpSpPr/>
                      <p:nvPr/>
                    </p:nvGrpSpPr>
                    <p:grpSpPr>
                      <a:xfrm>
                        <a:off x="1115640" y="2189160"/>
                        <a:ext cx="6480720" cy="4176720"/>
                        <a:chOff x="1115640" y="2189160"/>
                        <a:chExt cx="6480720" cy="4176720"/>
                      </a:xfrm>
                    </p:grpSpPr>
                    <p:grpSp>
                      <p:nvGrpSpPr>
                        <p:cNvPr id="89" name=""/>
                        <p:cNvGrpSpPr/>
                        <p:nvPr/>
                      </p:nvGrpSpPr>
                      <p:grpSpPr>
                        <a:xfrm>
                          <a:off x="1115640" y="2189160"/>
                          <a:ext cx="6480720" cy="4176720"/>
                          <a:chOff x="1115640" y="2189160"/>
                          <a:chExt cx="6480720" cy="4176720"/>
                        </a:xfrm>
                      </p:grpSpPr>
                      <p:grpSp>
                        <p:nvGrpSpPr>
                          <p:cNvPr id="90" name=""/>
                          <p:cNvGrpSpPr/>
                          <p:nvPr/>
                        </p:nvGrpSpPr>
                        <p:grpSpPr>
                          <a:xfrm>
                            <a:off x="1115640" y="2189160"/>
                            <a:ext cx="6480720" cy="4176720"/>
                            <a:chOff x="1115640" y="2189160"/>
                            <a:chExt cx="6480720" cy="4176720"/>
                          </a:xfrm>
                        </p:grpSpPr>
                        <p:grpSp>
                          <p:nvGrpSpPr>
                            <p:cNvPr id="91" name=""/>
                            <p:cNvGrpSpPr/>
                            <p:nvPr/>
                          </p:nvGrpSpPr>
                          <p:grpSpPr>
                            <a:xfrm>
                              <a:off x="1115640" y="2189160"/>
                              <a:ext cx="6480720" cy="4176720"/>
                              <a:chOff x="1115640" y="2189160"/>
                              <a:chExt cx="6480720" cy="4176720"/>
                            </a:xfrm>
                          </p:grpSpPr>
                          <p:grpSp>
                            <p:nvGrpSpPr>
                              <p:cNvPr id="92" name=""/>
                              <p:cNvGrpSpPr/>
                              <p:nvPr/>
                            </p:nvGrpSpPr>
                            <p:grpSpPr>
                              <a:xfrm>
                                <a:off x="1115640" y="2189160"/>
                                <a:ext cx="6480720" cy="4176720"/>
                                <a:chOff x="1115640" y="2189160"/>
                                <a:chExt cx="6480720" cy="4176720"/>
                              </a:xfrm>
                            </p:grpSpPr>
                            <p:grpSp>
                              <p:nvGrpSpPr>
                                <p:cNvPr id="93" name=""/>
                                <p:cNvGrpSpPr/>
                                <p:nvPr/>
                              </p:nvGrpSpPr>
                              <p:grpSpPr>
                                <a:xfrm>
                                  <a:off x="1115640" y="2189160"/>
                                  <a:ext cx="6480720" cy="4176720"/>
                                  <a:chOff x="1115640" y="2189160"/>
                                  <a:chExt cx="6480720" cy="4176720"/>
                                </a:xfrm>
                              </p:grpSpPr>
                              <p:grpSp>
                                <p:nvGrpSpPr>
                                  <p:cNvPr id="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115640" y="3322800"/>
                                    <a:ext cx="6336000" cy="3043080"/>
                                    <a:chOff x="1115640" y="3322800"/>
                                    <a:chExt cx="6336000" cy="3043080"/>
                                  </a:xfrm>
                                </p:grpSpPr>
                                <p:grpSp>
                                  <p:nvGrpSpPr>
                                    <p:cNvPr id="95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115640" y="3322800"/>
                                      <a:ext cx="6219720" cy="1993320"/>
                                      <a:chOff x="1115640" y="3322800"/>
                                      <a:chExt cx="6219720" cy="1993320"/>
                                    </a:xfrm>
                                  </p:grpSpPr>
                                  <p:grpSp>
                                    <p:nvGrpSpPr>
                                      <p:cNvPr id="96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115640" y="3322800"/>
                                        <a:ext cx="6219720" cy="1944360"/>
                                        <a:chOff x="1115640" y="3322800"/>
                                        <a:chExt cx="6219720" cy="1944360"/>
                                      </a:xfrm>
                                    </p:grpSpPr>
                                    <p:grpSp>
                                      <p:nvGrpSpPr>
                                        <p:cNvPr id="97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115640" y="3322800"/>
                                          <a:ext cx="6219720" cy="1646280"/>
                                          <a:chOff x="1115640" y="3322800"/>
                                          <a:chExt cx="6219720" cy="1646280"/>
                                        </a:xfrm>
                                      </p:grpSpPr>
                                      <p:grpSp>
                                        <p:nvGrpSpPr>
                                          <p:cNvPr id="9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115640" y="3540240"/>
                                            <a:ext cx="6219720" cy="1428840"/>
                                            <a:chOff x="1115640" y="3540240"/>
                                            <a:chExt cx="6219720" cy="1428840"/>
                                          </a:xfrm>
                                        </p:grpSpPr>
                                        <p:grpSp>
                                          <p:nvGrpSpPr>
                                            <p:cNvPr id="9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116000" y="3540240"/>
                                              <a:ext cx="6219360" cy="1428840"/>
                                              <a:chOff x="1116000" y="3540240"/>
                                              <a:chExt cx="6219360" cy="1428840"/>
                                            </a:xfrm>
                                          </p:grpSpPr>
                                          <p:sp>
                                            <p:nvSpPr>
                                              <p:cNvPr id="100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1116000" y="3540240"/>
                                                <a:ext cx="1257120" cy="22860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729800">
                                                <a:off x="2163240" y="4082760"/>
                                                <a:ext cx="2286000" cy="2282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grpSp>
                                            <p:nvGrpSpPr>
                                              <p:cNvPr id="102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249440" y="4511880"/>
                                                <a:ext cx="3085920" cy="457200"/>
                                                <a:chOff x="4249440" y="4511880"/>
                                                <a:chExt cx="3085920" cy="45720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10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4249440" y="4626000"/>
                                                  <a:ext cx="1562040" cy="22860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3366ff"/>
                                                </a:solidFill>
                                                <a:ln w="936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4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5735160" y="4511880"/>
                                                  <a:ext cx="1600200" cy="45720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3366ff"/>
                                                </a:solidFill>
                                                <a:ln w="936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10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115640" y="3684960"/>
                                              <a:ext cx="6192720" cy="1079280"/>
                                              <a:chOff x="1115640" y="3684960"/>
                                              <a:chExt cx="6192720" cy="1079280"/>
                                            </a:xfrm>
                                          </p:grpSpPr>
                                          <p:sp>
                                            <p:nvSpPr>
                                              <p:cNvPr id="10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284360" y="4764240"/>
                                                <a:ext cx="302400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 flipV="1">
                                                <a:off x="2339280" y="3684960"/>
                                                <a:ext cx="1944360" cy="107928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115640" y="3684960"/>
                                                <a:ext cx="122364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  <p:sp>
                                        <p:nvSpPr>
                                          <p:cNvPr id="109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403280" y="3322800"/>
                                            <a:ext cx="0" cy="21744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lg" type="triangle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10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1403280" y="3755880"/>
                                            <a:ext cx="0" cy="21564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lg" type="triangle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111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93080" y="4259160"/>
                                          <a:ext cx="0" cy="289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lg" type="triangle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112" name=""/>
                                        <p:cNvSpPr/>
                                        <p:nvPr/>
                                      </p:nvSpPr>
                                      <p:spPr>
                                        <a:xfrm flipV="1">
                                          <a:off x="7093080" y="4979520"/>
                                          <a:ext cx="0" cy="28764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lg" type="triangle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11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116000" y="3827520"/>
                                        <a:ext cx="431640" cy="33624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spcBef>
                                            <a:spcPts val="876"/>
                                          </a:spcBef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es-MX" sz="1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D</a:t>
                                        </a:r>
                                        <a:r>
                                          <a:rPr b="1" lang="es-MX" sz="1400" spc="-1" strike="noStrike" baseline="-25000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1 </a:t>
                                        </a:r>
                                        <a:endParaRPr b="0" lang="en-US" sz="1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1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732720" y="4979880"/>
                                        <a:ext cx="431640" cy="33624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spcBef>
                                            <a:spcPts val="876"/>
                                          </a:spcBef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es-MX" sz="1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D</a:t>
                                        </a:r>
                                        <a:r>
                                          <a:rPr b="1" lang="es-MX" sz="1400" spc="-1" strike="noStrike" baseline="-25000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2 </a:t>
                                        </a:r>
                                        <a:endParaRPr b="0" lang="en-US" sz="1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116000" y="6365880"/>
                                      <a:ext cx="6335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16" name=""/>
                                  <p:cNvSpPr/>
                                  <p:nvPr/>
                                </p:nvSpPr>
                                <p:spPr>
                                  <a:xfrm>
                                    <a:off x="1116000" y="2189160"/>
                                    <a:ext cx="648036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ff33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116000" y="2621160"/>
                                    <a:ext cx="6480360" cy="287280"/>
                                    <a:chOff x="1116000" y="2621160"/>
                                    <a:chExt cx="6480360" cy="287280"/>
                                  </a:xfrm>
                                </p:grpSpPr>
                                <p:sp>
                                  <p:nvSpPr>
                                    <p:cNvPr id="1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116000" y="2908440"/>
                                      <a:ext cx="4608360" cy="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4360" y="2621160"/>
                                      <a:ext cx="1872000" cy="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120" name=""/>
                                <p:cNvSpPr/>
                                <p:nvPr/>
                              </p:nvSpPr>
                              <p:spPr>
                                <a:xfrm>
                                  <a:off x="2771640" y="3916440"/>
                                  <a:ext cx="360360" cy="21744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66"/>
                                  </a:solidFill>
                                  <a:miter/>
                                  <a:tailEnd len="lg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1" name=""/>
                                <p:cNvSpPr/>
                                <p:nvPr/>
                              </p:nvSpPr>
                              <p:spPr>
                                <a:xfrm>
                                  <a:off x="6443640" y="4756320"/>
                                  <a:ext cx="360360" cy="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66"/>
                                  </a:solidFill>
                                  <a:miter/>
                                  <a:tailEnd len="lg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22" name=""/>
                              <p:cNvSpPr/>
                              <p:nvPr/>
                            </p:nvSpPr>
                            <p:spPr>
                              <a:xfrm>
                                <a:off x="2627280" y="3989520"/>
                                <a:ext cx="503280" cy="405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MX" sz="1800" spc="-1" strike="noStrike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v</a:t>
                                </a:r>
                                <a:r>
                                  <a:rPr b="1" lang="es-MX" sz="1800" spc="-1" strike="noStrike" baseline="-25000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1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" name=""/>
                              <p:cNvSpPr/>
                              <p:nvPr/>
                            </p:nvSpPr>
                            <p:spPr>
                              <a:xfrm>
                                <a:off x="6300720" y="4656240"/>
                                <a:ext cx="503280" cy="405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MX" sz="1800" spc="-1" strike="noStrike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v</a:t>
                                </a:r>
                                <a:r>
                                  <a:rPr b="1" lang="es-MX" sz="1800" spc="-1" strike="noStrike" baseline="-25000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2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4" name=""/>
                            <p:cNvSpPr/>
                            <p:nvPr/>
                          </p:nvSpPr>
                          <p:spPr>
                            <a:xfrm>
                              <a:off x="3492360" y="2189160"/>
                              <a:ext cx="0" cy="7192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66"/>
                              </a:solidFill>
                              <a:miter/>
                              <a:headEnd len="lg" type="stealth" w="sm"/>
                              <a:tailEnd len="lg" type="stealth" w="sm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5" name=""/>
                          <p:cNvSpPr/>
                          <p:nvPr/>
                        </p:nvSpPr>
                        <p:spPr>
                          <a:xfrm>
                            <a:off x="3492360" y="2908440"/>
                            <a:ext cx="0" cy="1441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" name=""/>
                          <p:cNvSpPr/>
                          <p:nvPr/>
                        </p:nvSpPr>
                        <p:spPr>
                          <a:xfrm>
                            <a:off x="3492360" y="4349880"/>
                            <a:ext cx="0" cy="2016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med" type="stealth" w="med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mc:AlternateContent>
                      <mc:Choice xmlns:a14="http://schemas.microsoft.com/office/drawing/2010/main" Requires="a14">
                        <p:sp>
                          <p:nvSpPr>
                            <p:cNvPr id="127" name=""/>
                            <p:cNvSpPr txBox="1"/>
                            <p:nvPr/>
                          </p:nvSpPr>
                          <p:spPr>
                            <a:xfrm>
                              <a:off x="3565440" y="3268800"/>
                              <a:ext cx="246240" cy="65232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f>
                                    <m:num>
                                      <m:r>
                                        <m:t xml:space="preserve">p</m:t>
                                      </m:r>
                                    </m:num>
                                    <m:den>
                                      <m:r>
                                        <m:t xml:space="preserve">γ</m:t>
                                      </m:r>
                                    </m:den>
                                  </m:f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128" name=""/>
                            <p:cNvSpPr txBox="1"/>
                            <p:nvPr/>
                          </p:nvSpPr>
                          <p:spPr>
                            <a:xfrm>
                              <a:off x="3564000" y="5213520"/>
                              <a:ext cx="193680" cy="25704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h</m:t>
                                  </m:r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129" name=""/>
                            <p:cNvSpPr txBox="1"/>
                            <p:nvPr/>
                          </p:nvSpPr>
                          <p:spPr>
                            <a:xfrm>
                              <a:off x="3494160" y="2260800"/>
                              <a:ext cx="290520" cy="56340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g</m:t>
                                      </m:r>
                                    </m:den>
                                  </m:f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</p:grp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1619280" y="2189160"/>
                        <a:ext cx="0" cy="719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1619280" y="2908440"/>
                        <a:ext cx="0" cy="792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1619280" y="3700440"/>
                        <a:ext cx="0" cy="2665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mc:AlternateContent>
                  <mc:Choice xmlns:a14="http://schemas.microsoft.com/office/drawing/2010/main" Requires="a14">
                    <p:sp>
                      <p:nvSpPr>
                        <p:cNvPr id="133" name=""/>
                        <p:cNvSpPr txBox="1"/>
                        <p:nvPr/>
                      </p:nvSpPr>
                      <p:spPr>
                        <a:xfrm>
                          <a:off x="1622520" y="2908440"/>
                          <a:ext cx="245880" cy="65232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r>
                                    <m:t xml:space="preserve">p</m:t>
                                  </m:r>
                                </m:num>
                                <m:den>
                                  <m:r>
                                    <m:t xml:space="preserve">γ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134" name=""/>
                        <p:cNvSpPr txBox="1"/>
                        <p:nvPr/>
                      </p:nvSpPr>
                      <p:spPr>
                        <a:xfrm>
                          <a:off x="1674720" y="4708800"/>
                          <a:ext cx="193680" cy="257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h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135" name=""/>
                        <p:cNvSpPr txBox="1"/>
                        <p:nvPr/>
                      </p:nvSpPr>
                      <p:spPr>
                        <a:xfrm>
                          <a:off x="1619280" y="2260800"/>
                          <a:ext cx="290520" cy="563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084720" y="2189160"/>
                    <a:ext cx="0" cy="4176720"/>
                    <a:chOff x="6084720" y="2189160"/>
                    <a:chExt cx="0" cy="417672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084720" y="2189160"/>
                      <a:ext cx="0" cy="432000"/>
                    </a:xfrm>
                    <a:prstGeom prst="line">
                      <a:avLst/>
                    </a:prstGeom>
                    <a:ln w="9360">
                      <a:solidFill>
                        <a:srgbClr val="000066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084720" y="2621160"/>
                      <a:ext cx="0" cy="20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084720" y="4708800"/>
                      <a:ext cx="0" cy="1657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" name=""/>
                <p:cNvSpPr/>
                <p:nvPr/>
              </p:nvSpPr>
              <p:spPr>
                <a:xfrm>
                  <a:off x="4932360" y="6365880"/>
                  <a:ext cx="32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Arial"/>
                    </a:rPr>
                    <a:t>NIVEL DE REFERENC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684360" y="177336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ff33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022400" y="1969920"/>
              <a:ext cx="392040" cy="208080"/>
            </a:xfrm>
            <a:custGeom>
              <a:avLst/>
              <a:gdLst/>
              <a:ahLst/>
              <a:rect l="l" t="t" r="r" b="b"/>
              <a:pathLst>
                <a:path w="247" h="131">
                  <a:moveTo>
                    <a:pt x="0" y="26"/>
                  </a:moveTo>
                  <a:cubicBezTo>
                    <a:pt x="22" y="34"/>
                    <a:pt x="109" y="79"/>
                    <a:pt x="134" y="76"/>
                  </a:cubicBezTo>
                  <a:cubicBezTo>
                    <a:pt x="159" y="73"/>
                    <a:pt x="131" y="0"/>
                    <a:pt x="150" y="9"/>
                  </a:cubicBezTo>
                  <a:cubicBezTo>
                    <a:pt x="169" y="18"/>
                    <a:pt x="227" y="106"/>
                    <a:pt x="247" y="131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ECUACIÓN (o PRINCIPIO)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4000" y="2637000"/>
            <a:ext cx="4572000" cy="3349440"/>
            <a:chOff x="324000" y="2637000"/>
            <a:chExt cx="4572000" cy="3349440"/>
          </a:xfrm>
        </p:grpSpPr>
        <p:grpSp>
          <p:nvGrpSpPr>
            <p:cNvPr id="145" name=""/>
            <p:cNvGrpSpPr/>
            <p:nvPr/>
          </p:nvGrpSpPr>
          <p:grpSpPr>
            <a:xfrm>
              <a:off x="324000" y="2637000"/>
              <a:ext cx="4572000" cy="3349440"/>
              <a:chOff x="324000" y="2637000"/>
              <a:chExt cx="4572000" cy="33494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24000" y="2997000"/>
                <a:ext cx="4572000" cy="2989440"/>
                <a:chOff x="324000" y="2997000"/>
                <a:chExt cx="4572000" cy="29894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324000" y="3357720"/>
                  <a:ext cx="4572000" cy="2628720"/>
                  <a:chOff x="324000" y="3357720"/>
                  <a:chExt cx="4572000" cy="2628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324000" y="3357720"/>
                    <a:ext cx="4572000" cy="2628720"/>
                    <a:chOff x="324000" y="3357720"/>
                    <a:chExt cx="4572000" cy="262872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324000" y="3357720"/>
                      <a:ext cx="4572000" cy="2628720"/>
                      <a:chOff x="324000" y="3357720"/>
                      <a:chExt cx="4572000" cy="262872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324000" y="3357720"/>
                        <a:ext cx="4572000" cy="2628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1" name=""/>
                      <p:cNvGrpSpPr/>
                      <p:nvPr/>
                    </p:nvGrpSpPr>
                    <p:grpSpPr>
                      <a:xfrm>
                        <a:off x="324000" y="3416040"/>
                        <a:ext cx="4457520" cy="2363040"/>
                        <a:chOff x="324000" y="3416040"/>
                        <a:chExt cx="4457520" cy="2363040"/>
                      </a:xfrm>
                    </p:grpSpPr>
                    <p:grpSp>
                      <p:nvGrpSpPr>
                        <p:cNvPr id="152" name=""/>
                        <p:cNvGrpSpPr/>
                        <p:nvPr/>
                      </p:nvGrpSpPr>
                      <p:grpSpPr>
                        <a:xfrm>
                          <a:off x="324000" y="3416040"/>
                          <a:ext cx="4406040" cy="2227320"/>
                          <a:chOff x="324000" y="3416040"/>
                          <a:chExt cx="4406040" cy="2227320"/>
                        </a:xfrm>
                      </p:grpSpPr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>
                            <a:off x="324000" y="3452040"/>
                            <a:ext cx="4396680" cy="2191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24" h="3451">
                                <a:moveTo>
                                  <a:pt x="21" y="2549"/>
                                </a:moveTo>
                                <a:cubicBezTo>
                                  <a:pt x="546" y="2594"/>
                                  <a:pt x="1071" y="2639"/>
                                  <a:pt x="1461" y="2549"/>
                                </a:cubicBezTo>
                                <a:cubicBezTo>
                                  <a:pt x="1851" y="2459"/>
                                  <a:pt x="2061" y="2339"/>
                                  <a:pt x="2361" y="2009"/>
                                </a:cubicBezTo>
                                <a:cubicBezTo>
                                  <a:pt x="2661" y="1679"/>
                                  <a:pt x="2901" y="899"/>
                                  <a:pt x="3261" y="569"/>
                                </a:cubicBezTo>
                                <a:cubicBezTo>
                                  <a:pt x="3621" y="239"/>
                                  <a:pt x="3918" y="124"/>
                                  <a:pt x="4521" y="29"/>
                                </a:cubicBezTo>
                                <a:lnTo>
                                  <a:pt x="6879" y="0"/>
                                </a:lnTo>
                                <a:lnTo>
                                  <a:pt x="6924" y="2925"/>
                                </a:lnTo>
                                <a:cubicBezTo>
                                  <a:pt x="5783" y="3451"/>
                                  <a:pt x="1184" y="3226"/>
                                  <a:pt x="30" y="3157"/>
                                </a:cubicBezTo>
                                <a:lnTo>
                                  <a:pt x="0" y="2512"/>
                                </a:lnTo>
                              </a:path>
                            </a:pathLst>
                          </a:custGeom>
                          <a:solidFill>
                            <a:srgbClr val="99cc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>
                            <a:off x="324000" y="3416040"/>
                            <a:ext cx="4406040" cy="1716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39" h="2704">
                                <a:moveTo>
                                  <a:pt x="0" y="2614"/>
                                </a:moveTo>
                                <a:cubicBezTo>
                                  <a:pt x="525" y="2659"/>
                                  <a:pt x="1050" y="2704"/>
                                  <a:pt x="1440" y="2614"/>
                                </a:cubicBezTo>
                                <a:cubicBezTo>
                                  <a:pt x="1830" y="2524"/>
                                  <a:pt x="2040" y="2404"/>
                                  <a:pt x="2340" y="2074"/>
                                </a:cubicBezTo>
                                <a:cubicBezTo>
                                  <a:pt x="2640" y="1744"/>
                                  <a:pt x="2880" y="964"/>
                                  <a:pt x="3240" y="634"/>
                                </a:cubicBezTo>
                                <a:cubicBezTo>
                                  <a:pt x="3600" y="304"/>
                                  <a:pt x="3884" y="188"/>
                                  <a:pt x="4500" y="94"/>
                                </a:cubicBezTo>
                                <a:cubicBezTo>
                                  <a:pt x="5116" y="0"/>
                                  <a:pt x="6431" y="77"/>
                                  <a:pt x="6939" y="72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5" name=""/>
                        <p:cNvGrpSpPr/>
                        <p:nvPr/>
                      </p:nvGrpSpPr>
                      <p:grpSpPr>
                        <a:xfrm>
                          <a:off x="324000" y="4043160"/>
                          <a:ext cx="4457520" cy="1735920"/>
                          <a:chOff x="324000" y="4043160"/>
                          <a:chExt cx="4457520" cy="1735920"/>
                        </a:xfrm>
                      </p:grpSpPr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>
                            <a:off x="324000" y="4074480"/>
                            <a:ext cx="4457520" cy="1704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50" h="3480">
                                <a:moveTo>
                                  <a:pt x="21" y="2542"/>
                                </a:moveTo>
                                <a:cubicBezTo>
                                  <a:pt x="546" y="2587"/>
                                  <a:pt x="1071" y="2632"/>
                                  <a:pt x="1461" y="2542"/>
                                </a:cubicBezTo>
                                <a:cubicBezTo>
                                  <a:pt x="1851" y="2452"/>
                                  <a:pt x="2061" y="2332"/>
                                  <a:pt x="2361" y="2002"/>
                                </a:cubicBezTo>
                                <a:cubicBezTo>
                                  <a:pt x="2661" y="1672"/>
                                  <a:pt x="2901" y="892"/>
                                  <a:pt x="3261" y="562"/>
                                </a:cubicBezTo>
                                <a:cubicBezTo>
                                  <a:pt x="3621" y="232"/>
                                  <a:pt x="3905" y="116"/>
                                  <a:pt x="4521" y="22"/>
                                </a:cubicBezTo>
                                <a:lnTo>
                                  <a:pt x="6960" y="0"/>
                                </a:lnTo>
                                <a:lnTo>
                                  <a:pt x="7050" y="2955"/>
                                </a:lnTo>
                                <a:cubicBezTo>
                                  <a:pt x="5895" y="3480"/>
                                  <a:pt x="1205" y="3225"/>
                                  <a:pt x="30" y="3150"/>
                                </a:cubicBezTo>
                                <a:lnTo>
                                  <a:pt x="0" y="2505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>
                            <a:off x="337320" y="4043160"/>
                            <a:ext cx="4387320" cy="1324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39" h="2704">
                                <a:moveTo>
                                  <a:pt x="0" y="2614"/>
                                </a:moveTo>
                                <a:cubicBezTo>
                                  <a:pt x="525" y="2659"/>
                                  <a:pt x="1050" y="2704"/>
                                  <a:pt x="1440" y="2614"/>
                                </a:cubicBezTo>
                                <a:cubicBezTo>
                                  <a:pt x="1830" y="2524"/>
                                  <a:pt x="2040" y="2404"/>
                                  <a:pt x="2340" y="2074"/>
                                </a:cubicBezTo>
                                <a:cubicBezTo>
                                  <a:pt x="2640" y="1744"/>
                                  <a:pt x="2880" y="964"/>
                                  <a:pt x="3240" y="634"/>
                                </a:cubicBezTo>
                                <a:cubicBezTo>
                                  <a:pt x="3600" y="304"/>
                                  <a:pt x="3884" y="188"/>
                                  <a:pt x="4500" y="94"/>
                                </a:cubicBezTo>
                                <a:cubicBezTo>
                                  <a:pt x="5116" y="0"/>
                                  <a:pt x="6431" y="77"/>
                                  <a:pt x="6939" y="72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4000" y="5872320"/>
                      <a:ext cx="4457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66720" y="522468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V="1">
                      <a:off x="781200" y="5186160"/>
                      <a:ext cx="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3867120" y="381492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flipV="1">
                      <a:off x="4324320" y="3814560"/>
                      <a:ext cx="0" cy="2057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666720" y="5186520"/>
                    <a:ext cx="34272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210200" y="3700440"/>
                    <a:ext cx="34272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466560" y="5373720"/>
                  <a:ext cx="432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995640" y="4869000"/>
                  <a:ext cx="432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908000" y="5661000"/>
                  <a:ext cx="1729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0000"/>
                      </a:solidFill>
                      <a:latin typeface="Arial"/>
                    </a:rPr>
                    <a:t>NIVEL DE REFERENCI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24360" y="3429000"/>
                  <a:ext cx="431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00" y="4975200"/>
                  <a:ext cx="431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76160" y="3132000"/>
                  <a:ext cx="0" cy="187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4282920" y="2997000"/>
                  <a:ext cx="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539640" y="270828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67280" y="263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44520" y="472140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0440" y="37004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003640" y="1916280"/>
            <a:ext cx="37450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cuación de Bernoul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junto a la ecuación de continu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n fundamentales  para la resolución de los problemas de la Dinámica de los Flu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148360" y="2565360"/>
                <a:ext cx="34560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064200" y="4498920"/>
                <a:ext cx="16239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2349360"/>
            <a:ext cx="43927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incipio de Torricel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velocidad con la que sale un líquido por el orificio de un recipiente es igual a la que adquiriría un cuerpo que se dejara caer libremente desde la superficie libre del líquido hasta el nivel del orificio”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6054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8435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1484280"/>
            <a:ext cx="69847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liquemos la ecuación de Bernoulli entre los puntos (1) y (2) considerando que el nivel del líquido (H) permanece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l punto (1):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,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(o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si trabajamos con presiones relativas). Como el nivel se mantiene constante: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l punto (2):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,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(o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si trabajamos con con presiones relativ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 donde despejamos la velocidad de sal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50920" y="1484280"/>
            <a:ext cx="2017440" cy="5229360"/>
            <a:chOff x="250920" y="1484280"/>
            <a:chExt cx="2017440" cy="5229360"/>
          </a:xfrm>
        </p:grpSpPr>
        <p:grpSp>
          <p:nvGrpSpPr>
            <p:cNvPr id="185" name=""/>
            <p:cNvGrpSpPr/>
            <p:nvPr/>
          </p:nvGrpSpPr>
          <p:grpSpPr>
            <a:xfrm>
              <a:off x="250920" y="1484280"/>
              <a:ext cx="1873080" cy="5229360"/>
              <a:chOff x="250920" y="1484280"/>
              <a:chExt cx="1873080" cy="52293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250920" y="1484280"/>
                <a:ext cx="1873080" cy="5229360"/>
                <a:chOff x="250920" y="1484280"/>
                <a:chExt cx="1873080" cy="52293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50920" y="1484280"/>
                  <a:ext cx="1584360" cy="5229360"/>
                  <a:chOff x="250920" y="1484280"/>
                  <a:chExt cx="1584360" cy="522936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50920" y="1484280"/>
                    <a:ext cx="1584360" cy="5229360"/>
                    <a:chOff x="250920" y="1484280"/>
                    <a:chExt cx="1584360" cy="5229360"/>
                  </a:xfrm>
                </p:grpSpPr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250920" y="1484280"/>
                      <a:ext cx="1403280" cy="5229360"/>
                      <a:chOff x="250920" y="1484280"/>
                      <a:chExt cx="1403280" cy="5229360"/>
                    </a:xfrm>
                  </p:grpSpPr>
                  <p:grpSp>
                    <p:nvGrpSpPr>
                      <p:cNvPr id="190" name=""/>
                      <p:cNvGrpSpPr/>
                      <p:nvPr/>
                    </p:nvGrpSpPr>
                    <p:grpSpPr>
                      <a:xfrm>
                        <a:off x="250920" y="1484280"/>
                        <a:ext cx="1403280" cy="5229360"/>
                        <a:chOff x="250920" y="1484280"/>
                        <a:chExt cx="1403280" cy="5229360"/>
                      </a:xfrm>
                    </p:grpSpPr>
                    <p:grpSp>
                      <p:nvGrpSpPr>
                        <p:cNvPr id="191" name=""/>
                        <p:cNvGrpSpPr/>
                        <p:nvPr/>
                      </p:nvGrpSpPr>
                      <p:grpSpPr>
                        <a:xfrm>
                          <a:off x="250920" y="1484280"/>
                          <a:ext cx="1403280" cy="5229360"/>
                          <a:chOff x="250920" y="1484280"/>
                          <a:chExt cx="1403280" cy="5229360"/>
                        </a:xfrm>
                      </p:grpSpPr>
                      <p:graphicFrame>
                        <p:nvGraphicFramePr>
                          <p:cNvPr id="192" name=""/>
                          <p:cNvGraphicFramePr/>
                          <p:nvPr/>
                        </p:nvGraphicFramePr>
                        <p:xfrm>
                          <a:off x="250920" y="1484280"/>
                          <a:ext cx="1403280" cy="5229360"/>
                        </p:xfrm>
                        <a:graphic>
                          <a:graphicData uri="http://schemas.openxmlformats.org/presentationml/2006/ole">
                            <p:oleObj r:id="rId1" spid="">
                              <p:embed/>
                              <p:pic>
                                <p:nvPicPr>
                                  <p:cNvPr id="193" name="" descr=""/>
                                  <p:cNvPicPr/>
                                  <p:nvPr/>
                                </p:nvPicPr>
                                <p:blipFill>
                                  <a:blip r:embed="rId2"/>
                                  <a:stretch/>
                                </p:blipFill>
                                <p:spPr>
                                  <a:xfrm>
                                    <a:off x="250920" y="1484280"/>
                                    <a:ext cx="1403280" cy="5229360"/>
                                  </a:xfrm>
                                  <a:prstGeom prst="rect">
                                    <a:avLst/>
                                  </a:prstGeom>
                                  <a:ln w="0">
                                    <a:noFill/>
                                  </a:ln>
                                </p:spPr>
                              </p:pic>
                            </p:oleObj>
                          </a:graphicData>
                        </a:graphic>
                      </p:graphicFrame>
                      <p:sp>
                        <p:nvSpPr>
                          <p:cNvPr id="194" name=""/>
                          <p:cNvSpPr/>
                          <p:nvPr/>
                        </p:nvSpPr>
                        <p:spPr>
                          <a:xfrm>
                            <a:off x="826920" y="2506680"/>
                            <a:ext cx="432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" name=""/>
                          <p:cNvSpPr/>
                          <p:nvPr/>
                        </p:nvSpPr>
                        <p:spPr>
                          <a:xfrm>
                            <a:off x="826920" y="4221000"/>
                            <a:ext cx="432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6" name=""/>
                          <p:cNvSpPr/>
                          <p:nvPr/>
                        </p:nvSpPr>
                        <p:spPr>
                          <a:xfrm>
                            <a:off x="1042920" y="2492280"/>
                            <a:ext cx="0" cy="1728720"/>
                          </a:xfrm>
                          <a:prstGeom prst="line">
                            <a:avLst/>
                          </a:prstGeom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258920" y="4221000"/>
                          <a:ext cx="28872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00"/>
                          </a:solidFill>
                          <a:miter/>
                          <a:tailEnd len="lg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250920" y="2292480"/>
                        <a:ext cx="10094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MX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(1)    </a:t>
                        </a:r>
                        <a:r>
                          <a:rPr b="1" lang="es-MX" sz="1800" spc="-1" strike="noStrike">
                            <a:solidFill>
                              <a:srgbClr val="ffffff"/>
                            </a:solidFill>
                            <a:latin typeface="Symbol"/>
                            <a:ea typeface="Symbol"/>
                          </a:rPr>
                          <a:t>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1071720" y="4021200"/>
                      <a:ext cx="763560" cy="78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>
                    <a:off x="1258920" y="4221000"/>
                    <a:ext cx="73080" cy="216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11280" y="249228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395280" y="6308640"/>
                  <a:ext cx="172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42920" y="4221000"/>
                  <a:ext cx="0" cy="208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755640" y="2491920"/>
                  <a:ext cx="0" cy="38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468360" y="4005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71640" y="50068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54160" y="6324480"/>
              <a:ext cx="201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</a:rPr>
                <a:t>NIVEL DE REFERENC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24360" y="2565360"/>
                <a:ext cx="309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24360" y="4724280"/>
                <a:ext cx="309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427640" y="6019920"/>
                <a:ext cx="1860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1916280"/>
            <a:ext cx="7991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5149800"/>
            <a:ext cx="871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idad:  El caudal es el mismo en las secciones (1), (2) y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rvación de la energía:  El Bernoulli es el mismo en las secciones (1), (2) y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763640" y="2492280"/>
            <a:ext cx="5645160" cy="2313000"/>
            <a:chOff x="1763640" y="2492280"/>
            <a:chExt cx="5645160" cy="2313000"/>
          </a:xfrm>
        </p:grpSpPr>
        <p:grpSp>
          <p:nvGrpSpPr>
            <p:cNvPr id="215" name=""/>
            <p:cNvGrpSpPr/>
            <p:nvPr/>
          </p:nvGrpSpPr>
          <p:grpSpPr>
            <a:xfrm>
              <a:off x="1763640" y="2492280"/>
              <a:ext cx="5645160" cy="2305080"/>
              <a:chOff x="1763640" y="2492280"/>
              <a:chExt cx="5645160" cy="23050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1763640" y="2492280"/>
                <a:ext cx="5645160" cy="1714680"/>
                <a:chOff x="1763640" y="2492280"/>
                <a:chExt cx="5645160" cy="171468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1763640" y="2492280"/>
                  <a:ext cx="5645160" cy="1714680"/>
                  <a:chOff x="1763640" y="2492280"/>
                  <a:chExt cx="5645160" cy="1714680"/>
                </a:xfrm>
              </p:grpSpPr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1835280" y="2492280"/>
                    <a:ext cx="5371920" cy="1714680"/>
                    <a:chOff x="1835280" y="2492280"/>
                    <a:chExt cx="5371920" cy="1714680"/>
                  </a:xfrm>
                </p:grpSpPr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1835280" y="2492280"/>
                      <a:ext cx="5371920" cy="1714680"/>
                      <a:chOff x="1835280" y="2492280"/>
                      <a:chExt cx="5371920" cy="1714680"/>
                    </a:xfrm>
                  </p:grpSpPr>
                  <p:grpSp>
                    <p:nvGrpSpPr>
                      <p:cNvPr id="220" name=""/>
                      <p:cNvGrpSpPr/>
                      <p:nvPr/>
                    </p:nvGrpSpPr>
                    <p:grpSpPr>
                      <a:xfrm>
                        <a:off x="1835280" y="2492280"/>
                        <a:ext cx="5371920" cy="1714680"/>
                        <a:chOff x="1835280" y="2492280"/>
                        <a:chExt cx="5371920" cy="1714680"/>
                      </a:xfrm>
                    </p:grpSpPr>
                    <p:grpSp>
                      <p:nvGrpSpPr>
                        <p:cNvPr id="221" name=""/>
                        <p:cNvGrpSpPr/>
                        <p:nvPr/>
                      </p:nvGrpSpPr>
                      <p:grpSpPr>
                        <a:xfrm>
                          <a:off x="1835280" y="2492280"/>
                          <a:ext cx="5371920" cy="1714680"/>
                          <a:chOff x="1835280" y="2492280"/>
                          <a:chExt cx="5371920" cy="1714680"/>
                        </a:xfrm>
                      </p:grpSpPr>
                      <p:grpSp>
                        <p:nvGrpSpPr>
                          <p:cNvPr id="222" name=""/>
                          <p:cNvGrpSpPr/>
                          <p:nvPr/>
                        </p:nvGrpSpPr>
                        <p:grpSpPr>
                          <a:xfrm>
                            <a:off x="1835280" y="2949480"/>
                            <a:ext cx="5371920" cy="1257480"/>
                            <a:chOff x="1835280" y="2949480"/>
                            <a:chExt cx="5371920" cy="1257480"/>
                          </a:xfrm>
                        </p:grpSpPr>
                        <p:grpSp>
                          <p:nvGrpSpPr>
                            <p:cNvPr id="223" name=""/>
                            <p:cNvGrpSpPr/>
                            <p:nvPr/>
                          </p:nvGrpSpPr>
                          <p:grpSpPr>
                            <a:xfrm>
                              <a:off x="1835280" y="3178080"/>
                              <a:ext cx="5371920" cy="1028880"/>
                              <a:chOff x="1835280" y="3178080"/>
                              <a:chExt cx="5371920" cy="1028880"/>
                            </a:xfrm>
                          </p:grpSpPr>
                          <p:grpSp>
                            <p:nvGrpSpPr>
                              <p:cNvPr id="224" name=""/>
                              <p:cNvGrpSpPr/>
                              <p:nvPr/>
                            </p:nvGrpSpPr>
                            <p:grpSpPr>
                              <a:xfrm>
                                <a:off x="1835280" y="3178080"/>
                                <a:ext cx="5371920" cy="1028880"/>
                                <a:chOff x="1835280" y="3178080"/>
                                <a:chExt cx="5371920" cy="1028880"/>
                              </a:xfrm>
                            </p:grpSpPr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>
                                  <a:off x="1835280" y="329220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6" name=""/>
                                <p:cNvSpPr/>
                                <p:nvPr/>
                              </p:nvSpPr>
                              <p:spPr>
                                <a:xfrm>
                                  <a:off x="3321000" y="352080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7" name=""/>
                                <p:cNvSpPr/>
                                <p:nvPr/>
                              </p:nvSpPr>
                              <p:spPr>
                                <a:xfrm>
                                  <a:off x="5607000" y="3178080"/>
                                  <a:ext cx="1600200" cy="10288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3149280" y="346320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 rot="5400000">
                                  <a:off x="4806360" y="3406680"/>
                                  <a:ext cx="1028880" cy="571320"/>
                                </a:xfrm>
                                <a:custGeom>
                                  <a:avLst/>
                                  <a:gdLst>
                                    <a:gd name="textAreaLeft" fmla="*/ 268560 w 1028880"/>
                                    <a:gd name="textAreaRight" fmla="*/ 760320 w 102888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0" name=""/>
                              <p:cNvGrpSpPr/>
                              <p:nvPr/>
                            </p:nvGrpSpPr>
                            <p:grpSpPr>
                              <a:xfrm>
                                <a:off x="1835280" y="3178080"/>
                                <a:ext cx="5371920" cy="1028880"/>
                                <a:chOff x="1835280" y="3178080"/>
                                <a:chExt cx="5371920" cy="1028880"/>
                              </a:xfrm>
                            </p:grpSpPr>
                            <p:sp>
                              <p:nvSpPr>
                                <p:cNvPr id="231" name=""/>
                                <p:cNvSpPr/>
                                <p:nvPr/>
                              </p:nvSpPr>
                              <p:spPr>
                                <a:xfrm>
                                  <a:off x="1835280" y="329220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"/>
                                <p:cNvSpPr/>
                                <p:nvPr/>
                              </p:nvSpPr>
                              <p:spPr>
                                <a:xfrm>
                                  <a:off x="1835280" y="409284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"/>
                                <p:cNvSpPr/>
                                <p:nvPr/>
                              </p:nvSpPr>
                              <p:spPr>
                                <a:xfrm>
                                  <a:off x="3321000" y="32922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4" name=""/>
                                <p:cNvSpPr/>
                                <p:nvPr/>
                              </p:nvSpPr>
                              <p:spPr>
                                <a:xfrm flipV="1">
                                  <a:off x="3321000" y="386352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5" name=""/>
                                <p:cNvSpPr/>
                                <p:nvPr/>
                              </p:nvSpPr>
                              <p:spPr>
                                <a:xfrm>
                                  <a:off x="3778200" y="352080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6" name=""/>
                                <p:cNvSpPr/>
                                <p:nvPr/>
                              </p:nvSpPr>
                              <p:spPr>
                                <a:xfrm>
                                  <a:off x="3778200" y="3863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7" name=""/>
                                <p:cNvSpPr/>
                                <p:nvPr/>
                              </p:nvSpPr>
                              <p:spPr>
                                <a:xfrm flipV="1">
                                  <a:off x="5035680" y="317808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"/>
                                <p:cNvSpPr/>
                                <p:nvPr/>
                              </p:nvSpPr>
                              <p:spPr>
                                <a:xfrm>
                                  <a:off x="5607000" y="31780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"/>
                                <p:cNvSpPr/>
                                <p:nvPr/>
                              </p:nvSpPr>
                              <p:spPr>
                                <a:xfrm>
                                  <a:off x="5607000" y="42069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"/>
                                <p:cNvSpPr/>
                                <p:nvPr/>
                              </p:nvSpPr>
                              <p:spPr>
                                <a:xfrm>
                                  <a:off x="5035680" y="386388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41" name=""/>
                            <p:cNvGrpSpPr/>
                            <p:nvPr/>
                          </p:nvGrpSpPr>
                          <p:grpSpPr>
                            <a:xfrm>
                              <a:off x="2521080" y="3063600"/>
                              <a:ext cx="0" cy="342720"/>
                              <a:chOff x="2521080" y="3063600"/>
                              <a:chExt cx="0" cy="342720"/>
                            </a:xfrm>
                          </p:grpSpPr>
                          <p:sp>
                            <p:nvSpPr>
                              <p:cNvPr id="242" name=""/>
                              <p:cNvSpPr/>
                              <p:nvPr/>
                            </p:nvSpPr>
                            <p:spPr>
                              <a:xfrm flipV="1">
                                <a:off x="2521080" y="306360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3" name=""/>
                              <p:cNvSpPr/>
                              <p:nvPr/>
                            </p:nvSpPr>
                            <p:spPr>
                              <a:xfrm flipV="1">
                                <a:off x="2521080" y="306360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4" name=""/>
                            <p:cNvGrpSpPr/>
                            <p:nvPr/>
                          </p:nvGrpSpPr>
                          <p:grpSpPr>
                            <a:xfrm>
                              <a:off x="4464000" y="3291840"/>
                              <a:ext cx="0" cy="343080"/>
                              <a:chOff x="4464000" y="3291840"/>
                              <a:chExt cx="0" cy="343080"/>
                            </a:xfrm>
                          </p:grpSpPr>
                          <p:sp>
                            <p:nvSpPr>
                              <p:cNvPr id="245" name=""/>
                              <p:cNvSpPr/>
                              <p:nvPr/>
                            </p:nvSpPr>
                            <p:spPr>
                              <a:xfrm flipV="1">
                                <a:off x="4464000" y="3291840"/>
                                <a:ext cx="0" cy="22860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6" name=""/>
                              <p:cNvSpPr/>
                              <p:nvPr/>
                            </p:nvSpPr>
                            <p:spPr>
                              <a:xfrm flipV="1">
                                <a:off x="4464000" y="3291840"/>
                                <a:ext cx="0" cy="34308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7" name=""/>
                            <p:cNvGrpSpPr/>
                            <p:nvPr/>
                          </p:nvGrpSpPr>
                          <p:grpSpPr>
                            <a:xfrm>
                              <a:off x="6635880" y="2949480"/>
                              <a:ext cx="0" cy="342720"/>
                              <a:chOff x="6635880" y="2949480"/>
                              <a:chExt cx="0" cy="342720"/>
                            </a:xfrm>
                          </p:grpSpPr>
                          <p:sp>
                            <p:nvSpPr>
                              <p:cNvPr id="248" name=""/>
                              <p:cNvSpPr/>
                              <p:nvPr/>
                            </p:nvSpPr>
                            <p:spPr>
                              <a:xfrm flipV="1">
                                <a:off x="6635880" y="29494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9" name=""/>
                              <p:cNvSpPr/>
                              <p:nvPr/>
                            </p:nvSpPr>
                            <p:spPr>
                              <a:xfrm flipV="1">
                                <a:off x="6635880" y="29494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50" name=""/>
                          <p:cNvSpPr/>
                          <p:nvPr/>
                        </p:nvSpPr>
                        <p:spPr>
                          <a:xfrm>
                            <a:off x="2292120" y="260640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 flipV="1">
                            <a:off x="2406600" y="27208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406920" y="24922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 flipV="1">
                            <a:off x="6521400" y="260640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"/>
                          <p:cNvSpPr/>
                          <p:nvPr/>
                        </p:nvSpPr>
                        <p:spPr>
                          <a:xfrm>
                            <a:off x="4235400" y="283500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5" name=""/>
                          <p:cNvSpPr/>
                          <p:nvPr/>
                        </p:nvSpPr>
                        <p:spPr>
                          <a:xfrm flipV="1">
                            <a:off x="4349880" y="294912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2290320" y="368316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4235400" y="368316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6406920" y="369252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2063880" y="3292200"/>
                        <a:ext cx="0" cy="800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4120920" y="352116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978600" y="317808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340000" y="370044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643640" y="352908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6372360" y="371628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" name=""/>
                  <p:cNvSpPr/>
                  <p:nvPr/>
                </p:nvSpPr>
                <p:spPr>
                  <a:xfrm>
                    <a:off x="1763640" y="353052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780000" y="353052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904080" y="353052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2771640" y="263700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51280" y="278136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084720" y="249228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2556000" y="4149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00720" y="386064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59640" y="422100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48436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90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8980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2133720"/>
            <a:ext cx="2449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idad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281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285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286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287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288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289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290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291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2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3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5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6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297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8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9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0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1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3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5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6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07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308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0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311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3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314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95280" y="3254400"/>
                <a:ext cx="23572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m>
                          <m:mr>
                            <m:e>
                              <m:r>
                                <m:t xml:space="preserve">,</m:t>
                              </m:r>
                            </m:e>
                            <m:e/>
                          </m:mr>
                        </m: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395280" y="522936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o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, se tiene que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, resultando que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7:54:27Z</dcterms:created>
  <dc:creator>Ziusudra</dc:creator>
  <dc:description/>
  <dc:language>en-US</dc:language>
  <cp:lastModifiedBy>Aldo Tamburrino</cp:lastModifiedBy>
  <dcterms:modified xsi:type="dcterms:W3CDTF">2007-09-13T22:55:51Z</dcterms:modified>
  <cp:revision>41</cp:revision>
  <dc:subject/>
  <dc:title>DEPARTAMENTO DE INGENIERÍA CIVIL</dc:title>
</cp:coreProperties>
</file>