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6.xml.rels" ContentType="application/vnd.openxmlformats-package.relationships+xml"/>
  <Override PartName="/ppt/notesSlides/notesSlide4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988DC-6D4B-4CF7-9DE2-F8CC4B8CB10E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N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6E22-4E98-48EE-927C-15E71EC10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8B2D-7A80-4B4E-95A0-308842A0B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A5E0-B1FC-426F-B7E1-4989D34B2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7646-152F-462A-B0AC-222327DE1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B9958-0D69-4F5E-B3D9-9729DFCEA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5B4F5-AC1C-40D4-A0BF-3D5AE20CA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3B2AF-AF2A-4454-9F19-B792A701B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8975C-134C-4805-8138-F64E5B37C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39ABD-12B1-49A2-8077-ECC42FECA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35137-D59E-428D-9DFB-EE75B654A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958AB-D789-409B-B1D2-C19A0EFE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83F5-B3D2-486F-9B17-AEC41D8A9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DF528-CE34-47E8-A1CE-71C83EC6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ADC6B-2280-47D8-8FA3-C54ACF0B3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DFF4A-646C-4F4A-BC06-2135BA386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92CC7-9A9B-457C-9871-42AF82541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80AC5-1F8B-49C8-8EBF-225566948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8759-B9C4-4164-B140-819BBE05A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67E7-779B-4B47-A44B-8CFAC5174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CBBA-84DF-4CE3-B4CE-094B75E50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DE5D-C7FD-4FF9-B9BC-874BD22B6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1B99-5CAB-43B5-89A9-E2B83634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DED6-A0CA-4656-911C-88AF3A209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464D-B625-47C7-895D-C69F989D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A82BF-8A62-4316-BCE1-C91ADB99054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26B61-A33A-4B7C-B361-670862BA39E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en/d/d8/UDP_encapsulation.png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Sistemas Distribuidos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Javier Bustos Jiménez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Javier.bustos@inf.udp.c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jemplos de sistema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World Wide Web (WWW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parece antes los usuarios como un repositorio gigantesco de documen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Factura electrónica en Chi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uchos contribuyentes y comprado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n ente centralizado (SII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ack-office distribui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ntajas de distribuir sistem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conomí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umento en capacidad de procesamient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plicaciones inherentemente distribu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d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pacidad de crecimient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Fiabilidad y disponibilida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mpartir recursos y dat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Desventajas de distribuir sistem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umento de la complej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stos de administr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Fallas m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s frecuen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d, Latencia, p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rdida de mensaj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teroperabil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alta de estándares únic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gur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Implicancias de distribuir los sistema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Concurrencia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cursos compartidos. Acceso concurren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ncroniz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Sin tiempo global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ada computador tiene su propio reloj loc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ordin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Fallas independientes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osibilidad permanente de fallas en cada componen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tección de fallas y toleranci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Desafíos de los Sistemas Distribuido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mpartir Recurs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ransparenc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sabilidad (abierto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calabil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Compartir recurs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l objetivo básico de los sistemas distribuid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uarios deben tener acceso fácil a recursos compartidos y compartir sus propios recursos de forma controla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mpresor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putado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pacio de almacenami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rchivos, datos, páginas Web, redes, 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orqué compartir recursos 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stos, capacidad, escalabilid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conder el hecho que los recursos y procesos están físicamente distribuidos en diferentes máquin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n sistema distribuido que se presenta hacia el usuario como una sola máquina se dice ser transparent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n embargo, transparencia se aplica a varios aspectos de sistemas distribuidos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cces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onde las diferencias entre las distintas representaciones de datos y la formas en que éstos son accedidos por los usuari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representación de un entero en una máquina SPARC (big endian) y una INTEL (little endia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bic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onde la ubicación física de donde está situado un recurs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n particular se suele usar nombres lógicos en vez de direcciones reales. Ejemplo, la URL en el Web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Migr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onde el hecho que recursos puedan migrar de una ubicación física a otra sin afectar el modo en que se acce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weblogs en la UD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Re-ubic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n caso aún más fuerte de migración. Los recursos son movidos de una ubicación a otra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mientra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están en uso y sin que el usuario note na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Un uso típico es para balancear carg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plic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conde el hecho que un recurso pueda estar replicado varias veces para mejorar su rendimiento y/o disponibilida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Obviamente exige transparencia de ubica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servidor Web de Goog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currenc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conde el hecho de que distintos usuarios están “compitiendo” en paralelo por acceder o usar recursos, o que un recurso está siendo compartido con otros usuar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xige que el sistema se mantenga en un estado coherent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bases de da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Objetiv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ntender los conceptos básicos de sistemas distribuidos y sus problemátic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prender el uso de técnicas de diseño de sistemas en forma distribuid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nstruir sistemas computacionales básicos en ambientes distribuid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nocer diferentes sistemas distribuidos de mayor us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Fall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l usuario no nota (inclusive nunca supo) que un recurso ha dejado de funcionar (o se ha recuperado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s uno de los aspectos más duros en sistemas distribuidos por la dificultad de detectar que un recurso ha muert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arreglos de discos RAID, Google File System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ersistenc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conde si un recurso de software está en disco o en memo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plicable a distintos sistemas, no sólo distribuid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servidores cache, proxy; conexiones persistentes a bases de dat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a transparencia tiene límites y grad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o siempre es posible esconder to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desfase temporal de comunicación entre puntos muy distantes (delay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51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empre hay un trade-off entre transparencia y rendimi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Bases de datos replicadas world-wide. Un caso particular son los servidores DNS que pueden tomar días en actualizarse, lo cual no se oculta al usuari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472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Usabilida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os recursos y servicios son ofrecidos de acuerdo a reglas estándares describiendo la semántica y sintaxi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ualmente estas reglas son descritas vía protocolos o interfac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HTT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nterface Definition Languages (ID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Web serv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os aspectos muy relevan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pletitu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eutralid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calabilida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e refiere a la capacidad de crecer de un siste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 escalabilidad se puede dimensionar desde tres asp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amaño: la capacidad de agregar fácilmente más recursos y usuarios al sistem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eográfica: la capacidad de que usuarios y recursos se encuentren a distancias considerab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dministración: La capacidad de mantener una administración fácil a pesar del crecimi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safortunadamente los sistemas son escalables en alguna de las dimensiones sacrificando rendimiento en las otr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Hard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n forma general todo sistema distribuido consiste en m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ltiple CPU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moria compartida (multi-procesador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odos los CPU comparten el mismo espacio de direcciones de memo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moria independiente (multi-computador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da CPU tiene su propio espacio de direcciones de memo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munic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vía B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nal comparti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municación vía Swit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nal exclusiv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Hard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371600" y="1981080"/>
            <a:ext cx="1981080" cy="1067040"/>
            <a:chOff x="1371600" y="1981080"/>
            <a:chExt cx="1981080" cy="1067040"/>
          </a:xfrm>
        </p:grpSpPr>
        <p:sp>
          <p:nvSpPr>
            <p:cNvPr id="146" name=""/>
            <p:cNvSpPr/>
            <p:nvPr/>
          </p:nvSpPr>
          <p:spPr>
            <a:xfrm>
              <a:off x="1676520" y="1981080"/>
              <a:ext cx="30456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447920" y="274320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8600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9548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981080" y="27432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514600" y="27432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048120" y="274320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371600" y="2514600"/>
              <a:ext cx="198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0020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13372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66688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0040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82880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43828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04812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5257800" y="1981080"/>
            <a:ext cx="2209680" cy="1067040"/>
            <a:chOff x="5257800" y="1981080"/>
            <a:chExt cx="2209680" cy="1067040"/>
          </a:xfrm>
        </p:grpSpPr>
        <p:sp>
          <p:nvSpPr>
            <p:cNvPr id="162" name=""/>
            <p:cNvSpPr/>
            <p:nvPr/>
          </p:nvSpPr>
          <p:spPr>
            <a:xfrm>
              <a:off x="5410080" y="25146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943600" y="25146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77120" y="251460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010280" y="25146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1008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94360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477120" y="1981080"/>
              <a:ext cx="30456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01028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56272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09588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62940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292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16292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62940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09588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6272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57800" y="3048120"/>
              <a:ext cx="2209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1600200" y="4191120"/>
            <a:ext cx="1905120" cy="1523880"/>
            <a:chOff x="1600200" y="4191120"/>
            <a:chExt cx="1905120" cy="1523880"/>
          </a:xfrm>
        </p:grpSpPr>
        <p:sp>
          <p:nvSpPr>
            <p:cNvPr id="180" name=""/>
            <p:cNvSpPr/>
            <p:nvPr/>
          </p:nvSpPr>
          <p:spPr>
            <a:xfrm>
              <a:off x="2438640" y="4876920"/>
              <a:ext cx="228600" cy="2286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600200" y="541008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133720" y="541008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67240" y="541008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200400" y="541008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676520" y="4191120"/>
              <a:ext cx="304920" cy="304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362320" y="4191120"/>
              <a:ext cx="304920" cy="304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971800" y="4191120"/>
              <a:ext cx="304920" cy="304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8" name=""/>
            <p:cNvCxnSpPr>
              <a:stCxn id="185" idx="2"/>
              <a:endCxn id="180" idx="1"/>
            </p:cNvCxnSpPr>
            <p:nvPr/>
          </p:nvCxnSpPr>
          <p:spPr>
            <a:xfrm>
              <a:off x="1828800" y="4495320"/>
              <a:ext cx="643320" cy="415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9" name=""/>
            <p:cNvCxnSpPr>
              <a:stCxn id="180" idx="0"/>
              <a:endCxn id="186" idx="2"/>
            </p:cNvCxnSpPr>
            <p:nvPr/>
          </p:nvCxnSpPr>
          <p:spPr>
            <a:xfrm flipH="1" flipV="1">
              <a:off x="2514240" y="4494960"/>
              <a:ext cx="38880" cy="381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90" name=""/>
            <p:cNvCxnSpPr>
              <a:stCxn id="180" idx="7"/>
              <a:endCxn id="187" idx="2"/>
            </p:cNvCxnSpPr>
            <p:nvPr/>
          </p:nvCxnSpPr>
          <p:spPr>
            <a:xfrm flipV="1">
              <a:off x="2633400" y="4494960"/>
              <a:ext cx="491400" cy="415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91" name=""/>
            <p:cNvCxnSpPr>
              <a:stCxn id="180" idx="5"/>
              <a:endCxn id="183" idx="0"/>
            </p:cNvCxnSpPr>
            <p:nvPr/>
          </p:nvCxnSpPr>
          <p:spPr>
            <a:xfrm>
              <a:off x="2633760" y="5071680"/>
              <a:ext cx="186480" cy="338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92" name=""/>
            <p:cNvCxnSpPr>
              <a:stCxn id="180" idx="3"/>
              <a:endCxn id="182" idx="0"/>
            </p:cNvCxnSpPr>
            <p:nvPr/>
          </p:nvCxnSpPr>
          <p:spPr>
            <a:xfrm flipH="1">
              <a:off x="2285640" y="5071680"/>
              <a:ext cx="186480" cy="338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93" name=""/>
            <p:cNvCxnSpPr>
              <a:stCxn id="180" idx="2"/>
              <a:endCxn id="181" idx="0"/>
            </p:cNvCxnSpPr>
            <p:nvPr/>
          </p:nvCxnSpPr>
          <p:spPr>
            <a:xfrm flipH="1">
              <a:off x="1752120" y="4991040"/>
              <a:ext cx="686520" cy="41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94" name=""/>
            <p:cNvCxnSpPr>
              <a:stCxn id="180" idx="6"/>
              <a:endCxn id="184" idx="0"/>
            </p:cNvCxnSpPr>
            <p:nvPr/>
          </p:nvCxnSpPr>
          <p:spPr>
            <a:xfrm>
              <a:off x="2666880" y="4991040"/>
              <a:ext cx="686520" cy="41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95" name=""/>
          <p:cNvGrpSpPr/>
          <p:nvPr/>
        </p:nvGrpSpPr>
        <p:grpSpPr>
          <a:xfrm>
            <a:off x="5410080" y="4267080"/>
            <a:ext cx="1905120" cy="1600200"/>
            <a:chOff x="5410080" y="4267080"/>
            <a:chExt cx="1905120" cy="1600200"/>
          </a:xfrm>
        </p:grpSpPr>
        <p:sp>
          <p:nvSpPr>
            <p:cNvPr id="196" name=""/>
            <p:cNvSpPr/>
            <p:nvPr/>
          </p:nvSpPr>
          <p:spPr>
            <a:xfrm>
              <a:off x="6248520" y="5638680"/>
              <a:ext cx="228600" cy="2286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410080" y="4800600"/>
              <a:ext cx="30492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943600" y="4800600"/>
              <a:ext cx="30492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477120" y="4800600"/>
              <a:ext cx="30456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10280" y="4800600"/>
              <a:ext cx="30492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410080" y="4267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943600" y="4267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77120" y="4267080"/>
              <a:ext cx="30456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010280" y="4267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56272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09588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62940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6292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9" name=""/>
            <p:cNvCxnSpPr>
              <a:stCxn id="197" idx="2"/>
              <a:endCxn id="196" idx="2"/>
            </p:cNvCxnSpPr>
            <p:nvPr/>
          </p:nvCxnSpPr>
          <p:spPr>
            <a:xfrm flipH="1" rot="16200000">
              <a:off x="5580720" y="5086080"/>
              <a:ext cx="648360" cy="686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10" name=""/>
            <p:cNvCxnSpPr>
              <a:stCxn id="198" idx="2"/>
              <a:endCxn id="196" idx="1"/>
            </p:cNvCxnSpPr>
            <p:nvPr/>
          </p:nvCxnSpPr>
          <p:spPr>
            <a:xfrm flipH="1" rot="16200000">
              <a:off x="5905080" y="5295240"/>
              <a:ext cx="567720" cy="186480"/>
            </a:xfrm>
            <a:prstGeom prst="bentConnector3">
              <a:avLst>
                <a:gd name="adj1" fmla="val 47017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11" name=""/>
            <p:cNvCxnSpPr>
              <a:stCxn id="200" idx="2"/>
              <a:endCxn id="196" idx="6"/>
            </p:cNvCxnSpPr>
            <p:nvPr/>
          </p:nvCxnSpPr>
          <p:spPr>
            <a:xfrm rot="5400000">
              <a:off x="6495480" y="5086080"/>
              <a:ext cx="648360" cy="686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12" name=""/>
            <p:cNvCxnSpPr>
              <a:stCxn id="199" idx="2"/>
              <a:endCxn id="196" idx="7"/>
            </p:cNvCxnSpPr>
            <p:nvPr/>
          </p:nvCxnSpPr>
          <p:spPr>
            <a:xfrm rot="5400000">
              <a:off x="6252480" y="5295600"/>
              <a:ext cx="567720" cy="186480"/>
            </a:xfrm>
            <a:prstGeom prst="bentConnector3">
              <a:avLst>
                <a:gd name="adj1" fmla="val 47017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213" name=""/>
          <p:cNvSpPr/>
          <p:nvPr/>
        </p:nvSpPr>
        <p:spPr>
          <a:xfrm>
            <a:off x="668880" y="3214800"/>
            <a:ext cx="347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compartida -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27400" y="5958000"/>
            <a:ext cx="38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compartida -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402440" y="3214800"/>
            <a:ext cx="38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independiente -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463280" y="5958000"/>
            <a:ext cx="42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independiente -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ulti-Procesador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odos los CPU tienen acceso a una memoria comparti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n ejemplo es Symetric Multiprocesing (SMP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xige coherencia en el estado de la memor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 la medida que aumentan los CPUs mantener la coherencia afecta fuertemente el rendimi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 poco escalable y la escalabilidad es ca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ulti-computador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subdividen en dos categor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a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Homogéne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 arquitectura y memoria es igual o similar en todos los n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eneralmente conectados a trav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s de una única, usualmente de alto rendimiento, interfaz de r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jemplo típico: cluster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Heterog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e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tiples arquitectur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iferentes comunicacio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iferentes formas de comunica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 t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pico: GRI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oft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encuentran tres variantes de plataformas de software para sistema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stemas operativos distribui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stemas operativos de R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iddle-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Operativos Monoproces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últiples procesos compartiendo recursos sobre una máquina, gracias a un microkernel que implemente una máquina virtu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-41760" y="3689280"/>
            <a:ext cx="9280080" cy="3007800"/>
            <a:chOff x="-41760" y="3689280"/>
            <a:chExt cx="9280080" cy="3007800"/>
          </a:xfrm>
        </p:grpSpPr>
        <p:grpSp>
          <p:nvGrpSpPr>
            <p:cNvPr id="226" name=""/>
            <p:cNvGrpSpPr/>
            <p:nvPr/>
          </p:nvGrpSpPr>
          <p:grpSpPr>
            <a:xfrm>
              <a:off x="1219320" y="4114800"/>
              <a:ext cx="6781680" cy="2438280"/>
              <a:chOff x="1219320" y="4114800"/>
              <a:chExt cx="6781680" cy="2438280"/>
            </a:xfrm>
          </p:grpSpPr>
          <p:sp>
            <p:nvSpPr>
              <p:cNvPr id="227" name=""/>
              <p:cNvSpPr/>
              <p:nvPr/>
            </p:nvSpPr>
            <p:spPr>
              <a:xfrm>
                <a:off x="1219320" y="5181480"/>
                <a:ext cx="678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44792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Aplicaci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n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De usuari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12444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dulo d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memor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80060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dulo d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proces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40080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dulo d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archiv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67652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35304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02920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62940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219320" y="4114800"/>
                <a:ext cx="6781680" cy="243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219320" y="6019560"/>
                <a:ext cx="678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125960" y="6127560"/>
                <a:ext cx="1278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Hardwa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767400" y="5652720"/>
                <a:ext cx="1826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icro-kerne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438640" y="495288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438640" y="5410080"/>
                <a:ext cx="1447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V="1">
                <a:off x="3886200" y="495252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210040" y="4952880"/>
                <a:ext cx="0" cy="53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210040" y="5486040"/>
                <a:ext cx="3352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V="1">
                <a:off x="5562720" y="4952880"/>
                <a:ext cx="0" cy="53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981440" y="495288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981440" y="5638680"/>
                <a:ext cx="5181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V="1">
                <a:off x="7162920" y="495288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>
              <a:off x="216720" y="6054480"/>
              <a:ext cx="155232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Llamada 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iste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990720" y="5597280"/>
              <a:ext cx="9903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-41760" y="3692520"/>
              <a:ext cx="251244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Interfaz d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istema operativ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66680" y="4343400"/>
              <a:ext cx="7621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51880" y="3689280"/>
              <a:ext cx="56671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No hay intercambio directo entre 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dul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2666520" y="4038480"/>
              <a:ext cx="2286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809880" y="4038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562720" y="4038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086600" y="4038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077320" y="4190760"/>
              <a:ext cx="152280" cy="9144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077320" y="5181480"/>
              <a:ext cx="152280" cy="83808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097480" y="4311360"/>
              <a:ext cx="1140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o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usuar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100000" y="525780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o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gend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Introducción a Sistema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ncronización de proceso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rogramación distribui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distribuidos típic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de archivo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Redes de senso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Operativos Multiproces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últiples procesadores compartiendo datos a través de memoria comparti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atos deben ser protegidos para garantizar consistenci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últiples procesadores deben ser transparentes para la aplic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imitivas de sincronización: semáforos, locks, monitor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Operativos Multicomput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últiples computadores conectados por r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da procesador tiene su propia memor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unicación únicamente a través de paso de mensaj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ncronización basada en semánticas particulares de paso de mensaj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057400" y="3900600"/>
            <a:ext cx="5090400" cy="2806560"/>
            <a:chOff x="2057400" y="3900600"/>
            <a:chExt cx="5090400" cy="2806560"/>
          </a:xfrm>
        </p:grpSpPr>
        <p:sp>
          <p:nvSpPr>
            <p:cNvPr id="267" name=""/>
            <p:cNvSpPr/>
            <p:nvPr/>
          </p:nvSpPr>
          <p:spPr>
            <a:xfrm>
              <a:off x="5257800" y="4281480"/>
              <a:ext cx="1523880" cy="1981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657600" y="4281480"/>
              <a:ext cx="1523880" cy="1981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057400" y="4281480"/>
              <a:ext cx="1523880" cy="1981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133720" y="435780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plicaciones distribu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i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133720" y="504360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istema operativo distribui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286000" y="5805360"/>
              <a:ext cx="1143000" cy="381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809880" y="5805360"/>
              <a:ext cx="1143000" cy="381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410080" y="5805360"/>
              <a:ext cx="1143000" cy="381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209680" y="6567480"/>
              <a:ext cx="434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819520" y="62625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419720" y="62625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019920" y="62625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555600" y="63388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177640" y="391788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áquina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641400" y="390060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áquina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319360" y="390060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áquina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de Memoria Compartida Distribui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últiples procesadores, cada uno con su memor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emoria compartida virtual sobre multicomputador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roblema de 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false sharing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 (memoria de dos procesos en la misma p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gina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1828800" y="3841920"/>
            <a:ext cx="6674760" cy="2406600"/>
            <a:chOff x="1828800" y="3841920"/>
            <a:chExt cx="6674760" cy="2406600"/>
          </a:xfrm>
        </p:grpSpPr>
        <p:sp>
          <p:nvSpPr>
            <p:cNvPr id="286" name=""/>
            <p:cNvSpPr/>
            <p:nvPr/>
          </p:nvSpPr>
          <p:spPr>
            <a:xfrm>
              <a:off x="2899800" y="3841920"/>
              <a:ext cx="319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emoria virtual glob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1828800" y="4876920"/>
              <a:ext cx="1218960" cy="1068120"/>
              <a:chOff x="1828800" y="4876920"/>
              <a:chExt cx="1218960" cy="1068120"/>
            </a:xfrm>
          </p:grpSpPr>
          <p:sp>
            <p:nvSpPr>
              <p:cNvPr id="288" name=""/>
              <p:cNvSpPr/>
              <p:nvPr/>
            </p:nvSpPr>
            <p:spPr>
              <a:xfrm>
                <a:off x="18288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904760" y="495288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28564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904760" y="525780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66652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024280" y="5576760"/>
                <a:ext cx="866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3200400" y="4876920"/>
              <a:ext cx="1218960" cy="1068120"/>
              <a:chOff x="3200400" y="4876920"/>
              <a:chExt cx="1218960" cy="1068120"/>
            </a:xfrm>
          </p:grpSpPr>
          <p:sp>
            <p:nvSpPr>
              <p:cNvPr id="296" name=""/>
              <p:cNvSpPr/>
              <p:nvPr/>
            </p:nvSpPr>
            <p:spPr>
              <a:xfrm>
                <a:off x="32004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2004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276360" y="495288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65724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276360" y="525780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03812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657240" y="525780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395880" y="5576760"/>
                <a:ext cx="866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4572000" y="4876920"/>
              <a:ext cx="1218960" cy="1068120"/>
              <a:chOff x="4572000" y="4876920"/>
              <a:chExt cx="1218960" cy="1068120"/>
            </a:xfrm>
          </p:grpSpPr>
          <p:sp>
            <p:nvSpPr>
              <p:cNvPr id="305" name=""/>
              <p:cNvSpPr/>
              <p:nvPr/>
            </p:nvSpPr>
            <p:spPr>
              <a:xfrm>
                <a:off x="45720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5720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64796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02884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410080" y="495288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647960" y="525780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028840" y="525780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767840" y="5576760"/>
                <a:ext cx="866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5943600" y="4876920"/>
              <a:ext cx="1218960" cy="1068120"/>
              <a:chOff x="5943600" y="4876920"/>
              <a:chExt cx="1218960" cy="1068120"/>
            </a:xfrm>
          </p:grpSpPr>
          <p:sp>
            <p:nvSpPr>
              <p:cNvPr id="314" name=""/>
              <p:cNvSpPr/>
              <p:nvPr/>
            </p:nvSpPr>
            <p:spPr>
              <a:xfrm>
                <a:off x="59436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9436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19560" y="4952880"/>
                <a:ext cx="30492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40080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139440" y="5576760"/>
                <a:ext cx="866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2057400" y="4191120"/>
              <a:ext cx="4876200" cy="228600"/>
              <a:chOff x="2057400" y="4191120"/>
              <a:chExt cx="4876200" cy="228600"/>
            </a:xfrm>
          </p:grpSpPr>
          <p:sp>
            <p:nvSpPr>
              <p:cNvPr id="320" name=""/>
              <p:cNvSpPr/>
              <p:nvPr/>
            </p:nvSpPr>
            <p:spPr>
              <a:xfrm>
                <a:off x="205740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3619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6668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9714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2763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8002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4956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1907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8858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5812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1051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4100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7146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0195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3244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6290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6" name=""/>
            <p:cNvSpPr/>
            <p:nvPr/>
          </p:nvSpPr>
          <p:spPr>
            <a:xfrm>
              <a:off x="1904760" y="6248520"/>
              <a:ext cx="5181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4382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8098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1814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5530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2057040" y="4419720"/>
              <a:ext cx="1522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514600" y="4419720"/>
              <a:ext cx="8380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2285640" y="4419720"/>
              <a:ext cx="5331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124080" y="441972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429000" y="4419720"/>
              <a:ext cx="12952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2590200" y="4419720"/>
              <a:ext cx="11430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3657600" y="441972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343400" y="4419720"/>
              <a:ext cx="6094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3886200" y="44197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2971440" y="4419720"/>
              <a:ext cx="19810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4267080" y="4419720"/>
              <a:ext cx="9907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5181480" y="441972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5333760" y="441972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172200" y="44197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5562360" y="4419720"/>
              <a:ext cx="9144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6705360" y="4419720"/>
              <a:ext cx="763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15200" y="4876920"/>
              <a:ext cx="75960" cy="60948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62720" y="496728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emo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e Re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os o más 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computadore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conectados por r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mparten los diferentes recursos y la información del sistema mediante la r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ovell Netware, Personal Netware,Windows NT Server, UNIX,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2057400" y="3809880"/>
            <a:ext cx="5090400" cy="2820960"/>
            <a:chOff x="2057400" y="3809880"/>
            <a:chExt cx="5090400" cy="2820960"/>
          </a:xfrm>
        </p:grpSpPr>
        <p:sp>
          <p:nvSpPr>
            <p:cNvPr id="362" name=""/>
            <p:cNvSpPr/>
            <p:nvPr/>
          </p:nvSpPr>
          <p:spPr>
            <a:xfrm>
              <a:off x="5257800" y="4205160"/>
              <a:ext cx="1523880" cy="1981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657600" y="4205160"/>
              <a:ext cx="1523880" cy="1981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057400" y="4205160"/>
              <a:ext cx="1523880" cy="1981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133720" y="428148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plicaciones distribui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286000" y="572940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809880" y="572940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10080" y="572940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209680" y="6491160"/>
              <a:ext cx="434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819520" y="61866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419720" y="61866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019920" y="61866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555600" y="62625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117520" y="382752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580920" y="380988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259240" y="380988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133720" y="502920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733920" y="502920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334120" y="502920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iddle-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apa de software que ejecuta sobre el sistema operativo local de cada computador ofreciendo uno servicios distribuid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bstrae la complejidad y heterogeneidad de los computadores del sistem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Proporciona una API para la programación y manejo de aplicaciones distribuid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2286000" y="3273480"/>
            <a:ext cx="5090400" cy="3662280"/>
            <a:chOff x="2286000" y="3273480"/>
            <a:chExt cx="5090400" cy="3662280"/>
          </a:xfrm>
        </p:grpSpPr>
        <p:sp>
          <p:nvSpPr>
            <p:cNvPr id="383" name=""/>
            <p:cNvSpPr/>
            <p:nvPr/>
          </p:nvSpPr>
          <p:spPr>
            <a:xfrm>
              <a:off x="5486400" y="3657600"/>
              <a:ext cx="1523880" cy="2833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886200" y="3657600"/>
              <a:ext cx="1523880" cy="2833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286000" y="3657600"/>
              <a:ext cx="1523880" cy="2833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362320" y="458640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ervicios del Middle-Wa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514600" y="603432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038480" y="603432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638680" y="603432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38280" y="6796080"/>
              <a:ext cx="434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048120" y="64915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648320" y="64915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248520" y="64915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784200" y="65674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346120" y="329112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9520" y="327348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487840" y="327348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362320" y="533412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2520" y="533412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562720" y="533412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362320" y="381024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plicaciones distribui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abla Comparativ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609480" y="1828800"/>
          <a:ext cx="8229600" cy="4818240"/>
        </p:xfrm>
        <a:graphic>
          <a:graphicData uri="http://schemas.openxmlformats.org/drawingml/2006/table">
            <a:tbl>
              <a:tblPr/>
              <a:tblGrid>
                <a:gridCol w="1828800"/>
                <a:gridCol w="1524240"/>
                <a:gridCol w="1600200"/>
                <a:gridCol w="1447560"/>
                <a:gridCol w="182880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O. Distribu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O. de 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ddle-W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lti-pro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lti-com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ado de Transparenc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y 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j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smo S.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pias del S.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unicaci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moria comparti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nsaj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chiv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pec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fico al mode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nejo de recurs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lobal, cent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lobal, distribu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r no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r no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calabil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bil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r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r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ier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ier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Comunic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repaso de red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405" name="" descr="The OSI Mode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2590920"/>
            <a:ext cx="4038480" cy="363852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3"/>
          <a:stretch/>
        </p:blipFill>
        <p:spPr>
          <a:xfrm>
            <a:off x="4724280" y="3809880"/>
            <a:ext cx="4114800" cy="233388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5491080" y="3062160"/>
            <a:ext cx="26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odelo de 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Protocol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pa de Red: Internet Protocol (IP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1371600" y="2819520"/>
            <a:ext cx="681660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Protocol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apa de Transporte: Transmission Control Protocol (TCP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1293840" y="2602080"/>
            <a:ext cx="7316640" cy="41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Protocol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apa de Transporte: User Dtatgram Protocol (UDP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2133720" y="2743200"/>
            <a:ext cx="525780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spectos Administrativ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valuac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, tareas, porcentajes, dema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odelos de comunic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Tipo de comunicació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unto a punto (unicast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ultipunto (multicast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odelos de interacció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liente/servido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Peer-to-pe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ódigo móvi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Tecnologías de comunicació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aso de mensajes: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socke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lamada a procedimientos remotos (RPC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nvocación de métodos remotos (RMI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ecnologías de objetos distribuidos: CORBA, DCOM, EJ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rvicios web.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58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en sistema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 concurrencia exige sincroniz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entre proces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l tiempo en un esquema distribuido es ambigu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es un valor absoluto, preciso ni com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 a todos los n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lgoritmos distribui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 informa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está distribuida en diferentes n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 toman decisiones sólo en base a la información loc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ebe evitarse un punto único de fall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existe un reloj comú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Problemas de 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a considera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iempo y estados global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xclusión mutu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lgoritmos de elecció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Operaciones atómicas distribuidas: Transacci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xiste un servidor dictando la ho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n embargo existe un retraso variable entre el env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o y recepción de mensajes producto de la transmisión por 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1219320" y="4267080"/>
            <a:ext cx="7467480" cy="2355480"/>
            <a:chOff x="1219320" y="4267080"/>
            <a:chExt cx="7467480" cy="2355480"/>
          </a:xfrm>
        </p:grpSpPr>
        <p:sp>
          <p:nvSpPr>
            <p:cNvPr id="427" name=""/>
            <p:cNvSpPr/>
            <p:nvPr/>
          </p:nvSpPr>
          <p:spPr>
            <a:xfrm>
              <a:off x="1219320" y="4724280"/>
              <a:ext cx="1752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257800" y="4724280"/>
              <a:ext cx="1752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581280" y="594360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971800" y="4724280"/>
              <a:ext cx="60948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4572000" y="4723920"/>
              <a:ext cx="68580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219320" y="4724280"/>
              <a:ext cx="586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219320" y="5943600"/>
              <a:ext cx="586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391520" y="4495680"/>
              <a:ext cx="104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li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315200" y="5562720"/>
              <a:ext cx="1371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ervi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de tiemp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714400" y="4267080"/>
              <a:ext cx="397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T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076720" y="4281480"/>
              <a:ext cx="397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T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224080" y="518148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edi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860360" y="5257800"/>
              <a:ext cx="1082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tiempo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Verdana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1234080" y="3733920"/>
            <a:ext cx="6215760" cy="609480"/>
            <a:chOff x="1234080" y="3733920"/>
            <a:chExt cx="6215760" cy="609480"/>
          </a:xfrm>
        </p:grpSpPr>
        <p:sp>
          <p:nvSpPr>
            <p:cNvPr id="441" name=""/>
            <p:cNvSpPr/>
            <p:nvPr/>
          </p:nvSpPr>
          <p:spPr>
            <a:xfrm>
              <a:off x="1234080" y="3733920"/>
              <a:ext cx="6215760" cy="3682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edidos con el mismo reloj local del cli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2971800" y="4114800"/>
              <a:ext cx="4572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800600" y="411480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lgoritmo de Cristi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e hace una estim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del tiempo de propagación como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= (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iempo = tiemp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+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e puede mejorar si se conoce el tiempo de respuesta del servidor (I),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= (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I)/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e consulta varias veces y se toma aquel tiempo dond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es el menor, descartando aquellos dond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supera un cierto lími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lgoritmo de Berkele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l servidor de tiempo es activo: el servidor pregunta a las m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quinas que tiempo local tien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l servidor calcula un promedio y avisa a los clientes de ajustarse al nuevo horar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3274200" y="4114800"/>
            <a:ext cx="2977200" cy="2592360"/>
            <a:chOff x="3274200" y="4114800"/>
            <a:chExt cx="2977200" cy="2592360"/>
          </a:xfrm>
        </p:grpSpPr>
        <p:grpSp>
          <p:nvGrpSpPr>
            <p:cNvPr id="449" name=""/>
            <p:cNvGrpSpPr/>
            <p:nvPr/>
          </p:nvGrpSpPr>
          <p:grpSpPr>
            <a:xfrm>
              <a:off x="4419720" y="4572000"/>
              <a:ext cx="609480" cy="609480"/>
              <a:chOff x="4419720" y="4572000"/>
              <a:chExt cx="609480" cy="609480"/>
            </a:xfrm>
          </p:grpSpPr>
          <p:sp>
            <p:nvSpPr>
              <p:cNvPr id="450" name=""/>
              <p:cNvSpPr/>
              <p:nvPr/>
            </p:nvSpPr>
            <p:spPr>
              <a:xfrm>
                <a:off x="4419720" y="4572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1" name=""/>
              <p:cNvGrpSpPr/>
              <p:nvPr/>
            </p:nvGrpSpPr>
            <p:grpSpPr>
              <a:xfrm>
                <a:off x="4496040" y="4647960"/>
                <a:ext cx="457200" cy="456840"/>
                <a:chOff x="4496040" y="4647960"/>
                <a:chExt cx="457200" cy="456840"/>
              </a:xfrm>
            </p:grpSpPr>
            <p:sp>
              <p:nvSpPr>
                <p:cNvPr id="452" name=""/>
                <p:cNvSpPr/>
                <p:nvPr/>
              </p:nvSpPr>
              <p:spPr>
                <a:xfrm>
                  <a:off x="4496040" y="4647960"/>
                  <a:ext cx="457200" cy="45684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 flipV="1">
                  <a:off x="4724640" y="464796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4724640" y="48762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5" name=""/>
            <p:cNvGrpSpPr/>
            <p:nvPr/>
          </p:nvGrpSpPr>
          <p:grpSpPr>
            <a:xfrm>
              <a:off x="5181480" y="5715000"/>
              <a:ext cx="609480" cy="609480"/>
              <a:chOff x="5181480" y="5715000"/>
              <a:chExt cx="609480" cy="609480"/>
            </a:xfrm>
          </p:grpSpPr>
          <p:sp>
            <p:nvSpPr>
              <p:cNvPr id="456" name=""/>
              <p:cNvSpPr/>
              <p:nvPr/>
            </p:nvSpPr>
            <p:spPr>
              <a:xfrm>
                <a:off x="5181480" y="5715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7" name=""/>
              <p:cNvGrpSpPr/>
              <p:nvPr/>
            </p:nvGrpSpPr>
            <p:grpSpPr>
              <a:xfrm>
                <a:off x="5257800" y="5790960"/>
                <a:ext cx="457200" cy="457200"/>
                <a:chOff x="5257800" y="5790960"/>
                <a:chExt cx="457200" cy="457200"/>
              </a:xfrm>
            </p:grpSpPr>
            <p:sp>
              <p:nvSpPr>
                <p:cNvPr id="458" name=""/>
                <p:cNvSpPr/>
                <p:nvPr/>
              </p:nvSpPr>
              <p:spPr>
                <a:xfrm>
                  <a:off x="5257800" y="5790960"/>
                  <a:ext cx="45720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5486400" y="601956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5486400" y="6019560"/>
                  <a:ext cx="22860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61" name=""/>
            <p:cNvGrpSpPr/>
            <p:nvPr/>
          </p:nvGrpSpPr>
          <p:grpSpPr>
            <a:xfrm>
              <a:off x="3733920" y="5715000"/>
              <a:ext cx="609480" cy="609480"/>
              <a:chOff x="3733920" y="5715000"/>
              <a:chExt cx="609480" cy="609480"/>
            </a:xfrm>
          </p:grpSpPr>
          <p:sp>
            <p:nvSpPr>
              <p:cNvPr id="462" name=""/>
              <p:cNvSpPr/>
              <p:nvPr/>
            </p:nvSpPr>
            <p:spPr>
              <a:xfrm>
                <a:off x="3733920" y="5715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3" name=""/>
              <p:cNvGrpSpPr/>
              <p:nvPr/>
            </p:nvGrpSpPr>
            <p:grpSpPr>
              <a:xfrm>
                <a:off x="3809880" y="5790960"/>
                <a:ext cx="456840" cy="457200"/>
                <a:chOff x="3809880" y="5790960"/>
                <a:chExt cx="456840" cy="45720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3809880" y="5790960"/>
                  <a:ext cx="45684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 flipH="1" flipV="1">
                  <a:off x="3885840" y="5866920"/>
                  <a:ext cx="15192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 flipV="1">
                  <a:off x="4038120" y="5943240"/>
                  <a:ext cx="22824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67" name=""/>
            <p:cNvSpPr/>
            <p:nvPr/>
          </p:nvSpPr>
          <p:spPr>
            <a:xfrm>
              <a:off x="3886200" y="541008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72428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03848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48640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464000" y="53658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340880" y="419076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655080" y="63388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: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103000" y="63244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708360" y="4800600"/>
              <a:ext cx="71136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>
              <a:off x="5029200" y="4800600"/>
              <a:ext cx="71136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274200" y="466236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522040" y="466236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029200" y="4343400"/>
              <a:ext cx="584280" cy="380880"/>
            </a:xfrm>
            <a:custGeom>
              <a:avLst/>
              <a:gdLst/>
              <a:ahLst/>
              <a:rect l="l" t="t" r="r" b="b"/>
              <a:pathLst>
                <a:path w="368" h="240">
                  <a:moveTo>
                    <a:pt x="0" y="240"/>
                  </a:moveTo>
                  <a:cubicBezTo>
                    <a:pt x="152" y="212"/>
                    <a:pt x="304" y="184"/>
                    <a:pt x="336" y="144"/>
                  </a:cubicBezTo>
                  <a:cubicBezTo>
                    <a:pt x="368" y="104"/>
                    <a:pt x="248" y="0"/>
                    <a:pt x="192" y="0"/>
                  </a:cubicBezTo>
                  <a:cubicBezTo>
                    <a:pt x="136" y="0"/>
                    <a:pt x="68" y="72"/>
                    <a:pt x="0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369400" y="41148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3331440" y="4114800"/>
            <a:ext cx="2805840" cy="2592360"/>
            <a:chOff x="3331440" y="4114800"/>
            <a:chExt cx="2805840" cy="2592360"/>
          </a:xfrm>
        </p:grpSpPr>
        <p:grpSp>
          <p:nvGrpSpPr>
            <p:cNvPr id="482" name=""/>
            <p:cNvGrpSpPr/>
            <p:nvPr/>
          </p:nvGrpSpPr>
          <p:grpSpPr>
            <a:xfrm>
              <a:off x="4405320" y="4572000"/>
              <a:ext cx="609480" cy="609480"/>
              <a:chOff x="4405320" y="4572000"/>
              <a:chExt cx="609480" cy="609480"/>
            </a:xfrm>
          </p:grpSpPr>
          <p:sp>
            <p:nvSpPr>
              <p:cNvPr id="483" name=""/>
              <p:cNvSpPr/>
              <p:nvPr/>
            </p:nvSpPr>
            <p:spPr>
              <a:xfrm>
                <a:off x="4405320" y="4572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4" name=""/>
              <p:cNvGrpSpPr/>
              <p:nvPr/>
            </p:nvGrpSpPr>
            <p:grpSpPr>
              <a:xfrm>
                <a:off x="4481640" y="4647960"/>
                <a:ext cx="457200" cy="456840"/>
                <a:chOff x="4481640" y="4647960"/>
                <a:chExt cx="457200" cy="456840"/>
              </a:xfrm>
            </p:grpSpPr>
            <p:sp>
              <p:nvSpPr>
                <p:cNvPr id="485" name=""/>
                <p:cNvSpPr/>
                <p:nvPr/>
              </p:nvSpPr>
              <p:spPr>
                <a:xfrm>
                  <a:off x="4481640" y="4647960"/>
                  <a:ext cx="457200" cy="45684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 flipV="1">
                  <a:off x="4710240" y="464796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4710240" y="48762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8" name=""/>
            <p:cNvGrpSpPr/>
            <p:nvPr/>
          </p:nvGrpSpPr>
          <p:grpSpPr>
            <a:xfrm>
              <a:off x="5167440" y="5715000"/>
              <a:ext cx="609480" cy="609480"/>
              <a:chOff x="5167440" y="5715000"/>
              <a:chExt cx="609480" cy="609480"/>
            </a:xfrm>
          </p:grpSpPr>
          <p:sp>
            <p:nvSpPr>
              <p:cNvPr id="489" name=""/>
              <p:cNvSpPr/>
              <p:nvPr/>
            </p:nvSpPr>
            <p:spPr>
              <a:xfrm>
                <a:off x="5167440" y="5715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0" name=""/>
              <p:cNvGrpSpPr/>
              <p:nvPr/>
            </p:nvGrpSpPr>
            <p:grpSpPr>
              <a:xfrm>
                <a:off x="5243760" y="5790960"/>
                <a:ext cx="457200" cy="457200"/>
                <a:chOff x="5243760" y="5790960"/>
                <a:chExt cx="457200" cy="45720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5243760" y="5790960"/>
                  <a:ext cx="45720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5472360" y="601956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5472360" y="6019560"/>
                  <a:ext cx="22860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4" name=""/>
            <p:cNvGrpSpPr/>
            <p:nvPr/>
          </p:nvGrpSpPr>
          <p:grpSpPr>
            <a:xfrm>
              <a:off x="3719520" y="5715000"/>
              <a:ext cx="609840" cy="609480"/>
              <a:chOff x="3719520" y="5715000"/>
              <a:chExt cx="609840" cy="609480"/>
            </a:xfrm>
          </p:grpSpPr>
          <p:sp>
            <p:nvSpPr>
              <p:cNvPr id="495" name=""/>
              <p:cNvSpPr/>
              <p:nvPr/>
            </p:nvSpPr>
            <p:spPr>
              <a:xfrm>
                <a:off x="3719520" y="5715000"/>
                <a:ext cx="60984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6" name=""/>
              <p:cNvGrpSpPr/>
              <p:nvPr/>
            </p:nvGrpSpPr>
            <p:grpSpPr>
              <a:xfrm>
                <a:off x="3795840" y="5790960"/>
                <a:ext cx="457200" cy="457200"/>
                <a:chOff x="3795840" y="5790960"/>
                <a:chExt cx="457200" cy="45720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3795840" y="5790960"/>
                  <a:ext cx="45720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 flipH="1" flipV="1">
                  <a:off x="3871800" y="5866920"/>
                  <a:ext cx="1522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flipV="1">
                  <a:off x="4024440" y="5943240"/>
                  <a:ext cx="22860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0" name=""/>
            <p:cNvSpPr/>
            <p:nvPr/>
          </p:nvSpPr>
          <p:spPr>
            <a:xfrm>
              <a:off x="3872160" y="541008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71024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02444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47236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449960" y="53658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326840" y="419076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641040" y="63388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: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088600" y="63244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694320" y="4800600"/>
              <a:ext cx="71100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5014440" y="4800600"/>
              <a:ext cx="71100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331440" y="47448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545080" y="47307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+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015160" y="4343400"/>
              <a:ext cx="583920" cy="380880"/>
            </a:xfrm>
            <a:custGeom>
              <a:avLst/>
              <a:gdLst/>
              <a:ahLst/>
              <a:rect l="l" t="t" r="r" b="b"/>
              <a:pathLst>
                <a:path w="368" h="240">
                  <a:moveTo>
                    <a:pt x="0" y="240"/>
                  </a:moveTo>
                  <a:cubicBezTo>
                    <a:pt x="152" y="212"/>
                    <a:pt x="304" y="184"/>
                    <a:pt x="336" y="144"/>
                  </a:cubicBezTo>
                  <a:cubicBezTo>
                    <a:pt x="368" y="104"/>
                    <a:pt x="248" y="0"/>
                    <a:pt x="192" y="0"/>
                  </a:cubicBezTo>
                  <a:cubicBezTo>
                    <a:pt x="136" y="0"/>
                    <a:pt x="68" y="72"/>
                    <a:pt x="0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364000" y="411480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3234960" y="4114800"/>
            <a:ext cx="2859840" cy="2592360"/>
            <a:chOff x="3234960" y="4114800"/>
            <a:chExt cx="2859840" cy="2592360"/>
          </a:xfrm>
        </p:grpSpPr>
        <p:grpSp>
          <p:nvGrpSpPr>
            <p:cNvPr id="515" name=""/>
            <p:cNvGrpSpPr/>
            <p:nvPr/>
          </p:nvGrpSpPr>
          <p:grpSpPr>
            <a:xfrm>
              <a:off x="5105160" y="5721120"/>
              <a:ext cx="609120" cy="609480"/>
              <a:chOff x="5105160" y="5721120"/>
              <a:chExt cx="609120" cy="609480"/>
            </a:xfrm>
          </p:grpSpPr>
          <p:sp>
            <p:nvSpPr>
              <p:cNvPr id="516" name=""/>
              <p:cNvSpPr/>
              <p:nvPr/>
            </p:nvSpPr>
            <p:spPr>
              <a:xfrm>
                <a:off x="5105160" y="5721120"/>
                <a:ext cx="60912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7" name=""/>
              <p:cNvGrpSpPr/>
              <p:nvPr/>
            </p:nvGrpSpPr>
            <p:grpSpPr>
              <a:xfrm>
                <a:off x="5181120" y="5797080"/>
                <a:ext cx="456480" cy="457560"/>
                <a:chOff x="5181120" y="5797080"/>
                <a:chExt cx="456480" cy="457560"/>
              </a:xfrm>
            </p:grpSpPr>
            <p:sp>
              <p:nvSpPr>
                <p:cNvPr id="518" name=""/>
                <p:cNvSpPr/>
                <p:nvPr/>
              </p:nvSpPr>
              <p:spPr>
                <a:xfrm>
                  <a:off x="5181120" y="5797440"/>
                  <a:ext cx="45648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 flipV="1">
                  <a:off x="5409360" y="579708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5409360" y="6026040"/>
                  <a:ext cx="1519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21" name=""/>
            <p:cNvGrpSpPr/>
            <p:nvPr/>
          </p:nvGrpSpPr>
          <p:grpSpPr>
            <a:xfrm>
              <a:off x="4419360" y="4502160"/>
              <a:ext cx="609120" cy="609480"/>
              <a:chOff x="4419360" y="4502160"/>
              <a:chExt cx="609120" cy="609480"/>
            </a:xfrm>
          </p:grpSpPr>
          <p:sp>
            <p:nvSpPr>
              <p:cNvPr id="522" name=""/>
              <p:cNvSpPr/>
              <p:nvPr/>
            </p:nvSpPr>
            <p:spPr>
              <a:xfrm>
                <a:off x="4419360" y="4502160"/>
                <a:ext cx="60912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3" name=""/>
              <p:cNvGrpSpPr/>
              <p:nvPr/>
            </p:nvGrpSpPr>
            <p:grpSpPr>
              <a:xfrm>
                <a:off x="4495320" y="4578120"/>
                <a:ext cx="456480" cy="457560"/>
                <a:chOff x="4495320" y="4578120"/>
                <a:chExt cx="456480" cy="457560"/>
              </a:xfrm>
            </p:grpSpPr>
            <p:sp>
              <p:nvSpPr>
                <p:cNvPr id="524" name=""/>
                <p:cNvSpPr/>
                <p:nvPr/>
              </p:nvSpPr>
              <p:spPr>
                <a:xfrm>
                  <a:off x="4495320" y="4578480"/>
                  <a:ext cx="45648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 flipV="1">
                  <a:off x="4723560" y="457812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4723560" y="4807080"/>
                  <a:ext cx="1519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7" name=""/>
            <p:cNvSpPr/>
            <p:nvPr/>
          </p:nvSpPr>
          <p:spPr>
            <a:xfrm>
              <a:off x="3871800" y="5410080"/>
              <a:ext cx="1828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70988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02408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47200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449600" y="53658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326120" y="419076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640320" y="63388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087880" y="63244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693960" y="4800600"/>
              <a:ext cx="71064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5014800" y="4800600"/>
              <a:ext cx="71064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4960" y="47448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+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502600" y="47307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-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014800" y="4343400"/>
              <a:ext cx="583560" cy="380880"/>
            </a:xfrm>
            <a:custGeom>
              <a:avLst/>
              <a:gdLst/>
              <a:ahLst/>
              <a:rect l="l" t="t" r="r" b="b"/>
              <a:pathLst>
                <a:path w="368" h="240">
                  <a:moveTo>
                    <a:pt x="0" y="240"/>
                  </a:moveTo>
                  <a:cubicBezTo>
                    <a:pt x="152" y="212"/>
                    <a:pt x="304" y="184"/>
                    <a:pt x="336" y="144"/>
                  </a:cubicBezTo>
                  <a:cubicBezTo>
                    <a:pt x="368" y="104"/>
                    <a:pt x="248" y="0"/>
                    <a:pt x="192" y="0"/>
                  </a:cubicBezTo>
                  <a:cubicBezTo>
                    <a:pt x="136" y="0"/>
                    <a:pt x="68" y="72"/>
                    <a:pt x="0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387760" y="41148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+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1" name=""/>
            <p:cNvGrpSpPr/>
            <p:nvPr/>
          </p:nvGrpSpPr>
          <p:grpSpPr>
            <a:xfrm>
              <a:off x="3733560" y="5721120"/>
              <a:ext cx="609120" cy="609480"/>
              <a:chOff x="3733560" y="5721120"/>
              <a:chExt cx="609120" cy="609480"/>
            </a:xfrm>
          </p:grpSpPr>
          <p:sp>
            <p:nvSpPr>
              <p:cNvPr id="542" name=""/>
              <p:cNvSpPr/>
              <p:nvPr/>
            </p:nvSpPr>
            <p:spPr>
              <a:xfrm>
                <a:off x="3733560" y="5721120"/>
                <a:ext cx="60912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3" name=""/>
              <p:cNvGrpSpPr/>
              <p:nvPr/>
            </p:nvGrpSpPr>
            <p:grpSpPr>
              <a:xfrm>
                <a:off x="3809520" y="5797080"/>
                <a:ext cx="456480" cy="457560"/>
                <a:chOff x="3809520" y="5797080"/>
                <a:chExt cx="456480" cy="457560"/>
              </a:xfrm>
            </p:grpSpPr>
            <p:sp>
              <p:nvSpPr>
                <p:cNvPr id="544" name=""/>
                <p:cNvSpPr/>
                <p:nvPr/>
              </p:nvSpPr>
              <p:spPr>
                <a:xfrm>
                  <a:off x="3809520" y="5797440"/>
                  <a:ext cx="45648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 flipV="1">
                  <a:off x="4037760" y="579708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4037760" y="6026040"/>
                  <a:ext cx="1519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Relojes L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gic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 muchas ocasiones es necesario que las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áquinas concuerden en un horario, pero no que ese horario sea el horario re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nvencionalmente llamados relojes lógic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amport mostró (1978) que si dos procesos no interactúan no es necesario que sus relojes estén sincronizados ya que esta falta de sincronización no es observab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ún más, él postuló que usualmente es irrelevante que dos procesos concuerden en que tiempo es, sino más bien en orden los eventos ocurre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Rel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caus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ot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(a ocurre antes que b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finición (Lampor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a y b son eventos en el mismo procesador, y a ocurre antes que b, entonces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es verdader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a es un evento de enviar un mensaje por un proceso y b es el evento de recibir ese mensaje por otro proceso, entonces 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es verdader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51560" indent="-21024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odo mensaje toma un tiempo finito mayor que cero en lleg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y b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 son verdaderos, entonces también lo es 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ni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, ni b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 son verdaderos, se dice que los eventos a y b son concurrentes (paralelo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Ordenamiento de event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da proces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mantiene una variable entera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C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(reloj lógico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uando un proces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genera un evento,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C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=LC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+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uando un proceso envía un mensaje incluye el valor de su reloj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uando un proces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recibe un mensaje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con un valor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C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Q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=max(LC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Q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,t)+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Bibliografí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A.Tanenbaum, M.Van Stee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Distributed Systems, principles and paradigms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Ed. Prentice Hall, 2002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G.Coulouris, J.Dillmore, T.Kindberg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Distributed Systems - Concept and Desig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Addison-Wesley, Third Edition, 2001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1219320" y="21337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219320" y="25909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219320" y="30481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219320" y="3505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219320" y="39625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219320" y="44197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219320" y="48769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219320" y="53341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219320" y="5791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219320" y="62485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jemplo de 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lógic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160020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5" name=""/>
          <p:cNvGraphicFramePr/>
          <p:nvPr/>
        </p:nvGraphicFramePr>
        <p:xfrm>
          <a:off x="426708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6" name=""/>
          <p:cNvGraphicFramePr/>
          <p:nvPr/>
        </p:nvGraphicFramePr>
        <p:xfrm>
          <a:off x="6858000" y="1676520"/>
          <a:ext cx="685800" cy="49514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pSp>
        <p:nvGrpSpPr>
          <p:cNvPr id="567" name=""/>
          <p:cNvGrpSpPr/>
          <p:nvPr/>
        </p:nvGrpSpPr>
        <p:grpSpPr>
          <a:xfrm>
            <a:off x="2209680" y="2286000"/>
            <a:ext cx="1981440" cy="533520"/>
            <a:chOff x="2209680" y="2286000"/>
            <a:chExt cx="1981440" cy="533520"/>
          </a:xfrm>
        </p:grpSpPr>
        <p:sp>
          <p:nvSpPr>
            <p:cNvPr id="568" name=""/>
            <p:cNvSpPr/>
            <p:nvPr/>
          </p:nvSpPr>
          <p:spPr>
            <a:xfrm>
              <a:off x="2209680" y="2362320"/>
              <a:ext cx="19814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134880" y="228600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4876920" y="3138480"/>
            <a:ext cx="1904760" cy="595440"/>
            <a:chOff x="4876920" y="3138480"/>
            <a:chExt cx="1904760" cy="595440"/>
          </a:xfrm>
        </p:grpSpPr>
        <p:sp>
          <p:nvSpPr>
            <p:cNvPr id="571" name=""/>
            <p:cNvSpPr/>
            <p:nvPr/>
          </p:nvSpPr>
          <p:spPr>
            <a:xfrm>
              <a:off x="4876920" y="3276720"/>
              <a:ext cx="190476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691600" y="313848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4952880" y="4510080"/>
            <a:ext cx="1828800" cy="595440"/>
            <a:chOff x="4952880" y="4510080"/>
            <a:chExt cx="1828800" cy="595440"/>
          </a:xfrm>
        </p:grpSpPr>
        <p:sp>
          <p:nvSpPr>
            <p:cNvPr id="574" name=""/>
            <p:cNvSpPr/>
            <p:nvPr/>
          </p:nvSpPr>
          <p:spPr>
            <a:xfrm flipH="1">
              <a:off x="4952880" y="4648320"/>
              <a:ext cx="1828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652000" y="451008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2286000" y="5486400"/>
            <a:ext cx="1905120" cy="533520"/>
            <a:chOff x="2286000" y="5486400"/>
            <a:chExt cx="1905120" cy="533520"/>
          </a:xfrm>
        </p:grpSpPr>
        <p:sp>
          <p:nvSpPr>
            <p:cNvPr id="577" name=""/>
            <p:cNvSpPr/>
            <p:nvPr/>
          </p:nvSpPr>
          <p:spPr>
            <a:xfrm flipH="1">
              <a:off x="2286000" y="5562720"/>
              <a:ext cx="190512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029400" y="548640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79" name=""/>
          <p:cNvGraphicFramePr/>
          <p:nvPr/>
        </p:nvGraphicFramePr>
        <p:xfrm>
          <a:off x="426708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0" name=""/>
          <p:cNvGraphicFramePr/>
          <p:nvPr/>
        </p:nvGraphicFramePr>
        <p:xfrm>
          <a:off x="160020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sp>
        <p:nvSpPr>
          <p:cNvPr id="581" name=""/>
          <p:cNvSpPr/>
          <p:nvPr/>
        </p:nvSpPr>
        <p:spPr>
          <a:xfrm>
            <a:off x="2913480" y="3232080"/>
            <a:ext cx="34725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OJO: Este algoritmo s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ermite un orden par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789200" y="4073400"/>
            <a:ext cx="5804280" cy="17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ra orden total se enumeran los proc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y se agrega el número de proceso c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actor decim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segura que dos eventos no 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unca simultáne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1149120" y="1600200"/>
            <a:ext cx="5626440" cy="368280"/>
            <a:chOff x="1149120" y="1600200"/>
            <a:chExt cx="5626440" cy="368280"/>
          </a:xfrm>
        </p:grpSpPr>
        <p:sp>
          <p:nvSpPr>
            <p:cNvPr id="584" name=""/>
            <p:cNvSpPr/>
            <p:nvPr/>
          </p:nvSpPr>
          <p:spPr>
            <a:xfrm>
              <a:off x="1149120" y="160020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866760" y="160020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457680" y="160020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1600200" y="1677960"/>
            <a:ext cx="5943600" cy="455400"/>
            <a:chOff x="1600200" y="1677960"/>
            <a:chExt cx="5943600" cy="455400"/>
          </a:xfrm>
        </p:grpSpPr>
        <p:sp>
          <p:nvSpPr>
            <p:cNvPr id="588" name=""/>
            <p:cNvSpPr/>
            <p:nvPr/>
          </p:nvSpPr>
          <p:spPr>
            <a:xfrm>
              <a:off x="1600200" y="1677960"/>
              <a:ext cx="685800" cy="4554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0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Verdana"/>
                </a:rPr>
                <a:t>0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600200" y="16779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600200" y="21333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6002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2860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267080" y="1677960"/>
              <a:ext cx="685800" cy="4554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0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Verdana"/>
                </a:rPr>
                <a:t>0.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267080" y="16779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267080" y="21333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26708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95288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858000" y="1677960"/>
              <a:ext cx="685800" cy="4554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0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Verdana"/>
                </a:rPr>
                <a:t>0.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858000" y="16779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858000" y="21333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8580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5438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ctore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mport nos permite concluir que si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, entonces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&lt;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n embargo lo contrario no es cierto, es decir si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&lt;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no nos permite concluir que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 decir que las marcas de tiempos de dos eventos (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,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) no nos permite concluir sobre la rel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entre ell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sto porque las marcas de tiempo de Lamport no capturan la causalidad de los even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ara ello se usan los vectores de tiempo, desarrollado po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ctore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da reloj es un arregl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de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elementos siend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el número de procesadores (nodos) del sistem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Inicialmente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[j]=0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ara tod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uando el proces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genera un evento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[i]=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[i]+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uando en el nod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se recibe un mensaje del nod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j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 un vector de tiemp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entonc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40040" indent="-20772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ara todo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k]=max(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k],t[k])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operación de mezcla) y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40040" indent="-20772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i]=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i] + 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ctore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08" name=""/>
          <p:cNvSpPr/>
          <p:nvPr/>
        </p:nvSpPr>
        <p:spPr>
          <a:xfrm>
            <a:off x="380880" y="2133720"/>
            <a:ext cx="822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80880" y="3657600"/>
            <a:ext cx="822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80880" y="5181480"/>
            <a:ext cx="822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09480" y="14479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07440" y="5791320"/>
            <a:ext cx="61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(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1069560" y="1676520"/>
            <a:ext cx="616680" cy="457200"/>
            <a:chOff x="1069560" y="1676520"/>
            <a:chExt cx="616680" cy="457200"/>
          </a:xfrm>
        </p:grpSpPr>
        <p:sp>
          <p:nvSpPr>
            <p:cNvPr id="614" name=""/>
            <p:cNvSpPr/>
            <p:nvPr/>
          </p:nvSpPr>
          <p:spPr>
            <a:xfrm flipV="1">
              <a:off x="137160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956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1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3736440" y="1676520"/>
            <a:ext cx="616680" cy="457200"/>
            <a:chOff x="3736440" y="1676520"/>
            <a:chExt cx="616680" cy="457200"/>
          </a:xfrm>
        </p:grpSpPr>
        <p:sp>
          <p:nvSpPr>
            <p:cNvPr id="617" name=""/>
            <p:cNvSpPr/>
            <p:nvPr/>
          </p:nvSpPr>
          <p:spPr>
            <a:xfrm flipV="1">
              <a:off x="403848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73644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3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4650840" y="1676520"/>
            <a:ext cx="616680" cy="457200"/>
            <a:chOff x="4650840" y="1676520"/>
            <a:chExt cx="616680" cy="457200"/>
          </a:xfrm>
        </p:grpSpPr>
        <p:sp>
          <p:nvSpPr>
            <p:cNvPr id="620" name=""/>
            <p:cNvSpPr/>
            <p:nvPr/>
          </p:nvSpPr>
          <p:spPr>
            <a:xfrm flipV="1">
              <a:off x="495288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65084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4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7622640" y="1676520"/>
            <a:ext cx="616680" cy="457200"/>
            <a:chOff x="7622640" y="1676520"/>
            <a:chExt cx="616680" cy="457200"/>
          </a:xfrm>
        </p:grpSpPr>
        <p:sp>
          <p:nvSpPr>
            <p:cNvPr id="623" name=""/>
            <p:cNvSpPr/>
            <p:nvPr/>
          </p:nvSpPr>
          <p:spPr>
            <a:xfrm flipV="1">
              <a:off x="792468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62264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66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5" name=""/>
          <p:cNvGrpSpPr/>
          <p:nvPr/>
        </p:nvGrpSpPr>
        <p:grpSpPr>
          <a:xfrm>
            <a:off x="6327360" y="3200400"/>
            <a:ext cx="616680" cy="457200"/>
            <a:chOff x="6327360" y="3200400"/>
            <a:chExt cx="616680" cy="457200"/>
          </a:xfrm>
        </p:grpSpPr>
        <p:sp>
          <p:nvSpPr>
            <p:cNvPr id="626" name=""/>
            <p:cNvSpPr/>
            <p:nvPr/>
          </p:nvSpPr>
          <p:spPr>
            <a:xfrm flipV="1">
              <a:off x="662940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32736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7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8" name=""/>
          <p:cNvGrpSpPr/>
          <p:nvPr/>
        </p:nvGrpSpPr>
        <p:grpSpPr>
          <a:xfrm>
            <a:off x="5260680" y="3200400"/>
            <a:ext cx="616680" cy="457200"/>
            <a:chOff x="5260680" y="3200400"/>
            <a:chExt cx="616680" cy="457200"/>
          </a:xfrm>
        </p:grpSpPr>
        <p:sp>
          <p:nvSpPr>
            <p:cNvPr id="629" name=""/>
            <p:cNvSpPr/>
            <p:nvPr/>
          </p:nvSpPr>
          <p:spPr>
            <a:xfrm flipV="1">
              <a:off x="556272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26068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6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1" name=""/>
          <p:cNvGrpSpPr/>
          <p:nvPr/>
        </p:nvGrpSpPr>
        <p:grpSpPr>
          <a:xfrm>
            <a:off x="1450440" y="3200400"/>
            <a:ext cx="616680" cy="457200"/>
            <a:chOff x="1450440" y="3200400"/>
            <a:chExt cx="616680" cy="457200"/>
          </a:xfrm>
        </p:grpSpPr>
        <p:sp>
          <p:nvSpPr>
            <p:cNvPr id="632" name=""/>
            <p:cNvSpPr/>
            <p:nvPr/>
          </p:nvSpPr>
          <p:spPr>
            <a:xfrm flipV="1">
              <a:off x="17524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4504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1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688680" y="4724280"/>
            <a:ext cx="616680" cy="457200"/>
            <a:chOff x="688680" y="4724280"/>
            <a:chExt cx="616680" cy="457200"/>
          </a:xfrm>
        </p:grpSpPr>
        <p:sp>
          <p:nvSpPr>
            <p:cNvPr id="635" name=""/>
            <p:cNvSpPr/>
            <p:nvPr/>
          </p:nvSpPr>
          <p:spPr>
            <a:xfrm flipV="1">
              <a:off x="99072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8868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0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3431880" y="4724280"/>
            <a:ext cx="616680" cy="457200"/>
            <a:chOff x="3431880" y="4724280"/>
            <a:chExt cx="616680" cy="457200"/>
          </a:xfrm>
        </p:grpSpPr>
        <p:sp>
          <p:nvSpPr>
            <p:cNvPr id="638" name=""/>
            <p:cNvSpPr/>
            <p:nvPr/>
          </p:nvSpPr>
          <p:spPr>
            <a:xfrm flipV="1">
              <a:off x="373392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43188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0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4041360" y="4724280"/>
            <a:ext cx="616680" cy="457200"/>
            <a:chOff x="4041360" y="4724280"/>
            <a:chExt cx="616680" cy="457200"/>
          </a:xfrm>
        </p:grpSpPr>
        <p:sp>
          <p:nvSpPr>
            <p:cNvPr id="641" name=""/>
            <p:cNvSpPr/>
            <p:nvPr/>
          </p:nvSpPr>
          <p:spPr>
            <a:xfrm flipV="1">
              <a:off x="434340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04136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4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7013160" y="4724280"/>
            <a:ext cx="616680" cy="457200"/>
            <a:chOff x="7013160" y="4724280"/>
            <a:chExt cx="616680" cy="457200"/>
          </a:xfrm>
        </p:grpSpPr>
        <p:sp>
          <p:nvSpPr>
            <p:cNvPr id="644" name=""/>
            <p:cNvSpPr/>
            <p:nvPr/>
          </p:nvSpPr>
          <p:spPr>
            <a:xfrm flipV="1">
              <a:off x="731520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01316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7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2517480" y="1676520"/>
            <a:ext cx="616680" cy="457200"/>
            <a:chOff x="2517480" y="1676520"/>
            <a:chExt cx="616680" cy="457200"/>
          </a:xfrm>
        </p:grpSpPr>
        <p:sp>
          <p:nvSpPr>
            <p:cNvPr id="647" name=""/>
            <p:cNvSpPr/>
            <p:nvPr/>
          </p:nvSpPr>
          <p:spPr>
            <a:xfrm flipV="1">
              <a:off x="281952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51748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5793840" y="4724280"/>
            <a:ext cx="616680" cy="457200"/>
            <a:chOff x="5793840" y="4724280"/>
            <a:chExt cx="616680" cy="457200"/>
          </a:xfrm>
        </p:grpSpPr>
        <p:sp>
          <p:nvSpPr>
            <p:cNvPr id="650" name=""/>
            <p:cNvSpPr/>
            <p:nvPr/>
          </p:nvSpPr>
          <p:spPr>
            <a:xfrm flipV="1">
              <a:off x="609588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79384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3279240" y="3200400"/>
            <a:ext cx="616680" cy="457200"/>
            <a:chOff x="3279240" y="3200400"/>
            <a:chExt cx="616680" cy="457200"/>
          </a:xfrm>
        </p:grpSpPr>
        <p:sp>
          <p:nvSpPr>
            <p:cNvPr id="653" name=""/>
            <p:cNvSpPr/>
            <p:nvPr/>
          </p:nvSpPr>
          <p:spPr>
            <a:xfrm flipV="1">
              <a:off x="35812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2792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3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6098760" y="1676520"/>
            <a:ext cx="616680" cy="457200"/>
            <a:chOff x="6098760" y="1676520"/>
            <a:chExt cx="616680" cy="457200"/>
          </a:xfrm>
        </p:grpSpPr>
        <p:sp>
          <p:nvSpPr>
            <p:cNvPr id="656" name=""/>
            <p:cNvSpPr/>
            <p:nvPr/>
          </p:nvSpPr>
          <p:spPr>
            <a:xfrm flipV="1">
              <a:off x="640080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09876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56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8" name=""/>
          <p:cNvGrpSpPr/>
          <p:nvPr/>
        </p:nvGrpSpPr>
        <p:grpSpPr>
          <a:xfrm>
            <a:off x="3889080" y="3200400"/>
            <a:ext cx="616680" cy="457200"/>
            <a:chOff x="3889080" y="3200400"/>
            <a:chExt cx="616680" cy="457200"/>
          </a:xfrm>
        </p:grpSpPr>
        <p:sp>
          <p:nvSpPr>
            <p:cNvPr id="659" name=""/>
            <p:cNvSpPr/>
            <p:nvPr/>
          </p:nvSpPr>
          <p:spPr>
            <a:xfrm flipV="1">
              <a:off x="419112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88908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4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1831680" y="4724280"/>
            <a:ext cx="616680" cy="457200"/>
            <a:chOff x="1831680" y="4724280"/>
            <a:chExt cx="616680" cy="457200"/>
          </a:xfrm>
        </p:grpSpPr>
        <p:sp>
          <p:nvSpPr>
            <p:cNvPr id="662" name=""/>
            <p:cNvSpPr/>
            <p:nvPr/>
          </p:nvSpPr>
          <p:spPr>
            <a:xfrm flipV="1">
              <a:off x="213372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83168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0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2819520" y="2133720"/>
            <a:ext cx="76176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2133720" y="3657240"/>
            <a:ext cx="20574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 flipV="1">
            <a:off x="5562720" y="2133360"/>
            <a:ext cx="8380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 flipV="1">
            <a:off x="6095880" y="3657240"/>
            <a:ext cx="5335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7775280" y="3200400"/>
            <a:ext cx="616680" cy="457200"/>
            <a:chOff x="7775280" y="3200400"/>
            <a:chExt cx="616680" cy="457200"/>
          </a:xfrm>
        </p:grpSpPr>
        <p:sp>
          <p:nvSpPr>
            <p:cNvPr id="669" name=""/>
            <p:cNvSpPr/>
            <p:nvPr/>
          </p:nvSpPr>
          <p:spPr>
            <a:xfrm flipV="1">
              <a:off x="807732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77528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8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5184360" y="4724280"/>
            <a:ext cx="616680" cy="457200"/>
            <a:chOff x="5184360" y="4724280"/>
            <a:chExt cx="616680" cy="457200"/>
          </a:xfrm>
        </p:grpSpPr>
        <p:sp>
          <p:nvSpPr>
            <p:cNvPr id="672" name=""/>
            <p:cNvSpPr/>
            <p:nvPr/>
          </p:nvSpPr>
          <p:spPr>
            <a:xfrm flipV="1">
              <a:off x="548640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18436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5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4" name=""/>
          <p:cNvGrpSpPr/>
          <p:nvPr/>
        </p:nvGrpSpPr>
        <p:grpSpPr>
          <a:xfrm>
            <a:off x="4650840" y="3200400"/>
            <a:ext cx="616680" cy="457200"/>
            <a:chOff x="4650840" y="3200400"/>
            <a:chExt cx="616680" cy="457200"/>
          </a:xfrm>
        </p:grpSpPr>
        <p:sp>
          <p:nvSpPr>
            <p:cNvPr id="675" name=""/>
            <p:cNvSpPr/>
            <p:nvPr/>
          </p:nvSpPr>
          <p:spPr>
            <a:xfrm flipV="1">
              <a:off x="49528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6508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5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7" name=""/>
          <p:cNvGrpSpPr/>
          <p:nvPr/>
        </p:nvGrpSpPr>
        <p:grpSpPr>
          <a:xfrm>
            <a:off x="2593440" y="3200400"/>
            <a:ext cx="616680" cy="457200"/>
            <a:chOff x="2593440" y="3200400"/>
            <a:chExt cx="616680" cy="457200"/>
          </a:xfrm>
        </p:grpSpPr>
        <p:sp>
          <p:nvSpPr>
            <p:cNvPr id="678" name=""/>
            <p:cNvSpPr/>
            <p:nvPr/>
          </p:nvSpPr>
          <p:spPr>
            <a:xfrm flipV="1">
              <a:off x="28954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5934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0" name=""/>
          <p:cNvSpPr/>
          <p:nvPr/>
        </p:nvSpPr>
        <p:spPr>
          <a:xfrm>
            <a:off x="2895480" y="3657600"/>
            <a:ext cx="14479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860040" y="16765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527280" y="16765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441680" y="16765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7413480" y="16765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1234800" y="32004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4470120" y="32004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7572240" y="32004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485640" y="47242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254400" y="47242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038560" y="47242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810120" y="47242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2514600" y="58672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cc00"/>
                </a:solidFill>
                <a:latin typeface="Arial Black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||</a:t>
            </a:r>
            <a:r>
              <a:rPr b="0" lang="es-ES_tradnl" sz="1800" spc="-1" strike="noStrike">
                <a:solidFill>
                  <a:srgbClr val="ffcc00"/>
                </a:solidFill>
                <a:latin typeface="Arial Black"/>
              </a:rPr>
              <a:t>J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 (300)&lt;(025) </a:t>
            </a: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AND</a:t>
            </a: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 (300)&gt;(02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2438280" y="5334120"/>
            <a:ext cx="5105520" cy="990360"/>
            <a:chOff x="2438280" y="5334120"/>
            <a:chExt cx="5105520" cy="990360"/>
          </a:xfrm>
        </p:grpSpPr>
        <p:sp>
          <p:nvSpPr>
            <p:cNvPr id="694" name=""/>
            <p:cNvSpPr/>
            <p:nvPr/>
          </p:nvSpPr>
          <p:spPr>
            <a:xfrm>
              <a:off x="2590920" y="533412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cc00"/>
                  </a:solidFill>
                  <a:latin typeface="Arial Black"/>
                </a:rPr>
                <a:t>A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s-ES_tradnl" sz="1800" spc="-1" strike="noStrike">
                  <a:solidFill>
                    <a:srgbClr val="ffcc00"/>
                  </a:solidFill>
                  <a:latin typeface="Arial Black"/>
                </a:rPr>
                <a:t>F 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 Black"/>
                </a:rPr>
                <a:t> (100)&lt;(25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581280" y="5943600"/>
              <a:ext cx="1447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791320" y="594360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438280" y="5410080"/>
              <a:ext cx="510552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8" name=""/>
          <p:cNvSpPr/>
          <p:nvPr/>
        </p:nvSpPr>
        <p:spPr>
          <a:xfrm>
            <a:off x="3500280" y="36306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tado Glob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ara muchos sistemas es relevante poder detectar un estado glob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 decir, un momento del reloj l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gico en que el sistema está en un estado “consistente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alizar una recolec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de basu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tectar termin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tectar DeadLo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ecuperación de fall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obtiene haciendo una captura (snapshot) consistente del siste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tado Glob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02" name=""/>
          <p:cNvSpPr/>
          <p:nvPr/>
        </p:nvSpPr>
        <p:spPr>
          <a:xfrm>
            <a:off x="83808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67536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198108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181836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327672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11364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198960" y="297036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198960" y="54864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98960" y="6324480"/>
            <a:ext cx="15228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905120" y="3809880"/>
            <a:ext cx="15228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905120" y="350532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905120" y="48006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1905120" y="419112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762120" y="32004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762120" y="52578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762120" y="5638680"/>
            <a:ext cx="15228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H="1">
            <a:off x="1980720" y="3048120"/>
            <a:ext cx="12956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838080" y="32767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981080" y="4876920"/>
            <a:ext cx="12956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837720" y="4267080"/>
            <a:ext cx="11430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838080" y="5715000"/>
            <a:ext cx="24386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3" name=""/>
          <p:cNvCxnSpPr/>
          <p:nvPr/>
        </p:nvCxnSpPr>
        <p:spPr>
          <a:xfrm>
            <a:off x="533160" y="4114800"/>
            <a:ext cx="3277080" cy="1829520"/>
          </a:xfrm>
          <a:prstGeom prst="curvedConnector5">
            <a:avLst>
              <a:gd name="adj1" fmla="val 55086"/>
              <a:gd name="adj2" fmla="val 49990"/>
              <a:gd name="adj3" fmla="val 55086"/>
            </a:avLst>
          </a:prstGeom>
          <a:ln w="38160">
            <a:solidFill>
              <a:srgbClr val="ff0000"/>
            </a:solidFill>
            <a:prstDash val="dash"/>
            <a:miter/>
          </a:ln>
        </p:spPr>
      </p:cxnSp>
      <p:sp>
        <p:nvSpPr>
          <p:cNvPr id="724" name=""/>
          <p:cNvSpPr/>
          <p:nvPr/>
        </p:nvSpPr>
        <p:spPr>
          <a:xfrm>
            <a:off x="2238480" y="4932360"/>
            <a:ext cx="228600" cy="3049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2428560" y="293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1149120" y="320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996840" y="45720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2749320" y="495288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1454040" y="556272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3657600" y="3962520"/>
            <a:ext cx="1828800" cy="1218960"/>
          </a:xfrm>
          <a:prstGeom prst="wedgeRectCallout">
            <a:avLst>
              <a:gd name="adj1" fmla="val -66842"/>
              <a:gd name="adj2" fmla="val 80208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 Narrow"/>
              </a:rPr>
              <a:t>No se puede determinar la causalidad de m</a:t>
            </a:r>
            <a:r>
              <a:rPr b="1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573084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556812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687384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671112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816912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800640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8091360" y="297036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8091360" y="54864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8091360" y="6324480"/>
            <a:ext cx="15264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6797520" y="3809880"/>
            <a:ext cx="15264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797520" y="350532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6797520" y="48006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6797520" y="419112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5654520" y="32004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5654520" y="52578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5654520" y="5638680"/>
            <a:ext cx="15264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 flipH="1">
            <a:off x="6873840" y="3048120"/>
            <a:ext cx="12952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5730840" y="32767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6873840" y="4876920"/>
            <a:ext cx="1295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 flipH="1">
            <a:off x="5730480" y="4267080"/>
            <a:ext cx="11430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5730840" y="5715000"/>
            <a:ext cx="2438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2" name=""/>
          <p:cNvCxnSpPr/>
          <p:nvPr/>
        </p:nvCxnSpPr>
        <p:spPr>
          <a:xfrm>
            <a:off x="5486400" y="4114800"/>
            <a:ext cx="3277440" cy="1829520"/>
          </a:xfrm>
          <a:prstGeom prst="curvedConnector5">
            <a:avLst>
              <a:gd name="adj1" fmla="val 39042"/>
              <a:gd name="adj2" fmla="val 49990"/>
              <a:gd name="adj3" fmla="val 39042"/>
            </a:avLst>
          </a:prstGeom>
          <a:ln w="38160">
            <a:solidFill>
              <a:srgbClr val="ff0000"/>
            </a:solidFill>
            <a:prstDash val="dash"/>
            <a:miter/>
          </a:ln>
        </p:spPr>
      </p:cxnSp>
      <p:sp>
        <p:nvSpPr>
          <p:cNvPr id="753" name=""/>
          <p:cNvSpPr/>
          <p:nvPr/>
        </p:nvSpPr>
        <p:spPr>
          <a:xfrm>
            <a:off x="7321320" y="293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041880" y="320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5889240" y="45720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7642080" y="495288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6346440" y="556272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538560" y="1828800"/>
            <a:ext cx="31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 Narrow"/>
              </a:rPr>
              <a:t>Captura no consist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567400" y="1828800"/>
            <a:ext cx="27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 Narrow"/>
              </a:rPr>
              <a:t>Captura consist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 muchos casos es necesario elegir un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ico nodo para una tarea determina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umplir el rol de coordinad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lgoritmo del mat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da proceso tiene un ID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i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lg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 proceso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nvía mensaje de ELECCIÓN a procesos con ID may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un proceso recibe ELEC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entonces responde OK e inicia elec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ninguno responde: Se hace nuevo coordinador y mensajes COORDINADOR a procesadores con ID men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alguno responde con mensaje OK abandona la elec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El Mat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763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764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2971800" y="2742840"/>
            <a:ext cx="3505320" cy="3048480"/>
            <a:chOff x="2971800" y="2742840"/>
            <a:chExt cx="3505320" cy="3048480"/>
          </a:xfrm>
        </p:grpSpPr>
        <p:sp>
          <p:nvSpPr>
            <p:cNvPr id="775" name=""/>
            <p:cNvSpPr/>
            <p:nvPr/>
          </p:nvSpPr>
          <p:spPr>
            <a:xfrm>
              <a:off x="2971800" y="4267080"/>
              <a:ext cx="160020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048120" y="40384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 flipV="1">
              <a:off x="2971800" y="2742840"/>
              <a:ext cx="29718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778200" y="4738680"/>
              <a:ext cx="12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468680" y="3672000"/>
              <a:ext cx="12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168360" y="3048120"/>
              <a:ext cx="12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El Mat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782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783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3" name=""/>
          <p:cNvGrpSpPr/>
          <p:nvPr/>
        </p:nvGrpSpPr>
        <p:grpSpPr>
          <a:xfrm>
            <a:off x="2971440" y="2743200"/>
            <a:ext cx="3581640" cy="1314360"/>
            <a:chOff x="2971440" y="2743200"/>
            <a:chExt cx="3581640" cy="1314360"/>
          </a:xfrm>
        </p:grpSpPr>
        <p:sp>
          <p:nvSpPr>
            <p:cNvPr id="794" name=""/>
            <p:cNvSpPr/>
            <p:nvPr/>
          </p:nvSpPr>
          <p:spPr>
            <a:xfrm flipH="1">
              <a:off x="2971800" y="4038480"/>
              <a:ext cx="358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 flipH="1">
              <a:off x="2971440" y="2743200"/>
              <a:ext cx="29718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513320" y="36892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224600" y="29718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464000" y="2819520"/>
            <a:ext cx="3259080" cy="2971800"/>
            <a:chOff x="4464000" y="2819520"/>
            <a:chExt cx="3259080" cy="2971800"/>
          </a:xfrm>
        </p:grpSpPr>
        <p:sp>
          <p:nvSpPr>
            <p:cNvPr id="799" name=""/>
            <p:cNvSpPr/>
            <p:nvPr/>
          </p:nvSpPr>
          <p:spPr>
            <a:xfrm flipH="1">
              <a:off x="4800600" y="2819520"/>
              <a:ext cx="1295280" cy="28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248520" y="2819520"/>
              <a:ext cx="38088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 flipH="1">
              <a:off x="4876920" y="4267080"/>
              <a:ext cx="175248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445080" y="3003480"/>
              <a:ext cx="12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464000" y="3290760"/>
              <a:ext cx="12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221160" y="4586400"/>
              <a:ext cx="12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El Mat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806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807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7" name=""/>
          <p:cNvSpPr/>
          <p:nvPr/>
        </p:nvSpPr>
        <p:spPr>
          <a:xfrm flipH="1" flipV="1">
            <a:off x="6248520" y="2819160"/>
            <a:ext cx="4572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5977080" y="31384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9" name=""/>
          <p:cNvGrpSpPr/>
          <p:nvPr/>
        </p:nvGrpSpPr>
        <p:grpSpPr>
          <a:xfrm>
            <a:off x="3047760" y="2285640"/>
            <a:ext cx="4958280" cy="2972160"/>
            <a:chOff x="3047760" y="2285640"/>
            <a:chExt cx="4958280" cy="2972160"/>
          </a:xfrm>
        </p:grpSpPr>
        <p:sp>
          <p:nvSpPr>
            <p:cNvPr id="820" name=""/>
            <p:cNvSpPr/>
            <p:nvPr/>
          </p:nvSpPr>
          <p:spPr>
            <a:xfrm flipH="1" flipV="1">
              <a:off x="4876920" y="2285640"/>
              <a:ext cx="167616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 flipH="1" flipV="1">
              <a:off x="3428640" y="2819160"/>
              <a:ext cx="304812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 flipH="1">
              <a:off x="6400440" y="4267080"/>
              <a:ext cx="3049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3580920" y="4191120"/>
              <a:ext cx="29718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 flipV="1">
              <a:off x="3047760" y="4038480"/>
              <a:ext cx="34290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957480" y="251460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271680" y="374796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801960" y="457200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316560" y="457200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316560" y="304812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576240" y="312408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Introducción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os recursos compartidos muchas veces deben ser accedidos “at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micamente”, es decir solo un proceso a la vez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 esto se le menciona como entrar a la región crític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ra garantizar ese acceso único se usan algoritmos de exclusión mutu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demás debe garantizar que todo proceso que pida acceso, eventualmente lo obtiene (Livenes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Enfoque Centralizad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escoge un nodo como coordin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5" name=""/>
          <p:cNvSpPr/>
          <p:nvPr/>
        </p:nvSpPr>
        <p:spPr>
          <a:xfrm>
            <a:off x="4114800" y="30481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5715000" y="30481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4114800" y="51055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2514600" y="30481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9" name=""/>
          <p:cNvGraphicFramePr/>
          <p:nvPr/>
        </p:nvGraphicFramePr>
        <p:xfrm>
          <a:off x="4724280" y="5334120"/>
          <a:ext cx="380880" cy="1366560"/>
        </p:xfrm>
        <a:graphic>
          <a:graphicData uri="http://schemas.openxmlformats.org/drawingml/2006/table">
            <a:tbl>
              <a:tblPr/>
              <a:tblGrid>
                <a:gridCol w="380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840" name=""/>
          <p:cNvGrpSpPr/>
          <p:nvPr/>
        </p:nvGrpSpPr>
        <p:grpSpPr>
          <a:xfrm>
            <a:off x="3139920" y="3505320"/>
            <a:ext cx="1278000" cy="1523880"/>
            <a:chOff x="3139920" y="3505320"/>
            <a:chExt cx="1278000" cy="1523880"/>
          </a:xfrm>
        </p:grpSpPr>
        <p:sp>
          <p:nvSpPr>
            <p:cNvPr id="841" name=""/>
            <p:cNvSpPr/>
            <p:nvPr/>
          </p:nvSpPr>
          <p:spPr>
            <a:xfrm>
              <a:off x="4191120" y="3505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139920" y="4038480"/>
              <a:ext cx="12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olici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"/>
          <p:cNvGrpSpPr/>
          <p:nvPr/>
        </p:nvGrpSpPr>
        <p:grpSpPr>
          <a:xfrm>
            <a:off x="4464360" y="3504960"/>
            <a:ext cx="455040" cy="1600200"/>
            <a:chOff x="4464360" y="3504960"/>
            <a:chExt cx="455040" cy="1600200"/>
          </a:xfrm>
        </p:grpSpPr>
        <p:sp>
          <p:nvSpPr>
            <p:cNvPr id="844" name=""/>
            <p:cNvSpPr/>
            <p:nvPr/>
          </p:nvSpPr>
          <p:spPr>
            <a:xfrm flipV="1">
              <a:off x="4495680" y="350496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464360" y="41148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6" name=""/>
          <p:cNvGrpSpPr/>
          <p:nvPr/>
        </p:nvGrpSpPr>
        <p:grpSpPr>
          <a:xfrm>
            <a:off x="4495320" y="3505320"/>
            <a:ext cx="1950120" cy="1600200"/>
            <a:chOff x="4495320" y="3505320"/>
            <a:chExt cx="1950120" cy="1600200"/>
          </a:xfrm>
        </p:grpSpPr>
        <p:sp>
          <p:nvSpPr>
            <p:cNvPr id="847" name=""/>
            <p:cNvSpPr/>
            <p:nvPr/>
          </p:nvSpPr>
          <p:spPr>
            <a:xfrm flipH="1">
              <a:off x="4495320" y="3505320"/>
              <a:ext cx="121932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167440" y="3994200"/>
              <a:ext cx="12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olici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9" name=""/>
          <p:cNvGrpSpPr/>
          <p:nvPr/>
        </p:nvGrpSpPr>
        <p:grpSpPr>
          <a:xfrm>
            <a:off x="4190760" y="3581280"/>
            <a:ext cx="1003680" cy="1524240"/>
            <a:chOff x="4190760" y="3581280"/>
            <a:chExt cx="1003680" cy="1524240"/>
          </a:xfrm>
        </p:grpSpPr>
        <p:sp>
          <p:nvSpPr>
            <p:cNvPr id="850" name=""/>
            <p:cNvSpPr/>
            <p:nvPr/>
          </p:nvSpPr>
          <p:spPr>
            <a:xfrm>
              <a:off x="4343400" y="35812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190760" y="388620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libe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2" name=""/>
          <p:cNvGrpSpPr/>
          <p:nvPr/>
        </p:nvGrpSpPr>
        <p:grpSpPr>
          <a:xfrm>
            <a:off x="4572000" y="3580920"/>
            <a:ext cx="1219320" cy="1600200"/>
            <a:chOff x="4572000" y="3580920"/>
            <a:chExt cx="1219320" cy="1600200"/>
          </a:xfrm>
        </p:grpSpPr>
        <p:sp>
          <p:nvSpPr>
            <p:cNvPr id="853" name=""/>
            <p:cNvSpPr/>
            <p:nvPr/>
          </p:nvSpPr>
          <p:spPr>
            <a:xfrm flipV="1">
              <a:off x="4572000" y="3580920"/>
              <a:ext cx="121932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073840" y="43578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55" name=""/>
          <p:cNvGraphicFramePr/>
          <p:nvPr/>
        </p:nvGraphicFramePr>
        <p:xfrm>
          <a:off x="4724280" y="5334120"/>
          <a:ext cx="380880" cy="1366560"/>
        </p:xfrm>
        <a:graphic>
          <a:graphicData uri="http://schemas.openxmlformats.org/drawingml/2006/table">
            <a:tbl>
              <a:tblPr/>
              <a:tblGrid>
                <a:gridCol w="380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Enfoque Distribuid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oken-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 distribuyen los elementos en un anillo lógic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 circula un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toke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que permite el acceso a la región critic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l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toke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se libera al abandonar la reg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cumple la propiedad de orden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8" name=""/>
          <p:cNvSpPr/>
          <p:nvPr/>
        </p:nvSpPr>
        <p:spPr>
          <a:xfrm>
            <a:off x="3252960" y="4232160"/>
            <a:ext cx="3200400" cy="221004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151080" y="513864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3335400" y="57499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3878280" y="617688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4506840" y="635148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5153040" y="63165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5695920" y="61246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6114960" y="5802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6324480" y="521640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6140520" y="470052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5738760" y="43419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5205240" y="41673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4664160" y="411480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4121280" y="42195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3684600" y="441180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3176640" y="4613400"/>
            <a:ext cx="152280" cy="152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2796120" y="4156200"/>
            <a:ext cx="73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to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H="1">
            <a:off x="3176640" y="476568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Enfoque Distribuid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ando Rel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jes Lógic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Un proceso que quiere entrar en sección crítica (SC) envía mensaje de solicitud a todos los proces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uando un proceso recibe un mensaje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 receptor no está en SC ni quiere entrar envía OK al emis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 receptor ya está en SC no responde y encola el pedi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 receptor desea entrar, mira marca de tiempo del mensaj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455840" indent="-207720">
              <a:lnSpc>
                <a:spcPct val="90000"/>
              </a:lnSpc>
              <a:spcBef>
                <a:spcPts val="4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Si menor que marca tiempo de su mensaje de solicitud: envía OK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455840" indent="-207720">
              <a:lnSpc>
                <a:spcPct val="90000"/>
              </a:lnSpc>
              <a:spcBef>
                <a:spcPts val="4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n caso contrario será él el que entre y encola el pedido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uando un proceso recibe todos (N-1) los mensajes puede entra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arantiza todas las propiedades incluida orden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Comparaci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879" name=""/>
          <p:cNvGraphicFramePr/>
          <p:nvPr/>
        </p:nvGraphicFramePr>
        <p:xfrm>
          <a:off x="533520" y="1905120"/>
          <a:ext cx="8229600" cy="4599000"/>
        </p:xfrm>
        <a:graphic>
          <a:graphicData uri="http://schemas.openxmlformats.org/drawingml/2006/table">
            <a:tbl>
              <a:tblPr/>
              <a:tblGrid>
                <a:gridCol w="2361960"/>
                <a:gridCol w="1752840"/>
                <a:gridCol w="2057400"/>
                <a:gridCol w="2057400"/>
              </a:tblGrid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goritm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nsaj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pera en mensaj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blem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ntraliz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da de coordinad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ken-R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a 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 a n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da de un proce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lojes L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ógic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(n-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(n-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érdida del token, caída de un proce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acciones distribuid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juntos de operaciones englobadas dentro de un bloque cuya ejecución es complet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umplen las propiedades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ACID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tomicity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Atomicidad): La transacción se realiza completa o no se realiza nad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onsistency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Consistencia): Los estados anterior y posterior a la transacción son estados estables (consistente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solatio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Aislamiento): Los estados intermedios de la transacción son sólo visibles dentro de la propia transac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urability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Durabilidad): Las modificaciones realizadas por una transacción completada se mantien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volución de los sistem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sarrollos de microprocesador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1945 a 1980’s. 1 instrucción/seg. US$ 10.000.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1980’s hasta hoy. 1.000.000.000 instrucciones/seg. Menos de US$1.000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anancia precio/rendimiento º 1013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sarrollo de red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N. 10-100 Mbp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WAN. 64 kpbs - 2 Mbp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Facilidad de interconex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nternet e Intrane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lto desarrollo del hardware ..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Definicion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Un Sistema Distribuido es una colección de computadores independientes que aparecen ante los usuarios como un único sistema coherente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.” (Andrew S. Tanenbau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Un sistema en el cual tanto los componentes de hardware y software de un computador conectados en red se comunican y coordinan mediante paso de mensaje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.” (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G.Coulouris, J.Dollimore, T.Kindber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Aquel que le impide a uno continuar su trabajo cuando falla un computador del cual uno nunca ha oído hablar.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” (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L.Lampor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jemplos de sistema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Red de estaciones de trabajo en una Univers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pacio cuenta es visible desde todos los computado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Workflow de manejo automático de órde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ado por múltiples usuarios, el flujo de las órenes es transparente para ell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5T16:38:17Z</dcterms:created>
  <dc:creator>Facultad de Ingenieria</dc:creator>
  <dc:description/>
  <dc:language>en-US</dc:language>
  <cp:lastModifiedBy>Javier Bustos Jiménez</cp:lastModifiedBy>
  <dcterms:modified xsi:type="dcterms:W3CDTF">2007-03-21T18:49:46Z</dcterms:modified>
  <cp:revision>124</cp:revision>
  <dc:subject/>
  <dc:title>Sistemas Distribuídos</dc:title>
</cp:coreProperties>
</file>