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0063-6331-4DF7-AB36-3B67A7802CD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3FA-953A-410C-9A0F-C5C6356E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DC8-751F-4F3C-BD0A-86BD7053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A04-842A-48D8-B9B4-ACC55B75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A0C-6697-48ED-8152-3ECAEA47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9555-360D-4CD8-A9D0-212DEAD5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D6C8-C6EC-458E-8936-783643DA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8F43-646B-47E1-95A1-3668C9D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5649-8505-4A08-9B23-8DDB9E5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2C33-9357-4135-839C-F39C56CF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86C9-A861-4F4E-87AA-1E374753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594-5F2D-4290-9D4A-1F06564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D83-E5BC-478F-968E-BCF1BCF2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978A-AC98-4F5A-9F90-6320733C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7CE7-7498-4BDA-A62E-3913E420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CC07-D2C3-45BF-AF6C-6161E096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4B50-A216-4BEB-90C3-3C076DA4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906F-09CB-4B1C-9F27-5923A185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0A3-06FE-462B-BC44-599C7DB9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7AF-42B2-4140-869A-19080DBD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837-0202-467A-82DB-50DF34B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4F1-77F8-4206-8E22-ECF1AEF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7EA-6441-44DC-AD71-0E4032AC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D4D-386F-433A-BA5D-2BD2728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809-8B29-475C-B8CA-B4DA6DE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7F3-9001-4868-881C-AB2E62BEA9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F54D-6B77-42CD-9A68-4EA41760E1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weblogs en la 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46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62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80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5" idx="2"/>
              <a:endCxn id="180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0" idx="0"/>
              <a:endCxn id="186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0" idx="7"/>
              <a:endCxn id="187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0" idx="5"/>
              <a:endCxn id="183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0" idx="3"/>
              <a:endCxn id="182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0" idx="2"/>
              <a:endCxn id="181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0" idx="6"/>
              <a:endCxn id="184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96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197" idx="2"/>
              <a:endCxn id="196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8" idx="2"/>
              <a:endCxn id="196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0" idx="2"/>
              <a:endCxn id="196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99" idx="2"/>
              <a:endCxn id="196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668880" y="3214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400" y="5958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2440" y="3214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63280" y="5958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41760" y="3689280"/>
            <a:ext cx="9280080" cy="3007800"/>
            <a:chOff x="-41760" y="3689280"/>
            <a:chExt cx="9280080" cy="3007800"/>
          </a:xfrm>
        </p:grpSpPr>
        <p:grpSp>
          <p:nvGrpSpPr>
            <p:cNvPr id="226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960" y="612756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67400" y="5652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6720" y="6054480"/>
              <a:ext cx="155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41760" y="3692520"/>
              <a:ext cx="2512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880" y="3689280"/>
              <a:ext cx="5667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97480" y="43113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00000" y="5257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7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77640" y="3917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140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936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8800" y="3841920"/>
            <a:ext cx="6674760" cy="2406600"/>
            <a:chOff x="1828800" y="3841920"/>
            <a:chExt cx="6674760" cy="2406600"/>
          </a:xfrm>
        </p:grpSpPr>
        <p:sp>
          <p:nvSpPr>
            <p:cNvPr id="286" name=""/>
            <p:cNvSpPr/>
            <p:nvPr/>
          </p:nvSpPr>
          <p:spPr>
            <a:xfrm>
              <a:off x="2899800" y="38419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8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242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96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58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78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14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394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2720" y="4967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62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17520" y="3827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092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924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3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120" y="3291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52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784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5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91080" y="3062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tat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4267080"/>
            <a:ext cx="7467480" cy="2355480"/>
            <a:chOff x="1219320" y="4267080"/>
            <a:chExt cx="7467480" cy="2355480"/>
          </a:xfrm>
        </p:grpSpPr>
        <p:sp>
          <p:nvSpPr>
            <p:cNvPr id="42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4495680"/>
              <a:ext cx="10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556272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4400" y="42670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6720" y="42814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24080" y="5181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0360" y="5257800"/>
              <a:ext cx="108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234080" y="3733920"/>
            <a:ext cx="6215760" cy="609480"/>
            <a:chOff x="1234080" y="3733920"/>
            <a:chExt cx="6215760" cy="609480"/>
          </a:xfrm>
        </p:grpSpPr>
        <p:sp>
          <p:nvSpPr>
            <p:cNvPr id="441" name=""/>
            <p:cNvSpPr/>
            <p:nvPr/>
          </p:nvSpPr>
          <p:spPr>
            <a:xfrm>
              <a:off x="1234080" y="3733920"/>
              <a:ext cx="62157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74200" y="4114800"/>
            <a:ext cx="2977200" cy="2592360"/>
            <a:chOff x="3274200" y="4114800"/>
            <a:chExt cx="2977200" cy="2592360"/>
          </a:xfrm>
        </p:grpSpPr>
        <p:grpSp>
          <p:nvGrpSpPr>
            <p:cNvPr id="44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45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40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088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508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30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420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204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9400" y="4114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331440" y="4114800"/>
            <a:ext cx="2805840" cy="2592360"/>
            <a:chOff x="3331440" y="4114800"/>
            <a:chExt cx="2805840" cy="2592360"/>
          </a:xfrm>
        </p:grpSpPr>
        <p:grpSp>
          <p:nvGrpSpPr>
            <p:cNvPr id="48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48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48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4996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684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4104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886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144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508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64000" y="411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34960" y="4114800"/>
            <a:ext cx="2859840" cy="2592360"/>
            <a:chOff x="3234960" y="4114800"/>
            <a:chExt cx="2859840" cy="2592360"/>
          </a:xfrm>
        </p:grpSpPr>
        <p:grpSp>
          <p:nvGrpSpPr>
            <p:cNvPr id="51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96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2612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032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788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496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260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877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54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56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56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34880" y="2286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57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91600" y="3138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57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2000" y="4510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57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29400" y="5486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2913480" y="3232080"/>
            <a:ext cx="347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0" y="4073400"/>
            <a:ext cx="5804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9120" y="1600200"/>
            <a:ext cx="5626440" cy="368280"/>
            <a:chOff x="1149120" y="1600200"/>
            <a:chExt cx="5626440" cy="368280"/>
          </a:xfrm>
        </p:grpSpPr>
        <p:sp>
          <p:nvSpPr>
            <p:cNvPr id="584" name=""/>
            <p:cNvSpPr/>
            <p:nvPr/>
          </p:nvSpPr>
          <p:spPr>
            <a:xfrm>
              <a:off x="114912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676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768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58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61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61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62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62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62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62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63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63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63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64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64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64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65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65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65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65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66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66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67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67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67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004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72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416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134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3480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7012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7224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564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544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1012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69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2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5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6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77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78200" y="4738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6868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68360" y="3048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8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79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13320" y="3689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460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464000" y="2819520"/>
            <a:ext cx="3259080" cy="2971800"/>
            <a:chOff x="4464000" y="2819520"/>
            <a:chExt cx="3259080" cy="2971800"/>
          </a:xfrm>
        </p:grpSpPr>
        <p:sp>
          <p:nvSpPr>
            <p:cNvPr id="79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080" y="3003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64000" y="3290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21160" y="4586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80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7708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047760" y="2285640"/>
            <a:ext cx="4958280" cy="2972160"/>
            <a:chOff x="3047760" y="2285640"/>
            <a:chExt cx="4958280" cy="2972160"/>
          </a:xfrm>
        </p:grpSpPr>
        <p:sp>
          <p:nvSpPr>
            <p:cNvPr id="82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57480" y="2514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71680" y="37479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19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165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6560" y="30481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76240" y="3124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0" name=""/>
          <p:cNvGrpSpPr/>
          <p:nvPr/>
        </p:nvGrpSpPr>
        <p:grpSpPr>
          <a:xfrm>
            <a:off x="3139920" y="3505320"/>
            <a:ext cx="1278000" cy="1523880"/>
            <a:chOff x="3139920" y="3505320"/>
            <a:chExt cx="1278000" cy="1523880"/>
          </a:xfrm>
        </p:grpSpPr>
        <p:sp>
          <p:nvSpPr>
            <p:cNvPr id="841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992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464360" y="3504960"/>
            <a:ext cx="455040" cy="1600200"/>
            <a:chOff x="4464360" y="3504960"/>
            <a:chExt cx="455040" cy="1600200"/>
          </a:xfrm>
        </p:grpSpPr>
        <p:sp>
          <p:nvSpPr>
            <p:cNvPr id="844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43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495320" y="3505320"/>
            <a:ext cx="1950120" cy="1600200"/>
            <a:chOff x="4495320" y="3505320"/>
            <a:chExt cx="1950120" cy="1600200"/>
          </a:xfrm>
        </p:grpSpPr>
        <p:sp>
          <p:nvSpPr>
            <p:cNvPr id="847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440" y="3994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90760" y="3581280"/>
            <a:ext cx="1003680" cy="1524240"/>
            <a:chOff x="4190760" y="3581280"/>
            <a:chExt cx="1003680" cy="1524240"/>
          </a:xfrm>
        </p:grpSpPr>
        <p:sp>
          <p:nvSpPr>
            <p:cNvPr id="850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0760" y="3886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853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3840" y="435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el que entre y encola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7-03-21T18:49:46Z</dcterms:modified>
  <cp:revision>124</cp:revision>
  <dc:subject/>
  <dc:title>Sistemas Distribuídos</dc:title>
</cp:coreProperties>
</file>