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1C023-9A44-435A-8010-8E7DB999F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8D667-479F-43E2-B1DE-1E4D28ABC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ADD87-72F3-4EF2-A92D-8B9D52ECE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89CD6-E797-4016-830F-0791FE861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4EDB8D-13E7-4092-91A4-57F301F5AF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6A0EE-EE7D-4197-A94B-69BD4D3D3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BA281-867D-410F-8596-6C92FA20C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E4538-D3E8-4C21-ADF0-0B064F9EC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C76D5-7D6F-4DF5-A4D0-1E85F4210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82454-74AE-4EE4-A9CF-57621029F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4EBE6-8194-46B9-B783-56C06751A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CC4DB-0225-433B-9BB6-FD7773B9D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3EC8B-8BD6-4445-B9B0-320AEA548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27566-A883-452F-9E8D-B133A3F41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8A3A6-4F04-46B9-8F11-F041F2B2B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DE92D8-24CE-40DB-A798-035F6DA527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D5612D-6080-47BA-B2DA-ACEC7CCE6E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4709F-ACD0-499A-B9F8-BA26247E2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D1EF3-9738-438E-8CA6-FFFCF7024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1939F-EE6E-49A0-9CBB-1DB5EACDA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39F63-B0E1-4423-B96D-B0449D86E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75A4C-C185-4C08-85FE-7EC1F10F7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0F565-C437-4DDE-A6A6-D984502E4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BB2AD-5A92-4215-84C6-A87F84B72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6ADD4-C0F3-4102-8BF8-C43D8490F391}"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E6CC-1091-421A-9D52-148EAF3B7C8A}"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0BBECED-F12A-48A9-849A-AF624AA858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34D3551-286C-467B-A735-8EBB7BB3EF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BB60185-4267-43AB-A18F-603B2CC9D4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AC0CB94-C266-4AE5-81CF-7AA472C9E8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73B757E-F3F8-44C7-A691-241C2B836C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36D719B-CF5C-4B44-ABAC-BF38A6285F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B596C2C-3BE2-4810-84E4-9FACAFDED0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F024E73-DC30-4C27-A2E1-ED44B18805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E9D9230C-AF00-452E-BF60-0DD5AD1F55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C29AEF5-D6A3-4C52-8966-669EC9CEDA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481F908-3433-4524-AE82-70D24585A1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4D15266-C5CF-4AA6-BFBC-2FBD2B85CF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78D90F6-AC39-44BC-8FA9-0CB72AC96E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1709F557-A48E-4ABF-87E5-F8EAC683AB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CEB8FB10-06DE-4F05-8925-0EC80B0C4E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BDCABBD4-1959-47B1-BC1B-D7F474CDC6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A799535-9B7B-405D-B971-84C6A63523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9553E43-D733-4A75-BFE2-6EA5D93076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4754704-4778-4D87-8D54-3650ECDE81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3C08ADCC-A02E-4575-BDD8-F384D65B57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90D63DF-7FDF-42CD-A7D0-A75EFDA730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9AC274F-AE58-46A3-BCB7-E69F17CCD8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A3BFC5FA-20D5-4AC4-92CA-9E92BFF0FC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1E479BE0-6E6C-4862-AF86-5077D424F7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3B6FC55A-6F0C-4409-819D-804D354D6C5F}"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93642EB-4673-4DD5-AA1E-2043A8596C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DB19DD5-2777-4660-AA54-5494C9B250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CAEA5F0-728F-4763-B277-538CD290A5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871C707-F99F-43B7-B16C-EE201607A9FA}"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CA5A49E-D033-4678-98E2-E40C49C1233A}"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115B70E0-7AD4-47DA-BB3F-AF3900FC6B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Javier Bustos Jiménez</dc:creator>
  <dc:description/>
  <dc:language>en-US</dc:language>
  <cp:lastModifiedBy>Javier Bustos Jiménez</cp:lastModifiedBy>
  <cp:lastPrinted>1999-11-27T07:19:44Z</cp:lastPrinted>
  <dcterms:modified xsi:type="dcterms:W3CDTF">2007-07-27T16:40:31Z</dcterms:modified>
  <cp:revision>894</cp:revision>
  <dc:subject/>
  <dc:title>Migración</dc:title>
</cp:coreProperties>
</file>