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5A7-96EC-4130-9992-85C66F33FD5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4A79-3006-45C5-9321-62CA3BA4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CA5-A121-4F54-8D3E-EE79A46B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6E39-13E6-43DC-989C-040DA9CA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56A-42CB-4784-89B0-7853CDC5B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5E64-E0A7-4909-A2DD-4D31200C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DD2B-4B8A-4939-B74D-3083CBDC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F671-FB4F-423C-863C-A9D04AF8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5B85-C8A0-4B54-87FD-C4FB09E0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2C04-03DC-4DD1-B5BF-5A0FA56E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FA8-C5E5-42CA-B550-B4120E66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4436-C811-46E7-8D0A-26C6DEF6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437-2F9A-413D-92ED-3E7C6A84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CA7D-AA83-4C18-8868-84FF57EE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4F04-F8EF-4E66-84D1-2F2F6A7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6E4B-23F8-412C-AE36-3198C70C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57B7-9B7D-4A6C-B997-ACA2A468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1243-23D1-4F1E-A435-F71912D9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0179-0AF2-4AF6-A1FA-CFA3B003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8B8-3F0C-4A99-BEA0-A805EBD7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9163-E696-42BD-BD2D-C5CE01BE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3DA0-33DB-4603-A684-E163051B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037-8B68-4DED-BBA4-F4A65582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F44-690E-4F0D-A17B-E790BAFD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A89-8969-4402-93C6-E09079F6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E6C9-C050-485F-8153-C63AE77F03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5622-2F5F-4A89-9727-4D76730786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en/d/d8/UDP_encapsulation.pn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.bustos@inf.udp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ld Wide Web (WW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arece antes los usuarios como un repositorio gigantesco de doc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ctura electrónica en Ch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uchos contribuyentes y compr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nte centralizado (SI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ack-office distribui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conomí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en capacidad de procesa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licaciones inherentemente distribu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cidad de crecimi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iabilidad y disponibilid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 y dat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sventajas de distribuir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umento de la complej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 de administr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Fallas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s frecuen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d, Latencia, p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rdida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teroper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lta de estándares ún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Implicancias de distribuir los sistema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Concurrenci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cursos compartidos. Acceso concurr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cro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Sin tiempo global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da computador tiene su propio reloj loc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Fallas independiente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sibilidad permanente de fallas en cada compon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cción de fallas y tolera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Desafíos de los Sistemas Distribuid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mpartir Recur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ranspare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sabilidad (abiert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alabil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partir recurs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objetivo básico de los sistema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rios deben tener acceso fácil a recursos compartidos y compartir sus propios recursos de forma control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preso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uta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pacio de almacena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rchivos, datos, páginas Web, red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orqué compartir recursos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stos, capacidad, escala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onder el hecho que los recursos y procesos están físicamente distribuidos en diferentes máqui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n sistema distribuido que se presenta hacia el usuario como una sola máquina se dice ser transparen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, transparencia se aplica a varios aspectos de sistemas distribuidos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s diferencias entre las distintas representaciones de datos y la formas en que éstos son accedidos por los usuar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representación de un entero en una máquina SPARC (big endian) y una INTEL (little endi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la ubicación física de donde está situado un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 particular se suele usar nombres lógicos en vez de direcciones reales. Ejemplo, la URL en el Web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Migr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conde el hecho que recursos puedan migrar de una ubicación física a otra sin afectar el modo en que se acce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weblogs en la UD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-ubic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caso aún más fuerte de migración. Los recursos son movidos de una ubicación a otra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mientra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stán en uso y sin que el usuario note 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uso típico es para balancear carg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que un recurso pueda estar replicado varias veces para mejorar su rendimiento y/o disponibilid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viamente exige transparencia de ubica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 Web de Goog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curr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el hecho de que distintos usuarios están “compitiendo” en paralelo por acceder o usar recursos, o que un recurso está siendo compartido con otros usu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xige que el sistema se mantenga en un estado cohere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bases de da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bje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er los conceptos básicos de sistemas distribuidos y sus problemátic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prender el uso de técnicas de diseño de sistemas en forma distribu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struir sistemas computacionales básicos en ambientes distribui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nocer diferentes sistemas distribuidos de mayor u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usuario no nota (inclusive nunca supo) que un recurso ha dejado de funcionar (o se ha recuperad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 uno de los aspectos más duros en sistemas distribuidos por la dificultad de detectar que un recurso ha muer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arreglos de discos RAID, Google File Syste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sist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conde si un recurso de software está en disco o en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plicable a distintos sistemas, no sólo distribui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1708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jemplo: servidores cache, proxy; conexiones persistentes a bases de da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pa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transparencia tiene límites y grad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 siempre es posible esconder to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desfase temporal de comunicación entre puntos muy distantes (delay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empre hay un trade-off entre transparencia y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: Bases de datos replicadas world-wide. Un caso particular son los servidores DNS que pueden tomar días en actualizarse, lo cual no se oculta al usuar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472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Us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recursos y servicios son ofrecidos de acuerdo a reglas estándares describiendo la semántica y sintaxi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ualmente estas reglas son descritas vía protocolos o interfac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face Definition Languages (ID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eb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aspectos muy relev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le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utr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calabilida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refiere a la capacidad de crecer de u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escalabilidad se puede dimensionar desde tres aspec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amaño: la capacidad de agregar fácilmente más recursos y usuarios al siste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ográfica: la capacidad de que usuarios y recursos se encuentren a distancias consider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dministración: La capacidad de mantener una administración fácil a pesar del crec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fortunadamente los sistemas son escalables en alguna de las dimensiones sacrificando rendimiento en las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 forma general todo sistema distribuido consiste en 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ltiple CP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compartida (multi-proces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CPU comparten el mism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moria independiente (multi-computador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da CPU tiene su propio espacio de direcciones de memo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unic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vía B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nal comparti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municación vía Swi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nal exclus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Hard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1981080"/>
            <a:ext cx="1981080" cy="1067040"/>
            <a:chOff x="1371600" y="1981080"/>
            <a:chExt cx="1981080" cy="1067040"/>
          </a:xfrm>
        </p:grpSpPr>
        <p:sp>
          <p:nvSpPr>
            <p:cNvPr id="146" name=""/>
            <p:cNvSpPr/>
            <p:nvPr/>
          </p:nvSpPr>
          <p:spPr>
            <a:xfrm>
              <a:off x="16765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479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860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8108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27432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27432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71600" y="2514600"/>
              <a:ext cx="19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02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6688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25146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382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57800" y="1981080"/>
            <a:ext cx="2209680" cy="1067040"/>
            <a:chOff x="5257800" y="1981080"/>
            <a:chExt cx="2209680" cy="1067040"/>
          </a:xfrm>
        </p:grpSpPr>
        <p:sp>
          <p:nvSpPr>
            <p:cNvPr id="162" name=""/>
            <p:cNvSpPr/>
            <p:nvPr/>
          </p:nvSpPr>
          <p:spPr>
            <a:xfrm>
              <a:off x="54100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4360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77120" y="251460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0280" y="251460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100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120" y="1981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10280" y="1981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94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292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629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2940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588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2720" y="28195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57800" y="3048120"/>
              <a:ext cx="22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600200" y="4191120"/>
            <a:ext cx="1905120" cy="1523880"/>
            <a:chOff x="1600200" y="4191120"/>
            <a:chExt cx="1905120" cy="1523880"/>
          </a:xfrm>
        </p:grpSpPr>
        <p:sp>
          <p:nvSpPr>
            <p:cNvPr id="180" name=""/>
            <p:cNvSpPr/>
            <p:nvPr/>
          </p:nvSpPr>
          <p:spPr>
            <a:xfrm>
              <a:off x="2438640" y="48769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02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372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7240" y="5410080"/>
              <a:ext cx="30456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0400" y="5410080"/>
              <a:ext cx="304920" cy="30492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6232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71800" y="4191120"/>
              <a:ext cx="30492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8" name=""/>
            <p:cNvCxnSpPr>
              <a:stCxn id="185" idx="2"/>
              <a:endCxn id="180" idx="1"/>
            </p:cNvCxnSpPr>
            <p:nvPr/>
          </p:nvCxnSpPr>
          <p:spPr>
            <a:xfrm>
              <a:off x="1828800" y="4495320"/>
              <a:ext cx="64332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0" idx="0"/>
              <a:endCxn id="186" idx="2"/>
            </p:cNvCxnSpPr>
            <p:nvPr/>
          </p:nvCxnSpPr>
          <p:spPr>
            <a:xfrm flipH="1" flipV="1">
              <a:off x="2514240" y="4494960"/>
              <a:ext cx="38880" cy="381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0" idx="7"/>
              <a:endCxn id="187" idx="2"/>
            </p:cNvCxnSpPr>
            <p:nvPr/>
          </p:nvCxnSpPr>
          <p:spPr>
            <a:xfrm flipV="1">
              <a:off x="2633400" y="4494960"/>
              <a:ext cx="491400" cy="415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0" idx="5"/>
              <a:endCxn id="183" idx="0"/>
            </p:cNvCxnSpPr>
            <p:nvPr/>
          </p:nvCxnSpPr>
          <p:spPr>
            <a:xfrm>
              <a:off x="263376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2" name=""/>
            <p:cNvCxnSpPr>
              <a:stCxn id="180" idx="3"/>
              <a:endCxn id="182" idx="0"/>
            </p:cNvCxnSpPr>
            <p:nvPr/>
          </p:nvCxnSpPr>
          <p:spPr>
            <a:xfrm flipH="1">
              <a:off x="2285640" y="5071680"/>
              <a:ext cx="186480" cy="338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3" name=""/>
            <p:cNvCxnSpPr>
              <a:stCxn id="180" idx="2"/>
              <a:endCxn id="181" idx="0"/>
            </p:cNvCxnSpPr>
            <p:nvPr/>
          </p:nvCxnSpPr>
          <p:spPr>
            <a:xfrm flipH="1">
              <a:off x="175212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94" name=""/>
            <p:cNvCxnSpPr>
              <a:stCxn id="180" idx="6"/>
              <a:endCxn id="184" idx="0"/>
            </p:cNvCxnSpPr>
            <p:nvPr/>
          </p:nvCxnSpPr>
          <p:spPr>
            <a:xfrm>
              <a:off x="2666880" y="4991040"/>
              <a:ext cx="686520" cy="419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95" name=""/>
          <p:cNvGrpSpPr/>
          <p:nvPr/>
        </p:nvGrpSpPr>
        <p:grpSpPr>
          <a:xfrm>
            <a:off x="5410080" y="4267080"/>
            <a:ext cx="1905120" cy="1600200"/>
            <a:chOff x="5410080" y="4267080"/>
            <a:chExt cx="1905120" cy="1600200"/>
          </a:xfrm>
        </p:grpSpPr>
        <p:sp>
          <p:nvSpPr>
            <p:cNvPr id="196" name=""/>
            <p:cNvSpPr/>
            <p:nvPr/>
          </p:nvSpPr>
          <p:spPr>
            <a:xfrm>
              <a:off x="6248520" y="5638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100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4360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77120" y="4800600"/>
              <a:ext cx="30456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10280" y="4800600"/>
              <a:ext cx="304920" cy="304560"/>
            </a:xfrm>
            <a:prstGeom prst="rect">
              <a:avLst/>
            </a:prstGeom>
            <a:solidFill>
              <a:srgbClr val="99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100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360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4267080"/>
              <a:ext cx="30456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010280" y="4267080"/>
              <a:ext cx="30492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627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588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62940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920" y="4572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197" idx="2"/>
              <a:endCxn id="196" idx="2"/>
            </p:cNvCxnSpPr>
            <p:nvPr/>
          </p:nvCxnSpPr>
          <p:spPr>
            <a:xfrm flipH="1" rot="16200000">
              <a:off x="558072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0" name=""/>
            <p:cNvCxnSpPr>
              <a:stCxn id="198" idx="2"/>
              <a:endCxn id="196" idx="1"/>
            </p:cNvCxnSpPr>
            <p:nvPr/>
          </p:nvCxnSpPr>
          <p:spPr>
            <a:xfrm flipH="1" rot="16200000">
              <a:off x="5905080" y="529524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1" name=""/>
            <p:cNvCxnSpPr>
              <a:stCxn id="200" idx="2"/>
              <a:endCxn id="196" idx="6"/>
            </p:cNvCxnSpPr>
            <p:nvPr/>
          </p:nvCxnSpPr>
          <p:spPr>
            <a:xfrm rot="5400000">
              <a:off x="6495480" y="5086080"/>
              <a:ext cx="648360" cy="686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12" name=""/>
            <p:cNvCxnSpPr>
              <a:stCxn id="199" idx="2"/>
              <a:endCxn id="196" idx="7"/>
            </p:cNvCxnSpPr>
            <p:nvPr/>
          </p:nvCxnSpPr>
          <p:spPr>
            <a:xfrm rot="5400000">
              <a:off x="6252480" y="5295600"/>
              <a:ext cx="567720" cy="186480"/>
            </a:xfrm>
            <a:prstGeom prst="bentConnector3">
              <a:avLst>
                <a:gd name="adj1" fmla="val 47017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"/>
          <p:cNvSpPr/>
          <p:nvPr/>
        </p:nvSpPr>
        <p:spPr>
          <a:xfrm>
            <a:off x="668880" y="321480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27400" y="5958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compartida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02440" y="32148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63280" y="5958000"/>
            <a:ext cx="42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moria independiente -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Proces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dos los CPU tienen acceso a una memoria compart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n ejemplo es Symetric Multiprocesing (SMP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ge coherencia en el estado de la memor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a medida que aumentan los CPUs mantener la coherencia afecta fuertemente el rendimien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 poco escalable y la escalabilidad es ca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ulti-computador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subdividen en dos categor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omogé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arquitectura y memoria es igual o similar en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eneralmente conectados a trav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s de una única, usualmente de alto rendimiento, interfaz de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típico: cluster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eterog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e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tiples arquitectu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comunica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iferentes formas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mplo t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pico: GR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oft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ncuentran tres variantes de plataformas de software par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stemas operativos de 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ddle-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ono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os compartiendo recursos sobre una máquina, gracias a un microkernel que implemente una máquina vir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41760" y="3689280"/>
            <a:ext cx="9280080" cy="3007800"/>
            <a:chOff x="-41760" y="3689280"/>
            <a:chExt cx="9280080" cy="3007800"/>
          </a:xfrm>
        </p:grpSpPr>
        <p:grpSp>
          <p:nvGrpSpPr>
            <p:cNvPr id="226" name=""/>
            <p:cNvGrpSpPr/>
            <p:nvPr/>
          </p:nvGrpSpPr>
          <p:grpSpPr>
            <a:xfrm>
              <a:off x="1219320" y="4114800"/>
              <a:ext cx="6781680" cy="2438280"/>
              <a:chOff x="1219320" y="4114800"/>
              <a:chExt cx="6781680" cy="2438280"/>
            </a:xfrm>
          </p:grpSpPr>
          <p:sp>
            <p:nvSpPr>
              <p:cNvPr id="227" name=""/>
              <p:cNvSpPr/>
              <p:nvPr/>
            </p:nvSpPr>
            <p:spPr>
              <a:xfrm>
                <a:off x="1219320" y="518148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4792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Aplicaci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De usua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2444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memori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proces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0800" y="4267080"/>
                <a:ext cx="1371600" cy="8377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</a:t>
                </a: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ódulo d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archivo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67652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35304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292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29400" y="5028840"/>
                <a:ext cx="914400" cy="228240"/>
              </a:xfrm>
              <a:prstGeom prst="roundRect">
                <a:avLst>
                  <a:gd name="adj" fmla="val 16667"/>
                </a:avLst>
              </a:prstGeom>
              <a:solidFill>
                <a:srgbClr val="99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219320" y="4114800"/>
                <a:ext cx="6781680" cy="243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601956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25960" y="612756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Hardwa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67400" y="5652720"/>
                <a:ext cx="1826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Micro-kern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438640" y="49528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38640" y="54100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3886200" y="495252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21004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210040" y="5486040"/>
                <a:ext cx="3352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5562720" y="4952880"/>
                <a:ext cx="0" cy="532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8144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81440" y="5638680"/>
                <a:ext cx="518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7162920" y="4952880"/>
                <a:ext cx="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16720" y="6054480"/>
              <a:ext cx="15523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lamada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990720" y="5597280"/>
              <a:ext cx="9903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-41760" y="3692520"/>
              <a:ext cx="25124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Interfaz 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66680" y="4343400"/>
              <a:ext cx="7621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880" y="3689280"/>
              <a:ext cx="5667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No hay intercambio directo entre 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du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666520" y="40384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988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6272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4038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77320" y="419076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077320" y="5181480"/>
              <a:ext cx="152280" cy="83808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097480" y="4311360"/>
              <a:ext cx="1140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usuar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00000" y="52578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troducción a Sistema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cronización de proces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gramación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istribuidos típ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archivos distribui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es de sens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proces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compartiendo datos a través de memoria comparti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atos deben ser protegidos para garantizar consistenc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últiples procesadores deben ser transparentes para la aplic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imitivas de sincronización: semáforos, locks, moni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Operativos Multicomput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computadores conectados por r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ador tiene su propia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unicación únicamente a través de paso de mensaj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ncronización basada en semánticas particulares de paso de mensaj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057400" y="3900600"/>
            <a:ext cx="5090400" cy="2806560"/>
            <a:chOff x="2057400" y="3900600"/>
            <a:chExt cx="5090400" cy="2806560"/>
          </a:xfrm>
        </p:grpSpPr>
        <p:sp>
          <p:nvSpPr>
            <p:cNvPr id="267" name=""/>
            <p:cNvSpPr/>
            <p:nvPr/>
          </p:nvSpPr>
          <p:spPr>
            <a:xfrm>
              <a:off x="52578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576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281480"/>
              <a:ext cx="1523880" cy="1981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3720" y="43578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33720" y="50436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istema operativo distribu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98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080" y="5805360"/>
              <a:ext cx="114300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65674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195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97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019920" y="626256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555600" y="63388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77640" y="3917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4140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19360" y="39006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stemas de Memoria Compartida Distribui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últiples procesadores, cada uno con su memor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emoria compartida virtual sobre multicomputad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blema de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false sharing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 (memoria de dos procesos en la misma p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gin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828800" y="3841920"/>
            <a:ext cx="6674760" cy="2406600"/>
            <a:chOff x="1828800" y="3841920"/>
            <a:chExt cx="6674760" cy="2406600"/>
          </a:xfrm>
        </p:grpSpPr>
        <p:sp>
          <p:nvSpPr>
            <p:cNvPr id="286" name=""/>
            <p:cNvSpPr/>
            <p:nvPr/>
          </p:nvSpPr>
          <p:spPr>
            <a:xfrm>
              <a:off x="2899800" y="3841920"/>
              <a:ext cx="31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 virtual 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828800" y="4876920"/>
              <a:ext cx="1218960" cy="1068120"/>
              <a:chOff x="1828800" y="4876920"/>
              <a:chExt cx="1218960" cy="1068120"/>
            </a:xfrm>
          </p:grpSpPr>
          <p:sp>
            <p:nvSpPr>
              <p:cNvPr id="288" name=""/>
              <p:cNvSpPr/>
              <p:nvPr/>
            </p:nvSpPr>
            <p:spPr>
              <a:xfrm>
                <a:off x="18288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047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56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047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6665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242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3200400" y="4876920"/>
              <a:ext cx="1218960" cy="1068120"/>
              <a:chOff x="3200400" y="4876920"/>
              <a:chExt cx="1218960" cy="1068120"/>
            </a:xfrm>
          </p:grpSpPr>
          <p:sp>
            <p:nvSpPr>
              <p:cNvPr id="296" name=""/>
              <p:cNvSpPr/>
              <p:nvPr/>
            </p:nvSpPr>
            <p:spPr>
              <a:xfrm>
                <a:off x="32004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004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36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6572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276360" y="525780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03812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572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39588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4572000" y="4876920"/>
              <a:ext cx="1218960" cy="1068120"/>
              <a:chOff x="4572000" y="4876920"/>
              <a:chExt cx="1218960" cy="1068120"/>
            </a:xfrm>
          </p:grpSpPr>
          <p:sp>
            <p:nvSpPr>
              <p:cNvPr id="305" name=""/>
              <p:cNvSpPr/>
              <p:nvPr/>
            </p:nvSpPr>
            <p:spPr>
              <a:xfrm>
                <a:off x="45720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5720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64796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02884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410080" y="495288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64796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028840" y="525780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678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5943600" y="4876920"/>
              <a:ext cx="1218960" cy="1068120"/>
              <a:chOff x="5943600" y="4876920"/>
              <a:chExt cx="1218960" cy="1068120"/>
            </a:xfrm>
          </p:grpSpPr>
          <p:sp>
            <p:nvSpPr>
              <p:cNvPr id="314" name=""/>
              <p:cNvSpPr/>
              <p:nvPr/>
            </p:nvSpPr>
            <p:spPr>
              <a:xfrm>
                <a:off x="5943600" y="4876920"/>
                <a:ext cx="1218960" cy="1066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943600" y="4876920"/>
                <a:ext cx="12189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19560" y="4952880"/>
                <a:ext cx="30492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00800" y="495288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39440" y="5576760"/>
                <a:ext cx="86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CPU 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057400" y="4191120"/>
              <a:ext cx="4876200" cy="228600"/>
              <a:chOff x="2057400" y="4191120"/>
              <a:chExt cx="4876200" cy="228600"/>
            </a:xfrm>
          </p:grpSpPr>
          <p:sp>
            <p:nvSpPr>
              <p:cNvPr id="320" name=""/>
              <p:cNvSpPr/>
              <p:nvPr/>
            </p:nvSpPr>
            <p:spPr>
              <a:xfrm>
                <a:off x="205740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3619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6668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9714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2763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8002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956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907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858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812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051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4100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7146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01956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324480" y="4191120"/>
                <a:ext cx="30420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629040" y="4191120"/>
                <a:ext cx="304560" cy="22860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Verdana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1904760" y="6248520"/>
              <a:ext cx="5181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382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098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3080" y="59436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2057040" y="441972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514600" y="4419720"/>
              <a:ext cx="8380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2285640" y="4419720"/>
              <a:ext cx="53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240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29000" y="4419720"/>
              <a:ext cx="12952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590200" y="4419720"/>
              <a:ext cx="11430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65760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343400" y="44197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886200" y="44197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2971440" y="441972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267080" y="4419720"/>
              <a:ext cx="9907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181480" y="4419720"/>
              <a:ext cx="3808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5333760" y="44197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7220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562360" y="44197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6705360" y="44197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15200" y="4876920"/>
              <a:ext cx="75960" cy="60948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62720" y="496728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m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stemas Operativos de R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os o más 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mputador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conectados por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arten los diferentes recursos y la información del sistema mediante la r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vell Netware, Personal Netware,Windows NT Server, UNIX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057400" y="3809880"/>
            <a:ext cx="5090400" cy="2820960"/>
            <a:chOff x="2057400" y="3809880"/>
            <a:chExt cx="5090400" cy="2820960"/>
          </a:xfrm>
        </p:grpSpPr>
        <p:sp>
          <p:nvSpPr>
            <p:cNvPr id="362" name=""/>
            <p:cNvSpPr/>
            <p:nvPr/>
          </p:nvSpPr>
          <p:spPr>
            <a:xfrm>
              <a:off x="52578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576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057400" y="4205160"/>
              <a:ext cx="1523880" cy="1981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428148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8600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98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10080" y="572940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09680" y="649116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197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9920" y="618660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55600" y="62625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17520" y="38275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092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9240" y="3809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1337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34120" y="502920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iddle-Wa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apa de software que ejecuta sobre el sistema operativo local de cada computador ofreciendo uno servicios distribui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strae la complejidad y heterogeneidad de los computadores del siste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porciona una API para la programación y manejo de aplicaciones distribui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286000" y="3273480"/>
            <a:ext cx="5090400" cy="3662280"/>
            <a:chOff x="2286000" y="3273480"/>
            <a:chExt cx="5090400" cy="3662280"/>
          </a:xfrm>
        </p:grpSpPr>
        <p:sp>
          <p:nvSpPr>
            <p:cNvPr id="383" name=""/>
            <p:cNvSpPr/>
            <p:nvPr/>
          </p:nvSpPr>
          <p:spPr>
            <a:xfrm>
              <a:off x="54864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862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86000" y="3657600"/>
              <a:ext cx="1523880" cy="28339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62320" y="458640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cios del Middle-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460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384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8680" y="6034320"/>
              <a:ext cx="1143000" cy="38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Ker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38280" y="6796080"/>
              <a:ext cx="434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483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248520" y="6491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84200" y="65674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46120" y="329112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952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7840" y="32734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áquina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623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25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2720" y="5334120"/>
              <a:ext cx="137160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Servicios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Red del S.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62320" y="3810240"/>
              <a:ext cx="4495680" cy="609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plicaciones distribui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abla Comparativ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09480" y="1828800"/>
          <a:ext cx="8229600" cy="4818240"/>
        </p:xfrm>
        <a:graphic>
          <a:graphicData uri="http://schemas.openxmlformats.org/drawingml/2006/table">
            <a:tbl>
              <a:tblPr/>
              <a:tblGrid>
                <a:gridCol w="1828800"/>
                <a:gridCol w="1524240"/>
                <a:gridCol w="1600200"/>
                <a:gridCol w="1447560"/>
                <a:gridCol w="18288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.O. de R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ddle-W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pr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ti-com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do de Transpa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y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j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mo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pias del S.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unicaci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moria compart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ch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c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fico al mode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ejo de rec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, distribui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 n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cal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ier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epaso de red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05" name="" descr="The OSI Mod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590920"/>
            <a:ext cx="4038480" cy="363852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"/>
          <a:stretch/>
        </p:blipFill>
        <p:spPr>
          <a:xfrm>
            <a:off x="4724280" y="3809880"/>
            <a:ext cx="4114800" cy="23338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5491080" y="3062160"/>
            <a:ext cx="26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odelo d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pa de Red: Internet Protocol (I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71600" y="2819520"/>
            <a:ext cx="68166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Transmission Control Protocol (TC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293840" y="2602080"/>
            <a:ext cx="731664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tocol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apa de Transporte: User Dtatgram Protocol (UD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2133720" y="2743200"/>
            <a:ext cx="5257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spectos Administrativ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valua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tareas, porcentajes, dem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Modelos de comunic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ipo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nto a punto (un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ltipunto (multica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inter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liente/servid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Peer-to-p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ódigo móvi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ecnologías de comunica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so de mensajes: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cke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lamada a procedimientos remotos (RPC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vocación de métodos remotos (RMI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ecnologías de objetos distribuidos: CORBA, DCOM, EJ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rvicios web.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219320" y="4267080"/>
            <a:ext cx="7467480" cy="2355480"/>
            <a:chOff x="1219320" y="4267080"/>
            <a:chExt cx="7467480" cy="2355480"/>
          </a:xfrm>
        </p:grpSpPr>
        <p:sp>
          <p:nvSpPr>
            <p:cNvPr id="42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520" y="4495680"/>
              <a:ext cx="10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15200" y="5562720"/>
              <a:ext cx="137160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4400" y="42670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76720" y="428148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224080" y="5181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60360" y="5257800"/>
              <a:ext cx="1082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234080" y="3733920"/>
            <a:ext cx="6215760" cy="609480"/>
            <a:chOff x="1234080" y="3733920"/>
            <a:chExt cx="6215760" cy="609480"/>
          </a:xfrm>
        </p:grpSpPr>
        <p:sp>
          <p:nvSpPr>
            <p:cNvPr id="441" name=""/>
            <p:cNvSpPr/>
            <p:nvPr/>
          </p:nvSpPr>
          <p:spPr>
            <a:xfrm>
              <a:off x="1234080" y="3733920"/>
              <a:ext cx="62157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3274200" y="4114800"/>
            <a:ext cx="2977200" cy="2592360"/>
            <a:chOff x="3274200" y="4114800"/>
            <a:chExt cx="2977200" cy="2592360"/>
          </a:xfrm>
        </p:grpSpPr>
        <p:grpSp>
          <p:nvGrpSpPr>
            <p:cNvPr id="44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45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45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46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640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4088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65508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30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420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22040" y="4662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69400" y="41148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331440" y="4114800"/>
            <a:ext cx="2805840" cy="2592360"/>
            <a:chOff x="3331440" y="4114800"/>
            <a:chExt cx="2805840" cy="2592360"/>
          </a:xfrm>
        </p:grpSpPr>
        <p:grpSp>
          <p:nvGrpSpPr>
            <p:cNvPr id="48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48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48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44996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32684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4104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8860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3144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4508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64000" y="41148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234960" y="4114800"/>
            <a:ext cx="2859840" cy="2592360"/>
            <a:chOff x="3234960" y="4114800"/>
            <a:chExt cx="2859840" cy="2592360"/>
          </a:xfrm>
        </p:grpSpPr>
        <p:grpSp>
          <p:nvGrpSpPr>
            <p:cNvPr id="51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51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52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449600" y="5365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26120" y="41907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0320" y="633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87880" y="6324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4960" y="47448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502600" y="47307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877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54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Bibliograf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A.Tanenbaum, M.Van Stee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, principles and paradigms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d. Prentice Hall, 200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G.Coulouris, J.Dillmore, T.Kindberg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s-ES_tradnl" sz="2800" spc="-1" strike="noStrike">
                <a:solidFill>
                  <a:srgbClr val="000000"/>
                </a:solidFill>
                <a:latin typeface="Verdana"/>
              </a:rPr>
              <a:t>Distributed Systems - Concept and Desig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Addison-Wesley, Third Edition, 200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56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56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34880" y="2286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57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91600" y="3138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57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52000" y="4510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57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29400" y="5486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7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2913480" y="3232080"/>
            <a:ext cx="3472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789200" y="4073400"/>
            <a:ext cx="58042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49120" y="1600200"/>
            <a:ext cx="5626440" cy="368280"/>
            <a:chOff x="1149120" y="1600200"/>
            <a:chExt cx="5626440" cy="368280"/>
          </a:xfrm>
        </p:grpSpPr>
        <p:sp>
          <p:nvSpPr>
            <p:cNvPr id="584" name=""/>
            <p:cNvSpPr/>
            <p:nvPr/>
          </p:nvSpPr>
          <p:spPr>
            <a:xfrm>
              <a:off x="114912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6676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57680" y="1600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58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61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61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62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62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62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62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63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63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63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64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64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64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65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65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65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65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66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66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67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67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67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86004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5272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416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413480" y="16765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23480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47012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572240" y="3200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8564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25440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03856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10120" y="47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69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2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75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6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77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778200" y="47386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468680" y="36720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68360" y="304812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78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79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13320" y="36892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24600" y="2971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464000" y="2819520"/>
            <a:ext cx="3259080" cy="2971800"/>
            <a:chOff x="4464000" y="2819520"/>
            <a:chExt cx="3259080" cy="2971800"/>
          </a:xfrm>
        </p:grpSpPr>
        <p:sp>
          <p:nvSpPr>
            <p:cNvPr id="79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45080" y="3003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464000" y="329076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21160" y="45864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80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977080" y="3138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3047760" y="2285640"/>
            <a:ext cx="4958280" cy="2972160"/>
            <a:chOff x="3047760" y="2285640"/>
            <a:chExt cx="4958280" cy="2972160"/>
          </a:xfrm>
        </p:grpSpPr>
        <p:sp>
          <p:nvSpPr>
            <p:cNvPr id="82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957480" y="25146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271680" y="374796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019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316560" y="457200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316560" y="304812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76240" y="31240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40" name=""/>
          <p:cNvGrpSpPr/>
          <p:nvPr/>
        </p:nvGrpSpPr>
        <p:grpSpPr>
          <a:xfrm>
            <a:off x="3139920" y="3505320"/>
            <a:ext cx="1278000" cy="1523880"/>
            <a:chOff x="3139920" y="3505320"/>
            <a:chExt cx="1278000" cy="1523880"/>
          </a:xfrm>
        </p:grpSpPr>
        <p:sp>
          <p:nvSpPr>
            <p:cNvPr id="841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139920" y="403848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4464360" y="3504960"/>
            <a:ext cx="455040" cy="1600200"/>
            <a:chOff x="4464360" y="3504960"/>
            <a:chExt cx="455040" cy="1600200"/>
          </a:xfrm>
        </p:grpSpPr>
        <p:sp>
          <p:nvSpPr>
            <p:cNvPr id="844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464360" y="411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495320" y="3505320"/>
            <a:ext cx="1950120" cy="1600200"/>
            <a:chOff x="4495320" y="3505320"/>
            <a:chExt cx="1950120" cy="1600200"/>
          </a:xfrm>
        </p:grpSpPr>
        <p:sp>
          <p:nvSpPr>
            <p:cNvPr id="847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167440" y="3994200"/>
              <a:ext cx="12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190760" y="3581280"/>
            <a:ext cx="1003680" cy="1524240"/>
            <a:chOff x="4190760" y="3581280"/>
            <a:chExt cx="1003680" cy="1524240"/>
          </a:xfrm>
        </p:grpSpPr>
        <p:sp>
          <p:nvSpPr>
            <p:cNvPr id="850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0760" y="388620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853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073840" y="4357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55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455840" indent="-20772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el que entre y encola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volución de los sistem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s de microprocesa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45 a 1980’s. 1 instrucción/seg. US$ 10.000.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1980’s hasta hoy. 1.000.000.000 instrucciones/seg. Menos de US$1.00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nancia precio/rendimiento º 1013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sarrollo de re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N. 10-100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AN. 64 kpbs - 2 Mbp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acilidad de interconex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ternet e Intran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to desarrollo del hardware ..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Definicion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Distribuido es una colección de computadores independientes que aparecen ante los usuarios como un único sistema coherent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Andrew S. Tanenbau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Un sistema en el cual tanto los componentes de hardware y software de un computador conectados en red se comunican y coordinan mediante paso de mensaje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G.Coulouris, J.Dollimore, T.Kindber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Aquel que le impide a uno continuar su trabajo cuando falla un computador del cual uno nunca ha oído hablar.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” (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L.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s de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Red de estaciones de trabajo en una Universid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acio cuenta es visible desde todos los computad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Workflow de manejo automático de órde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do por múltiples usuarios, el flujo de las órenes es transparente para el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7-03-21T18:49:46Z</dcterms:modified>
  <cp:revision>124</cp:revision>
  <dc:subject/>
  <dc:title>Sistemas Distribuídos</dc:title>
</cp:coreProperties>
</file>