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C9C0-106D-4206-BA91-C206AF29CC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199F-B6D7-4F50-B12C-D5958D6BAA79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8DB8-3540-4190-BA20-C7E7FCD2B546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A5C2-074A-41F4-ADED-D35887AC9C71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FB7-F275-40E9-B5D2-1310651E4613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A949-FFC7-49F6-B94B-D56F2DABDD02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5F8E-7DA9-4380-B878-7B86852C99D5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C90-6518-4802-A134-2249356AFD9C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1BF6-4E07-40A2-9339-FA26450447C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63EC-7190-4863-B4AF-B7655DD65863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0E53-0518-42EF-8219-69F951FAB969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86BF-50FA-4F2C-AC7B-BBF964F68D6A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21CA-F2E3-49D0-9207-BE4437AB1831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4D07-B29A-49C1-ADE4-8555B1BAE31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72C-CCAA-48AE-B042-A0779389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F99-6A9A-428A-89B1-EB6420F4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DBC-2BBF-4E09-9A99-485A4A04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993-C0FD-4137-B097-41382DE5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55B2-50C9-47D2-8779-BEDE7D55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1C4F-379E-4773-AE3E-7889F2F2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8A8D-D5AA-43D0-A8EF-C9A52314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0A83-2A47-44F9-8E3B-BCEB8A2E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FDD1-F313-4C24-AA03-A7A53AA8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2A80-2C5F-4B81-951B-795D189D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DF09-454A-4DB8-ABDA-92745A09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486-DED5-421C-A671-5B724735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2703-9492-4A12-A867-EF93872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3A74-A0DE-47E8-AC59-93595884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E9BA-8DEE-4463-AF79-AC0FF3A0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D6F9-70DB-4C1B-B9CA-A6BCCBE0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ED94-DD73-4DFE-82DD-CE0AF01C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E13-C36E-4062-8337-B8AE16F0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FAF-7195-4B28-AC85-F6937A39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0F9-5FF1-4261-949C-6B79AE93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A14-F125-45F9-B7DD-B59DABCA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B65-6C80-4B98-A83F-1D2E424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E5F-6D38-4809-9867-E4587F8C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121-966C-4B1C-953E-F80C725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11AF-0CD1-40C5-8FCE-36F6F60CDF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0288-4623-4025-8575-3FB470265465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Rol del Curso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ción con otros Cur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stulación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812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proyectos tienen que beneficiar al DCC, a la Facultad/Univ., a los alumnos o a alguna entidad sin fines de luc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require un cliente con al 1 hora semanal de disponibi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clientes pueden ser cualquiera, menos los alumnos de la carrera que no hayan pasado por cc51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debe entregar al profesor una breve descripción del proyecto (1/2 o 1 págin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r un buen estudiante no implica ser un buen ingenier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 que 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 Ochoa</cp:lastModifiedBy>
  <dcterms:modified xsi:type="dcterms:W3CDTF">2007-11-13T11:09:56Z</dcterms:modified>
  <cp:revision>43</cp:revision>
  <dc:subject/>
  <dc:title>CC51A – Ingeniería de Software</dc:title>
</cp:coreProperties>
</file>