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8EB-5554-47CE-BA12-5280F770E4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A16A-75D7-4132-8515-011F3791B6A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BC3-1539-4ECA-B777-AB39998D2A6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52DC-AAA0-4B4C-A358-0D3F939283D3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95A-84BD-4F3F-8D24-553D8FA3888A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3F4-BB49-4692-8036-539691DD937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64A-25BF-40BD-A570-7C23A0EDBBF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C8EC-57BF-4E8D-A6A7-AA39842B562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8F0-8E90-488B-B581-2CC6348C3F8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530-70D0-4821-B790-9B7C2BE22F30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D48D-A7CA-46C1-87A8-C0327F4C1694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7345-0771-4C79-B5F2-578FD14BCDA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0C38-59DE-40A4-8B92-3C475DFC34A3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A73-E469-42CF-8F76-DAEB886E006B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4BA-EF21-4AD4-B0FF-3C71B50B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2AB-8358-4E18-9679-73A0859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396-9723-4FA7-9FE5-CE86A77A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F73-BFB9-49DF-AE6E-6448EB55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32A-3368-4159-8E7D-7C6414D6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961-1EB9-4621-B3CD-7E6501E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AFD-5BAC-4FA9-9CBE-A7025F2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1947-DD59-4AA7-8B8B-29204C3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7BD-59D5-4C07-A53A-E5572D7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374-C5AB-4085-86BF-D69BFCB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CCAD-7785-4F6E-8721-200D051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AA7-C95B-4D6F-9389-352A6F4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4949-58E0-4577-9BAD-626A5FF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00A8-3F74-4332-8201-8E42F27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238A-633E-4266-8656-22F5D9B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B877-C966-4A4C-B881-9C5047C1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D42D-E3C3-4A72-AA2E-0419F07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47E-E409-4B0C-99BB-15430A9E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2B8-D57D-4101-AD84-CD198B5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B2A-0E9D-427C-BE2D-DDDB84A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530-4C9B-425A-B454-6BA2033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6CB-D02C-4EAB-A8C1-D937C15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324-4939-46FC-A1BC-6716937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70A-2A13-4272-ACEF-50E66A5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48E-659B-472E-86E8-D21ACB85AF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729-DCBC-466C-BE88-E9A3A144B01E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 Ochoa</cp:lastModifiedBy>
  <dcterms:modified xsi:type="dcterms:W3CDTF">2007-11-13T11:09:56Z</dcterms:modified>
  <cp:revision>43</cp:revision>
  <dc:subject/>
  <dc:title>CC51A – Ingeniería de Software</dc:title>
</cp:coreProperties>
</file>