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6CD9-89B1-4084-8121-283F23B371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E364-5B6D-41CD-B9C6-0C7DC9E01927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B597-AB0B-4EB2-8F00-AB5F60812325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5781-0BD2-463E-BB08-846D7A56DECD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DBDF-7FA7-4E6B-8BB9-9F6FF3CCF884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78A3-C0B4-4499-8C90-7E319282E9EE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A11E-B3A3-4890-B496-FE6D78B6193D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11F5-9D3F-4F0E-A482-027F695C5FC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5B0D-C2D1-4A01-9570-BD1405600FC2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662D-78D6-42B5-9222-C63305888FEC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8398-0580-4607-87E9-17D68BEC058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1C1F-C41B-4492-B115-04CEEBCA86B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5390-4CD6-4866-834A-F23E662F4F05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1DD0-43C6-46C0-AC71-9B3133909D72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768-F212-48F3-AFFE-4C772FD3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143-ED87-457F-9D01-4772F6F6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1C4-9C97-40A8-AD66-D37100CB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332-0803-446D-B89E-1C388529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E7EE-189C-485A-A3B0-D0B87C52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DA57-930A-41AD-82BC-8D553FB6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30E8-DC3A-4103-9F83-B2B70240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780D-46AF-42C8-BA1A-8A7E3ED8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1DAF-0BAE-48B2-8B83-3EF68B59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4114-5D17-4B22-BE62-0EE1934C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70FA-C6B9-488A-AAF7-BCB65A08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64A-BF96-4CB5-9277-36B06092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17DD-2C77-4C14-8EAF-63C9C062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8FBD-4637-41F3-963E-022DC98D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9C7F-673A-4AE9-92F9-9D40B137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E0B5-CBA6-45D9-BD1B-BE39A019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316F-8591-4420-B9A9-3CD9AA33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B8A-0E02-4603-893F-68C4B2A1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6E2-FDC0-42A0-8F34-FE7CE926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941-0A0A-4AE9-BECC-10D7496E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6C5-624C-4F2B-B6EB-DDCD671C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60E-BCAA-416F-98ED-BE249D64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8E0-F458-4E02-99CB-F8BF0E87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024-5A16-4C64-A742-F69F0C3D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737F-F350-4ACA-B8C4-012980BB201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6EC1-2E8B-40BD-9493-60ABEB62FB63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Rol del Curso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ción con otros Cur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stulación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4240" y="1673280"/>
            <a:ext cx="812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proyectos tienen que beneficiar al DCC, a la Facultad/Univ., a los alumnos o a alguna entidad sin fines de luc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require un cliente con al 1 hora semanal de disponibi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clientes pueden ser cualquiera, menos los alumnos de la carrera que no hayan pasado por cc51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debe entregar al profesor una breve descripción del proyecto (1/2 o 1 págin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71432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r un buen estudiante no implica ser un buen ingenier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usted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que va a trabajar usted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Siente que está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 Ochoa</cp:lastModifiedBy>
  <dcterms:modified xsi:type="dcterms:W3CDTF">2007-11-13T11:09:56Z</dcterms:modified>
  <cp:revision>43</cp:revision>
  <dc:subject/>
  <dc:title>CC51A – Ingeniería de Software</dc:title>
</cp:coreProperties>
</file>