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A2A0B-5049-40F6-A0CF-DD8C191F0EC4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06EFC-1C03-4DC6-99E8-B58169701F4E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851D4-2FE5-438A-A77A-6A6B8EC95D1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951C-8588-4D87-9768-58683EAB35D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3D205-A8C2-487D-A459-60D016CBA538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54460-2D92-42B8-A2AB-2249D4DFDAE1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B06A0-8C33-4A26-B358-6D639B91E3A0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347B9-3518-4440-95ED-4E55388F12EF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5B434-D223-4809-BA72-60EDA9E830D3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A47D7-2F1F-4625-B954-22AD9D3A5106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EA7A4-615A-4992-A0A4-379C69419CC0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D1B73-5021-4143-9882-03D7BB13E732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53100-5D66-4E04-9275-9ED462C7AF87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936F-2D64-458E-AE2F-8C9924529431}" type="slidenum">
              <a:rPr b="0" lang="es-ES" sz="12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8E4F-3DBC-4A60-ACEE-3B3500917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4098-54FC-4A4B-8D04-20BDA83B9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5BE5-5498-4FD0-8746-8359D597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306-6D73-44AD-A22D-692F2E354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ED2C1-45FE-4AC9-B616-AE09A4032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540E-D765-4B60-8D45-59A8F9CD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CACF2-17DA-4776-B48C-B187E923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430F7-C471-41E1-A033-897EDB819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9C370-D67C-468D-9AC3-DF596CE1C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4EEA6-94F8-4706-8C07-1643FD1B9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FA75-A030-4DED-A1F1-C8052E347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22C4-16BB-48F2-A002-40937B1CA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0BED-AE35-4AC2-B0A5-2F03B40F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F5E8-0F19-46E9-AFE9-9C10BDC7D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CD156-E20D-4E2A-8D44-FB2F8B444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5E120-2CEF-4656-BDBF-239F1E222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FCF66-BE9B-4275-9054-7A96D1E31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2AA4-E111-4EF4-99EF-DBB33D97D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0311-9D00-4D57-B8AA-E4324F749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DC7D-C110-460E-8E0C-C7750D930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1CE6-2C54-43B0-8B60-678197F09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73F-453A-4CA0-9DB6-99155839E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A0F9D-2794-4AE1-8339-4533D19A7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F800-67A3-48F8-834D-72A47097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1920" y="1415880"/>
                <a:ext cx="192960" cy="19296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42DE0-58F4-4848-BF5A-349964427B97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1026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1027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1028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1029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1030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1031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1032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1033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34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035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036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037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038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039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040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041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042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043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1044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1045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1046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1047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1048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1049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1050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1051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1052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1053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1054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1055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1056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1057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1058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1059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1060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1061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1062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1063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1064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1065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1066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1067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1068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1069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1070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1071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1072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1073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1074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1075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1076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1077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1078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1079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1080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1081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1082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1083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1084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1085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1086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1087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1088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1089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1090"/>
              <p:cNvSpPr/>
              <p:nvPr/>
            </p:nvSpPr>
            <p:spPr>
              <a:xfrm rot="5400000">
                <a:off x="8090640" y="53125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94B79-2453-4D02-B662-B3A686995CED}" type="slidenum">
              <a:rPr b="0" lang="es-ES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C51A – Ingeniería de Softwa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990720" y="3309840"/>
            <a:ext cx="7035840" cy="9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3200" spc="-1" strike="noStrike">
                <a:solidFill>
                  <a:srgbClr val="40458c"/>
                </a:solidFill>
                <a:latin typeface="Tahoma"/>
              </a:rPr>
              <a:t>Discusión Final del Curso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0" y="4638600"/>
            <a:ext cx="853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40458c"/>
                </a:solidFill>
                <a:latin typeface="Tahoma"/>
              </a:rPr>
              <a:t>Sergio Ochoa D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8" name="Rectangle 6"/>
          <p:cNvSpPr/>
          <p:nvPr/>
        </p:nvSpPr>
        <p:spPr>
          <a:xfrm>
            <a:off x="0" y="395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0" y="422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El Rol del Curso…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ción con otros Curs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ostulación de Proyecto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714240" y="1673280"/>
            <a:ext cx="81266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proyectos tienen que beneficiar al DCC, a la Facultad/Univ., a los alumnos o a alguna entidad sin fines de lucro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require un cliente con al 1 hora semanal de disponibilidad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os clientes pueden ser cualquiera, menos los alumnos de la carrera que no hayan pasado por cc51a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225"/>
              </a:spcBef>
              <a:spcAft>
                <a:spcPts val="1576"/>
              </a:spcAft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 debe entregar al profesor una breve descripción del proyecto (1/2 o 1 página)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Conclusiones..</a:t>
            </a: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714320"/>
            <a:ext cx="77724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En esta disciplina no se puede descansar... Lamentablemente!!!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 una Universidad con respecto a los Profesional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Rol del curso con respecto a ustedes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spcBef>
                <a:spcPts val="1800"/>
              </a:spcBef>
              <a:spcAft>
                <a:spcPts val="1800"/>
              </a:spcAft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40458c"/>
                </a:solidFill>
                <a:latin typeface="Tahoma"/>
              </a:rPr>
              <a:t>Ser un buen estudiante no implica ser un buen ingeniero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usted que puede trabajar un Ingeniero en Computación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n qué cree que va a trabajar usted durante los próximos 5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en los próximos 30 año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mercado laboral chilen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cree que es el ambiente laboral en una típica empresa chilen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510120" indent="-51012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cree que son los principales problemas que aquejan a las empresas de desarrollo de software en Chil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es el principal patrimonio de una empresa de desarrollo de software en Chile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l o cuáles deberían s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Siente que está preparado para montar una empresa en este moment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0560" indent="-52056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Cuándo es un buen momento para hacerlo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formar una empresa desarrolladora de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recursos prevé para comenzar a trabajar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Cuando usted va a contratar el desarrollo de un software: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 la empresa desarrolladora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40458c"/>
                </a:solidFill>
                <a:latin typeface="Tahoma"/>
              </a:rPr>
              <a:t>¿Qué le va a exigir al software?  ¿por qué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777960" y="1600200"/>
            <a:ext cx="81770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es ”éxito” en un desarrollo de softwar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pel juega la gestión de proyectos, dentro de una empresa desarrollado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la parte técnica? ¿cuál es más importa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estimar tiempo y costos de desarroll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uál es la fase más importante para los desarrolladores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y para el client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755640" y="162864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posible mantenerse actualizad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Es necesario planificar mi empresa a largo plazo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Qué pasa con el organigrama de mi empresa? ¿Cuándo se define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on qué estructur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660066"/>
                </a:solidFill>
                <a:latin typeface="Tahoma"/>
              </a:rPr>
              <a:t>Preguntas General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1880" indent="-4618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Cómo será el personal de mi empresa? ¿especialistas o hombres-orquesta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¿Mi empresa debe hacer todo, o puedo tercerizar?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461880" indent="-4618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40458c"/>
                </a:solidFill>
                <a:latin typeface="Tahoma"/>
              </a:rPr>
              <a:t>Marketing y Diseño Gráfico..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9T15:53:33Z</dcterms:created>
  <dc:creator>Mercedario</dc:creator>
  <dc:description/>
  <dc:language>en-US</dc:language>
  <cp:lastModifiedBy>Sergio F Ochoa</cp:lastModifiedBy>
  <dcterms:modified xsi:type="dcterms:W3CDTF">2007-11-13T11:09:56Z</dcterms:modified>
  <cp:revision>43</cp:revision>
  <dc:subject/>
  <dc:title>CC51A – Ingeniería de Software</dc:title>
</cp:coreProperties>
</file>