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DD90-9C5B-4F8E-B475-451CA4CF8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A32B-1785-4355-89F1-A4F68B4B043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987F-E5B2-4935-9D35-C977A233682F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6E7F-CBB2-4B72-BABA-4BA8379DA14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A42D-5469-4E3D-8010-45F486263F6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C743-8148-40E9-8482-42157098DCF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19BC-F693-41AE-BEE6-E954C2542C26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5B4A-EE01-43EC-B316-CFF6374B24DA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8878-9BCA-45D2-BB1F-F442EAB44380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1AF0-275D-41B0-A91B-D7BBBFF1741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E5FB-1FD9-4EE8-A6CD-E646B191CEB0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2CEA-D71E-468D-A38C-DED311B9607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DA5F-59E8-4C8A-A996-CB0E6128E4A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0613-B00C-46DE-896A-E06984996B96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6B18-094A-40B7-8ADD-4A4F6C3A9A9F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3760-4E0E-416A-A083-66B7B976997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BDC6-46CE-424F-9959-16A1AEAD17E6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F7C0-0552-4DDE-8EA9-8213386BD20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B2D2-58B7-4C70-A4B3-ECC3747B6D3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376B-138E-4D72-A82A-E987588478D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C135-4C8E-4489-B595-242C88335B9A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A0C7-093B-4637-8189-EE869E9E6FF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E9BA-3590-4E8D-9198-C763D0D1A60A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DA7E-8C98-4E6B-98FD-770D8DD3F24D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F837-05A6-46F7-86CD-35D2ADB6937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7966-4F74-46CC-858F-ECE8B4DC79DC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046F-E465-4B88-B74A-62C5FE9E796C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C7EA-A140-4D3B-AB4C-10A9D4E340B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FF1E-2054-40F7-8BF3-FA36EA58122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54ED-48A1-4F4A-B4B9-1C21CD885FAA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0ADA-16A2-4436-A4C5-A3053FEFDA1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D557-E3F4-4628-B645-E57D41C51D6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71CB-8C81-4216-A1B7-AA40FF36361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9599-C5B4-4B51-8AA6-7F373AA3412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C87E-48E3-4F78-A578-7047045F157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1809-64E8-4773-BFE0-852F1C0A6A8C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BDD3-286F-44CF-ADB3-9A5BEEC52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5432-827E-49BF-909F-A15363AB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65E2-1DE8-45EE-AA87-E6E1F315A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4031-03B1-46A0-BD2E-DEF52AC1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038F-DA7A-4251-AAF8-DDEAE74D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89EB-98A2-46B8-8F68-3DB5DAEC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437A-F101-4EF8-B051-4487FA11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7169-769A-4884-9612-F59F7019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9174-0329-4202-BA86-164CD529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C8F6-67FA-40A3-BD07-B4896405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A352-A455-48D3-B19A-F9607091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5B5E-66F0-485A-BCD6-8718A202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9291-1196-4001-A468-E0213E56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26F0-AEFF-48F1-878C-F7FFCE9C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5579-C250-4A16-9DB3-7A35EA42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AA10-CEEE-4899-A176-179A84CA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B668-3F9E-45ED-9A14-D5B86DAA5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1FA2-AA83-4960-8CBE-6913CA70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D4B9-DD44-420F-ABA0-3DE908CD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0DED-5BF9-4142-A230-27262A27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AFBB-8386-4DA2-A213-CAABBB95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B5BA-C18B-471B-AAEF-6E598BB8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9A66-4AF5-47F7-B361-C6127C5E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18DA-3C44-43B6-8F51-4C246F3E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B148-7DC9-4046-AE96-9BE519F7B5F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102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1028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1029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1030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1031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1032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1033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34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35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036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037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038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039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040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041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042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043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044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045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046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047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048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049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50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051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052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053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054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1055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1056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057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058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059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060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061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062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063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064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065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066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067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068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069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070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071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072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073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074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075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076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077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078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079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080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1081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1082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1083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1084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1085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108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1087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1088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1089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1090"/>
              <p:cNvSpPr/>
              <p:nvPr/>
            </p:nvSpPr>
            <p:spPr>
              <a:xfrm rot="5400000">
                <a:off x="8090640" y="53125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B10B-03D0-4898-A56B-480371B60A28}" type="slidenum">
              <a:rPr b="0" lang="es-E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SQA (Software Quality Assurance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0" y="4638600"/>
            <a:ext cx="85345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Parte de este material ha sido cedido por el Prof. Jaime Navón, PhD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(www.ing.puc.cl/~jnavon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Revisiones Técnicas Form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645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Participan entre 3 y 5 personas, y requiere reparación previ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645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Foco en un segmento específico pequeño (1 módulo o documento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645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Participan los revisores (uno actúa de jefe) y el autor, y el moderado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0458c"/>
                </a:solidFill>
                <a:latin typeface="Arial"/>
              </a:rPr>
              <a:t>Precondiciones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Especificación precisa (formal o informal) sobre que es lo que ese código se supone que debe hace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Miembros del grupo deben conocer estándares de codifica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No debe usarse para evaluación del personal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Dispuesto a aceptar costos extra (ahorro es en largo plazo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lgunas Directrice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Revisar el producto y no al produc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ndicar los errores con tin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Hablar en tono constructiv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idea no es avergonzar al produc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Mantenerse estrictamente dentro de la agen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No irse por las ram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moderador es el respons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imitar el debate. Algunos asuntos pueden dejarse para discusión posteri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nunciar problemas pero no resolverl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problema debería ser resuelto por el au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No es una sesión de resolución de problem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lgunas Directrices...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05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omar notas y/o grabar la revis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imitar número de participantes e insistir en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reparación previ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Dos cabezas piensan más que una, pero 14 no necesariamente más que 4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El moderador puede solicitar comentarios por escrito antes de la reunión para asegurar que la preparación de los miembros es la adecuad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sarrollar previamente “checklists” por cada producto a revisar (para mantener el foco de la revisión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signar recursos y tiempos para estas reun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No olvidar que es parte del proceso!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Proporcionar entrenamiento para los revisore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Es posible incluso revisar (auditar) las revisione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lgunas Directrices...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05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gente de SQA (en nuestro caso, “el tester”) debe registrar por escrito todos los errores/falencias encontr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gente de SQA (en nuestro caso, “el tester”) debe hacer un seguimiento de ellas y reportar su estado al administrador de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nspeccionar los productos usando como base los requisitos definidos siempre es una buena ide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ara ellos se debe conocer cuáles son los requisitos involucrados en el producto que se está revis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Ventaja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nsidera más efectivo que las pruebas para encontrar bugs (encuentra la causa del error en lugar del síntoma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os programadores escriben sus programas sabiendo que otros los revisarán =&gt; fácil de entender, leer, y manten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os programadores aprenden de las revisiones, cómo hacer los programas más fáciles de entend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anula el efecto de “puntos ciegos” (programador es incapaz de ver ciertos errore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s posible imponer estándares de codificación con faci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xplicar el código hace que el programador lo entienda cada vez mejor (los profesores saben est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duce dramáticamente tiempo de prueb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Desventaja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6686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Problemas de personal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uede haber personas con buenas ideas no se expresa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uede haber personas con malas ideas se expresan much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lgunas personas odian discutir o estar en desacuer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Hay personas que odian revisar el trabajo de otr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s fácil perderse en cosas triviales (punto, coma, etc.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s agotador (pierde efectividad después de un par de horas o meno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 en la Práctic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626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Bell Northern Research (subsidiaria de Northern Telecom, Compañía de Telecomunicaciones de Canadá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obre 10 MLOC de un software que controla un switch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inspeccionaron 2.5 MLOC a lo largo de 2 añ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encontraron alrededor de 0.8 a 1.0 errores por hora-homb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encontraron alrededor de 37 errores por cada 1000 LOC (estudios dan 50 a 75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2.5 MLOC =&gt; 2500 x 37 = 92500 error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nsidera que un error detectado en etapa de testing puede tomar hasta 33 horas-hombre para diagnosticar y repar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horro de tiempo es enorme !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 en la Práctic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Bell Northern Research (subsidiaria de Northern Telecom, Compañía de Telecomunicaciones de Canadá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n la actualidad se está intentado incorporar la Web para hacer las revision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publica el códig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os revisores pueden estar distribuidos geográficam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pueden realizar revisiones asíncronas o síncronas dependiendo de las herramientas disponi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Estadístico de la Ca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8154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a básica es gastar el tiempo en las cosas que son realmente importantes.  Debemos asegurarnos de determinar, qué es lo realmente importante?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número de causas de la gran mayoría de los errores es relativamente limit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información sobre defectos es recogida y categoriz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intenta asociar cada defecto a la causa de origen (especificación, diseño, violación de estándar, etc.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Basándose en el principio de Pareto (20% de las causas producen el 80% de los errores) se aísla el 20% vit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Una vez que las principales causas se identifican, se corrigen los problemas que causaron los def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s de Categorí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ES: especificación errónea o incomple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CC: mal interpretación de comunicación con clien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S: desviación intencional de la especific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VPS: violación de estándar de program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DR: error de representación de da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MI: interfaz de módulo inconsisten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DL: error en diseño lógic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ET: testeo erróneo o incomple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ID: documentación errónea o incomple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LT: error en lengua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HCI: interfaz ambigua o incomple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IS: miscelane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716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ntroducción a SQ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l SQA Grou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evisiones Técnicas Forma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Algunas Directrices 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Ventajas y Desventaja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Datos de la Realidad 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Datos Reales .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8" name="Picture 4" descr="tabla"/>
          <p:cNvPicPr/>
          <p:nvPr/>
        </p:nvPicPr>
        <p:blipFill>
          <a:blip r:embed="rId1"/>
          <a:stretch/>
        </p:blipFill>
        <p:spPr>
          <a:xfrm>
            <a:off x="762120" y="1752480"/>
            <a:ext cx="807696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Datos Reale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n este ejemplo, IES + MCC + EDR producen más de la mitad de los errores (53%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i consideramos sólo los errores serios, debería mirarse con atención IES, EDR, EDL, PLT [70%]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as acciones a tomar dependen del tipo de err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omprar herramientas case orientadas al anális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ejorar la calidad de las revis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ontratar expertos en modelación de da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A843-FCE5-4CBB-A841-541DF939540E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2068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5572080" y="2643120"/>
            <a:ext cx="2222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07C2-F0A0-4BB4-872E-F1ADCB5AF8F1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Arial"/>
              </a:rPr>
              <a:t>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85520" y="1499760"/>
            <a:ext cx="80708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s la </a:t>
            </a:r>
            <a:r>
              <a:rPr b="0" lang="es-ES" sz="3200" spc="-1" strike="noStrike">
                <a:solidFill>
                  <a:srgbClr val="660066"/>
                </a:solidFill>
                <a:latin typeface="Arial"/>
              </a:rPr>
              <a:t>medida de un concepto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 (generalmente) </a:t>
            </a:r>
            <a:r>
              <a:rPr b="0" lang="es-ES" sz="3200" spc="-1" strike="noStrike">
                <a:solidFill>
                  <a:srgbClr val="660066"/>
                </a:solidFill>
                <a:latin typeface="Arial"/>
              </a:rPr>
              <a:t>abstrac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Debe medirse de form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istemática (reproducibl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pertinen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Se requiere una </a:t>
            </a:r>
            <a:r>
              <a:rPr b="0" lang="es-ES" sz="3200" spc="-1" strike="noStrike">
                <a:solidFill>
                  <a:srgbClr val="660066"/>
                </a:solidFill>
                <a:latin typeface="Arial"/>
              </a:rPr>
              <a:t>escala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 de medida </a:t>
            </a:r>
            <a:r>
              <a:rPr b="0" lang="es-ES" sz="3200" spc="-1" strike="noStrike">
                <a:solidFill>
                  <a:srgbClr val="660066"/>
                </a:solidFill>
                <a:latin typeface="Arial"/>
              </a:rPr>
              <a:t>para ese concep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3"/>
          <a:stretch/>
        </p:blipFill>
        <p:spPr>
          <a:xfrm>
            <a:off x="7026120" y="-19080"/>
            <a:ext cx="2117880" cy="21607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"/>
          <p:cNvPicPr/>
          <p:nvPr/>
        </p:nvPicPr>
        <p:blipFill>
          <a:blip r:embed="rId4"/>
          <a:stretch/>
        </p:blipFill>
        <p:spPr>
          <a:xfrm>
            <a:off x="6948360" y="3500280"/>
            <a:ext cx="21956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AAEB-B7C7-4252-B8B9-6B96EB536006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63342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Arial"/>
              </a:rPr>
              <a:t>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56800" y="1549080"/>
            <a:ext cx="789156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Las métricas constituyen mi información histórica registr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Hay que </a:t>
            </a: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definirlas tempranamente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(sólo las que sean útile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Usarlas para medir/evalua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umplimiento de requisitos, etapas, hitos,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mpacto del proyec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Cuidado con el exceso de contro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Luego hay que confiar en ell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6"/>
          <a:stretch/>
        </p:blipFill>
        <p:spPr>
          <a:xfrm>
            <a:off x="6732720" y="0"/>
            <a:ext cx="248436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5B2D-0D6C-4606-BA28-9E8151AE7EED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14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Arial"/>
              </a:rPr>
              <a:t>Ejemplos de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42960" y="1571400"/>
            <a:ext cx="850104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ntidad y tipo de </a:t>
            </a: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requisitos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por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ntidad y tipo de </a:t>
            </a: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errores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por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osto de corrección de errores, usando varios crite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Horas/Hombre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totales, y por fas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ntidad de </a:t>
            </a: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líneas de código (o páginas Web)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por proyecto, y por requisito func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Uso de </a:t>
            </a: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recursos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(especialmente gent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Uso de </a:t>
            </a: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componentes estándares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Duración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8E90-62A1-4E98-A7FA-2FFA1E58418F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Ejemplos de Métricas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247680" y="1187280"/>
            <a:ext cx="8640720" cy="54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7F15-2C8B-4F07-B7B5-CAD1A4E825B9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32000" y="11592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Administración del Riesg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1285920" y="1816200"/>
            <a:ext cx="645300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AEA2-6CD3-4545-8438-56D90674BB18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5756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Adm. del Riesg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14240" y="1571400"/>
            <a:ext cx="82504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Riesgo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es una situación que, en caso de darse, </a:t>
            </a: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se transforma en un problema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para el proyecto… Por lo tanto, es necesari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Identificar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posibles </a:t>
            </a: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riesgo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terminar </a:t>
            </a: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causa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nivel de manejo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 los riesg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stablecer la </a:t>
            </a: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probabilidad de ocurrencia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terminar el </a:t>
            </a: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costo del riesgo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impacto), si es que se convierte en realidad (por lo tanto pasa a ser un problema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edidas de </a:t>
            </a: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precau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y de </a:t>
            </a: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contingencia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CDD7-DCD0-47CA-88F8-24B38DEE1E59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32000" y="11592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Administración del Riesg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tretch/>
        </p:blipFill>
        <p:spPr>
          <a:xfrm>
            <a:off x="3784680" y="1363680"/>
            <a:ext cx="4286160" cy="28573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5"/>
          <p:cNvSpPr/>
          <p:nvPr/>
        </p:nvSpPr>
        <p:spPr>
          <a:xfrm>
            <a:off x="714240" y="4508640"/>
            <a:ext cx="7786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gran mayoría de los </a:t>
            </a:r>
            <a:r>
              <a:rPr b="0" lang="es-ES" sz="2800" spc="-1" strike="noStrike">
                <a:solidFill>
                  <a:srgbClr val="660066"/>
                </a:solidFill>
                <a:latin typeface="Tahoma"/>
              </a:rPr>
              <a:t>proyectos involucran riesgos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que podrían hacerlo fracasa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in embargo, </a:t>
            </a:r>
            <a:r>
              <a:rPr b="0" lang="es-ES" sz="2800" spc="-1" strike="noStrike">
                <a:solidFill>
                  <a:srgbClr val="660066"/>
                </a:solidFill>
                <a:latin typeface="Tahoma"/>
              </a:rPr>
              <a:t>si los administramos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, nuestra </a:t>
            </a:r>
            <a:r>
              <a:rPr b="0" lang="es-ES" sz="2800" spc="-1" strike="noStrike">
                <a:solidFill>
                  <a:srgbClr val="660066"/>
                </a:solidFill>
                <a:latin typeface="Tahoma"/>
              </a:rPr>
              <a:t>probabilidad de éxito aumentará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nsiderablem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0" name="Picture 6" descr=""/>
          <p:cNvPicPr/>
          <p:nvPr/>
        </p:nvPicPr>
        <p:blipFill>
          <a:blip r:embed="rId2"/>
          <a:stretch/>
        </p:blipFill>
        <p:spPr>
          <a:xfrm>
            <a:off x="1104840" y="1341360"/>
            <a:ext cx="21258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l Grupo SQ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irve como el representante del cliente (mira el producto desde el punto de vista del cliente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siste al grupo de desarrollo para lograr un producto final de “buena calidad” (que cumple con una lista de requisitos más exigente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rata de responder preguntas del tip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Se satisfacen los criterios de calidad especificados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Se ha desarrollado en base a los estándares establecidos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oordina el manejo de los cambios (control de configuración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ntifica riesgos en forma tempra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preocupa de la estandarización de procesos y produ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Arial"/>
              </a:rPr>
              <a:t>Identificación de Riesg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353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Riesgo es una situación que en caso de darse, se transforma en un problema para el proyecto… Por lo tanto, es necesari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dentificar posibles riesg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usas y nivel de manejo de los riesg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Probabilidad de ocurrenci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osto del riesgo (impacto), si es que se convierte en realidad (por lo tanto pasa a ser un problema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Medidas de precau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47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Arial"/>
              </a:rPr>
              <a:t>Identificación de Riesg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532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Cada medida de precaución debe incluir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os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mpacto sobre 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Tomar decisión respecto de cada riesgo desde el punto de vista del negoci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No todos los riesgos necesitan ser administrad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Arial"/>
              </a:rPr>
              <a:t>Ejemplos de Riesg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Requisitos cambian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Problema pobremente definid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Rotación de person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mbios extern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Fallas en la plataforma de desarroll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sconocimiento de la tecnología a utiliz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sconocimiento del proceso de desarrollo a utiliz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Pérdidas de inform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Atraso en la ejecución del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Alta dependencia de algún persona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ómo Documentar los Riesgos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8" name="Picture 2101" descr=""/>
          <p:cNvPicPr/>
          <p:nvPr/>
        </p:nvPicPr>
        <p:blipFill>
          <a:blip r:embed="rId1"/>
          <a:stretch/>
        </p:blipFill>
        <p:spPr>
          <a:xfrm>
            <a:off x="268200" y="2517840"/>
            <a:ext cx="86248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0066"/>
                </a:solidFill>
                <a:latin typeface="Tahoma"/>
              </a:rPr>
              <a:t>Conclusione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s actividades de SQA son necesaria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 mayoría de los equipos de trabajo no las incorporan debido al aumento de los costos y tiempos de desarroll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.... al final terminan gastando más y tardando más por no haber incorporado actividades de SQ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n el futuro inmediato, debido a la globalización, las empresas que no consideren al SQA como “necesario”, perecerán en manos de aquellos que sí lo hagan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SzPct val="13927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l costo del software ha bajado tanto que ahora los clientes buscan calidad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2880" indent="-542880">
              <a:spcBef>
                <a:spcPts val="649"/>
              </a:spcBef>
              <a:spcAft>
                <a:spcPts val="1301"/>
              </a:spcAft>
              <a:buSzPct val="1131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No pierda de vista los requisit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spcBef>
                <a:spcPts val="649"/>
              </a:spcBef>
              <a:spcAft>
                <a:spcPts val="1301"/>
              </a:spcAft>
              <a:buSzPct val="1131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Todos los productos intermedios de un desarrollo de software ESTAN relacionados, y existe entre ellos una correlación que DEBE verificar la gente de SQA (en nuestro caso, “el tester”)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spcBef>
                <a:spcPts val="649"/>
              </a:spcBef>
              <a:spcAft>
                <a:spcPts val="1301"/>
              </a:spcAft>
              <a:buSzPct val="1131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 gente de SQA debe ser proactiva, pero cuidadosa en el trato personal con el resto del equipo de trabaj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spcBef>
                <a:spcPts val="649"/>
              </a:spcBef>
              <a:spcAft>
                <a:spcPts val="1301"/>
              </a:spcAft>
              <a:buSzPct val="1131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 gente de SQA son los mejores aliados que un Administrador de proyectos puede tener….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SQA (Aseguramiento de la Calidad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Calidad de Software: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umplimiento de los requisitos explícitos: funcionales, de calidad y de restric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Observacion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os requisitos son la base sobre la cual se juzga la calidad de un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i no se siguen los criterios de desarrollo definidos por los estándares usados, muy probablemente no se conseguirán buenos produ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Hay además requisitos implícitos que a menudo no se mencionan (por ejemplo, fácil de mantener) que también es deseable respet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ctividades del SQA Grou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0920" y="1523880"/>
            <a:ext cx="8227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reparar el plan de SQA (evaluaciones, auditorías, estándares, procedimientos de reporte de errores, templates de documentos, casos de prueba, estandarización de procedimientos, etc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plan se prepara durante la etapa de planeación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plan es revisado por todas las partes interes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plan es la base de todas las actividades de SQ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articipar en el diseño del desarrollo del proceso específico a ser usado en el proyecto (puede chequear cumplimiento de estándares externos como ISO 9001, etc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visar que las actividades se lleven a cabo de acuerdo al proceso descrito (identifica, documenta y monitorea las desviacione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ctividades del SQA Grou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articipar en el diseño del desarrollo del proceso específico a ser usado en el proyecto (puede chequear cumplimiento de estándares externos como ISO 9001, etc.)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uditar ciertos productos del proc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segurar que las desviaciones en los productos sean manejadas y documentadas de acuerdo a un procedimien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gistrar cualquier ítem insatisfactorio y reportar a la administración superi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gente de SQA (en nuestro caso, “el tester”) son los mejores aliados del Adm. de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ctividades del SQA Grou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Definición de los casos de prueb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n base a los requisitos de usuario, el SQA group debe generar los casos de prueba, para las pruebas a nivel de usuario (pruebas de usuari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n base a los requisitos de software, el SQA group debe generar el resto de los casos de prueba: prueba de módulos, de integración y de sistema (al men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Ejecución de los casos de prueb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urante el período de pruebas, el SQA Group debe coordinar las pruebas y revisar el cumplimiento de los requisitos defini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portar anomalías detectadas durante las prueb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Revisiones Técnicas Form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as revisiones constituyen una de las ac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mas importantes de SQ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Propósit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scubrir errores (función, lógica o implementación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Verificar que el software satisface los requisi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segurar que se cumplen los estándares predefini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ograr software desarrollado en forma uniform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Hacer más manejable los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eliminan errores en forma relativamente temprana (barato y fácil de corregir)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Revisiones Técnicas Form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9898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Puede hacerse c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ocumentos de diseñ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ódigo fuente (listo para ser compilad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lanifica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da revisión se conduce en forma de una reunión cuidadosamente planeada y control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Hay muchos tipos de revisiones... Algunos de ellos los vimos en la clase de “Revisiones de Software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2T15:05:57Z</dcterms:created>
  <dc:creator>Mercedario</dc:creator>
  <dc:description/>
  <dc:language>en-US</dc:language>
  <cp:lastModifiedBy>Sergio F Ochoa</cp:lastModifiedBy>
  <dcterms:modified xsi:type="dcterms:W3CDTF">2007-11-06T11:17:52Z</dcterms:modified>
  <cp:revision>52</cp:revision>
  <dc:subject/>
  <dc:title>CC51A – Ingeniería de Software</dc:title>
</cp:coreProperties>
</file>