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B96-C82A-4C27-B97A-56437D1A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2F9-4309-4985-A6CE-7E35F9876B9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851-3B56-4A3D-A4B5-F51235F2E62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102-533A-4E8C-8308-715F1838E5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14A5-369F-473F-8A37-8B82232792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CB8-4BE3-4166-8943-6139628800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27DD-86E7-4A9A-BF49-A3AD7A2B164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5CA-0C25-4B62-A005-4A52387E90D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EC1D-3457-4B0A-A792-4B8D70AE036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075-33B1-4710-A0D4-1EBD8B52E61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145-1A4D-4A76-8E7B-AD8837B5145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6D5-DEDF-4952-9447-21C380D12CA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874-85EB-462F-A5DE-BEBA81A1534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849-737A-4D76-A50B-2FBD8699D01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D9F-1010-40D4-807E-D261A57E401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761-3BEA-4E56-AB23-52A1C256DCB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EE18-7563-49CC-A5EB-03AB047D6D3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F29-696B-47DB-BBDE-12CB5F0F880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37C-F82A-4EDD-AB18-09CB30A59AD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CDD-4297-41C2-A34E-DD2B773907F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658-BFBA-4487-B09E-3586486115F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BCC1-FD12-49FB-87F4-FD8638C312A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91D-EA66-49B7-A2D9-3E114DCE2D6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76E-87B4-4AC4-A909-766AB860E6F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E03-1687-4A31-B112-757166EB15F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80D-37F5-4DB3-B225-B99387F2F96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2EEA-67CE-45BC-AAB5-F19768DA390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785-F93E-488D-B9C1-B65E8C9FE8A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C609-AD94-4928-9EFD-782D299FAE7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B06-C147-49E5-BFFA-C590F95A6C8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CB8-FE68-4C1E-B8F2-B4BDCC0F7A5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604-EE11-4368-A408-55403E6FC4B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DB4-1A7F-41CD-8195-55D9404FBE0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4FD-DBA2-4423-9FEF-3E5BD222927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777-733F-4C2C-94E2-6FE067D328F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8F2-EA66-4C0B-BE4B-42CE6273C3B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898-79F8-4061-B14E-B038E9A7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9C1-1CD0-415B-A722-838345F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0BF-8C2F-4A44-AF33-E2B34ABF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F7B-070D-4ECA-BEC6-E78BE0C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3DD-197D-4320-BEE6-1BBD2260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4113-448D-4873-A2DE-1BAFD88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6B9-8CF1-4DAB-B2B6-86BC466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93CC-825C-4903-882A-5BAF139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4889-D101-40A9-87C5-E523D5E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73B6-40EC-4760-A6DB-0F09589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4425-4E95-4DA5-B883-FC69EB3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2E6-F9C5-469B-A32E-A344C5F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8DC5-0758-421D-A948-C619E2F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CF38-8A38-4BA6-9BF5-73EB48F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3A5-5D9E-4A2B-B89C-B207459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0AB-9554-40C5-90A8-32FDA04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ED9-2889-4202-81B7-4AD57038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0ED-47E8-4093-BD6F-9F07C1E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800-90EF-4E61-B710-B0A742B0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356-8D20-402E-8005-CEEB8308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FE-58F8-4EC9-A3F0-18DBA17C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233-590E-42E2-BEEC-C8B6F91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404-FE16-4765-8C88-4B78837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AD7-72FB-44E3-9190-3F3238B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D2C-0D56-47CA-96DF-335D4C14D1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B84C-B518-462D-ADCF-CEB6FF23A5CC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8" name="Picture 4" descr="tabla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A00A-0525-4AAF-9171-D7056E6CD66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2068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572080" y="2643120"/>
            <a:ext cx="2222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E9F-759E-45E7-8E4B-F64B4AD4BA4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8070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 l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medida de un concepto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(generalmente)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abstra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Debe medirse de for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Se requiere un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escala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de medid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7026120" y="-19080"/>
            <a:ext cx="211788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6948360" y="350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C0E-F90C-4DD4-88AE-DACEE51E4B7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334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6800" y="1549080"/>
            <a:ext cx="78915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as métricas 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efinirlas tempranament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/evalu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6"/>
          <a:stretch/>
        </p:blipFill>
        <p:spPr>
          <a:xfrm>
            <a:off x="6732720" y="0"/>
            <a:ext cx="2484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992D-9E41-4EA5-83BD-C5F9A1480D6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4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85010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quisit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erro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Horas/Homb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íneas de código (o páginas Web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curs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ur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42E-7C06-41B8-9398-6068CF02B97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47680" y="1187280"/>
            <a:ext cx="864072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40B6-5216-41C6-A0FB-990DC01ABEE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285920" y="1816200"/>
            <a:ext cx="6453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32B0-F51B-42EE-A9D3-52FE2E6B2C1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8250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osible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ing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8642-8AED-4615-90A1-75D9E21815C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378468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1424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ran mayoría de los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yectos involucran riesg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que podrían hacerlo fracas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in embargo,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si los administram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, nuestra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babilidad de éxito aumentará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iderable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2"/>
          <a:stretch/>
        </p:blipFill>
        <p:spPr>
          <a:xfrm>
            <a:off x="110484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Picture 2101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 Ochoa</cp:lastModifiedBy>
  <dcterms:modified xsi:type="dcterms:W3CDTF">2007-11-06T11:17:52Z</dcterms:modified>
  <cp:revision>52</cp:revision>
  <dc:subject/>
  <dc:title>CC51A – Ingeniería de Software</dc:title>
</cp:coreProperties>
</file>