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8A0E-ACDA-4B9B-B648-3273E8BE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A21-5E6D-487A-85AD-C9024660546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63F-600B-47BA-B412-4D9B8F8CF6B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B0EB-5E95-458A-919C-59A6218647F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520-DA4D-4B2B-B178-3903693D093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4A3-C059-4665-82D3-5AACA7F460F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8F5-5959-472D-AFF1-DB4BC945AA4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8D0C-293C-4CC6-946B-5D1F4B863E8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790C-6930-49F7-8889-8D71E959A4A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7E4-28F2-4A48-92CA-A5721A0927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0470-412D-4087-8497-22AD32FF096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2F9E-BA5D-4604-AC82-294C5B9B08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AEA7-D2D8-4F53-9C66-B0F1CF9B0B9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086-8BAD-49A6-B8D2-09AB1E1CE26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260F-A278-41EC-8B84-9C83C4B0C6B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88C0-0099-4972-A3B1-171843CF245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4B5-2E8E-41B3-88C1-FED952365D0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B48-166E-412C-88DF-E893ED3B82B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BE84-981C-4598-88F9-4757024C2CF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5429-29CF-4CC6-8E5C-B2774095447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1EB3-C641-4229-ACAA-8836C9E7683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4A2-7FF2-4045-866E-F08C5817785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6D1E-8D68-406F-A3D2-2972FB3DD40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21D-2CC9-429C-B4F4-D1ACFAB5441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B509-D13F-4521-BC7E-1578A0599AC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D67-2028-4F6C-9ECE-62563BEFE3B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8EC-62CF-46A3-B6DF-B7EE2F3A09C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DAE1-6CD6-4600-A4EC-32A664D97D4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0E0C-FBD1-4D4E-A649-E87A6305DB5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C4A-F05B-4919-986F-C1F90F71ECA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08A-D4D7-4C11-A04D-B46619601C1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1902-1D80-4F6C-84F9-0A26487AB7A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0ED-3654-4C60-BD71-E0DAF54E03D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27E4-6E90-4810-92D7-88A922CA4C5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BCD-A063-4B5D-9A61-820C09DAD09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FE2C-3EB1-441E-848D-ACF4BDDAED6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685-0002-423A-AF34-1573C7F8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D62-FA39-46EA-BA49-D959D0D7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202-B9D6-4D14-AA3F-AB67EF6F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669-47F7-455E-9711-8A502394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261-9F59-44E1-9DA1-C7E420B5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D95E-B029-4A74-B09B-52879C55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5178-AEE3-49A7-B0EF-56C13955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F639-74A6-4BFD-A131-00B2A85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C1ED-F540-4BB0-9E42-A37FF68D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C721-1C9B-4A3A-9120-5CDCED7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0F48-BB44-45E9-8A7D-1090F88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C56-7295-4677-906A-E31DBF34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D7F3-BFDD-4E98-AA64-CC5E0EF8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E23-328C-4673-B3A0-99E6E99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54E3-8DF6-4358-A587-0EECC2A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6072-2D2D-4830-A6F8-8287D3E4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0501-A9AC-4A78-BF5F-6327190A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3CC-DD8B-413A-82A1-A5B5BCE0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06C-2ED2-4058-B2AD-BD6E774C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D80-E434-4F79-AC5B-92C75F2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458-C343-40A0-B6C7-2368039A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DD8-6A6C-4F49-A258-238CF0A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674-04DF-4932-B0D3-660267E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F4C-B8A2-40FC-A1AF-234F622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AC7C-E448-4855-BE11-6AD7E456EF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559-B4A6-4EEF-99C9-65D138E85B24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8" name="Picture 4" descr="tabla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7AE0-0934-4A0D-A123-67C95B3822B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2068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572080" y="2643120"/>
            <a:ext cx="2222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D5D1-F6FA-4D5A-85B5-8378F1ECC92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85520" y="1499760"/>
            <a:ext cx="8070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 l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medida de un concepto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(generalmente)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abstra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Debe medirse de form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Se requiere un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escala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de medida 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7026120" y="-19080"/>
            <a:ext cx="2117880" cy="216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6948360" y="3500280"/>
            <a:ext cx="2195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A8F-8F73-466E-9138-5240DC1F9EE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334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6800" y="1549080"/>
            <a:ext cx="78915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as métricas 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efinirlas tempranament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/evalu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6"/>
          <a:stretch/>
        </p:blipFill>
        <p:spPr>
          <a:xfrm>
            <a:off x="6732720" y="0"/>
            <a:ext cx="2484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67D-3419-4235-9B55-8BC989D960A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4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85010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quisit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y tip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erro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Horas/Homb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ntidad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líneas de código (o páginas Web)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ecurso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o de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componentes estándare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Dur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573E-42C1-4F91-BA26-4C1E3257850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247680" y="1187280"/>
            <a:ext cx="864072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41FF-CEAC-4EA0-9E38-8A71F6FD1AA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285920" y="1816200"/>
            <a:ext cx="6453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518E-B64B-4844-BC72-BDBCC7ADD92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8250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660066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osibles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de </a:t>
            </a: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contingencia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823-A902-4B0A-B7EB-C72BA6746C8C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378468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71424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ran mayoría de los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yectos involucran riesg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que podrían hacerlo fracas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in embargo,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si los administramo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, nuestra </a:t>
            </a:r>
            <a:r>
              <a:rPr b="0" lang="es-ES" sz="2800" spc="-1" strike="noStrike">
                <a:solidFill>
                  <a:srgbClr val="660066"/>
                </a:solidFill>
                <a:latin typeface="Tahoma"/>
              </a:rPr>
              <a:t>probabilidad de éxito aumentará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iderable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2"/>
          <a:stretch/>
        </p:blipFill>
        <p:spPr>
          <a:xfrm>
            <a:off x="110484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Picture 2101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 Ochoa</cp:lastModifiedBy>
  <dcterms:modified xsi:type="dcterms:W3CDTF">2007-11-06T11:17:52Z</dcterms:modified>
  <cp:revision>52</cp:revision>
  <dc:subject/>
  <dc:title>CC51A – Ingeniería de Software</dc:title>
</cp:coreProperties>
</file>