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9827-108B-445F-B26B-D932F6BCD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E47-AF56-4549-B222-945F6766D42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19CF-376A-44E6-8AB0-90B8586FB9A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A8C1-78D1-4A29-8D7E-70DF9E51C16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39A5-5BE3-44E3-A095-7A1D872E47C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31FB-1396-4D53-831E-54F7772163D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BF84-0F77-4F40-8659-9A694B7B2AF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4B77-7054-4C6B-8CD1-6F06B163DC3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FE03-4580-480A-982A-38FE14D05D9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E145-6514-4681-995F-42C95C5CC11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383B-E8D6-441F-A76E-E15AE87ABF2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4EB6-34E3-4E80-8D62-A46C54F5579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CC37-71AE-4F71-9700-E54F601B39A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B93F-69C9-434C-9269-4AC37C63384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A189-267E-4D78-8C35-E2E15149A3F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3A11-A485-4A6D-9601-529BD138814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D630-509E-4ADE-89AB-53D33EF6778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1D9C-2597-4E88-A855-4881B17A1A1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11B8-D2FB-4778-82FA-CA2066FB071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07E0-BDE6-4351-8326-B02039503E5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2A5-5A4F-4F83-8B59-C68CC1EEF75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6E75-024A-42DF-834F-6EA1AF098D7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2480-66C9-431B-8969-5EA43C068A2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1471-7335-4DFE-9E66-58C28B2D43C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9361-F329-4693-9B6B-A8949CFACEE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CCAE-DF4A-4B6B-A1D4-5A1218D1AB8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3356-7C58-467E-BE51-E9828436D73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B769-18DB-42D6-B501-DBC4964550D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0273-D83E-48E7-AF4A-073E4F987D9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D4D6-18E6-48F5-AF38-EB23949A01D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3A20-2645-4BBD-BE0D-E6C11BC3DF5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FC2C-0925-4A06-B838-F381E64A9D2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E72-F305-471C-A0F8-4C6D43DABE3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4DE0-7A47-40E8-B321-06E6CFF8C84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44E-4E2C-48F2-B159-0FAE9CF711F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536-D39E-417D-BD48-0E7DA37FA6E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C8C-1E90-4092-8E3F-ACB22459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B0D-8B81-4377-B307-7782D205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D0B-EED4-4EED-95A5-A6E8C62D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0CD-B10E-4BDA-8AB8-6315A11B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BB31-1055-4FD3-AF39-F9533D13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7801-9D49-47CA-AB4A-08FED487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8B3F-8007-41AB-AA72-E12221C7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17EE-F3C3-4756-AD0C-F7E8BFC0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A683-D37E-4832-A4D6-7459DC8C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3277-D6BB-44EC-81A2-9A080D80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79E4-1621-482C-857C-2E009FE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050-217F-4098-AE2C-B050C4C2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AEAF-7F34-42EA-8266-8CBCB9B7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44E-6E28-40F6-8D56-D862278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01AC-FDD8-49DA-A00C-4DA8F672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56D9-F6C5-4FA9-BC48-B037BD86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6BF-CB4F-4799-9C27-9DC52C87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4B9-69CD-4F7E-B2AE-D5C6EE9A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7EC-98BA-4815-91A8-23DE4D4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A2B-E5F5-456C-B7D2-ACE6ACF8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395-9CB8-4E90-A692-F6A8BF5B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FB0-5B08-4F56-8E5E-9BBCE8E7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117-CE77-4E01-976E-F6BFBC6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848-4599-42FE-9EC4-87165E6E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DD3B-F5FA-497E-AB75-30CA87A543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241A-6758-4CD9-98BB-1B02C0782822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6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personas que odian revisar el trabajo de o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26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obre 10 MLOC de un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15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716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8" name="Picture 4" descr="tabla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acciones a tomar dependen del tipo de err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alidad de las revi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ntratar expertos en modelación de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A17D-AE56-4E50-B326-6FDFB8A2374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2068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572080" y="2643120"/>
            <a:ext cx="2222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A9B3-FE26-4E47-8138-C58E029292B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85520" y="1499760"/>
            <a:ext cx="8070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 l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medida de un concepto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(generalmente)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abstra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Debe medirse de form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stemática (reproducibl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ertin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Se requiere un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escala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de medid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7026120" y="-19080"/>
            <a:ext cx="2117880" cy="2160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4"/>
          <a:stretch/>
        </p:blipFill>
        <p:spPr>
          <a:xfrm>
            <a:off x="6948360" y="3500280"/>
            <a:ext cx="2195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8276-9166-42C4-86D6-8C71AA126D6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334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56800" y="1549080"/>
            <a:ext cx="789156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as métricas 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definirlas tempranament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/evalu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uego hay que confiar en el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6"/>
          <a:stretch/>
        </p:blipFill>
        <p:spPr>
          <a:xfrm>
            <a:off x="6732720" y="0"/>
            <a:ext cx="2484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8768-9334-46BD-81D4-A81D7F4311F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14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850104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y tip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equisito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y tip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erro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Horas/Homb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íneas de código (o páginas Web)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ecurso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Dur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0CBE-2750-49D9-A837-22AF12A46ED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247680" y="1187280"/>
            <a:ext cx="864072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2621-BFAD-4F1C-836A-B843EE81070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285920" y="1816200"/>
            <a:ext cx="6453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2D62-9E7F-4E0A-A86E-D0BA4667A08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5756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8250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iesg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es una situación que, en caso de darse,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se transforma en un problema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Identifica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osibles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aus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manej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los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tablecer la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el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sto del riesg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impacto), si es que se convierte en realidad (por lo tanto pasa a ser un proble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didas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ecau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ntingencia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5AC7-8BFF-434A-B530-17A10169FA3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3784680" y="13636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714240" y="4508640"/>
            <a:ext cx="77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ran mayoría de los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proyectos involucran riesgo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que podrían hacerlo fracas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in embargo,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si los administramo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, nuestra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probabilidad de éxito aumentará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iderable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2"/>
          <a:stretch/>
        </p:blipFill>
        <p:spPr>
          <a:xfrm>
            <a:off x="1104840" y="1341360"/>
            <a:ext cx="21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8" name="Picture 2101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Revisiones de Softwar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 Ochoa</cp:lastModifiedBy>
  <dcterms:modified xsi:type="dcterms:W3CDTF">2007-11-06T11:17:52Z</dcterms:modified>
  <cp:revision>52</cp:revision>
  <dc:subject/>
  <dc:title>CC51A – Ingeniería de Software</dc:title>
</cp:coreProperties>
</file>