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8D10-FB2F-416A-A194-9A93AEE19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26C6-D299-456D-9663-1222ACF6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4567-2682-48CD-9648-98326EBF1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5113-3F12-492D-B3C6-061658E6E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D034-54E1-4460-8FA8-17BF6FD32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E6AF-C86D-4820-863D-629C26F3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653C-D208-4CF4-991C-95C1037C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1182-15F1-49F1-9F96-A1508CBA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9AB8-DA4C-415E-8C57-9E6F5C4E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319D-EC53-4C17-961B-04F61A22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B697-07B4-439F-A409-684706C2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BF1C-A84D-4768-8F9C-55B2F1DE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0C23-C8A4-4DA4-93CC-340C64AB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F010-F212-42F1-AFA9-28F65C5B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0837-AE18-49F0-9AB6-7B10C91E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9377-3649-4F79-BB23-EBF62553D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37B7-CA48-4016-A2F0-92334EA05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E4D5-8B4B-4FFB-BFA9-DBA4A552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35E9-FFEF-4597-AF5D-FF8CF3EE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13B2-232E-4F1D-AF7A-34CB450C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92C8-0A61-4C8A-B444-B4BD3AE4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AB7E-82A2-4CF4-9D64-242EE916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5C6C-0BDF-4D98-83E5-44773C1A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E07C-4165-47A5-B518-B204F346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3BF5-82DE-4B42-8DE5-AB1644D7252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A2B7-9D01-424B-81D2-58879406EF4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Puesta a Punto y Entrega del Producto (Transferencia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Puesta en march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aralelo o reemplazo (ver tiempos, recursos, etapas e hitos)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(… de nuevo…) No debe salir mal, pues las consecuencias podrían ser catastrófic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Paralelo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Cómo hago convivir los sistemas legados con los nuevos sistemas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Cómo verifico la correspondencia de datos entre ambos escenarios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Cómo puedo garantizar que el código implementado (sólo) para el paralelo, está bueno y no me está metiendo errores en las BD legadas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Reemplazo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va a haber incendios… Cómo los pienso apagar? En cuánto tiempo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Qué pasa si el reemplazo no funciona?. Por ejemplo, la BD colapsa durante un peak, por falta de índice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l costo de volver atrás es </a:t>
            </a:r>
            <a:r>
              <a:rPr b="1" i="1" lang="es-ES" sz="2000" spc="-1" strike="noStrike">
                <a:solidFill>
                  <a:srgbClr val="40458c"/>
                </a:solidFill>
                <a:latin typeface="Tahoma"/>
              </a:rPr>
              <a:t>altísimo…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La etapa de transferencia no puede salir mal!!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Qué dice el estándar de la ESA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822960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Qué dice el estándar de la ESA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80000"/>
              </a:lnSpc>
              <a:spcBef>
                <a:spcPts val="700"/>
              </a:spcBef>
              <a:spcAft>
                <a:spcPts val="1225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uego de la etapa de codificación se deben entregar 2 documento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28720" indent="-28584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TD (Software Transfer Document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8720" indent="-28584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HD (Project History Document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3600" indent="-363600">
              <a:lnSpc>
                <a:spcPct val="80000"/>
              </a:lnSpc>
              <a:spcBef>
                <a:spcPts val="700"/>
              </a:spcBef>
              <a:spcAft>
                <a:spcPts val="1225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n el STD se debería describir todo el proceso de transferenci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63600" indent="-363600">
              <a:lnSpc>
                <a:spcPct val="80000"/>
              </a:lnSpc>
              <a:spcBef>
                <a:spcPts val="700"/>
              </a:spcBef>
              <a:spcAft>
                <a:spcPts val="1225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ara nuestros proyectos sólo consideraremos una versión simplificada del PHD (se presenta más adelant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63600" indent="-363600">
              <a:lnSpc>
                <a:spcPct val="80000"/>
              </a:lnSpc>
              <a:spcBef>
                <a:spcPts val="700"/>
              </a:spcBef>
              <a:spcAft>
                <a:spcPts val="1225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ta etapa culmina con: la puesta en producción del producto, y entrega del PH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HD (Documento Histórico del Proyecto) Simplificad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2818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te documento se le entregará al CLIENTE, en papel, y en formato digit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estructura del documento es la siguient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1. Identificación del Proyecto.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Es la carátula del informe, compuesta po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pecificación del tipo de informe (Documento Histórico del Proyect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Nombre del proyec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Fecha de términ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2.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Índice General.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Debe mostrar el contenido del resto del documento. Los documentos incluidos en éste, como el URD, SRD, y DD, no deben llevar índices prop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HD (Documento Histórico del Proyecto) Simplificad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920" y="1523520"/>
            <a:ext cx="8664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3. Grupo de Trabajo.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Nómina de todos los miembros del grupo, el rol que desempeñó cada uno, y su dirección de e-mai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4. Requisitos del Sistem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4.1. Requisitos de Usuari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4.2. Requisitos de Softwa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4.3. Matriz de Trazad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5. Documento de Diseño.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 adjuntan las secciones 2 (Dis. Arq), 3 (Dis.Detall.) y 4 (Matriz de Trazado) del D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6. Documento de Pruebas.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 adjuntan las pruebas diseñadas para verificar el cumplimiento de los requisitos de software y de usuario. Este documento incluye el estado de cumplimiento de los requisi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40458c"/>
                </a:solidFill>
                <a:latin typeface="Tahoma"/>
              </a:rPr>
              <a:t>Listado: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Id reg., tipo req., relevancia, nivel de cumplimiento actu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HD (Documento Histórico del Proyecto) Simplificad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1905120"/>
            <a:ext cx="8215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7. Código Fuente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 Debe colocarse el código fuente completo del product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código debe estar “comentariado” como para que pueda ser manteni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ada página HTML debe tener al principio, un comentario que indique cuál es la función de és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8. Indicaciones.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Acá debe especificarse toda aquella información que sea necesaria para el normal funcionamiento del produ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8.1. Proceso de instalación del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8.2. Proceso de operación de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ntrega Final del Curs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l día de la ENTREGA FINAL, cada grupo deberá entrega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l Profeso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ocumento histórico del proyecto (en formato digital) según el formato antes especificad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Todos los archivos del sistema desarrollado en formato digit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l sistema implantado en el lugar que el CLIENTE especifiqu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l Client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ocumento histórico del proyecto (en papel y en formato digital) según el formato antes especificad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l sistema desarrollado, instalado y funcionando en una máquina indicada por el CLIENTE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os módulos cargadores/actualizadores para alimentar la base de datos del sistema, en caso de ser necesari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Aprendizaje Post-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lgunos ítems para la reflexión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estuvieron los cost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y los tiemp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estuvo la calidad del produ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estuvo la satisfacción del cliente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qué tipo de información guardé a cerca de mi proces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me sirve esa información para futuros desarroll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qué tanto depende mi empresa, del equipo de trabaj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uáles fueron los errores más dañinos para el proye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Aprendizaje Post-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uál fue su origen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uáles fueron los problemas externos que más afectaron al proye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voy a manejar estos problemas o debilidades durante el próximo proye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funcionaron los miembros del equipo de desarrollo?... Específicamente el administrador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estuvo la comunicación al interior del grup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se puede mejora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de comportó la tecnología empleada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necesito nuevas herramienta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Aprendizaje Post-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cómo estuvo la fase de transferencia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en que se puede mejorar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cómo sacarle más provecho al desarrollo realizad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se puede empaquetar el product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qué necesito para hacerl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. ¿qué tanto puede mejorar mi empresa a partir de lo aprendido en este proyect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77960" y="1557000"/>
            <a:ext cx="817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Etapa de Transferenc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Qué Dice el Estándar de la ESA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Documento Histórico del Proyecto (PHD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trega Fin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rendizaje Post-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ierre del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volu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36680" y="3111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Acto </a:t>
            </a:r>
            <a:r>
              <a:rPr b="0" i="1" lang="es-ES" sz="2800" spc="-1" strike="noStrike">
                <a:solidFill>
                  <a:srgbClr val="660066"/>
                </a:solidFill>
                <a:latin typeface="Arial"/>
              </a:rPr>
              <a:t>formal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y operativo en que el esfuerzo en el proyecto concluye, y se asume un nuevo estado de las personas, recursos, organización, negocio,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eben estar claras las </a:t>
            </a:r>
            <a:r>
              <a:rPr b="0" i="1" lang="es-ES" sz="2800" spc="-1" strike="noStrike">
                <a:solidFill>
                  <a:srgbClr val="660066"/>
                </a:solidFill>
                <a:latin typeface="Arial"/>
              </a:rPr>
              <a:t>condiciones de cierre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(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aceptación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Tipos de cierre (normal, formal, negociado, político, ...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dentificación y evaluación de la situación de término y resultados del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ifusión del cierre y del futuro (</a:t>
            </a:r>
            <a:r>
              <a:rPr b="0" lang="es-ES" sz="1800" spc="-1" strike="noStrike">
                <a:solidFill>
                  <a:srgbClr val="40458c"/>
                </a:solidFill>
                <a:latin typeface="Arial"/>
              </a:rPr>
              <a:t>¿cuál será nuestro rol en el proyecto implantado?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requiere la formalización correspondiente</a:t>
            </a:r>
            <a:br>
              <a:rPr sz="2800"/>
            </a:b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(actas, contratos, pago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dentificación de aspectos pendientes, importancia y prioriz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uele haber negociación y realización de ajus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fectos futuros del proyecto (mantenimiento y/o evolución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Nuevos proyectos surgidos a partir de éste?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00000" y="3111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Formulación de la Evolución del 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</a:t>
            </a: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0643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Al término del proyecto todo ha cambi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n particular hay nuevas expectativ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l proyecto se evalúa injustament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ya no estamos en el “estado del arte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han cambiado las prioridad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ay nuevas alternativas para el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e reemplaz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e crecimi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e fortalecimi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</a:t>
            </a: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064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ay nuevos proyect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e reemplaz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omplementari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ay nuevas formas de evaluar, formular y administrar proyectos en la organiz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 el desarrollo es interno a la organización, todos estos cambios deben ayudar a fortalecer el proceso de desarroll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 el desarrollo es externo, se requiere que el desarrollador debe ser un tanto vision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</a:t>
            </a: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459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Hay que tener todo esto en cuenta, desde la planificación del proyecto…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Así nos va a doler menos cuando esto ocurr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…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. la parte buena es que si lo hemos hecho bien, las probabilidades de quedarnos con el cliente, son altas (debido principalmente a estos cambios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Fase de Transferencia puede verse desde el punto de vista del cliente o de la empresa desarrollador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Desde el punto de vista del client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la fase más importante de todo el proyecto, ya que el cliente “espera” cosechar todo lo que ha sembrado (tiempo, dinero, compromiso, etc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trato (soporte) que reciba el cliente durante esta fase, influye directamente sobre su nivel de satisfac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 hubo problemas antes, pero está fase se hace bien, el cliente olvidará los problemas previos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 no hubo problemas antes, pero está fase se hace mal, el cliente olvidará los éxitos previos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76080" y="1523880"/>
            <a:ext cx="8143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Desde el punto de vista de la empresa desarrolladora, es la posibilidad d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5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Obtener el “cheque más jugoso”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5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Quedarme con el cl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5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Obtener resultados tangibles que me ayuden a mejora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5000"/>
              </a:lnSpc>
              <a:spcBef>
                <a:spcPts val="6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Registrar Los resultados del proceso de desarrollo deben medirse y guardarse “por escrito”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5000"/>
              </a:lnSpc>
              <a:spcBef>
                <a:spcPts val="6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os miembros de cada rol deben presentar un documento que indique fortalezas y debilidades detectadas con respecto a su trabajo, y al funcionamiento colectiv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5000"/>
              </a:lnSpc>
              <a:spcBef>
                <a:spcPts val="6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unque al finalizar el proyecto todos evitan este trabajo, la autocrítica objetiva es fundamental para la supervivencia de mi empres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5000"/>
              </a:lnSpc>
              <a:spcBef>
                <a:spcPts val="6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Si no la documento, el único perjudicado soy y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a fase de transferencia lleva una nota importante en este curso…. Háganla bie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to es importante para ustedes y para el futuro del proyec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tapa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88960" y="1599840"/>
            <a:ext cx="8375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n esta fase hay varias actividades que deben ser planificadas, coordinadas, controladas y evaluada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igración de Da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Capacitación de Usuari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Puesta en marcha del nuevo softwa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Pruebas de Usuari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Recolección y Reparación de Error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lternativas de Implanta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Certificación (marcha blanca, paralelos, etc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Cierre de la situación anterior (apagar equipo, botar sistema, ..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Hay que determinar la necesidad (y posibilidad) de vuelta atrás…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8278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tapa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2560" y="1557000"/>
            <a:ext cx="81374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s la hora de la ver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s también la ocasión más clara para identificar el fracaso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s necesario manejar los miedo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Difusió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Capacitació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Asistencia a usuari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s necesario manejar la transi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Mecanismos de “vuelta atrás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Consistencia de los da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Traspasos entre sistem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Duplicidad en el trabaj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7240" y="42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660066"/>
                </a:solidFill>
                <a:latin typeface="Tahoma"/>
              </a:rPr>
              <a:t>Etapa de transferencia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Hay que establecer un punto de quiebre, en el cual la nueva solución se transforma en definitiv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Arial"/>
              </a:rPr>
              <a:t>Podría cambiar la historia dentro de una organización (típicamente asociada a sistemas antiguos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Arial"/>
              </a:rPr>
              <a:t>Podría haber mucha resistencia por parte de los usuarios, si no se maneja bien la implantación y la difus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tapa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280" y="1744200"/>
            <a:ext cx="80773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spcAft>
                <a:spcPts val="24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omo contraparte, el cliente debe firmar el documento de aceptación del produc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spcAft>
                <a:spcPts val="24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on eso se da por finalizada la relación contractual con el clien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spcAft>
                <a:spcPts val="2401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... pero no el proyec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spcAft>
                <a:spcPts val="2401"/>
              </a:spcAft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uego de la etapa de transferencia, se debe APRENDER de proceso realizad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igración de dato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lanificar el trabajo (tiempos, recursos, etapas e hit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debe salir mal, pues las consecuencias podrían ser catastrófic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El modelo de datos nuevo se corresponde con el legado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Cuáles son los procedimientos de migración de dat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En qué orden se ejecutan estos procedimient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Cómo se valida la consistencia de datos en cada etapa de la migración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Quién está a cargo de cada actividad o proces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cómo volvemos atrás si, después de una semana, nos damos cuenta de que la cosa no funciona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Capacitación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Presencial, a Distancia o Mix (ver tiempos, recursos, etapas e hitos)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(… de nuevo…) No debe salir mal, pues las consecuencias podrían ser catastrófica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Presencial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los usuarios están co-localizados o son trasladable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no son muchos usuario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tengo y puedo co-localizar los recursos necesarios (salas, máquinas, instructores, asistentes).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es crítico que los usuarios sepan desde el primer día manejar bien el sistema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A distancia (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e-learning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los usuarios son mucho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los usuarios tienen margen de tiempo para aprender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los usuarios están distribuidos y no son trasladable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el Quantum de tiempo diario destinado a capacitación es pequeño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y un 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Mix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Capacita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Tutoriales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basados en courseware o 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Talleres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usando el sistema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Cómo se puede garantizar que los usuarios son capaces de usar bien el sistema (garantizar que la capacitación fue efectiva)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Cuánto tiempo antes deben entregarse las interfaces de usuario para poder generar el material instruccional?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Cómo se va a distribuir el material didáctico?... Courseware, DVD, papel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se requiere un trabajo y un compromiso grande de los usuarios… ¿Está planificado? ¿Querrán cooperar? ¿qué pasa con mi maravilloso sistema si ellos no cooperan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Se entrena en base a comunidades de aprendizaje? ¿Quiénes supervisan y apoyan a estas comunidades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as son sólo algunas de las preguntas que hay que responder…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15:53:33Z</dcterms:created>
  <dc:creator>Mercedario</dc:creator>
  <dc:description/>
  <dc:language>en-US</dc:language>
  <cp:lastModifiedBy>Sergio F. Ochoa</cp:lastModifiedBy>
  <dcterms:modified xsi:type="dcterms:W3CDTF">2007-06-07T12:28:11Z</dcterms:modified>
  <cp:revision>88</cp:revision>
  <dc:subject/>
  <dc:title>CC51A – Ingeniería de Software</dc:title>
</cp:coreProperties>
</file>