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4F2-9BEA-48B7-ADAC-91A27FF8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44A-1951-4659-8D20-11D6F359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88F6-33F3-438C-BBC7-4F07C611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A1DE-D7CA-4898-8015-7D560A59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E9FA-1955-460C-B2F4-FD80E208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CAE3-E9DB-4960-AF55-0BFAC383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87F5-7F1C-4D66-BAE8-B26D3059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DD02-A0F0-4871-ACB0-89928C4C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D083-567A-4346-9AB3-268888B0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FED1-3AE2-421A-A1F4-BE21BE1A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D07E-88DB-4CA4-8944-A706AF6F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BCBE-DC5A-41E8-A998-826A8D76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9A94-0D73-4761-83FA-2E97E5E7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1654-8D10-4501-9D06-5B1080EC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52DC-1866-4F92-981B-B4482148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D652-8404-4427-A68E-7A4A0E87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B6C5-A488-40D2-991F-FB065271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6B79-3F05-4566-8AC9-04699516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77EF-EBAE-43FA-84C0-75CD214B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D966-1EBA-4F64-8D49-14377DCF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3F77-37E3-438C-9DDF-F442687C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B429-7B8E-4FAA-AB85-46B00851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7A9B-2E8B-4C93-AFFB-A0020446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2C55-E5B9-447B-8CA9-5F67EDC8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2D2F-7C0A-46D1-908E-FD26271A6DD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70EB-2F76-4E61-B4C7-0E719926F83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Puesta a Punto y Entrega del Producto (Transferenci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uesta en march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aralelo o reemplazo (ver tiempos, recursos, etapas e hitos)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Paralel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hago convivir los sistemas legados con los nuevos sistema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verifico la correspondencia de datos entre ambos escenario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puedo garantizar que el código implementado (sólo) para el paralelo, está bueno y no me está metiendo errores en las BD legada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Reemplaz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va a haber incendios… Cómo los pienso apagar? En cuánto tiempo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Qué pasa si el reemplazo no funciona?. Por ejemplo, la BD colapsa durante un peak, por falta de índice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costo de volver atrás es </a:t>
            </a:r>
            <a:r>
              <a:rPr b="1" i="1" lang="es-ES" sz="2000" spc="-1" strike="noStrike">
                <a:solidFill>
                  <a:srgbClr val="40458c"/>
                </a:solidFill>
                <a:latin typeface="Tahoma"/>
              </a:rPr>
              <a:t>altísimo…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La etapa de transferencia no puede salir mal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296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80000"/>
              </a:lnSpc>
              <a:spcBef>
                <a:spcPts val="700"/>
              </a:spcBef>
              <a:spcAft>
                <a:spcPts val="1225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uego de la etapa de codificación se deben entregar 2 document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28720" indent="-28584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TD (Software Transfer Document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8720" indent="-28584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HD (Project History Document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700"/>
              </a:spcBef>
              <a:spcAft>
                <a:spcPts val="1225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n el STD se debería describir todo el proceso de transferenci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700"/>
              </a:spcBef>
              <a:spcAft>
                <a:spcPts val="1225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ara nuestros proyectos sólo consideraremos una versión simplificada del PHD (se presenta más adela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700"/>
              </a:spcBef>
              <a:spcAft>
                <a:spcPts val="1225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a etapa culmina con: la puesta en producción del producto, y entrega del PH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18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e documento se le entregará al CLIENTE, en papel, y en formato digit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estructura del documento es la sigui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1. Identificación del Proyecto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la carátula del informe, compuesta p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pecificación del tipo de informe (Documento Histórico del Proyect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mbre del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Fecha de términ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Índice General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be mostrar el contenido del resto del documento. Los documentos incluidos en éste, como el URD, SRD, y DD, no deben llevar índices prop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523520"/>
            <a:ext cx="8664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3. Grupo de Trabajo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ómina de todos los miembros del grupo, el rol que desempeñó cada uno, y su dirección de e-mai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4. Requisitos del Siste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.1. Requisitos de Usuari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.2. Requisitos de Softw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4.3. Matriz de Trazad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5. Documento de Diseño.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adjuntan las secciones 2 (Dis. Arq), 3 (Dis.Detall.) y 4 (Matriz de Trazado) del D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6. Documento de Pruebas.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adjuntan las pruebas diseñadas para verificar el cumplimiento de los requisitos de software y de usuario. Este documento incluye el estado de cumplimiento d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40458c"/>
                </a:solidFill>
                <a:latin typeface="Tahoma"/>
              </a:rPr>
              <a:t>Listado: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Id reg., tipo req., relevancia, nivel de cumplimiento actu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905120"/>
            <a:ext cx="8215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7. Código Fuente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 Debe colocarse el código fuente completo del product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código debe estar “comentariado” como para que pueda ser manten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da página HTML debe tener al principio, un comentario que indique cuál es la función de é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8. Indicaciones.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Acá debe especificarse toda aquella información que sea necesaria para el normal funcionamiento del produ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8.1. Proceso de instalación del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8.2. Proceso de operación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ntrega Final del Curs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ía de la ENTREGA FINAL, cada grupo deberá entreg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 Profes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ocumento histórico del proyecto (en formato digital) según el formato antes especific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odos los archivos del sistema desarrollado en formato digi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sistema implantado en el lugar que el CLIENTE especifiqu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 Client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ocumento histórico del proyecto (en papel y en formato digital) según el formato antes especific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sistema desarrollado, instalado y funcionando en una máquina indicada por el CLIENT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módulos cargadores/actualizadores para alimentar la base de datos del sistema, en caso de ser neces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ítems para la reflexión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ieron los cos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y los tiemp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calidad del produ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satisfacción del cliente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qué tipo de información guardé a cerca de mi proce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me sirve esa información para futuros desarroll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qué tanto depende mi empresa, del equipo de trabaj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es fueron los errores más dañinos para el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 fue su origen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es fueron los problemas externos que más afectaron al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voy a manejar estos problemas o debilidades durante el próximo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funcionaron los miembros del equipo de desarrollo?... Específicamente el administrador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comunicación al interior del grup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se puede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de comportó la tecnología emplead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necesito nuevas herramienta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cómo estuvo la fase de transferenci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en que se puede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cómo sacarle más provecho al desarrollo realizad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se puede empaquetar el produc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necesi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¿qué tanto puede mejorar mi empresa a partir de lo aprendido en este proyec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77960" y="1557000"/>
            <a:ext cx="817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Etapa de Transferenc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Qué Dice el Estándar de la ES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ocumento Histórico del Proyecto (PH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trega Fi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rendizaje Post-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erre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volu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3668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Acto </a:t>
            </a:r>
            <a:r>
              <a:rPr b="0" i="1" lang="es-ES" sz="2800" spc="-1" strike="noStrike">
                <a:solidFill>
                  <a:srgbClr val="660066"/>
                </a:solidFill>
                <a:latin typeface="Arial"/>
              </a:rPr>
              <a:t>formal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y operativo en que el esfuerzo en el proyecto concluye, y se asume un nuevo estado de las personas, recursos, organización, negocio,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ben estar claras las </a:t>
            </a:r>
            <a:r>
              <a:rPr b="0" i="1" lang="es-ES" sz="2800" spc="-1" strike="noStrike">
                <a:solidFill>
                  <a:srgbClr val="660066"/>
                </a:solidFill>
                <a:latin typeface="Arial"/>
              </a:rPr>
              <a:t>condiciones de cierre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ceptación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Tipos de cierre (normal, formal, negociado, político, ...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y evaluación de la situación de término y resultados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ifusión del cierre y del futuro (</a:t>
            </a: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¿cuál será nuestro rol en el proyecto implantado?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requiere la formalización correspondiente</a:t>
            </a:r>
            <a:br>
              <a:rPr sz="2800"/>
            </a:b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(actas, contratos, pag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de aspectos pendientes, importancia y prioriz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uele haber negociación y realización de ajus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fectos futuros del proyecto (mantenimiento y/o evoluc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Nuevos proyectos surgidos a partir de éste?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0000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Formulación de la Evolución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l término del proyecto todo ha cambi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n particular hay nuevas expectativ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l proyecto se evalúa injustam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ya no estamos en el “estado del arte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n cambiado las prior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as alternativas para 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reempla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crec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fortalec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os proyec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reempla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mplementar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as formas de evaluar, formular y administrar proyectos en la organiz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el desarrollo es interno a la organización, todos estos cambios deben ayudar a fortalecer el proceso de desarrol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el desarrollo es externo, se requiere que el desarrollador debe ser un tanto visio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45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Hay que tener todo esto en cuenta, desde la planificación del proyecto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Así nos va a doler menos cuando esto ocurr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…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. la parte buena es que si lo hemos hecho bien, las probabilidades de quedarnos con el cliente, son altas (debido principalmente a estos cambio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Fase de Transferencia puede verse desde el punto de vista del cliente o de la empresa desarrollado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sde el punto de vista del cli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la fase más importante de todo el proyecto, ya que el cliente “espera” cosechar todo lo que ha sembrado (tiempo, dinero, compromiso, etc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trato (soporte) que reciba el cliente durante esta fase, influye directamente sobre su nivel de satisfa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hubo problemas antes, pero está fase se hace bien, el cliente olvidará los problemas previ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no hubo problemas antes, pero está fase se hace mal, el cliente olvidará los éxitos previ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6080" y="1523880"/>
            <a:ext cx="8143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sde el punto de vista de la empresa desarrolladora, es la posibilidad d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Obtener el “cheque más jugoso”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Quedarme con el cl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Obtener resultados tangibles que me ayuden a mejora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gistrar Los resultados del proceso de desarrollo deben medirse y guardarse “por escrito”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miembros de cada rol deben presentar un documento que indique fortalezas y debilidades detectadas con respecto a su trabajo, y al funcionamiento colectiv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unque al finalizar el proyecto todos evitan este trabajo, la autocrítica objetiva es fundamental para la supervivencia de mi empres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i no la documento, el único perjudicado soy y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fase de transferencia lleva una nota importante en este curso…. Háganla bie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o es importante para ustedes y para el futuro d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8960" y="1599840"/>
            <a:ext cx="8375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esta fase hay varias actividades que deben ser planificadas, coordinadas, controladas y evaluad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igración de Da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apacitación de Usuari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Puesta en marcha del nuevo softw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Pruebas de Usuari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Recolección y Reparación de Erro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lternativas de Implant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ertificación (marcha blanca, paralelos, etc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ierre de la situación anterior (apagar equipo, botar sistema, ..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y que determinar la necesidad (y posibilidad) de vuelta atrás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278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2560" y="1557000"/>
            <a:ext cx="81374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la hora de la ver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también la ocasión más clara para identificar el fracaso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necesario manejar los mied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Difus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Capacita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Asistencia a usuari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necesario manejar la transi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Mecanismos de “vuelta atrás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Consistencia de los da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Traspasos entre siste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Duplicidad en el trabaj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7240" y="42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Hay que establecer un punto de quiebre, en el cual la nueva solución se transforma en definitiv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Arial"/>
              </a:rPr>
              <a:t>Podría cambiar la historia dentro de una organización (típicamente asociada a sistemas antiguo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Arial"/>
              </a:rPr>
              <a:t>Podría haber mucha resistencia por parte de los usuarios, si no se maneja bien la implantación y la difus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280" y="1744200"/>
            <a:ext cx="80773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spcAft>
                <a:spcPts val="24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mo contraparte, el cliente debe firmar el documento de aceptación del produ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spcAft>
                <a:spcPts val="24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n eso se da por finalizada la relación contractual con el clien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spcAft>
                <a:spcPts val="24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... pero no 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spcAft>
                <a:spcPts val="2401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uego de la etapa de transferencia, se debe APRENDER de proceso realizad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igración de dat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lanificar el trabajo (tiempos, recursos, etapas e hit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 salir mal, pues las consecuencias podrían ser catastrófic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El modelo de datos nuevo se corresponde con el legado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uáles son los procedimientos de migración de da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En qué orden se ejecutan estos procedimien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ómo se valida la consistencia de datos en cada etapa de la migración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Quién está a cargo de cada actividad o proce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ómo volvemos atrás si, después de una semana, nos damos cuenta de que la cosa no funcion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Capacitació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resencial, a Distancia o Mix (ver tiempos, recursos, etapas e hitos)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Presencial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están co-localizados o son trasladable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no son muchos usuario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tengo y puedo co-localizar los recursos necesarios (salas, máquinas, instructores, asistentes)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es crítico que los usuarios sepan desde el primer día manejar bien el sistema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 distancia (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e-learning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son mucho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tienen margen de tiempo para aprender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están distribuidos y no son trasladable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el Quantum de tiempo diario destinado a capacitación es pequeño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y un 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Mix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apacit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Tutorial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basados en courseware o 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Taller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usando el sistema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ómo se puede garantizar que los usuarios son capaces de usar bien el sistema (garantizar que la capacitación fue efectiva)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uánto tiempo antes deben entregarse las interfaces de usuario para poder generar el material instruccional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ómo se va a distribuir el material didáctico?... Courseware, DVD, papel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se requiere un trabajo y un compromiso grande de los usuarios… ¿Está planificado? ¿Querrán cooperar? ¿qué pasa con mi maravilloso sistema si ellos no cooperan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Se entrena en base a comunidades de aprendizaje? ¿Quiénes supervisan y apoyan a estas comunidade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as son sólo algunas de las preguntas que hay que responder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7-06-07T12:28:11Z</dcterms:modified>
  <cp:revision>88</cp:revision>
  <dc:subject/>
  <dc:title>CC51A – Ingeniería de Software</dc:title>
</cp:coreProperties>
</file>