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935A-D790-4500-8A88-6FA6F98FA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4B11-EF06-45B9-9A99-56EE6FAE7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E143-0D1C-4549-AFD0-89A45D0AD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B6BB-A8C1-43AA-A050-B37270153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03377-FE28-41F7-A0A7-1F13D40C1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C0447-0549-4746-9E60-7D988FC6E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9DE2C-C627-4CB8-A9C2-AE81F275A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FA40C-2F93-428E-ADAA-07A3E6131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C555B-F29C-47FD-9F56-71F850875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2B88D-9E15-4D99-AFB6-B1F637BAA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0A6EC-70FF-4382-BD0B-B80DECE1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11C1-DABF-4E8B-9649-D356C43A2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45DDB-9BFA-4104-A64B-D53C235D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18345-BAD4-44B8-A187-ADFB17F5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8D668-5A18-4307-8041-5C29BBCE6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55C53-22DC-4FC5-9889-63EF8502C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76BA4-C0AC-4912-A940-4280A8A50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4A3D-7515-465C-B3F8-677A6A4C2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2066-7476-46A2-9015-D3699E038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8444-5AE8-4E58-9272-FDE5D490A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34BD-BD3B-4D9B-9ABD-96CBF7888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0B3F-4A89-4AC0-8C7E-00FAE784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403F-0B92-4C89-96AA-630EAFDF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B60A-2534-4820-A59C-75E90CDF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874C0-13F0-496F-A617-F102BB72940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37BAB-A1AB-4D9E-A659-DE1BD59947B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Puesta a Punto y Entrega del Producto (Transferencia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dades de la Transf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08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Puesta en march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Paralelo o reemplazo (ver tiempos, recursos, etapas e hitos)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(… de nuevo…) No debe salir mal, pues las consecuencias podrían ser catastrófic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Paralelo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spcAft>
                <a:spcPts val="337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Cómo hago convivir los sistemas legados con los nuevos sistemas?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spcAft>
                <a:spcPts val="337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Cómo verifico la correspondencia de datos entre ambos escenarios?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spcAft>
                <a:spcPts val="337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Cómo puedo garantizar que el código implementado (sólo) para el paralelo, está bueno y no me está metiendo errores en las BD legadas?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Reemplazo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spcAft>
                <a:spcPts val="337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… 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va a haber incendios… Cómo los pienso apagar? En cuánto tiempo?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spcAft>
                <a:spcPts val="337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Qué pasa si el reemplazo no funciona?. Por ejemplo, la BD colapsa durante un peak, por falta de índices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l costo de volver atrás es </a:t>
            </a:r>
            <a:r>
              <a:rPr b="1" i="1" lang="es-ES" sz="2000" spc="-1" strike="noStrike">
                <a:solidFill>
                  <a:srgbClr val="40458c"/>
                </a:solidFill>
                <a:latin typeface="Tahoma"/>
              </a:rPr>
              <a:t>altísimo…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 La etapa de transferencia no puede salir mal!!!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Qué dice el estándar de la ESA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8229600" cy="51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Qué dice el estándar de la ESA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30592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lnSpc>
                <a:spcPct val="80000"/>
              </a:lnSpc>
              <a:spcBef>
                <a:spcPts val="700"/>
              </a:spcBef>
              <a:spcAft>
                <a:spcPts val="1225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uego de la etapa de codificación se deben entregar 2 documento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28720" indent="-28584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TD (Software Transfer Document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28720" indent="-28584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PHD (Project History Document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3600" indent="-363600">
              <a:lnSpc>
                <a:spcPct val="80000"/>
              </a:lnSpc>
              <a:spcBef>
                <a:spcPts val="700"/>
              </a:spcBef>
              <a:spcAft>
                <a:spcPts val="1225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En el STD se debería describir todo el proceso de transferencia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63600" indent="-363600">
              <a:lnSpc>
                <a:spcPct val="80000"/>
              </a:lnSpc>
              <a:spcBef>
                <a:spcPts val="700"/>
              </a:spcBef>
              <a:spcAft>
                <a:spcPts val="1225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Para nuestros proyectos sólo consideraremos una versión simplificada del PHD (se presenta más adelante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63600" indent="-363600">
              <a:lnSpc>
                <a:spcPct val="80000"/>
              </a:lnSpc>
              <a:spcBef>
                <a:spcPts val="700"/>
              </a:spcBef>
              <a:spcAft>
                <a:spcPts val="1225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Esta etapa culmina con: la puesta en producción del producto, y entrega del PH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PHD (Documento Histórico del Proyecto) Simplificad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82818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Este documento se le entregará al CLIENTE, en papel, y en formato digita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a estructura del documento es la siguient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1. Identificación del Proyecto.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Es la carátula del informe, compuesta por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specificación del tipo de informe (Documento Histórico del Proyecto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Nombre del proyect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Fecha de términ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2. </a:t>
            </a: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Índice General.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Debe mostrar el contenido del resto del documento. Los documentos incluidos en éste, como el URD, SRD, y DD, no deben llevar índices propi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PHD (Documento Histórico del Proyecto) Simplificad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50920" y="1523520"/>
            <a:ext cx="8664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3. Grupo de Trabajo.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Nómina de todos los miembros del grupo, el rol que desempeñó cada uno, y su dirección de e-mai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4. Requisitos del Sistem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4.1. Requisitos de Usuari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4.2. Requisitos de Softwar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4.3. Matriz de Trazad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5. Documento de Diseño.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e adjuntan las secciones 2 (Dis. Arq), 3 (Dis.Detall.) y 4 (Matriz de Trazado) del D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6. Documento de Pruebas.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e adjuntan las pruebas diseñadas para verificar el cumplimiento de los requisitos de software y de usuario. Este documento incluye el estado de cumplimiento de los requisi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40458c"/>
                </a:solidFill>
                <a:latin typeface="Tahoma"/>
              </a:rPr>
              <a:t>Listado: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Id reg., tipo req., relevancia, nivel de cumplimiento actual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PHD (Documento Histórico del Proyecto) Simplificad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5280" y="1905120"/>
            <a:ext cx="8215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40458c"/>
                </a:solidFill>
                <a:latin typeface="Tahoma"/>
              </a:rPr>
              <a:t>7. Código Fuente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 Debe colocarse el código fuente completo del producto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código debe estar “comentariado” como para que pueda ser manteni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ada página HTML debe tener al principio, un comentario que indique cuál es la función de ést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40458c"/>
                </a:solidFill>
                <a:latin typeface="Tahoma"/>
              </a:rPr>
              <a:t>8. Indicaciones.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Acá debe especificarse toda aquella información que sea necesaria para el normal funcionamiento del produ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8.1. Proceso de instalación del softwar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8.2. Proceso de operación de softwar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ntrega Final del Curs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El día de la ENTREGA FINAL, cada grupo deberá entregar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l Profesor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Documento histórico del proyecto (en formato digital) según el formato antes especificad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Todos los archivos del sistema desarrollado en formato digital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l sistema implantado en el lugar que el CLIENTE especifiqu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l Client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Documento histórico del proyecto (en papel y en formato digital) según el formato antes especificad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l sistema desarrollado, instalado y funcionando en una máquina indicada por el CLIENTE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Los módulos cargadores/actualizadores para alimentar la base de datos del sistema, en caso de ser necesari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Aprendizaje Post-Proyec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Algunos ítems para la reflexión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Cómo estuvieron los costos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y los tiempos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cómo estuvo la calidad del product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cómo estuvo la satisfacción del cliente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qué tipo de información guardé a cerca de mi proces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me sirve esa información para futuros desarrollos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qué tanto depende mi empresa, del equipo de trabaj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cuáles fueron los errores más dañinos para el proyect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Aprendizaje Post-Proyec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cuál fue su origen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cuáles fueron los problemas externos que más afectaron al proyect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cómo voy a manejar estos problemas o debilidades durante el próximo proyect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cómo funcionaron los miembros del equipo de desarrollo?... Específicamente el administrador del proye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cómo estuvo la comunicación al interior del grup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se puede mejorar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cómo de comportó la tecnología empleada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necesito nuevas herramientas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Aprendizaje Post-Proyec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¿cómo estuvo la fase de transferencia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¿en que se puede mejorar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¿cómo sacarle más provecho al desarrollo realizad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¿se puede empaquetar el product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¿qué necesito para hacerl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. ¿qué tanto puede mejorar mi empresa a partir de lo aprendido en este proyect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77960" y="1557000"/>
            <a:ext cx="817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Etapa de Transferenci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Qué Dice el Estándar de la ESA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Documento Histórico del Proyecto (PHD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ntrega Fin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rendizaje Post-Proyec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ierre del Proyec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volu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clusion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36680" y="3111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ierre del Proyec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Arial"/>
              </a:rPr>
              <a:t>Cierre del proyec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Acto </a:t>
            </a:r>
            <a:r>
              <a:rPr b="0" i="1" lang="es-ES" sz="2800" spc="-1" strike="noStrike">
                <a:solidFill>
                  <a:srgbClr val="660066"/>
                </a:solidFill>
                <a:latin typeface="Arial"/>
              </a:rPr>
              <a:t>formal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y operativo en que el esfuerzo en el proyecto concluye, y se asume un nuevo estado de las personas, recursos, organización, negocio, 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Deben estar claras las </a:t>
            </a:r>
            <a:r>
              <a:rPr b="0" i="1" lang="es-ES" sz="2800" spc="-1" strike="noStrike">
                <a:solidFill>
                  <a:srgbClr val="660066"/>
                </a:solidFill>
                <a:latin typeface="Arial"/>
              </a:rPr>
              <a:t>condiciones de cierre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(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aceptación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Tipos de cierre (normal, formal, negociado, político, ...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Identificación y evaluación de la situación de término y resultados del proyec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Arial"/>
              </a:rPr>
              <a:t>Cierre del proyec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Difusión del cierre y del futuro (</a:t>
            </a:r>
            <a:r>
              <a:rPr b="0" lang="es-ES" sz="1800" spc="-1" strike="noStrike">
                <a:solidFill>
                  <a:srgbClr val="40458c"/>
                </a:solidFill>
                <a:latin typeface="Arial"/>
              </a:rPr>
              <a:t>¿cuál será nuestro rol en el proyecto implantado?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Se requiere la formalización correspondiente</a:t>
            </a:r>
            <a:br>
              <a:rPr sz="2800"/>
            </a:b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(actas, contratos, pago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Identificación de aspectos pendientes, importancia y prioriz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Suele haber negociación y realización de ajust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Efectos futuros del proyecto (mantenimiento y/o evolución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Nuevos proyectos surgidos a partir de éste?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00000" y="3111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Formulación de la Evolución del Proyec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Arial"/>
              </a:rPr>
              <a:t>E</a:t>
            </a: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volu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80643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Al término del proyecto todo ha cambia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En particular hay nuevas expectativ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El proyecto se evalúa injustament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ya no estamos en el “estado del arte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han cambiado las prioridad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Hay nuevas alternativas para el proyec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de reemplaz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de crecimien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de fortalecimien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Arial"/>
              </a:rPr>
              <a:t>E</a:t>
            </a: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volu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80643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Hay nuevos proyect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de reemplaz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complementari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independient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Hay nuevas formas de evaluar, formular y administrar proyectos en la organiz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Si el desarrollo es interno a la organización, todos estos cambios deben ayudar a fortalecer el proceso de desarroll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Si el desarrollo es externo, se requiere que el desarrollador debe ser un tanto visionari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Arial"/>
              </a:rPr>
              <a:t>E</a:t>
            </a: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volu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84596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Hay que tener todo esto en cuenta, desde la planificación del proyecto…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Así nos va a doler menos cuando esto ocurr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…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. la parte buena es que si lo hemos hecho bien, las probabilidades de quedarnos con el cliente, son altas (debido principalmente a estos cambios)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a Fase de Transferencia puede verse desde el punto de vista del cliente o de la empresa desarrollador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Desde el punto de vista del client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 la fase más importante de todo el proyecto, ya que el cliente “espera” cosechar todo lo que ha sembrado (tiempo, dinero, compromiso, etc.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trato (soporte) que reciba el cliente durante esta fase, influye directamente sobre su nivel de satisfac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i hubo problemas antes, pero está fase se hace bien, el cliente olvidará los problemas previos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i no hubo problemas antes, pero está fase se hace mal, el cliente olvidará los éxitos previos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76080" y="1523880"/>
            <a:ext cx="81435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Desde el punto de vista de la empresa desarrolladora, es la posibilidad d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5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Obtener el “cheque más jugoso”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5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Quedarme con el clien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5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Obtener resultados tangibles que me ayuden a mejorar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5000"/>
              </a:lnSpc>
              <a:spcBef>
                <a:spcPts val="624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Registrar Los resultados del proceso de desarrollo deben medirse y guardarse “por escrito”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5000"/>
              </a:lnSpc>
              <a:spcBef>
                <a:spcPts val="624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Los miembros de cada rol deben presentar un documento que indique fortalezas y debilidades detectadas con respecto a su trabajo, y al funcionamiento colectiv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5000"/>
              </a:lnSpc>
              <a:spcBef>
                <a:spcPts val="624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unque al finalizar el proyecto todos evitan este trabajo, la autocrítica objetiva es fundamental para la supervivencia de mi empres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5000"/>
              </a:lnSpc>
              <a:spcBef>
                <a:spcPts val="624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Si no la documento, el único perjudicado soy y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La fase de transferencia lleva una nota importante en este curso…. Háganla bie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sto es importante para ustedes y para el futuro del proyect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tapa de transf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88960" y="1599840"/>
            <a:ext cx="83757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n esta fase hay varias actividades que deben ser planificadas, coordinadas, controladas y evaluada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Migración de Dat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Capacitación de Usuari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Puesta en marcha del nuevo softwar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Pruebas de Usuari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Recolección y Reparación de Error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Alternativas de Implantación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Certificación (marcha blanca, paralelos, etc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Cierre de la situación anterior (apagar equipo, botar sistema, ..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Hay que determinar la necesidad (y posibilidad) de vuelta atrás…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8278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tapa de transf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2560" y="1557000"/>
            <a:ext cx="81374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Es la hora de la verd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Es también la ocasión más clara para identificar el fracaso del proye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Es necesario manejar los miedo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Difusió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Capacitació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Asistencia a usuari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Es necesario manejar la transición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Mecanismos de “vuelta atrás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Consistencia de los dat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Traspasos entre sistema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Duplicidad en el trabaj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7240" y="42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660066"/>
                </a:solidFill>
                <a:latin typeface="Tahoma"/>
              </a:rPr>
              <a:t>Etapa de transferencia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8137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2880" indent="-54288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Hay que establecer un punto de quiebre, en el cual la nueva solución se transforma en definitiv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42880" indent="-54288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Arial"/>
              </a:rPr>
              <a:t>Podría cambiar la historia dentro de una organización (típicamente asociada a sistemas antiguos)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42880" indent="-54288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Arial"/>
              </a:rPr>
              <a:t>Podría haber mucha resistencia por parte de los usuarios, si no se maneja bien la implantación y la difusió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tapa de transf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55280" y="1744200"/>
            <a:ext cx="80773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spcAft>
                <a:spcPts val="2401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Como contraparte, el cliente debe firmar el documento de aceptación del product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spcAft>
                <a:spcPts val="2401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Con eso se da por finalizada la relación contractual con el client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spcAft>
                <a:spcPts val="2401"/>
              </a:spcAft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... pero no el proyect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spcAft>
                <a:spcPts val="2401"/>
              </a:spcAft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Luego de la etapa de transferencia, se debe APRENDER de proceso realizad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dades de la Transf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08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Migración de dato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lanificar el trabajo (tiempos, recursos, etapas e hito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 debe salir mal, pues las consecuencias podrían ser catastrófic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¿El modelo de datos nuevo se corresponde con el legado?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¿Cuáles son los procedimientos de migración de datos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¿En qué orden se ejecutan estos procedimientos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¿Cómo se valida la consistencia de datos en cada etapa de la migración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¿Quién está a cargo de cada actividad o proces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¿cómo volvemos atrás si, después de una semana, nos damos cuenta de que la cosa no funciona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dades de la Transf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08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Capacitación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Presencial, a Distancia o Mix (ver tiempos, recursos, etapas e hitos)?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(… de nuevo…) No debe salir mal, pues las consecuencias podrían ser catastróficas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Presencial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Cuando los usuarios están co-localizados o son trasladables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Cuando no son muchos usuarios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Cuando tengo y puedo co-localizar los recursos necesarios (salas, máquinas, instructores, asistentes).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Cuando es crítico que los usuarios sepan desde el primer día manejar bien el sistema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A distancia (</a:t>
            </a: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e-learning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)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Cuando los usuarios son muchos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Cuando los usuarios tienen margen de tiempo para aprender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Cuando los usuarios están distribuidos y no son trasladables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Cuando el Quantum de tiempo diario destinado a capacitación es pequeño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… 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y un </a:t>
            </a: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Mix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dades de la Transf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Capacitación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Tutoriales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 basados en courseware o </a:t>
            </a: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Talleres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 usando el sistema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¿Cómo se puede garantizar que los usuarios son capaces de usar bien el sistema (garantizar que la capacitación fue efectiva)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¿Cuánto tiempo antes deben entregarse las interfaces de usuario para poder generar el material instruccional?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¿Cómo se va a distribuir el material didáctico?... Courseware, DVD, papel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…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se requiere un trabajo y un compromiso grande de los usuarios… ¿Está planificado? ¿Querrán cooperar? ¿qué pasa con mi maravilloso sistema si ellos no cooperan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¿Se entrena en base a comunidades de aprendizaje? ¿Quiénes supervisan y apoyan a estas comunidades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stas son sólo algunas de las preguntas que hay que responder…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9T15:53:33Z</dcterms:created>
  <dc:creator>Mercedario</dc:creator>
  <dc:description/>
  <dc:language>en-US</dc:language>
  <cp:lastModifiedBy>Sergio F. Ochoa</cp:lastModifiedBy>
  <dcterms:modified xsi:type="dcterms:W3CDTF">2007-06-07T12:28:11Z</dcterms:modified>
  <cp:revision>88</cp:revision>
  <dc:subject/>
  <dc:title>CC51A – Ingeniería de Software</dc:title>
</cp:coreProperties>
</file>