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AAB-E19C-4FDF-894D-ED6C25C5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305-2751-4326-A0CC-CC3A174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495-1022-4FB6-87E8-CB233B47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AD7-2BCC-471E-9AC4-23FBF865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4A00-24EB-472A-930B-E4E84257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F4B9-6CE9-493E-864A-3CDFC183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496-20EF-4443-A195-A412A60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912B-A44C-460F-AE61-2B63940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C635-4D5F-41A7-AD63-64B79CE3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EF89-AD35-4106-883D-C042079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CEC-1694-4B1A-9A2B-835C881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76F-965E-4FD4-A203-8A7761A0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1E27-C662-489A-B65A-92B8639A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97DB-A565-49B0-9A7F-8947EFD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96CB-AAD0-4798-8E07-E2D5C2C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A2FB-68B2-44B1-8285-7CBFF903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974C-334B-4070-8E23-CA2B0D0B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5E5-B9EB-4F2E-A936-04FD2035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348-A11A-411C-A0B7-09CE969B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F9C-55DB-433A-840C-36AC86C7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888-A9F1-4FCD-B2D2-405CBCB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BC2-F9B1-4A54-A150-3C1E1DD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AD6-1F8B-46FE-AFB5-78E5B6E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879-C0F9-472A-A720-4B359E1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AB93-E8AC-4EE1-8C1D-AD8BBC826C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3D6D-CD78-4A77-86A7-EE195C112E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sistema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6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Requisitos del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Requisito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Requisitos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4.3. Matriz de Traza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secciones 2 (Dis. Arq), 3 (Dis.Detall.) y 4 (Matriz de Trazado) del D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Debe colocarse el código fuente completo del produ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implantado en el lugar que el CLIENTE especifiqu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7-06-07T12:28:11Z</dcterms:modified>
  <cp:revision>88</cp:revision>
  <dc:subject/>
  <dc:title>CC51A – Ingeniería de Software</dc:title>
</cp:coreProperties>
</file>