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BADB-CFF1-4FFF-B3EA-D98B585B1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457A-3F05-47AF-AD09-BA8ADF40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F901-A542-4BBC-94B5-3DB376DC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FB73-AE8D-495F-B7D9-0A18CF9C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9EAF-2F3A-47A3-B91A-1DB88CA21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8F04-9A6C-4853-9B7C-B299E41B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82C9-688C-4231-BF90-AF58BB8B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DA4F-F4A2-4BBC-9835-5817D690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F0CE-7851-47B5-9E16-3E408E60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72CB-7F29-4020-A0EA-9DA2B998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6BF8-AC6E-483E-8DB0-FBB72088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FE9B-E28A-4E23-9BDB-E5B9CC0B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F5F9-23BC-4EE4-BE0B-29868976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17D2-454C-4A55-B154-7AD14DFF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338F-456D-47A9-96A6-47EB1117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4EAA-67C1-400F-B7BE-6A15D77AA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D610-CE82-49BF-BAAC-820782696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B9A1-9221-4CA1-A23E-BF369A9A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1DB3-710E-4F74-9ED1-2C473C11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FCEF-CDA7-44F8-BEE5-B2115F1C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CAAE-BF5D-43BC-A537-5FDFA7F5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3586-6135-4934-9FF3-8E698992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16F1-348B-491B-AA13-FFD1A264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5455-6151-4666-AB6D-B96CC977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1F8A-6D4A-45CC-986B-2ACDF7A1332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4F41-4787-4CA2-9317-1E183BDF58C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44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301920"/>
            <a:ext cx="70358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Calidad y Mejoramiento de Procesos de Softwar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...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000" y="1754280"/>
            <a:ext cx="80010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1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iene que ver con los objetivos a largo plazo de mi empresa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2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be ser continuo. Los esfuerzos temporales no sirven para alcanzar objetivos a largo plaz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3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No hay recetas mágica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4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ada solución depende del diagnóstico inicial, que involucr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 la cultura organizacion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l proceso actu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 resultados de pruebas... Sobre la soluc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Mejoramiento del proceso de software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metodología deliberada y planeada, que sigue prácticas de documentación estandarizadas para capturar en el papel (y en la práctica) cada elemento del proceso de software, y determinar su valor agregado. Una herramienta útil para realizar esto: diagrama ETVX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iagrama ETV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24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roceso se compone de actividad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24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ada actividad se controla usando un modelo definido: </a:t>
            </a: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Entry-Task-Verification-eXi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24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La estructura del modelo requiere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conjunto predefinido de criterios de entrada, tareas, verificaciones, y criterios de salida para cada activ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iagrama ETV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920880" y="1835280"/>
            <a:ext cx="7835760" cy="44830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25440" y="2292480"/>
            <a:ext cx="2121120" cy="379728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68640" y="2292480"/>
            <a:ext cx="1892520" cy="158724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44560" y="3892680"/>
            <a:ext cx="368280" cy="52056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70120" y="2311560"/>
            <a:ext cx="961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ENTR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12600" y="2311560"/>
            <a:ext cx="783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TAS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94520" y="2387520"/>
            <a:ext cx="701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EXI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73040" y="4597560"/>
            <a:ext cx="170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66"/>
                </a:solidFill>
                <a:latin typeface="Comic Sans MS"/>
              </a:rPr>
              <a:t>VERIFIC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72240" y="2813040"/>
            <a:ext cx="201168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olític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rocedimien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ecurs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Financiamien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Entrenamien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Orient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roces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atrocini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esponsabilidades /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ol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Bases de Da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Herramientas /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Métod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19280" y="2813040"/>
            <a:ext cx="1350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la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ccio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Métric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form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27920" y="5022720"/>
            <a:ext cx="136728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Revisiones /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uditorí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Medicio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nálisi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8880" y="3193920"/>
            <a:ext cx="160020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Satisfacción d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Objetiv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ctiv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roduc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mpletad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11440" y="2901960"/>
            <a:ext cx="368280" cy="52056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6200000">
            <a:off x="5225760" y="3853800"/>
            <a:ext cx="444600" cy="67320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6200000">
            <a:off x="4425840" y="3892320"/>
            <a:ext cx="444600" cy="59688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8640" y="4502160"/>
            <a:ext cx="1892520" cy="158760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07280" y="2292480"/>
            <a:ext cx="2120760" cy="379728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50080" y="5111640"/>
            <a:ext cx="368280" cy="52092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616960" y="3892680"/>
            <a:ext cx="444600" cy="59688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10 Trampas a Evit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1728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Falta de compromiso superio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Expectativas irreales de la supervis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Líderes que no otorgan los recurso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Entrenamiento inadecuad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Que el logro de un nivel CMM sea el objetiv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Mala aplicación a nivel micr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Evaluaciones inefectiva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Retardo de la implementación de plan de ac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Mejoramiento de procesos se transforma en un jueg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Esperar que el proceso reemplace a la gente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Requisitos para el Mejora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120" y="1557360"/>
            <a:ext cx="8001000" cy="53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Ingenieros y gerentes inteligentes, entrenados, creativo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Trabajo en equipo efectiv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Cultura compartida focalizada hacia la calidad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Objetivos de mejoramiento claro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Métricas para controlar avance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Evaluación honesta de áreas en problema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Tiempo para seleccionar, pilotar, e implantar procesos mejorado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Liderazgos y expectativas superiores consistente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Todos están involucrados en los esfuerzos de mejoramient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Sentido común, combinado con un compromiso para mejorar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ntes de imponer una propuesta de mejora, se debe estar seguro de que funcionará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. para ello es recomendable hacer pruebas, y analizar los result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Un vez detectadas la o las estrategias válidas, se debe trabajar en detalle sobre la solu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utomatizar procesos es generalmente una buena opción (aunque no siempr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Se deben determinar objetivos, canales de comunicación, protocolos de comunicación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s importante que el mejoramiento no involucre grandes cambios, ya que la gente normalmente se resiste a ést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s importante que el mejoramiento sea continuo, para realizar grandes cambios pero a largo plazo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ambién para avanzar sobre la base de los resultados obtenid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oda empresa de software debería plantearse esto, desde el momento de su fundación...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SzPct val="13927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l mejoramiento del proceso de software no es un aspecto opcional....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delo IDE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400800" cy="49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mpromiso para Cambi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1508040" y="1959120"/>
            <a:ext cx="0" cy="35877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514520" y="5576400"/>
            <a:ext cx="5692680" cy="176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-546120" y="3387960"/>
            <a:ext cx="4689000" cy="141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0740000">
            <a:off x="4131720" y="3169080"/>
            <a:ext cx="4289040" cy="178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81"/>
                </a:moveTo>
                <a:arcTo wR="10800" hR="10800" stAng="-6092" swAng="5408640"/>
                <a:lnTo>
                  <a:pt x="10800" y="10800"/>
                </a:lnTo>
                <a:close/>
              </a:path>
              <a:path fill="none" w="21600" h="21600">
                <a:moveTo>
                  <a:pt x="21600" y="10781"/>
                </a:moveTo>
                <a:arcTo wR="10800" hR="10800" stAng="-6092" swAng="5408640"/>
              </a:path>
            </a:pathLst>
          </a:custGeom>
          <a:noFill/>
          <a:ln cap="rnd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0120" y="40338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22480" y="47880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8760" y="46926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98840" y="45450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27520" y="345276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89560" y="3244680"/>
            <a:ext cx="50760" cy="5112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73840" y="316224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85360" y="5738760"/>
            <a:ext cx="1226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Comic Sans MS"/>
              </a:rPr>
              <a:t>TIEMP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23760" y="2160720"/>
            <a:ext cx="362160" cy="34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Comic Sans MS"/>
              </a:rPr>
              <a:t>COMPROMIS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1720" y="4809960"/>
            <a:ext cx="10364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ntac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Nombr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61480" y="4743360"/>
            <a:ext cx="120852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ncienci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e70909"/>
                </a:solidFill>
                <a:latin typeface="Comic Sans MS"/>
              </a:rPr>
              <a:t>Buzzword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41440" y="4057560"/>
            <a:ext cx="14644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mprens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Concept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12920" y="4005360"/>
            <a:ext cx="12816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Ensay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Posibilidad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31400" y="3475080"/>
            <a:ext cx="11444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dop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Usos Libr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98680" y="2666880"/>
            <a:ext cx="20163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stitucionaliz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Sinergi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53680" y="3276720"/>
            <a:ext cx="1595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ternaliz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Asun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321480"/>
            <a:ext cx="74646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37800"/>
            <a:ext cx="7897680" cy="538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otiv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efini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Qué y cómo mejorar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lgunos Números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romiso para Cambi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50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es fácil de obten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o la mejora es relativamente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fáci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logr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75000"/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minución del esfuerzo - mayores competencias, mejores herramientas, métodos, estructuras de organización, planificación y control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jorar proce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jorar el Proceso </a:t>
            </a:r>
            <a:r>
              <a:rPr b="0" lang="en-US" sz="28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Mejorar el Produ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jorar el Proceso </a:t>
            </a:r>
            <a:r>
              <a:rPr b="0" lang="en-US" sz="28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Conocer Nuestra  Capacidad + Apoyarnos en un Estándar 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209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Es la medida de un concepto (generalmente) abstracto, que incluy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Forma de medir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stemática (reproducibl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mpl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ertin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Una escala de medida para ese concep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onstituyen mi información histórica registr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finirlas tempranamente (sólo las que sean útile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Usarlas para medi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umplimiento de requisitos, etapas, hitos,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mpacto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uidado con el exceso de contro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uego hay que confiar en ellas…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Ejemplos de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y tipo de requisitos por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y tipo de errores por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osto de corrección de errores, usando varios crite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oras/Hombre totales, y por fas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de líneas de código (o páginas Web) por proyecto, y por requisito fun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Uso de recursos (especialmente gent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Uso de componentes estándar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Duración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1697040" y="1628640"/>
          <a:ext cx="6330960" cy="50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7040" y="1628640"/>
                    <a:ext cx="633096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971640" y="2779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Ejemplos de Métrica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4360" y="350640"/>
            <a:ext cx="820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660066"/>
                </a:solidFill>
                <a:latin typeface="Arial"/>
              </a:rPr>
              <a:t>Ejemplo de Métricas en un Proceso de Mejor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755640" y="1700280"/>
            <a:ext cx="8153280" cy="4724280"/>
            <a:chOff x="755640" y="1700280"/>
            <a:chExt cx="8153280" cy="4724280"/>
          </a:xfrm>
        </p:grpSpPr>
        <p:graphicFrame>
          <p:nvGraphicFramePr>
            <p:cNvPr id="301" name=""/>
            <p:cNvGraphicFramePr/>
            <p:nvPr/>
          </p:nvGraphicFramePr>
          <p:xfrm>
            <a:off x="755640" y="2152440"/>
            <a:ext cx="6781680" cy="16812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5640" y="2152440"/>
                      <a:ext cx="6781680" cy="16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3" name=""/>
            <p:cNvGraphicFramePr/>
            <p:nvPr/>
          </p:nvGraphicFramePr>
          <p:xfrm>
            <a:off x="755640" y="4489560"/>
            <a:ext cx="8153280" cy="19350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5640" y="4489560"/>
                      <a:ext cx="8153280" cy="193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5" name=""/>
            <p:cNvSpPr/>
            <p:nvPr/>
          </p:nvSpPr>
          <p:spPr>
            <a:xfrm>
              <a:off x="796680" y="1700280"/>
              <a:ext cx="2102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66ff"/>
                  </a:solidFill>
                  <a:latin typeface="Univers Condensed"/>
                </a:rPr>
                <a:t>% de error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37360" y="4032360"/>
              <a:ext cx="2783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66ff"/>
                  </a:solidFill>
                  <a:latin typeface="Univers Condensed"/>
                </a:rPr>
                <a:t>Costos Asociado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Arial"/>
              </a:rPr>
              <a:t>Representación de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763640" y="1906560"/>
          <a:ext cx="7040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906560"/>
                    <a:ext cx="7040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FdP - 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nformación esencial pa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Formular el proyecto (tiempo, costo, recursos, etc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ntificar riesgos en forma tempra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rever planes de contingencia ante riesgos históric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ntificar áreas problemáticas y posibles estrategias de mejo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ejorar la competitividad de mis desarrol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Hay que prever en el plan de proyecto el tiempo para registrar y procesar métric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lgunos números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QSM Associates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porta reducciones de esfuerzo de hasta el 70%, debido al desarrollo basado en component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an Brown reporta reducciones de entre el 35 y el 55%, debido a la misma cau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T&amp;T Bell Lab reporta una reducción de los costos de corrección de errores, de al menos el 50%, debido al proceso de revisión de la arquitectu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ational Corp. reporta reducciones de hasta el 50% debido a la automatización de los procesos involucrados en el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 La comunidad internacional reporta una mejora sostenida en la calidad de los productos de software, debido al uso de patr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17280"/>
            <a:ext cx="8153280" cy="49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Toda empresa necesita y puede mejorar su proceso de desarrollo de Software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Mejorar el proceso impacta directamente en la competitividad y el futuro de la empresa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El proceso de mejoramiento debe ser lo más independiente posible de las personas involucradas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.... Es una forma de mantener la motivación de los empleados..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Es fundamental para esta nueva era de escenarios globales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Inmadurez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 ingeniería de software -&gt; estado de la práct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3 factores críticos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gente, tecnología, y proceso -&gt; principales determinantes de: costos, calendarios, productividad y calidad de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desarrollo actual de software está conducido por procesos, por lo tanto depende en gran medida de el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competencia me obliga a mejorar en forma continu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os nuevos paradigmas apuntan a desarrollo rápi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4428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24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1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Es posible mejorar la calidad del producto, por medio de la mejora de la calidad del proceso de software. ....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No puedo (debo) apostar por la gente, ni por la tecnología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9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24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2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No se puede mejorar algo que está en la cabeza de alguien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90000"/>
              </a:lnSpc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24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3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No se puede mejorar algo, si no se tiene la certeza de qué es lo que hay que mejorar y cuánto hay que mejorar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90000"/>
              </a:lnSpc>
              <a:spcBef>
                <a:spcPts val="601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20560" indent="-520560">
              <a:lnSpc>
                <a:spcPct val="90000"/>
              </a:lnSpc>
              <a:spcBef>
                <a:spcPts val="700"/>
              </a:spcBef>
              <a:spcAft>
                <a:spcPts val="2801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Capacidad (</a:t>
            </a:r>
            <a:r>
              <a:rPr b="1" i="1" lang="es-ES_tradnl" sz="2800" spc="-1" strike="noStrike">
                <a:solidFill>
                  <a:srgbClr val="40458c"/>
                </a:solidFill>
                <a:latin typeface="Tahoma"/>
              </a:rPr>
              <a:t>capability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)-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medición de madurez -&gt; predice la calidad </a:t>
            </a:r>
            <a:r>
              <a:rPr b="1" i="1" lang="es-ES_tradnl" sz="2800" spc="-1" strike="noStrike">
                <a:solidFill>
                  <a:srgbClr val="40458c"/>
                </a:solidFill>
                <a:latin typeface="Tahoma"/>
              </a:rPr>
              <a:t>del proceso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700"/>
              </a:spcBef>
              <a:spcAft>
                <a:spcPts val="2801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to indica la </a:t>
            </a:r>
            <a:r>
              <a:rPr b="0" i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previsibilidad de mis desarroll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en tiempo y costo requerido, y calidad del producto obten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700"/>
              </a:spcBef>
              <a:spcAft>
                <a:spcPts val="2801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la capacidad del proceso puede (y debe) ser mejor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700"/>
              </a:spcBef>
              <a:spcAft>
                <a:spcPts val="2801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. el tema es cómo?... y a qué precio?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spcAft>
                <a:spcPts val="1950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Necesidad de métricas, métodos y mucha conduct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spcAft>
                <a:spcPts val="1950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Dificultad para medir ciertos aspectos: 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riesgos, productividad, aumento de calidad, satisfacción de client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spcAft>
                <a:spcPts val="1950"/>
              </a:spcAft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Dificultad para identificar áreas claves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 de problema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spcAft>
                <a:spcPts val="1950"/>
              </a:spcAft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Necesidad de medición de los procesos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 para determinar avances futuros: seleccionar un modelo, recolectar datos, evaluar y refinar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07280" cy="499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1880" indent="-46188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Proceso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secuencia de pasos ejecutados con un propósito específic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Proceso de software: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njunto de actividades, métodos, prácticas, y transformaciones usados para desarrollar y mantener software y sus productos asociados, i.e. planes, documentos de diseño, código, casos de prueba, manua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504720" indent="-50472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SzPct val="113218"/>
              <a:buBlip>
                <a:blip r:embed="rId1"/>
              </a:buBlip>
              <a:tabLst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Mejoramiento del proceso de software: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-27720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40458c"/>
                </a:solidFill>
                <a:latin typeface="Tahoma"/>
              </a:rPr>
              <a:t>Comprender el estado actual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de la práctica de ingeniería de software y gestión en una organiza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-27720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40458c"/>
                </a:solidFill>
                <a:latin typeface="Tahoma"/>
              </a:rPr>
              <a:t>Seleccionar áreas de mejoramiento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donde los cambios pueden significar el mayor beneficio de largo plaz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-27720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40458c"/>
                </a:solidFill>
                <a:latin typeface="Tahoma"/>
              </a:rPr>
              <a:t>Focalizarse en agregar valor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al negocio, no en alcanzar una </a:t>
            </a:r>
            <a:r>
              <a:rPr b="0" i="1" lang="es-ES_tradnl" sz="2200" spc="-1" strike="noStrike">
                <a:solidFill>
                  <a:srgbClr val="40458c"/>
                </a:solidFill>
                <a:latin typeface="Tahoma"/>
              </a:rPr>
              <a:t>utopía de proces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-27720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Prosperar mediante la combinación de procesos efectivos con gente preparada, motivada y creativ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¿Qué mejora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el proc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¿Cómo mejora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Document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Midie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Previnie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Resolviendo (problem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Automatiz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Siendo hones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3:01:58Z</dcterms:created>
  <dc:creator>Mercedario</dc:creator>
  <dc:description/>
  <dc:language>en-US</dc:language>
  <cp:lastModifiedBy>Sergio F. Ochoa</cp:lastModifiedBy>
  <dcterms:modified xsi:type="dcterms:W3CDTF">2007-06-05T12:28:16Z</dcterms:modified>
  <cp:revision>35</cp:revision>
  <dc:subject/>
  <dc:title>CC51A – Ingeniería de Software</dc:title>
</cp:coreProperties>
</file>