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6B0-1698-4EA4-9C65-161844F4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264-2137-4F36-BD82-45D8F83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CD6-8063-449E-8B6D-9E463656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871-4C79-4394-9507-F6DC0FCA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6AA9-0B5C-4FF8-BA2E-7B2970A2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3C9-38D2-42BA-8746-04BCB09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A4E5-5058-4CC6-9D97-9FF5E75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08B6-3250-4BB9-B809-89ED83C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3EC-A1F8-4628-A21D-78A1A69F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C2A-2BFE-4884-8D8B-6F4F4E5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26FC-EC5B-4EE6-B714-06F41B2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292-EFF8-4AFB-96A4-8EAEE01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7702-9403-45D1-BEDA-C222600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E3E-50C6-4E3C-883D-A31B94B7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70B-16F3-4E73-94A5-85FCD57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820D-FB2D-40E7-B1DD-E52535D8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214-3BBA-4D32-8708-C7360042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EA5-1B8C-44DD-9A63-6A5D200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2A9-94C3-4197-80B6-B978340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1E0-8151-47BF-8A1B-70769F66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C6B-EFB1-4167-93F1-D534A83A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F7B-E89D-4E21-AD15-816BA0A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745-0CD1-47CA-AD10-31B5B8B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2AF-5E59-49CA-9D87-B82D826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510B-D8BB-411B-B68F-FE54AF9A6BD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E155-1994-42C7-8A26-E6576C91F0E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xisten clasificaciones para el estilo de adm. de proyectos, tales como la propuesta por el Project Mangement Institut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(PMI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FORMAL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(legitimado) con autoridad basada en la posi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STIMULANTE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entregando reconocimiento o incen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COERCITIV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capacidad pun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EXPERT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con habilidad téc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-28584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0066"/>
                </a:solidFill>
                <a:latin typeface="Arial"/>
              </a:rPr>
              <a:t>RESPALDADO: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 basado en la referencia de la autoridad de alguien en posi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stilos de administ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4247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El PMI establece que los mejores estilos son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XPERTO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ESTIMULANTE</a:t>
            </a: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 y el peor es el </a:t>
            </a:r>
            <a:r>
              <a:rPr b="0" lang="es-CL" sz="2800" spc="-1" strike="noStrike">
                <a:solidFill>
                  <a:srgbClr val="660066"/>
                </a:solidFill>
                <a:latin typeface="Arial"/>
              </a:rPr>
              <a:t>COERCITIV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2925720"/>
            <a:ext cx="1619280" cy="2171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087880"/>
            <a:ext cx="777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40458c"/>
                </a:solidFill>
                <a:latin typeface="Arial"/>
              </a:rPr>
              <a:t>Steve Jobs                Bill Gates              Sadam Husse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1511280" cy="1444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78560" y="3286080"/>
            <a:ext cx="1406520" cy="1754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5516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Arial"/>
              </a:rPr>
              <a:t>Nuestras características personales, influencian nuestro estilo para planificar y administrar los proyecto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42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Arial"/>
              </a:rPr>
              <a:t>¿Cuál es su estilo personal de planificación/administración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or muchas razones no todas las personas realizan una actividad de la misma manera, inclusive si han tenido la misma formación y entren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hora vamos a identificar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cuál es su estil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 planificar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o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administrar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n proyecto.  Para ello responda el siguiente test, eligiendo la frase de cada línea que mejor lo describe a usted y al modo en que usted realiza su trabaj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90520" y="1852560"/>
          <a:ext cx="7619760" cy="4600440"/>
        </p:xfrm>
        <a:graphic>
          <a:graphicData uri="http://schemas.openxmlformats.org/drawingml/2006/table">
            <a:tbl>
              <a:tblPr/>
              <a:tblGrid>
                <a:gridCol w="442800"/>
                <a:gridCol w="3724200"/>
                <a:gridCol w="345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so a pa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do de un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alma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oción bajo presió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nto pero estab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Rápido y ten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promed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nsación de urgencia al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ac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centrarse en u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r muchas cosas a la vez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nsioso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o se afecta por cambios inesperad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ulsado por las emociones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cis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xal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planificación diaria detallad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Usa notas en ‘Post-It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1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1" lang="es-ES" sz="24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2</a:t>
                      </a:r>
                      <a:r>
                        <a:rPr b="1" lang="es-E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611280" y="186840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4440" y="1882800"/>
          <a:ext cx="7620120" cy="4282920"/>
        </p:xfrm>
        <a:graphic>
          <a:graphicData uri="http://schemas.openxmlformats.org/drawingml/2006/table">
            <a:tbl>
              <a:tblPr/>
              <a:tblGrid>
                <a:gridCol w="443160"/>
                <a:gridCol w="3443040"/>
                <a:gridCol w="37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na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detal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rientado al cuadro gener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os hech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asado en la lóg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mparación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vita comparaciones con el pas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vestiga much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Hace lo que le parece adecu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respalda en teorí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cide basado en experi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algún tiempo para decidi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oma decisiones rápida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mplementa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mprended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fensiv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bstin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utocrí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gur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Omite algunos detal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3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r>
                        <a:rPr b="0" lang="es-ES" sz="1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Total Columna 4</a:t>
                      </a:r>
                      <a:r>
                        <a:rPr b="0" lang="es-E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11280" y="194796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Sección 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6560" y="3659040"/>
          <a:ext cx="7010280" cy="993960"/>
        </p:xfrm>
        <a:graphic>
          <a:graphicData uri="http://schemas.openxmlformats.org/drawingml/2006/table">
            <a:tbl>
              <a:tblPr/>
              <a:tblGrid>
                <a:gridCol w="1655640"/>
                <a:gridCol w="1949400"/>
                <a:gridCol w="1673280"/>
                <a:gridCol w="17319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11280" y="3633840"/>
            <a:ext cx="1371600" cy="380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Result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61600" y="1844280"/>
            <a:ext cx="76820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Arial"/>
              </a:rPr>
              <a:t>Cuente las marcas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que hizo en cada columna, y coloquer el resultado en el siguiente recuad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535040"/>
            <a:ext cx="1371600" cy="381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Interpre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916280"/>
            <a:ext cx="84247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1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2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ÓTIC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3, Ud. tiene estilo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DOCUMENTAD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Si marcó 6 o más en Columna 4, Ud. tiene estilo de </a:t>
            </a:r>
            <a:r>
              <a:rPr b="0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MARCADOR DE TENDENCI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Observa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El marcar más de 6 frases en una columna no indica que Ud. no tenga características de las columnas en que marcó 4 o menos frases.  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De hecho, Ud. puede tener tendencias de comportamientos de todos los tipos.  Sin embargo, la tendencia dominante será la de la columna en que realizó más marc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25520" y="1290600"/>
          <a:ext cx="8610480" cy="5384880"/>
        </p:xfrm>
        <a:graphic>
          <a:graphicData uri="http://schemas.openxmlformats.org/drawingml/2006/table">
            <a:tbl>
              <a:tblPr/>
              <a:tblGrid>
                <a:gridCol w="1066680"/>
                <a:gridCol w="1995480"/>
                <a:gridCol w="1658880"/>
                <a:gridCol w="1986120"/>
                <a:gridCol w="1903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cionis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aót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ocumentad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arca Tendenci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ortaleza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ueno como organiz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reciso y de calidad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nám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rticipa en proyectos simultáne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ran sentido de urgencia y energía ilimitad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persuasivo e interesa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tallist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iende a ver las cosas desde lo ‘micro’ quedándose atrá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efiere evaluar u obtener aprobación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exacto y metódi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novad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enera muchas ideas durante brainstorming de alternativas a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onfiado y con capacidad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bajo visionario y sin burocra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otenciales debilidad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ificultad para afrontar cambios en el trabaj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ejar más de 1 proyecto a la vez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de foc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e aburre o pierde la atención fácil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as ramas no le dejan ver el bosqu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l plan puede atrasarse por detenerse en el análisis de opcio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stá a la defensiva cuando otros critican sus plan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roblemas para aceptar las ideas de otr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uede decidir sin observar todos los ángul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rustración cuando debe mantener el 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status quo</a:t>
                      </a: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del proyecto</a:t>
                      </a:r>
                      <a:r>
                        <a:rPr b="0" i="1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7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ips para el desarroll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cambi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2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el modo de manejar múltiples tareas simultáneas metódicamente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segúrese de tener línea de comunicación abierta con su superviso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tiemp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su pacienci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inimice las distracciones al trabajar en tareas prioritaria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l riesgo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Mantenga a la vista los grandes objetivos del plan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te de aceptar los comentarios positivamente y no esté a la defensiva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Entrénese en adm. de proyecto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esarrolle la atención a los detalles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spcBef>
                          <a:spcPts val="414"/>
                        </a:spcBef>
                        <a:spcAft>
                          <a:spcPts val="414"/>
                        </a:spcAft>
                        <a:buSzPct val="113034"/>
                        <a:buBlip>
                          <a:blip r:embed="rId3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ermita a otros hacer sugerencias antes de decidir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0" y="12952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aracterístic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557360"/>
            <a:ext cx="1655640" cy="5335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Algun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66"/>
                </a:solidFill>
                <a:latin typeface="Verdana"/>
                <a:ea typeface="Times New Roman"/>
              </a:rPr>
              <a:t>combinacion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33720"/>
            <a:ext cx="828180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PERFECCIONISTA y DOCUMENT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implantador con falta de “garra”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bosque en vez de las ramas y en el manejo del cambi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CAOTICO y MARCADOR DE TEND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Probablemente es percibido como un </a:t>
            </a: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emprendedor encantador y persuasivo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, un apasionado de los nuevos modos y cosa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Tip:</a:t>
            </a:r>
            <a:r>
              <a:rPr b="0" lang="es-ES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Concéntrese en el manejo de los detalles, en aprender a ser paciente y perseverant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Administrador del Proyecto debe defini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tocolo de coordin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los miembros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finir lo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es de opin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ntro del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nales/Jerarquí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normales) de distribución de infor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canismo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autoridad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tienen los miembros del equipo, frente a terc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que brindará al grupo, frente a perturbaciones exter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4567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 ¿qué tan bien o mal lo estamos hacen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5000"/>
              </a:lnSpc>
              <a:spcBef>
                <a:spcPts val="9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se requiere para desarrollar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es una tarea aún más comple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4800" indent="-5148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las cosas al cliente/usua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por ejempl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-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7-05-03T12:28:11Z</dcterms:modified>
  <cp:revision>120</cp:revision>
  <dc:subject/>
  <dc:title>CC51A</dc:title>
</cp:coreProperties>
</file>