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551-AC41-49BF-A36A-1DF8C4AB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7D4-9A47-40E7-B99B-59E30847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0D9-E107-4CC3-BBC7-FEB4649F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40F-E4A9-423F-BC7E-156123FB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3418-EA5B-467B-9354-B6FC45B7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C784-D6C0-407E-8A2D-3E3EC35E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3D64-3900-4852-AB22-5E2C0C96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ACE6-6E6A-441E-9CB0-18E85F48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F643-2B75-4A7F-A98A-E414BF08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C9FA-70F7-410B-9377-8E8E8D6A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F0AD-EE22-49EE-A658-09E096E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799-D51C-47AD-A113-8E5161AE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9885-17F5-45E2-86B9-0BEB1BB8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91C4-D0D5-48DC-ABDF-66B7FD9C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049D-8AB6-479A-89B3-5EF93D47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D97B-E41A-43E6-8DD6-679104CE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5804-D3CF-4F59-82A3-D6AB22EB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FA0-205A-425C-B452-25CC91C2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24E-E965-447E-A0AD-89C9F93F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373-7A84-4197-AA5A-CA09DFED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E78-6118-477E-B3D2-689C8306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656-8C74-482D-A3AB-9AA50656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710-0C8B-4208-85DD-7E294121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6CF-2F18-4716-9BC9-21D5D13D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A066-F87A-49A8-94AC-5C32E7CE3AD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2980-30F0-4C7F-9665-20C4B6331AF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Tahoma"/>
              </a:rPr>
              <a:t>Introducción a la 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, Parte b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Formas de monitore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In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Llevar a cab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reuniones periódica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en las cuales los participantes informan del estado de las tareas, el progreso o los problemas encontrado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Determinar si las metas están siendo cumplidas de acuerdo a lo programado, usand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heckpoint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omparar los recurso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planeados contra los realmente gastados, para las distintas tareas. Emitir alertas en caso de ser necesario (por ej. Para disparar un plan de contingencia)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l detectar problemas con la planif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ignar más recurs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al área afec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adecuar el personal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n gener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ambiar la progra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tareas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sar técnicas de “time-box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Básicamente, es una estrategia de tip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l llegar al límite de tiempo de una tarea para ese incremento, esa tarea se detiene y comienza la sigu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unque una tarea no esté completa, muchas veces es posible postergar la última parte para el siguien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áximas....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78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mayoría de las veces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inistrado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del proyecto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arca la diferenci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entre el éxito o el fracaso de un proyecto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estión es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tan importante como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la parte técnica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 es difícil encontrar un buen administrador de proyec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administración de proyectos es una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disciplina que se debe aprende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 un equipo de trabajo,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. de proyectos es quien peor la pas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stilos de administ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497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xisten clasificaciones para el estilo de adm. de proyectos, tales como la propuesta por el Project Mangement Institut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(PMI)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FORMAL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(legitimado) con autoridad basada en la posi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ESTIMULANTE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entregando reconocimiento o incen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COERCITIV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con capacidad punitiv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EXPERT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con habilidad téc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RESPALDAD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basado en la referencia de la autoridad de alguien en posi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stilos de administ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42472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El PMI establece que los mejores estilos son el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EXPERTO</a:t>
            </a: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 y el 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ESTIMULANTE</a:t>
            </a: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 y el peor es el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COERCITIV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19280" y="2925720"/>
            <a:ext cx="1619280" cy="2171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71640" y="5087880"/>
            <a:ext cx="7777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40458c"/>
                </a:solidFill>
                <a:latin typeface="Arial"/>
              </a:rPr>
              <a:t>Steve Jobs                Bill Gates              Sadam Hussei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995640" y="3573360"/>
            <a:ext cx="1511280" cy="1444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478560" y="3286080"/>
            <a:ext cx="1406520" cy="1754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5516640"/>
            <a:ext cx="799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Nuestras características personales, influencian nuestro estilo para planificar y administrar los proyecto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424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66"/>
                </a:solidFill>
                <a:latin typeface="Arial"/>
              </a:rPr>
              <a:t>¿Cuál es su estilo personal de planificación/administración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or muchas razones no todas las personas realizan una actividad de la misma manera, inclusive si han tenido la misma formación y entrenamien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hora vamos a identificar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 cuál es su estil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ara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 planificar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o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administrar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n proyecto.  Para ello responda el siguiente test, eligiendo la frase de cada línea que mejor lo describe a usted y al modo en que usted realiza su trabaj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90520" y="1852560"/>
          <a:ext cx="7619760" cy="4600440"/>
        </p:xfrm>
        <a:graphic>
          <a:graphicData uri="http://schemas.openxmlformats.org/drawingml/2006/table">
            <a:tbl>
              <a:tblPr/>
              <a:tblGrid>
                <a:gridCol w="442800"/>
                <a:gridCol w="3724200"/>
                <a:gridCol w="3452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so a pa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do de una vez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alma bajo presió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moción bajo presió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nto pero establ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Rápido y ten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nsación de urgencia promed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nsación de urgencia al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c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ac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centrarse en u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Hacer muchas cosas a la vez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nsioso por cambios inesperad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No se afecta por cambios inesperad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ulsado por los hech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ulsado por las emociones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ci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xalt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Usa planificación diaria detallad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Usa notas en ‘Post-It’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1</a:t>
                      </a:r>
                      <a:r>
                        <a:rPr b="1" lang="es-E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r>
                        <a:rPr b="1" lang="es-ES" sz="24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2</a:t>
                      </a:r>
                      <a:r>
                        <a:rPr b="1" lang="es-E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611280" y="1868400"/>
            <a:ext cx="1371600" cy="381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Sección 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4440" y="1882800"/>
          <a:ext cx="7620120" cy="4282920"/>
        </p:xfrm>
        <a:graphic>
          <a:graphicData uri="http://schemas.openxmlformats.org/drawingml/2006/table">
            <a:tbl>
              <a:tblPr/>
              <a:tblGrid>
                <a:gridCol w="443160"/>
                <a:gridCol w="3443040"/>
                <a:gridCol w="373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rientado al detall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rientado al cuadro genera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asado en los hech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asado en la lóg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mparación con el pas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vita comparaciones con el pas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vestiga much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Hace lo que le parece adecu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 respalda en teoría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cide basado en exper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ma algún tiempo para decidi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ma decisiones rápida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lementad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mprended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fensiv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bstin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utocrít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gur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erfeccionis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mite algunos detal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3</a:t>
                      </a:r>
                      <a:r>
                        <a:rPr b="0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r>
                        <a:rPr b="0" lang="es-ES" sz="1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4</a:t>
                      </a:r>
                      <a:r>
                        <a:rPr b="0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611280" y="1947960"/>
            <a:ext cx="1371600" cy="380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Sección 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6560" y="3659040"/>
          <a:ext cx="7010280" cy="993960"/>
        </p:xfrm>
        <a:graphic>
          <a:graphicData uri="http://schemas.openxmlformats.org/drawingml/2006/table">
            <a:tbl>
              <a:tblPr/>
              <a:tblGrid>
                <a:gridCol w="1655640"/>
                <a:gridCol w="1949400"/>
                <a:gridCol w="1673280"/>
                <a:gridCol w="17319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11280" y="3633840"/>
            <a:ext cx="1371600" cy="380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Result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61600" y="1844280"/>
            <a:ext cx="76820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Arial"/>
              </a:rPr>
              <a:t>Cuente las marcas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que hizo en cada columna, y coloquer el resultado en el siguiente recuad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175248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535040"/>
            <a:ext cx="1371600" cy="381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Interpre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916280"/>
            <a:ext cx="842472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1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PERFECCIONIST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2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CAÓTIC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3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DOCUMENTAD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4, Ud. tiene estilo de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MARCADOR DE TENDENCI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Observación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El marcar más de 6 frases en una columna no indica que Ud. no tenga características de las columnas en que marcó 4 o menos frases.  </a:t>
            </a:r>
            <a:br>
              <a:rPr sz="1800"/>
            </a:b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  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De hecho, Ud. puede tener tendencias de comportamientos de todos los tipos.  Sin embargo, la tendencia dominante será la de la columna en que realizó más marc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25520" y="1290600"/>
          <a:ext cx="8610480" cy="5384880"/>
        </p:xfrm>
        <a:graphic>
          <a:graphicData uri="http://schemas.openxmlformats.org/drawingml/2006/table">
            <a:tbl>
              <a:tblPr/>
              <a:tblGrid>
                <a:gridCol w="1066680"/>
                <a:gridCol w="1995480"/>
                <a:gridCol w="1658880"/>
                <a:gridCol w="1986120"/>
                <a:gridCol w="1903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erfeccionis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aót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Document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Marca Tend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ortaleza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etód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ueno como organizad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fiere 1 proyecto a la vez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preciso y de calidad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inám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rticipa en proyectos simultáne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Gran sentido de urgencia y energía ilimitad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persuasivo e interesa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tallist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iende a ver las cosas desde lo ‘micro’ quedándose atrá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fiere evaluar u obtener aprobación antes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exacto y metód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novad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Genera muchas ideas durante brainstorming de alternativas al plan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fiado y con capacidad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visionario y sin burocraci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otenciales debilidad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ificultad para afrontar cambios en el trabaj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Frustración cuando debe manejar más de 1 proyecto a la vez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blemas de fo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 aburre o pierde la atención fácilme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as ramas no le dejan ver el bosqu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l plan puede atrasarse por detenerse en el análisis de opcion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stá a la defensiva cuando otros critican sus plan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blemas para aceptar las ideas de otr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uede decidir sin observar todos los ángul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Frustración cuando debe mantener el </a:t>
                      </a:r>
                      <a:r>
                        <a:rPr b="0" i="1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tatus quo</a:t>
                      </a: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del proyecto</a:t>
                      </a:r>
                      <a:r>
                        <a:rPr b="0" i="1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7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ips para el desarroll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cambi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el modo de manejar múltiples tareas simultáneas metódicame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segúrese de tener línea de comunicación abierta con su supervis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tiemp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su pacienci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inimice las distracciones al trabajar en tareas prioritaria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riesg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antenga a la vista los grandes objetivos del plan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te de aceptar los comentarios positivamente y no esté a la defensiv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 proyect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la atención a los detall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ermita a otros hacer sugerencias antes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0" y="1295280"/>
            <a:ext cx="1600200" cy="38124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Característic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557360"/>
            <a:ext cx="1655640" cy="53352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Algun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combinacion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2133720"/>
            <a:ext cx="8281800" cy="43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PERFECCIONISTA y DOCUMENT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robablemente es percibido como un </a:t>
            </a: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implantador con falta de “garra”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Tip: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Concéntrese en el bosque en vez de las ramas y en el manejo del cambi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CAOTICO y MARCADOR DE TENDENC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robablemente es percibido como un </a:t>
            </a: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emprendedor encantador y persuasivo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, un apasionado de los nuevos modos y cos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Tip: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Concéntrese en el manejo de los detalles, en aprender a ser paciente y perseverant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45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Administrador del Proyecto debe defini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otocolo de coordin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los miembros del equip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finir los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es de opin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ntro del equip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anales/Jerarquí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normales) de distribución de infor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canismos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monitore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ntro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autoridad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que tienen los miembros del equipo, frente a terce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protec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que brindará al grupo, frente a perturbaciones exter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¿Cómo Mejorar la Adm. de Proyectos de Software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6880" y="1628640"/>
            <a:ext cx="84567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1049"/>
              </a:spcBef>
              <a:spcAft>
                <a:spcPts val="12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Requiere saber ¿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ónde estamos ho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?. Con exactitud !!! ¿qué tan bien o mal lo estamos hacen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spcAft>
                <a:spcPts val="12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ere revisar/rediseñ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proceso de administración de proyectos actu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ingeniería de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planificación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seguimiento y control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aseguramiento de la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administración de la configu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xpansión de los sistem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 en tamaño, complejidad, distribución e importancia empuja los límites de lo que se requiere para desarrollar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ratar de avanzar más allá de los sistemas legados, hacia tecnologías más modernas, trae su propio conjunto d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técnic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organiza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imprevis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nunca faltan…(rotación de personal, apuro por razones de mercado, etc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administración de proyectos de software se hac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da vez más difíci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 obliga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empresas de desarrollo 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mejorar su productividad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manteniendo o mejorando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lidad de sus produc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realizando además desarrollos más rápidos y económ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icionalmente,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velocidad de preparación de persona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desarrollo calificado, es menor que la requerid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emás, actualmente el personal requier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s adi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tradicionales (por ej. diseño gráfico, diseño de procesos de negocio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onstrucción y mantención de software es una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tarea difíci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y será aún más difíci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Construir software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una cierta calidad,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en forma repetibl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es una tarea aún más complej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do esto se refleja en la Administración de Proyectos.... Este es el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por qué?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de las máximas antes mencionad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os Síntomas Comune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135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Imprecisión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n el entendimiento de las necesidades del usuario final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Nadie sab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xactamente cuál es el estado de avance del proyec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Falta de habilidad/resistencia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para manejar requisitos cambia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Módulos que no calza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Evitamos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mostrarle las cosas al cliente/usua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Software que es difícil de mantener o extende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lgunos Síntomas Comunes (cont..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escubrimiento tardí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fallas seri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 sabemos cómo manejar 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ajen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como por ejemplo el Y2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embros del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quipo en muchas cos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o ausentes, haciendo imposible reconstruir historia de camb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Falta (o problemas) de comunic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entre los miembros del equi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tiempos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s están asfixiando …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Napole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Si no estam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convencidos con el plan,.... no podremos administrar nad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administración (o gestión) requiere: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 y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ontrol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dministraci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requisit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-ho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planifica, per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no se re-planif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municación ambigua e im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ntro y fuera d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sponsabilidades y rol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fus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rquitectura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escabros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Complejidad y/o tamañ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 los proyectos es muy grande. Falta de segmentación del probl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consistencias no detectad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requisitos, diseño 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ol in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o insu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valuación subjetiv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 estad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capac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s miembros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rabajar en grup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Falla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ara analizar y ataca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los riesg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Propaga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cambio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o controlad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zación insuficiente o falta de herramie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as Práctica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4000" y="1630080"/>
            <a:ext cx="813564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construir buen software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no basta con ser buen programado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ello, hay que conocer, planificar y controlar las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actividades y recursos asignados a un proyect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iste una nueva 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ola en ingeniería de softwar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basada en dichos principios, que permite visualizar el futuro en forma más optimis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definición de cada macro-tare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, junto con estimaciones de tiempos y recursos requer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además un marco de referencia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monitoreo y control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 es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l proyecto se desarrolla al comienzo pero e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continuamente refinad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a medida que el trabajo prog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6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controlar (monitorear) todo... pero el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monitoreo es un medio, no un fin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n embargo,…. Cita clásic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188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Es necesario ir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comparando las estimaciones 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iniciales, con las reales, tan pronto como se pue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reaccionar rápido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 ante los riesg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336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consiste en establecer lo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hitos, 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y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curs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necesarios para lograr una met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involucra también la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para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hequear el avance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involucra también el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definir la 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sobre la marcha, aportando medidas para palear los desfasajes respecto a la planificación inici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ontrol (o seguimiento)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ara hacer esto hay que seguir una serie de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Principios Básicos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gmentación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el proyecto debe ser separado en un número manejable de actividades y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Interdependenci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signación de recurso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a cada tarea se le debe asignar un cierto número de recurs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G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ursos tecnológicos y físic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Fechas de inicio y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819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Validación del esfuerz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se debe verificar qu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gente afectada a una tarea esté disponibl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cantidad no esté sobredimensiona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a su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responsabilidade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alida definid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meta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grupo de tareas debe estar asociado con una me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ificación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12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 pueden usar cosas como PERT o CP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ualquiera de estos métodos provee mecanismos pa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determinar la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ruta crítica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(secuencia de tareas que define la duración del proyect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stablece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estimaciones probabl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para tareas individu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lcula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tiempos límit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que definen ventanas de tiempo para las distint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xisten herramientas de software para e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lanificación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contrastar la realidad contra lo planificado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, ... y generar planes de contingencia,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monitorear (controlar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odo, así me aseguraré de tener “las riendas el proyecto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Monitorear es un medio.... No un fi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1999-10-28T19:03:53Z</cp:lastPrinted>
  <dcterms:modified xsi:type="dcterms:W3CDTF">2007-05-03T12:28:11Z</dcterms:modified>
  <cp:revision>120</cp:revision>
  <dc:subject/>
  <dc:title>CC51A</dc:title>
</cp:coreProperties>
</file>