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9D9-1D25-4875-826E-D9A4C140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AE7-DDE3-482F-9487-CB686F0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F00-3B24-466D-8221-94F6F3FE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5B2-F390-49D8-9249-3D44A70B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F43-1DAA-4128-AC2C-F804628E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E0A-AF40-471B-9DCE-72BD502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9AA-196E-408A-9997-79666F8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65B-ED88-4829-9F74-1AF46F08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163-7403-43F3-BCF6-AA1114F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030-71F6-48CC-B17E-06203E0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CC6-FB1D-4830-86B6-F41E406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668-880D-47EB-A018-567A0D36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9AB-555C-48A5-902A-78405A5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742C-E030-4B86-BC0B-FB8A9B1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4D7-2466-4160-9C85-E571C13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2C6-A22F-490F-8FE4-6CD71E65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B26-1CC4-4975-BA14-0DFCA03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896-17FA-423E-A8FE-84D4F23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F9A-72D3-4BD9-AE16-4938744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B21-15F7-4655-B12E-5756A82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95B-0E1C-4132-B5DE-705F463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FBF-36C3-4274-A3DD-689A765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85F-CFBE-44F5-A791-D25F234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35E-35DF-490B-BF13-FE8F20F4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895-6C01-471A-8E3A-B0ADFD51812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BB70-5B07-4453-B8EA-12C23CE0F58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xisten clasificaciones para el estilo de adm. de proyectos, tales como la propuesta por el Project Mangement Institut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(PMI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FORMAL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(legitimado) con autoridad basada en la posi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STIMULANTE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entregando reconocimiento o incen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COERCITIV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capacidad pun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XPERT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habilidad téc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RESPALDAD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basado en la referencia de la autoridad de alguien en posi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4247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El PMI establece que los mejores estilos son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XPERTO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STIMULANTE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peor es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COERCITIV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2925720"/>
            <a:ext cx="1619280" cy="2171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087880"/>
            <a:ext cx="777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Steve Jobs                Bill Gates              Sadam Husse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1511280" cy="1444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78560" y="3286080"/>
            <a:ext cx="1406520" cy="1754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5516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Nuestras características personales, influencian nuestro estilo para planificar y administrar los proyecto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42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Arial"/>
              </a:rPr>
              <a:t>¿Cuál es su estilo personal de planificación/administración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or muchas razones no todas las personas realizan una actividad de la misma manera, inclusive si han tenido la misma formación y entren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hora vamos a identificar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cuál es su estil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planificar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administrar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n proyecto.  Para ello responda el siguiente test, eligiendo la frase de cada línea que mejor lo describe a usted y al modo en que usted realiza su trabaj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90520" y="1852560"/>
          <a:ext cx="7619760" cy="4600440"/>
        </p:xfrm>
        <a:graphic>
          <a:graphicData uri="http://schemas.openxmlformats.org/drawingml/2006/table">
            <a:tbl>
              <a:tblPr/>
              <a:tblGrid>
                <a:gridCol w="442800"/>
                <a:gridCol w="3724200"/>
                <a:gridCol w="345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so a pa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do de un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alma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oción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nto pero estab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ápido y ten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promed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al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centrarse en u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r muchas cosas a l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nsioso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se afecta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as emociones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ci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xal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planificación diaria detallad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notas en ‘Post-It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1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1" lang="es-ES" sz="24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2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11280" y="186840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4440" y="1882800"/>
          <a:ext cx="7620120" cy="4282920"/>
        </p:xfrm>
        <a:graphic>
          <a:graphicData uri="http://schemas.openxmlformats.org/drawingml/2006/table">
            <a:tbl>
              <a:tblPr/>
              <a:tblGrid>
                <a:gridCol w="443160"/>
                <a:gridCol w="3443040"/>
                <a:gridCol w="37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detal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cuadro gener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a lóg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aración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vita comparaciones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vestiga much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 lo que le parece adecu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respalda en teorí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cide basado en exper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algún tiempo para decidi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decisiones rápid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lementa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prende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fensiv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bstin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utocrí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gur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mite algunos detal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3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0" lang="es-ES" sz="1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4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11280" y="194796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6560" y="3659040"/>
          <a:ext cx="7010280" cy="993960"/>
        </p:xfrm>
        <a:graphic>
          <a:graphicData uri="http://schemas.openxmlformats.org/drawingml/2006/table">
            <a:tbl>
              <a:tblPr/>
              <a:tblGrid>
                <a:gridCol w="1655640"/>
                <a:gridCol w="1949400"/>
                <a:gridCol w="1673280"/>
                <a:gridCol w="17319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11280" y="363384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Result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61600" y="1844280"/>
            <a:ext cx="76820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Arial"/>
              </a:rPr>
              <a:t>Cuente las marcas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que hizo en cada columna, y coloquer el resultado en el siguiente recuad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53504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Interpre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916280"/>
            <a:ext cx="84247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1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2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ÓTIC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3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DOCUMENTAD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4, Ud. tiene estilo de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MARCADOR DE TENDENCI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Observa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El marcar más de 6 frases en una columna no indica que Ud. no tenga características de las columnas en que marcó 4 o menos frases.  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 hecho, Ud. puede tener tendencias de comportamientos de todos los tipos.  Sin embargo, la tendencia dominante será la de la columna en que realizó más marc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25520" y="1290600"/>
          <a:ext cx="8610480" cy="5384880"/>
        </p:xfrm>
        <a:graphic>
          <a:graphicData uri="http://schemas.openxmlformats.org/drawingml/2006/table">
            <a:tbl>
              <a:tblPr/>
              <a:tblGrid>
                <a:gridCol w="1066680"/>
                <a:gridCol w="1995480"/>
                <a:gridCol w="1658880"/>
                <a:gridCol w="1986120"/>
                <a:gridCol w="1903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aó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ocumen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arca Tend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ortaleza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eno como organiz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reciso y de calidad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nám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rticipa en proyectos simultáne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ran sentido de urgencia y energía ilimitad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ersuasivo e interesa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llist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iende a ver las cosas desde lo ‘micro’ quedándose atrá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evaluar u obtener aprobación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exacto y 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nov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enera muchas ideas durante brainstorming de alternativas a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fiado y con capacidad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visionario y sin burocra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otenciales debilidad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ficultad para afrontar cambios en el trabaj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ejar más d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de fo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aburre o pierde la atención fácil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as ramas no le dejan ver el bosqu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l plan puede atrasarse por detenerse en el análisis de opcio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stá a la defensiva cuando otros critican sus pla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para aceptar las ideas de otr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uede decidir sin observar todos los ángul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tener el 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tatus quo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del proyecto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7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ips para el desarroll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cambi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el modo de manejar múltiples tareas simultáneas metódica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segúrese de tener línea de comunicación abierta con su supervis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tiemp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su pacien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inimice las distracciones al trabajar en tareas prioritaria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riesg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ga a la vista los grandes objetivos de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te de aceptar los comentarios positivamente y no esté a la defensiv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 proyect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la atención a los detall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mita a otros hacer sugerencias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0" y="12952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aracterístic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557360"/>
            <a:ext cx="1655640" cy="5335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Algun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ombinacion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33720"/>
            <a:ext cx="828180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 y DOCUMENT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implantador con falta de “garra”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bosque en vez de las ramas y en el manejo del cambi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OTICO y MARCADOR DE TEND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emprendedor encantador y persuasivo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, un apasionado de los nuevos modos y cos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manejo de los detalles, en aprender a ser paciente y perseverant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Administrador del Proyecto debe defini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tocolo de coordin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los miembros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finir lo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es de opin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ntro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nales/Jerarquí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normales) de distribución de infor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canismo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autoridad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tienen los miembros del equipo, frente a terc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brindará al grupo, frente a perturbaciones exter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4567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 ¿qué tan bien o mal lo estamos hacen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se requiere para desarrollar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es una tarea aún más comple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las cosas al cliente/usua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por ejempl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-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7-05-03T12:28:11Z</dcterms:modified>
  <cp:revision>120</cp:revision>
  <dc:subject/>
  <dc:title>CC51A</dc:title>
</cp:coreProperties>
</file>