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63240" y="72360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6F822E21-114A-4E2F-BA7F-DBB5073E60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BBE26D5D-E49E-4CD1-ABA9-302332010A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5356FA05-4097-482A-8935-E3E82F08E8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84595598-8CE6-4FD7-8471-3D6007CDEF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50EF64F0-48FB-4B80-83A7-976D4EA850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91917053-8EDC-4AF8-B65E-2D00CE23FE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4599D6EB-ACD2-4976-B44F-7837042C01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23C-1A3B-40C9-9015-92ED5E6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55B-867D-4364-A2B5-4785258B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4F7-7C3F-46F2-9D1E-591E0A77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C62-0AAD-410C-90AD-2C0CA841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3F83-98D7-41F6-A8A4-7B0166D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646A-5B70-482A-8A47-A8951BC9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CC1F-D9BE-4ABB-8EFB-01A1FE11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807B-52AE-4796-A6FC-8265F7C8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D921-5C6E-42AC-A782-A9B9216D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8EF4-0AAA-472E-8DB6-A7B08658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21C6-AC8F-4D1F-8B84-D2456717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969-890E-47DE-98C1-30533A0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2DED-E92D-4DD4-8F84-5829A047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00B-D6B1-4AC2-A386-53314A30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DED-3308-4607-97A7-2B4D03E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A211-3009-4624-BEE4-66C6129D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91BC-3D3C-42C8-BF23-72123AB5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59A-A3B2-41B3-8CA9-76BA47F0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BC6-CE2D-4F90-9BF5-C0160CAE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B19-07BC-4478-9B97-02E12FAC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A6A-9683-4DA2-B9E3-652BD40A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50B-5E0E-47C1-A729-9669243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DA3-E8D8-4606-813F-6E9051A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F2C-1094-490D-B190-F8F43E6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03D0-F5B7-4CB3-963A-5DC6BA3B52A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E95A-C36B-4FDB-AF21-D9DE50C9336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96E5-25FB-4997-9EBF-9FB7C9023B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mejor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estim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j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8CE-C8C7-44E8-B942-D5B56D3A7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–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DB3-2162-4AA8-92A5-791BA699ED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stabl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mpíricamente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la precisión de la predic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las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76A-0036-4741-B157-8E097A4721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2080" y="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Arial"/>
              </a:rPr>
              <a:t>Ejercicio – Estimación del Esfuerz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4960" y="1700280"/>
            <a:ext cx="833940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Ejercicio INDIVIDU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importante empresa del rubro automotriz desea contratar a su empresa para que le desarrolle un portal simple para la venta de vehículos, que incluya tambié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antenimiento del stoc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antenimiento de cli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guimiento de las v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¿Cuánto tiempo lineal estima que se demorará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¿Cuántas horas/hombre estima que serán necesarias para desarrollar e implantar 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00C-265A-4698-AAD5-6C289C2A23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3760" y="1560240"/>
            <a:ext cx="818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C4B-4F1E-425C-86D8-3B2A6D1A3F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11360" y="1612440"/>
            <a:ext cx="8100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4.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5. Los expertos se reúnen nuevamente y discuten las tare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6. Se vuelve a la tercera etapa (nueva estimación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9F5-F5A3-4B42-85AD-BBB1B44532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-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Tamaño/Complejdad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6B2-8356-49F5-B085-9C52E89687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filas indican el tamaño (en LOC), y las columnas la complejidad de los programas (o sistema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6CF-69D0-49F5-AE64-E58A780596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tablas de una B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8A9-5E03-4D31-AC56-DD5861D08D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20D-CEAD-462D-9561-7CCBC22EB1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C0B-2ADB-4100-A6DF-C46ED1681A55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F7D-4947-44EB-A9A3-A55329527C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20A-9ED0-4ACA-A0D0-9CF0A9FAC5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 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(4*est + máx + min)/6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626-EBE3-41EC-92C1-A663A01D7C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373-A7E4-4C5C-9532-AC07686A5F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9360" y="0"/>
            <a:ext cx="8486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Componentes Estándares y F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6200" y="1577520"/>
            <a:ext cx="821376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jemplos de Componentes Estándare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660066"/>
                </a:solidFill>
                <a:latin typeface="Arial"/>
              </a:rPr>
              <a:t>Componente                         FP     Costo          Tiemp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antenedor………………… 5      M$ 750          100HH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enu/navegación…...…….. 7      M$1050         1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sultas……………...…… 2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Informes p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Impresora…………………...2 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cesos en Background… 8      M$1200         160HH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Tablas………………………. 1      M$ 150            2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Notificaciones……………… 2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ceso de Registro……… 3      M$ 450            6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660066"/>
                </a:solidFill>
                <a:uFillTx/>
                <a:latin typeface="Arial"/>
              </a:rPr>
              <a:t>1 PF= $150.000 = 2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AB3-D280-4C91-B08F-4587D8EAD9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8720" y="0"/>
            <a:ext cx="826128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03440" y="1517760"/>
            <a:ext cx="84405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¿Cómo saber cuánto le cuesta a mi organización implantar un FP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-439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Busque en su información histórica (de los contratos):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iempo total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de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-439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Haga una tabla con la distribución de componentes estándares que usted tiene en cada proyect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332000" y="3716280"/>
          <a:ext cx="7812000" cy="3068640"/>
        </p:xfrm>
        <a:graphic>
          <a:graphicData uri="http://schemas.openxmlformats.org/drawingml/2006/table">
            <a:tbl>
              <a:tblPr/>
              <a:tblGrid>
                <a:gridCol w="1952640"/>
                <a:gridCol w="1954080"/>
                <a:gridCol w="1952640"/>
                <a:gridCol w="1952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omponent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ant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F x Un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F 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antenedo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enu/Navegac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1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sult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eportes Impres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c.Backgroun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6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ab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23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216-42F6-47E7-83C8-98CF8FF797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6524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5440" y="1481040"/>
            <a:ext cx="854856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¿Cómo saber cuánto le cuesta a mi organización implantar un FP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3. Divida el costo total del proyecto por los PFs asociados al proyecto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sto PF =  $ 38.000.000 / 223 PF = $ 170.40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4. Divida la cantidad total de HH del proyecto por los PFs asociados al proyecto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iempo PF =  5.320HH / 223 PF = 23,9 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sto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lore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n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ferencia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n la medida que tengan más muestras estadísticas,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ás ajustados estarán mis núm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CE5-E26F-412C-96F2-D9CE88AE1D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45840" y="1519200"/>
            <a:ext cx="84978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¿Cómo saber cuál es la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elocidad de desarrollo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(aprox.) de un equipo de mi organizació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proyectos terminados, divida la cantidad total de HH del proyecto por el tiempo lineal de duración del proyecto (en horas)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loc. Desarr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= 5.320HH / 4.5 me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= 5.320HH / 720 Horas = </a:t>
            </a:r>
            <a:r>
              <a:rPr b="0" lang="en-US" sz="2400" spc="-1" strike="noStrike">
                <a:solidFill>
                  <a:srgbClr val="6f89f7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sto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lore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n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ferencia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n la medida que tengan más muestras estadísticas,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ás ajustados estarán mis núm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1B3-03E3-44C7-B3F7-3FCD9C9B1F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66320"/>
            <a:ext cx="8185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7680" y="1494000"/>
            <a:ext cx="853596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ara que los datos históricos sean válidos o tengan alguna utilida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tamaño y composición del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equipo de trabajo 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debe ser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simil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Si no es similar, debemos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onocer la relación aproximada entre los escenari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anteriores y el actu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información histórica deberá ser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reíble para las person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Deberá estar disponible (tal vez en carpetas) la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información histórica detallada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usada como bas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producto a desarrollar deberá ser de un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tipo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tamaño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omplejidad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acorde a nuestras experiencias previ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3BE-088D-4864-B799-0448CFFFC7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realiz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Ingeniero Jefe del Proyecto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9BC-F95C-4BAE-8059-611CFDAC8F34}" type="slidenum">
              <a:t>29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95C-7742-4B7E-9CA5-32882BC19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cronograma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656-ACB5-4B91-94E5-0A3B1B1F89F6}" type="slidenum">
              <a:t>30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18C-CD31-478A-BA2A-F45D2E0F92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6040" y="171252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CF3-DDD8-4741-A725-66FA22E61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434-7031-4273-B05B-13ECEC14CF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B85-C46E-4CE5-AD22-5A00C4A54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</a:t>
            </a:r>
            <a:r>
              <a:rPr b="0" i="1" lang="es-ES" sz="3200" spc="-1" strike="noStrike" u="sng">
                <a:solidFill>
                  <a:srgbClr val="40458c"/>
                </a:solidFill>
                <a:uFillTx/>
                <a:latin typeface="Arial"/>
              </a:rPr>
              <a:t>modelo matemático, más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un conjunto de </a:t>
            </a:r>
            <a:r>
              <a:rPr b="0" i="1" lang="es-ES" sz="3200" spc="-1" strike="noStrike" u="sng">
                <a:solidFill>
                  <a:srgbClr val="40458c"/>
                </a:solidFill>
                <a:uFillTx/>
                <a:latin typeface="Arial"/>
              </a:rPr>
              <a:t>procedimientos orientados a obtener variables y parámetros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36A-F3B4-46D8-B653-6C10F46D8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416-52A8-4E4A-AF13-F60003893F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7-04-26T12:26:28Z</dcterms:modified>
  <cp:revision>202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