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0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263240" y="723600"/>
            <a:ext cx="4776840" cy="35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111C3F06-6108-4647-B815-2E28FB1CEE1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7AA9D7D3-2A9B-4AE2-B435-848AB2DD40F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C7DDE189-ADB3-433E-806D-9A081EB3EA6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731740C2-3EA8-45E2-BD1B-BC59287740F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4DBCCB34-F728-4528-8375-0A8E3CFCB66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ECADD290-EBC1-426D-97D7-E806F705237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BD7DCD17-0BCA-4686-A502-4EC4F7F0810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DBD-7089-41A7-97B3-B3B3EB39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283-50CA-4724-B641-DFD537C9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E913-D3B5-4B60-B7F8-37CC3422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A36-1377-4E2E-B5A1-FBBE632A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A8E0-89BC-4573-A9BB-C2514CAB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DF06-8D8D-4333-A7DC-1AF66DDA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7CB1-22FB-48C7-B5D4-8E54B261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8314-AA50-4980-A79F-F1F0BE6B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BB1D-1079-4A6C-B0B7-0E186751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5A50-FC80-4E1D-BEF3-89D2FC35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9792-CC86-427F-858B-CFFB6AB6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CE8-01FF-4B50-96C2-76E96732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C7D2-73E9-41F8-98CF-2DB93E31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4CBB-525A-4BE9-8375-D71E96D2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22F5-AD79-4728-99F0-B0C8F412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DD94-21EB-4E0F-ADB0-9F4DEF37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4239-D6D9-4FE0-AD8C-9B9238EB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1FFA-1848-487C-BE64-27C7C1CE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CBCC-381C-42C0-A9F8-9076669C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9E1-72A1-459D-8003-9D90D3B2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DCF4-00B3-4037-A5D3-06EBDD74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A584-8166-4158-8AC8-3AF4C04B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0C3-9BD6-44D6-A549-7538C76B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1382-2D24-41AD-85AC-33B81AB2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18E9-F51E-4ADC-8A6E-5DE39E5AEFA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7F44-39F4-42F4-B822-EE62AAA5967A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Estimación de Costos y Tiemp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638600"/>
            <a:ext cx="853452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 (www.ing.puc.cl/~jnavón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7 - Version 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7D62-C2F9-4254-A009-D95839475A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Dominio de Medicio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000" y="1592280"/>
            <a:ext cx="8011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¿Medir para Mejorar o para Estimar Mejo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1792440" y="2112840"/>
            <a:ext cx="455400" cy="455940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81400" y="2160720"/>
            <a:ext cx="57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cada fase (Análisis, Diseño, ….) =&gt; Medir </a:t>
            </a:r>
            <a:r>
              <a:rPr b="0" i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ara mejora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81400" y="58942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a paquete completo (el proyecto como un todo) =&gt; Medir </a:t>
            </a:r>
            <a:r>
              <a:rPr b="0" i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ara estima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ej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F21-0498-4DD9-A459-927CBD244D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30360" y="1620360"/>
            <a:ext cx="825480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Sistemas de Predicción –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 -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lbrecht desarrolló la idea de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Puntos de Función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(FPs) para medir el atributo de funcionalidad percibida por el usuario en los documentos de especific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Validación =&gt; demostrar que S1 &gt; S2 =&gt; FP(S1) &gt; FP(S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n la práctica nadie ha validado esta medida en esta forma, y los FPs se usan no como medidas sino como parte de un sistema de predicción de costos (alternativo a COCOM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8F9-A409-474E-A683-2DD03090E3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60240" y="1620720"/>
            <a:ext cx="8112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 Sistema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establece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mpíricamente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la precisión de la predic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comparando el modelo con puntos conocid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volucra experimentación y testeo de las hipóte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a Medi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asegurar que la medida es una caracterización numérica adecuada del atributo en cuest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es necesario que sirva para predecir algo o que tenga o no ut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358A-DB79-42FF-8DCD-6E76F96756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52080" y="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Arial"/>
              </a:rPr>
              <a:t>Ejercicio – Estimación del Esfuerz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4960" y="1700280"/>
            <a:ext cx="833940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75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Ejercicio INDIVIDU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75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na importante empresa del rubro automotriz desea contratar a su empresa para que le desarrolle un portal simple para la venta de vehículos, que incluya tambié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antenimiento del stock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antenimiento de clie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guimiento de las vent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¿Cuánto tiempo lineal estima que se demorará e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¿Cuántas horas/hombre estima que serán necesarias para desarrollar e implantar el produ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0B7-1E74-4516-B80B-46495B4DCA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3760" y="1560240"/>
            <a:ext cx="818820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Wideband-Delphi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riginado en Rand Corporation, perfeccionado por B.Boehm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 idea fundamental es usar varios expertos que hacen estimaciones independientes y luego hacerlos converger hacia una estimación únic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163520" indent="-533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experto recibe las especificaciones del programa y un formulario de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163520" indent="-533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reúnen a conversar sobre suposiciones, dud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163520" indent="-53316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uno lista las tareas y produce una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B92-4314-4CD9-ADE8-3AD43CA8E2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11360" y="1612440"/>
            <a:ext cx="81007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820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4.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s estimaciones son recogidas por un moderador quien tabula los resultados y los devuelve a los expertos (estimaciones, promedio, mediana, etc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53820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5. Los expertos se reúnen nuevamente y discuten las tare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53820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6. Se vuelve a la tercera etapa (nueva estimación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discusión entre los expertos a menudo clarifican aspectos y producen cambios en las estimaciones para la etapa sigu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método produce estimaciones bastante precis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E32A-C0D8-48F7-839F-54BAF11103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étodo de Lógica Difusa (Fuzzy-Logic)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do por Putman, se basa en comparar (en líneas gruesas) con información histórica de productos anterio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truye una tabla (escala de tipo logarítmica) con rangos y sub-rangos de tamaño de proyectos previos. Por ejemplo si el programa más pequeño es de 104 LOC y el más grande de 17.243 LOC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Tamaño/Complejdad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bajo 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interm 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al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4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3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48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edian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338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3719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34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24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0F5-89F9-4795-B19A-E887640B95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s filas indican el tamaño (en LOC), y las columnas la complejidad de los programas (o sistema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estimador selecciona una de las categorías y subcategorías, comparando el nuevo proyecto con los proyectos anteriores dentro del rango considerado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uego toma como referencia (principalmente) aquellos proyectos previos que están en esa categorí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BE0-2A87-4684-879F-E2E904F3C6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665360"/>
            <a:ext cx="798696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Puntos de Fun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bablemente el más popular, inventado por Albrecht en IBM en 197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e identifican 5 funciones básic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formularios usados para cap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Out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reportes que la aplicación produ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nsult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usuario interroga o pide informac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Archiv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tablas de una B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terfaz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archivos compartidos de entrada o salida, parámetr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BAD-822D-4922-B9ED-DD61155D43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560240"/>
            <a:ext cx="77724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Númer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ip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Pes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8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2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Out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5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nsulta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rchivo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10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terfaz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7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Total Sin Ajustar: 13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Factor de Complejidad: 1.0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untos de Función: 14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279-91BC-4FED-BEA6-5E44BDAB8F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edidas del Softwar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edi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étodos de Esti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spcAft>
                <a:spcPts val="2001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E050-B7E7-41FC-AE7E-57584EC761E8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8400" y="1574280"/>
            <a:ext cx="8305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Para calcular el factor de complejidad se consideran 14 aspectos, otorgándosele a cada uno, una influencia de 0 a 5, generándose así un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puntaje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que va de 0 a 70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factor de complejidad estará dado por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= 0.65 + 0.01 * Puntaj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se mueve en el rango de 0.65 hasta 1.35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9B9A-237C-41E7-9D12-F9FF8547FA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574640"/>
            <a:ext cx="792324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Los factore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munica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unciones distribuid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objetivos de desempeñ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nfiguración sobrecarg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tasa de transac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ntrada de datos onl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ficiencia para usuari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actualización en líne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proceso complej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re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instalación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varios sitio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manten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C7A-AA56-48F8-B141-17A79A68C8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590480"/>
            <a:ext cx="80424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de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mponentes Estándare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: Se basa en mantener una base de datos histórica con información de componentes usados en proyectos previos, en varios niveles de abstracción: subsistemas completos, módulos, interfaces de usuari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stima cuántas de cada una de ellas habrá en el nuevo proyecto (estimado, máximo y mínim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mbina esto, ponderando 4 veces el más probable y una vez los máximos y mínimos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(4*est + máx + min)/6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9C5-98DA-418D-8D10-129E259BFD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590480"/>
            <a:ext cx="8153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Componente    LOC  min  est  max  prob  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A      932   11   18    22   17.5   163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B      543   35   40    44   39.8   216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                            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Total: 546359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CAB7-C284-4A4A-892E-B2C12F13FA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49360" y="0"/>
            <a:ext cx="8486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Componentes Estándares y F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46200" y="1577520"/>
            <a:ext cx="8213760" cy="52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Ejemplos de Componentes Estándares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660066"/>
                </a:solidFill>
                <a:latin typeface="Arial"/>
              </a:rPr>
              <a:t>Componente                         FP     Costo          Tiemp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antenedor………………… 5      M$ 750          100HH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enu/navegación…...…….. 7      M$1050         14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Consultas……………...…… 2      M$ 300            4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Informes p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Impresora…………………...2       M$ 300            4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cesos en Background… 8      M$1200         160HH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Tablas………………………. 1      M$ 150            2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Notificaciones……………… 2      M$ 300            4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ceso de Registro……… 3      M$ 450            6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660066"/>
                </a:solidFill>
                <a:uFillTx/>
                <a:latin typeface="Arial"/>
              </a:rPr>
              <a:t>1 PF= $150.000 = 2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11D-B872-4F9F-B685-C706610E43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58720" y="0"/>
            <a:ext cx="826128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Entendiendo la His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03440" y="1517760"/>
            <a:ext cx="84405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¿Cómo saber cuánto le cuesta a mi organización implantar un FP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-4399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Busque en su información histórica (de los contratos):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tiempo total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 y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costo total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 de un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-4399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Haga una tabla con la distribución de componentes estándares que usted tiene en cada proyecto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332000" y="3716280"/>
          <a:ext cx="7812000" cy="3068640"/>
        </p:xfrm>
        <a:graphic>
          <a:graphicData uri="http://schemas.openxmlformats.org/drawingml/2006/table">
            <a:tbl>
              <a:tblPr/>
              <a:tblGrid>
                <a:gridCol w="1952640"/>
                <a:gridCol w="1954080"/>
                <a:gridCol w="1952640"/>
                <a:gridCol w="19526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Component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Cant.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PF x Un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PF Tot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Mantenedor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5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00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Menu/Navegac.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7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1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onsulta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0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Reportes Impres.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6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oc.Backgroun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8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56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abla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0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23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3216-7205-40E2-9FCD-C1159CF668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16524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Entendiendo la Histo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95440" y="1481040"/>
            <a:ext cx="854856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¿Cómo saber cuánto le cuesta a mi organización implantar un FP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3. Divida el costo total del proyecto por los PFs asociados al proyecto. Por 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sto PF =  $ 38.000.000 / 223 PF = $ 170.40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4. Divida la cantidad total de HH del proyecto por los PFs asociados al proyecto. Por 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iempo PF =  5.320HH / 223 PF = 23,9 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- Estos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valores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son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ferenciale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- En la medida que tengan más muestras estadísticas,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ás ajustados estarán mis númer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35DC-C0CB-4316-A88F-99A6E1B423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Entendiendo la His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45840" y="1519200"/>
            <a:ext cx="84978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¿Cómo saber cuál es la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velocidad de desarrollo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(aprox.) de un equipo de mi organizació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n proyectos terminados, divida la cantidad total de HH del proyecto por el tiempo lineal de duración del proyecto (en horas). Por 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Veloc. Desarr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= 5.320HH / 4.5 mes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= 5.320HH / 720 Horas = </a:t>
            </a:r>
            <a:r>
              <a:rPr b="0" lang="en-US" sz="2400" spc="-1" strike="noStrike">
                <a:solidFill>
                  <a:srgbClr val="6f89f7"/>
                </a:solidFill>
                <a:latin typeface="Arial"/>
              </a:rPr>
              <a:t>7.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- Estos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valores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son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ferenciale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- En la medida que tengan más muestras estadísticas,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ás ajustados estarán mis númer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C14-DC73-4759-9D8D-F739B24803C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166320"/>
            <a:ext cx="81853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Entendiendo la histo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7680" y="1494000"/>
            <a:ext cx="853596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ara que los datos históricos sean válidos o tengan alguna utilida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09480" indent="-344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El tamaño y composición del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equipo de trabajo 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debe ser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similar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609480" indent="-344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Si no es similar, debemos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conocer la relación aproximada entre los escenario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anteriores y el actual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609480" indent="-344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información histórica deberá ser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creíble para las persona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609480" indent="-344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Deberá estar disponible (tal vez en carpetas) la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información histórica detallada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usada como bas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609480" indent="-344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El producto a desarrollar deberá ser de un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tipo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,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tamaño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y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complejidad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acorde a nuestras experiencias previa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E7F4-FE32-4B7A-A5AA-983F136E6A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7800" y="1523880"/>
            <a:ext cx="837720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modelos teóricos sirven, pero tienen muchas limitacion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 pesar que las técnicas de medición, estimación y predicción se conocen desde hace mucho tiempo, es muy común que se acepten deadlines imposibles para el proyecto, desde el princip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Muchas veces el plazo de desarrollo es fijado por gente del área comercial o por ejecutivos sin realizar ningún tipo de cálculo ser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unque muchas veces es difícil, 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Ingeniero Jefe del Proyecto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 ser muy claro desde un principio y defender enérgicamente los tiempos reales obtenidos científicam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A55-8332-432F-A8C5-DFDCE5F866D6}" type="slidenum">
              <a:t>29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30000" y="1545840"/>
            <a:ext cx="83502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Medidas del Software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laneación =&gt; estimar tiempos y recursos =&gt; estima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tamaño del software =&gt; medida del softwar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40458c"/>
                </a:solidFill>
                <a:latin typeface="Arial"/>
              </a:rPr>
              <a:t>Medida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roceso por el cual se asignan números o símbolos 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entidades de un set determinado, para describir algún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atributo de ellas. Por ej.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Altura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(Juan, 180) (Julia, 165) (Michael 205)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Peso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[Juan, 75] [Julia, 60) [Michael 95]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Lo importante es que si Michael es más alto que Juan, la medida de la altura debe ser también mayo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388-0873-4C23-8A91-8D36F624A4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77800" y="1523520"/>
            <a:ext cx="83772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n muchas ocasiones el encargado del proyecto se pone la soga al cuello sólo sin que nadie realmente lo esté forzando a un cronograma tan ajustad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Cualquier comandante que acepta llevar a cabo un plan que el considera defectuoso es culpable; el debe exponer sus razones, insistir en los cambios necesarios y finalmente ofrecer su dimisión antes de ser el instrumento de la derrota de su ejército”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Napole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s mejor desarrollar un modelo propio, que use la información histórica de la empres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749-DD45-4351-98A1-000812C79A64}" type="slidenum">
              <a:t>30</a:t>
            </a:fld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6560" y="1546200"/>
            <a:ext cx="8012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Medida directa, indirecta o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se observa la entidad y se aplica el instrumento de medida directamente (peso, esta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in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mide en forma directa otra entidad (o más de una) y luego se usan relaciones conocidas entre ellas (velocidad= distancia/tiemp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redicción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queremos una estimación de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tamañ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de una entidad que puede no existir en ese mo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8AEB-D42E-4980-A14C-C9D41CB222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16040" y="1712520"/>
            <a:ext cx="801216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ablecer una conexión entre las entidades medidas directamente y las entidades cuya medida será predich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finar la conexión hasta llegar a una o más fórmulas que permitan traducir las medidas directas en medidas aproxim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diferencia clave está en que en la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ón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o es posible establecer una conexión complet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=&gt; sólo se puede aproximar la medida correc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0696-A562-4765-8825-A8DCF4BC89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41520" y="1521000"/>
            <a:ext cx="8208720" cy="53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ólo es posible predecir si tenemos buenas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edidas en qué basarnos!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 pesar de lo obvio de esta afirmación muchas veces los administradores muestran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gran interés en estimación, pero no en mediciones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fuerzo de desarrollar un software, siempre es una actividad de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na predicción precisa requiere medición cuidadosa de atributos claves en proyectos ya comple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955-2CD6-49EA-A40A-34619B2BBF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8800" y="1604520"/>
            <a:ext cx="819144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Razones de baja aceptación en la industr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os administradores no saben qu</a:t>
            </a:r>
            <a:r>
              <a:rPr b="0" lang="es-ES_tradnl" sz="2000" spc="-1" strike="noStrike">
                <a:solidFill>
                  <a:srgbClr val="40458c"/>
                </a:solidFill>
                <a:latin typeface="Arial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hacer con las medi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falta de la validación necesaria =&gt; (produce) falta de confianza en las med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 de Estima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El modelo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COM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 simple relaciona el esfuerzo E (meses-hombre) con el tamaño S (MLOCS) de acuerdo 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 = a*S</a:t>
            </a:r>
            <a:r>
              <a:rPr b="1" i="1" lang="es-ES" sz="2400" spc="-1" strike="noStrike" baseline="30000">
                <a:solidFill>
                  <a:srgbClr val="40458c"/>
                </a:solidFill>
                <a:latin typeface="Arial"/>
              </a:rPr>
              <a:t>b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Donde a y b son parámetros determinados por el tipo de software a ser desarroll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ara usar este modelo para predecir el esfuerzo en la etapa de captura de requ</a:t>
            </a:r>
            <a:r>
              <a:rPr b="0" i="1" lang="es-ES_tradnl" sz="2400" spc="-1" strike="noStrike">
                <a:solidFill>
                  <a:srgbClr val="40458c"/>
                </a:solidFill>
                <a:latin typeface="Arial"/>
              </a:rPr>
              <a:t>isit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, necesitamos primero determinar (predecir) los parámetros y luego el tamaño del eventua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3C0-4F04-4266-A186-161D2F08C7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odelo por si solo no es suficiente para efectuar una predic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Un sistema de predicción consiste en un </a:t>
            </a:r>
            <a:r>
              <a:rPr b="0" i="1" lang="es-ES" sz="3200" spc="-1" strike="noStrike" u="sng">
                <a:solidFill>
                  <a:srgbClr val="40458c"/>
                </a:solidFill>
                <a:uFillTx/>
                <a:latin typeface="Arial"/>
              </a:rPr>
              <a:t>modelo matemático, más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un conjunto de </a:t>
            </a:r>
            <a:r>
              <a:rPr b="0" i="1" lang="es-ES" sz="3200" spc="-1" strike="noStrike" u="sng">
                <a:solidFill>
                  <a:srgbClr val="40458c"/>
                </a:solidFill>
                <a:uFillTx/>
                <a:latin typeface="Arial"/>
              </a:rPr>
              <a:t>procedimientos orientados a obtener variables y parámetros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strictamente, COCOMO es más que un método de estimación de costos, es un sistema de predicción de cos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7CC2-1FFC-424E-85AF-52485CC4CB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Qué medir y cómo medir? He aquí el dilema…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sólo aquello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pectos del proceso o del product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que so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 para qué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?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 proce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produc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estimac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Guardar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todo esto puede ser una tarea demasiado pesada, y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odría entorpecer los desarroll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 y guardar la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sólo si yo soy capaz de confiar en ell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medicione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n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bería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entorpece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l trabajo de la g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33D-1981-436B-90D5-6EAA403CFA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Sergio Ochoa</dc:creator>
  <dc:description/>
  <dc:language>en-US</dc:language>
  <cp:lastModifiedBy>Sergio F. Ochoa</cp:lastModifiedBy>
  <cp:lastPrinted>1999-09-03T16:31:05Z</cp:lastPrinted>
  <dcterms:modified xsi:type="dcterms:W3CDTF">2007-04-26T12:26:28Z</dcterms:modified>
  <cp:revision>202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NavBtnPos">
    <vt:r8>3</vt:r8>
  </property>
  <property fmtid="{D5CDD505-2E9C-101B-9397-08002B2CF9AE}" pid="10" name="ScreenSize">
    <vt:r8>3</vt:r8>
  </property>
  <property fmtid="{D5CDD505-2E9C-101B-9397-08002B2CF9AE}" pid="11" name="ScreenUsage">
    <vt:r8>3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