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63240" y="72360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D1542B7D-5292-4EC5-8772-AA34F5EB2A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EDE5698B-F6DD-4B46-8495-69CF30A139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2AD1BFDD-5FC6-4885-84DC-763E4A0936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32864DD3-9BD7-4221-A11C-BD60B6E8F9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26ABB5DB-1616-4E32-8171-E0BE99CE96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7245DDAF-5B21-44D6-A521-618373F0D0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036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D750C14C-899E-4D6F-B8E6-B67675B074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076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0360" y="-1440"/>
            <a:ext cx="316224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B56-BA92-424E-9E86-76EB7BF2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0A9-E27A-41AA-BBA0-085FB16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EA1-F916-4D31-B1EE-1DA4586C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E57-7D6B-48BF-A6F4-83E67642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0A5-4F5F-4C6C-A676-244794C9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621-0CD6-482D-8A0D-4E2ADCF3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C3F-035C-477E-9664-AE38BF4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572E-6C2D-4807-934B-06187515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1E25-6B42-4113-863B-D58449D7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1D17-9117-4E45-9F11-80FB98E6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AE1-E3F4-4BDD-9536-309B4C4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6C7-3332-488C-BD6F-2DBF936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32C9-4054-419E-A01B-2AFCC32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59C-5474-42D6-9AD2-3570DE0C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2795-5E0D-4025-BEA6-398A75AC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575D-3414-4964-A7F8-77F54094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CE8C-2ECF-4203-9109-18F6437F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71A-B16D-40BD-B2E3-AC9335C0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141-4673-44D9-A00F-8FE0E19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D83-4FEA-419E-A27D-C4E6C398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2EA-685C-4951-A534-4C6C41AE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032-27A0-438D-A3D1-AAF8455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080-E87E-413E-A830-28D8642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61A-D566-41F8-AA79-23749C2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0E9-2FCD-46AA-A8B2-5D81709D4EC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0E1-3A2E-4492-996B-F548132B154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E5A0-69C3-4520-9930-E0959C3979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113-00C0-41B9-9C26-20D661D868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4CF-4FF0-4A8A-8675-0E742EB97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stabl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mpíricamente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la precisión de la predi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E2C-5E69-4FC5-B2C9-A2101D674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2080" y="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Arial"/>
              </a:rPr>
              <a:t>Ejercicio – Estimación del Esfuerz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4960" y="1700280"/>
            <a:ext cx="833940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Ejercicio INDIVID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importante empresa del rubro automotriz desea contratar a su empresa para que le desarrolle un portal simple para la venta de vehículos, que incluya tambié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l stoc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antenimiento de cl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guimiento de las v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o tiempo lineal estima que se demorará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¿Cuántas horas/hombre estima que serán necesarias para desarrollar e implantar 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145-717A-4122-BB7A-948A019A80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3520" indent="-53316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0C9-D849-47D3-A3CE-5D71D1F129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4.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5. Los expertos se reúnen nuevamente y discuten las tare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382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6. Se vuelve a la tercera etapa (nueva estimación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122-F6AE-4F60-8531-32BF13D61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C8E-1F4E-4A6C-917F-78CD2E3716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8D2-4890-4ED3-BD51-67AC84C8FA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C25-BB45-4D05-8CB6-49DCF201C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840-DA32-4572-8B3C-35DA2D93C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8A1-7330-4223-9856-FFAFD085B676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477-D3CF-4B9C-98A9-ED297E57FD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9D1-E62C-4EB4-81D9-E445D9BBAB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(4*est + máx + min)/6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058-F5F5-4530-B307-3C701772E0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CD4-B53D-476E-9FE9-5B96D5806D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9360" y="0"/>
            <a:ext cx="8486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Componentes Estándares y F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6200" y="1577520"/>
            <a:ext cx="821376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jemplos de Componentes Estándare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660066"/>
                </a:solidFill>
                <a:latin typeface="Arial"/>
              </a:rPr>
              <a:t>Componente                         FP     Costo          Tiemp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antenedor………………… 5      M$ 750          10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enu/navegación…...…….. 7      M$1050         1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sultas……………...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nformes p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Impresora…………………...2 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s en Background… 8      M$1200         160HH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Tablas………………………. 1      M$ 150           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Notificaciones……………… 2      M$ 300            4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ceso de Registro……… 3      M$ 450            6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1 PF= $150.000 = 20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A8E-432E-4BB5-A43F-8FBA887E0F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8720" y="0"/>
            <a:ext cx="82612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03440" y="1517760"/>
            <a:ext cx="84405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Busque en su información histórica (de los contratos):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iemp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de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-439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Haga una tabla con la distribución de componentes estándares que usted tiene en cada proyect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332000" y="3716280"/>
          <a:ext cx="7812000" cy="3068640"/>
        </p:xfrm>
        <a:graphic>
          <a:graphicData uri="http://schemas.openxmlformats.org/drawingml/2006/table">
            <a:tbl>
              <a:tblPr/>
              <a:tblGrid>
                <a:gridCol w="1952640"/>
                <a:gridCol w="1954080"/>
                <a:gridCol w="1952640"/>
                <a:gridCol w="1952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omponent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Cant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x Un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PF 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edo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nu/Navegac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sult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eportes Impres.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c.Backgroun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6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ab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23PF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633-30A0-46FA-BFBC-BA523D363D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6524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5440" y="1481040"/>
            <a:ext cx="854856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nto le cuesta a mi organización implantar un FP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3. Divida el costo total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sto PF =  $ 38.000.000 / 223 PF = $ 170.40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4. Divida la cantidad total de HH del proyecto por los PFs asociados al proyecto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iempo PF =  5.320HH / 223 PF = 23,9 H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7AE-F97A-45DB-847F-4C73667038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5840" y="1519200"/>
            <a:ext cx="8497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¿Cómo saber cuál es la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elocidad de desarrollo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(aprox.) de un equipo de mi organizació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proyectos terminados, divida la cantidad total de HH del proyecto por el tiempo lineal de duración del proyecto (en horas). Por 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loc. Desarr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= 5.320HH / 4.5 me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 5.320HH / 720 Horas = </a:t>
            </a:r>
            <a:r>
              <a:rPr b="0" lang="en-US" sz="2400" spc="-1" strike="noStrike">
                <a:solidFill>
                  <a:srgbClr val="6f89f7"/>
                </a:solidFill>
                <a:latin typeface="Arial"/>
              </a:rPr>
              <a:t>7.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sto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lore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n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ferenciale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- En la medida que tengan más muestras estadísticas,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ás ajustados estarán mis núm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2B5-C4AD-4C85-ACD4-D49DF7539E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66320"/>
            <a:ext cx="8185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Entendiendo la histo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7680" y="1494000"/>
            <a:ext cx="853596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ara que los datos históricos sean válidos o tengan alguna utilida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tamaño y composición del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equipo de trabajo 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simil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Si no es similar, debemos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nocer la relación aproximada entre los escenari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nteriores y el actu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información histórica deberá ser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reíble para las person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Deberá estar disponible (tal vez en carpetas) la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información histórica detallada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usada como bas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09480" indent="-3448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producto a desarrollar deberá ser de un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ip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tamaño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300" spc="-1" strike="noStrike">
                <a:solidFill>
                  <a:srgbClr val="660066"/>
                </a:solidFill>
                <a:latin typeface="Arial"/>
              </a:rPr>
              <a:t>complejidad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acorde a nuestras experiencias previ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60E-6BF1-43E8-99CD-4D619A0588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2CF-7637-4FDA-A3E2-40FC2A521842}" type="slidenum">
              <a:t>29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A5D-E6E5-4A4A-A1EE-1FDC9CA1EF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39C-291D-457B-9053-6CEDC21FF6F1}" type="slidenum">
              <a:t>30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B71-B2E8-452A-9D3C-8C594A989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6040" y="171252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B15-5148-4C14-A806-1C4548ED4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475-5464-472D-8B7F-ED419E3843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5BB-7734-477B-B9AC-C2905A4FF4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modelo matemático, má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un conjunto de </a:t>
            </a:r>
            <a:r>
              <a:rPr b="0" i="1" lang="es-ES" sz="3200" spc="-1" strike="noStrike" u="sng">
                <a:solidFill>
                  <a:srgbClr val="40458c"/>
                </a:solidFill>
                <a:uFillTx/>
                <a:latin typeface="Arial"/>
              </a:rPr>
              <a:t>procedimientos orientados a obtener variables y parámetros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916-A7C6-4D23-9BF2-C7A4EEFF6E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B6A-F7A4-4DA5-845B-AB41CAC80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7-04-26T12:26:28Z</dcterms:modified>
  <cp:revision>20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