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63240" y="72360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1A769144-ECA4-48C0-9958-D2D9381A04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C55C67CE-D15D-48A7-AC54-CDCCE8AA7D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FD51D2D7-103F-446A-BC90-9D699783DD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286165AC-AE31-42BC-8561-AE917B7CE9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8E4A0711-1AC3-4783-916D-E99ADC7221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DC741FAC-A1FE-4F56-B036-536D1611D7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C7B324BB-2FD7-457B-A2CE-108C7018E0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ECD-FA58-4BAF-8DC5-D25EA5B6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6B0-B0CA-4467-A8FD-BC100988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BF8-3B7C-4589-919F-D3239A9B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5F8-434D-4ED3-B075-71BDE7FB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1D85-3615-470D-874E-D5F6AEB5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C46-BF10-4837-B51E-55BCAA2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A60F-ECD5-4257-A6BE-E8F95944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1F9E-F88D-4E39-AE16-CBB92308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0204-059A-4834-B15B-16261C0B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F088-AD6F-42A5-B1E9-DD12A0C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CC41-94A5-4BD8-89F3-743F1651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047-A6D2-4B5C-88CA-DCEA73FF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DD1D-6CC3-4F9C-AC9A-93988C2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11F-1093-4C15-B14B-61CECFC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A00C-04F4-420E-87A4-A43987B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590C-A3F3-4C3A-80A9-33B807BB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1E6A-B036-4701-B8FD-6D4B4445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34F-13D9-4CB2-A340-17DF9AF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DB3-B524-447B-88C0-44FB0B11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C5B-CD05-4E5F-94B7-AEB101C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E21-09FD-40E0-9157-99B0B70F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EA9-36DE-4E74-9D04-407E3C1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63E-84CE-4CE8-8114-6F9660D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6A5-AFD5-4082-A890-840FF73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345-1DD7-4C40-8CB2-A49639A35CD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35C5-223C-44C4-AFF5-4A636882454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053-8E88-4C63-92A1-F02D67A965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E41-F510-4928-97FE-1F7C123758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1F4-A2C0-4055-A4C5-A2BC276413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stabl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mpíricament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la precisión de la predi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715-31AB-4E0A-B99B-32F8D59D35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080" y="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Arial"/>
              </a:rPr>
              <a:t>Ejercicio – Estimación del Esfuerz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4960" y="1700280"/>
            <a:ext cx="833940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Ejercicio INDIVID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importante empresa del rubro automotriz desea contratar a su empresa para que le desarrolle un portal simple para la venta de vehículos, que incluya tambié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l stoc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 cl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guimiento de las v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o tiempo lineal estima que se demorará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as horas/hombre estima que serán necesarias para desarrollar e implantar 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318-5081-41F2-94EF-CD3641E87D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182-57FD-4CE8-A352-75C66907F5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4.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5. Los expertos se reúnen nuevamente y discuten las tare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6. Se vuelve a la tercera etapa (nueva estimación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54C-BC44-4B42-822A-70E4E5404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912-B33E-49CB-9B35-4EB0A2FB4E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033-3ECC-4656-B167-223B1F295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7CC-F15A-41CA-AC56-ABEB7E917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19E-86EC-4FE6-B226-2A62795A0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8F5-4229-47C4-8B59-735E4E906E6E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BAF-4FFF-4177-8B82-E6A0635E4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FE8-64BF-4900-9955-2639A553D9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(4*est + máx + min)/6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DB2-B9F2-4B9D-8432-B210F8550E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6F7-71F8-409B-9866-75B3F61C8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9360" y="0"/>
            <a:ext cx="8486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Componentes Estándares y F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6200" y="1577520"/>
            <a:ext cx="821376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jemplos de Componentes Estándare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660066"/>
                </a:solidFill>
                <a:latin typeface="Arial"/>
              </a:rPr>
              <a:t>Componente                         FP     Costo          Tiem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antenedor………………… 5      M$ 750          10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enu/navegación…...…….. 7      M$1050         1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sultas……………...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nformes p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mpresora…………………...2 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s en Background… 8      M$1200         16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Tablas………………………. 1      M$ 150           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Notificaciones…………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 de Registro……… 3      M$ 450            6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1 PF= $150.000 =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F17-50EE-4556-9C25-3545ED23D3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8720" y="0"/>
            <a:ext cx="82612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03440" y="1517760"/>
            <a:ext cx="84405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Busque en su información histórica (de los contratos):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iemp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de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Haga una tabla con la distribución de componentes estándares que usted tiene en cada proyect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332000" y="3716280"/>
          <a:ext cx="7812000" cy="3068640"/>
        </p:xfrm>
        <a:graphic>
          <a:graphicData uri="http://schemas.openxmlformats.org/drawingml/2006/table">
            <a:tbl>
              <a:tblPr/>
              <a:tblGrid>
                <a:gridCol w="1952640"/>
                <a:gridCol w="1954080"/>
                <a:gridCol w="1952640"/>
                <a:gridCol w="1952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omponent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ant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x Un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edo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nu/Navegac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sult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eportes Impres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c.Backgroun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ab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23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3A4-524F-442B-940C-B621B79DE6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6524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5440" y="1481040"/>
            <a:ext cx="854856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3. Divida el costo total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sto PF =  $ 38.000.000 / 223 PF = $ 170.40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4. Divida la cantidad total de HH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iempo PF =  5.320HH / 223 PF = 23,9 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161-F922-439A-9862-A02A34631A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5840" y="1519200"/>
            <a:ext cx="8497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l es la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elocidad de desarrollo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(aprox.) de un equipo de mi organizació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proyectos terminados, divida la cantidad total de HH del proyecto por el tiempo lineal de duración del proyecto (en horas)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loc. Desarr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= 5.320HH / 4.5 me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 5.320HH / 720 Horas = </a:t>
            </a:r>
            <a:r>
              <a:rPr b="0" lang="en-US" sz="2400" spc="-1" strike="noStrike">
                <a:solidFill>
                  <a:srgbClr val="6f89f7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BB5-7D84-49BC-840B-E838C2D4D9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66320"/>
            <a:ext cx="8185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7680" y="1494000"/>
            <a:ext cx="853596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ara que los datos históricos sean válidos o tengan alguna utilida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tamaño y composición del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equipo de trabajo 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simil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Si no es similar, debemos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nocer la relación aproximada entre los escenari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nteriores y el actu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información histórica deberá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reíble para las person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rá estar disponible (tal vez en carpetas) la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información histórica detallada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usada como bas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producto a desarrollar deberá ser de un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ip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amañ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mplejidad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corde a nuestras experiencias previ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49C-ED67-4C3F-8856-0429BD0198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6AA-8167-4E78-8AB3-C3874A38C27C}" type="slidenum">
              <a:t>29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A02-D01B-44FD-9BCE-8FE29AE89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1C4-E9AD-4B9E-B584-2D386B0EB60C}" type="slidenum">
              <a:t>30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BB-2FD6-4883-ABBE-F1E11C9BD3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6040" y="171252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DAE-6E96-4D3B-9374-27C18945C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6EE-A26D-4227-88F7-8D1DCD013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7E9-53D0-43D6-98F3-F714540B7F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modelo matemático, má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un conjunto de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procedimientos orientados a obtener variables y parámetro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231-CABC-478A-B68C-35E8965CD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1A8-A95C-4B9E-9653-50BFE8D413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7-04-26T12:26:28Z</dcterms:modified>
  <cp:revision>20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