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_rels/notesSlide5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.wmf" ContentType="image/x-wmf"/>
  <Override PartName="/ppt/media/image29.png" ContentType="image/png"/>
  <Override PartName="/ppt/media/image3.wmf" ContentType="image/x-wmf"/>
  <Override PartName="/ppt/media/image27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3.wmf" ContentType="image/x-wmf"/>
  <Override PartName="/ppt/media/image33.png" ContentType="image/png"/>
  <Override PartName="/ppt/media/image44.wmf" ContentType="image/x-wmf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32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90880" y="8894880"/>
            <a:ext cx="29926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9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210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2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3" name=""/>
          <p:cNvGrpSpPr/>
          <p:nvPr/>
        </p:nvGrpSpPr>
        <p:grpSpPr>
          <a:xfrm>
            <a:off x="3900600" y="8715240"/>
            <a:ext cx="2914560" cy="425520"/>
            <a:chOff x="3900600" y="8715240"/>
            <a:chExt cx="2914560" cy="425520"/>
          </a:xfrm>
        </p:grpSpPr>
        <p:sp>
          <p:nvSpPr>
            <p:cNvPr id="1274" name=""/>
            <p:cNvSpPr/>
            <p:nvPr/>
          </p:nvSpPr>
          <p:spPr>
            <a:xfrm>
              <a:off x="3900600" y="8715240"/>
              <a:ext cx="2914560" cy="42552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900600" y="8996040"/>
              <a:ext cx="291456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6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1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282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4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9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290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2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7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298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0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306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8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3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314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6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1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322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4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330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2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7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338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0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7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218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0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5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346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8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354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6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1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362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4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9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370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2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378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0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5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386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8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3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394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6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226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8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1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402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4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 CODELC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SITOS QUE YO DEFINO COMO RELEVANTE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3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234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6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 CODELC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5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416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8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3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424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6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1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432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4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1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242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4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9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440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2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448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0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53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5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456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8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3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464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6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1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472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4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9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480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2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7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488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0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5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496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8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01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3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504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6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512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4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9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250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2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9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520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2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25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7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528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0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5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536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8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3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 CODELC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5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 CODELC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7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548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0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258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0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5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556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8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3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564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6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1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572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4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9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580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2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7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588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0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5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596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8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3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604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6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09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1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612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4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9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620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2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7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628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0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33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5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636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8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3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644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3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6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1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652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3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4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9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660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3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2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7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668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3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0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5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676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3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8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81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5" name="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1266" name="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8" name="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820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4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16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820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440" y="609480"/>
            <a:ext cx="77677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8360" indent="-281160">
              <a:spcBef>
                <a:spcPts val="1463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1463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1463"/>
              </a:spcBef>
              <a:buClr>
                <a:srgbClr val="000066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1463"/>
              </a:spcBef>
              <a:buClr>
                <a:srgbClr val="000066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1463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1463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2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ahoma"/>
              </a:rPr>
              <a:t>Arquitecturas de Software Genéricas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95280" y="3505320"/>
            <a:ext cx="6397920" cy="2480760"/>
            <a:chOff x="1295280" y="3505320"/>
            <a:chExt cx="6397920" cy="2480760"/>
          </a:xfrm>
        </p:grpSpPr>
        <p:sp>
          <p:nvSpPr>
            <p:cNvPr id="49" name=""/>
            <p:cNvSpPr/>
            <p:nvPr/>
          </p:nvSpPr>
          <p:spPr>
            <a:xfrm>
              <a:off x="1295280" y="3505320"/>
              <a:ext cx="6397920" cy="1751040"/>
            </a:xfrm>
            <a:prstGeom prst="roundRect">
              <a:avLst>
                <a:gd name="adj" fmla="val 8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295280" y="3505320"/>
              <a:ext cx="6397920" cy="24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463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463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66"/>
                  </a:solidFill>
                  <a:latin typeface="Tahoma"/>
                </a:rPr>
                <a:t>Primavera del 200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463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13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Tahoma"/>
                </a:rPr>
                <a:t>Prof. Sergio Ocho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13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Tahoma"/>
                </a:rPr>
                <a:t>sochoa@dcc.uchile.c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Tahoma"/>
              </a:rPr>
              <a:t>Modelo Estructural Estático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2749680" y="1758960"/>
            <a:ext cx="1130040" cy="673200"/>
          </a:xfrm>
          <a:prstGeom prst="roundRect">
            <a:avLst>
              <a:gd name="adj" fmla="val 231"/>
            </a:avLst>
          </a:prstGeom>
          <a:gradFill rotWithShape="0">
            <a:gsLst>
              <a:gs pos="0">
                <a:srgbClr val="969696"/>
              </a:gs>
              <a:gs pos="100000">
                <a:srgbClr val="d4d4d4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78560" y="1843200"/>
            <a:ext cx="8996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Edito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Diseñ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54440" y="1758960"/>
            <a:ext cx="1130400" cy="673200"/>
          </a:xfrm>
          <a:prstGeom prst="roundRect">
            <a:avLst>
              <a:gd name="adj" fmla="val 231"/>
            </a:avLst>
          </a:prstGeom>
          <a:gradFill rotWithShape="0">
            <a:gsLst>
              <a:gs pos="0">
                <a:srgbClr val="969696"/>
              </a:gs>
              <a:gs pos="100000">
                <a:srgbClr val="d4d4d4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94680" y="1851120"/>
            <a:ext cx="12852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Generado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ódi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3511440"/>
            <a:ext cx="1290600" cy="673200"/>
          </a:xfrm>
          <a:prstGeom prst="roundRect">
            <a:avLst>
              <a:gd name="adj" fmla="val 231"/>
            </a:avLst>
          </a:prstGeom>
          <a:gradFill rotWithShape="0">
            <a:gsLst>
              <a:gs pos="0">
                <a:srgbClr val="969696"/>
              </a:gs>
              <a:gs pos="100000">
                <a:srgbClr val="d4d4d4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6120" y="3711600"/>
            <a:ext cx="13539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Empaquet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25640" y="3435480"/>
            <a:ext cx="2959200" cy="672840"/>
          </a:xfrm>
          <a:prstGeom prst="roundRect">
            <a:avLst>
              <a:gd name="adj" fmla="val 231"/>
            </a:avLst>
          </a:prstGeom>
          <a:gradFill rotWithShape="0">
            <a:gsLst>
              <a:gs pos="0">
                <a:srgbClr val="969696"/>
              </a:gs>
              <a:gs pos="100000">
                <a:srgbClr val="d4d4d4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76920" y="3645000"/>
            <a:ext cx="23428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</a:rPr>
              <a:t>Repositorio de Proye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35880" y="3359160"/>
            <a:ext cx="1130040" cy="673200"/>
          </a:xfrm>
          <a:prstGeom prst="roundRect">
            <a:avLst>
              <a:gd name="adj" fmla="val 231"/>
            </a:avLst>
          </a:prstGeom>
          <a:gradFill rotWithShape="0">
            <a:gsLst>
              <a:gs pos="0">
                <a:srgbClr val="969696"/>
              </a:gs>
              <a:gs pos="100000">
                <a:srgbClr val="d4d4d4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87000" y="3451320"/>
            <a:ext cx="1056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Edito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Progra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25640" y="5111640"/>
            <a:ext cx="1130400" cy="673200"/>
          </a:xfrm>
          <a:prstGeom prst="roundRect">
            <a:avLst>
              <a:gd name="adj" fmla="val 231"/>
            </a:avLst>
          </a:prstGeom>
          <a:gradFill rotWithShape="0">
            <a:gsLst>
              <a:gs pos="0">
                <a:srgbClr val="969696"/>
              </a:gs>
              <a:gs pos="100000">
                <a:srgbClr val="d4d4d4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54440" y="5035680"/>
            <a:ext cx="1130400" cy="672840"/>
          </a:xfrm>
          <a:prstGeom prst="roundRect">
            <a:avLst>
              <a:gd name="adj" fmla="val 231"/>
            </a:avLst>
          </a:prstGeom>
          <a:gradFill rotWithShape="0">
            <a:gsLst>
              <a:gs pos="0">
                <a:srgbClr val="969696"/>
              </a:gs>
              <a:gs pos="100000">
                <a:srgbClr val="d4d4d4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06640" y="5203800"/>
            <a:ext cx="10782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Analiz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de Dise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69560" y="5108400"/>
            <a:ext cx="1157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Generad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e Repor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2438280"/>
            <a:ext cx="1440" cy="990720"/>
          </a:xfrm>
          <a:prstGeom prst="line">
            <a:avLst/>
          </a:prstGeom>
          <a:ln w="507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2438280"/>
            <a:ext cx="1440" cy="990720"/>
          </a:xfrm>
          <a:prstGeom prst="line">
            <a:avLst/>
          </a:prstGeom>
          <a:ln w="507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3886200"/>
            <a:ext cx="838440" cy="1440"/>
          </a:xfrm>
          <a:prstGeom prst="line">
            <a:avLst/>
          </a:prstGeom>
          <a:ln w="507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91320" y="3809880"/>
            <a:ext cx="838080" cy="1800"/>
          </a:xfrm>
          <a:prstGeom prst="line">
            <a:avLst/>
          </a:prstGeom>
          <a:ln w="507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4114800"/>
            <a:ext cx="1440" cy="990720"/>
          </a:xfrm>
          <a:prstGeom prst="line">
            <a:avLst/>
          </a:prstGeom>
          <a:ln w="507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4114800"/>
            <a:ext cx="1440" cy="914400"/>
          </a:xfrm>
          <a:prstGeom prst="line">
            <a:avLst/>
          </a:prstGeom>
          <a:ln w="507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50920" y="5410080"/>
            <a:ext cx="8304120" cy="1141560"/>
            <a:chOff x="250920" y="5410080"/>
            <a:chExt cx="8304120" cy="1141560"/>
          </a:xfrm>
        </p:grpSpPr>
        <p:sp>
          <p:nvSpPr>
            <p:cNvPr id="158" name=""/>
            <p:cNvSpPr/>
            <p:nvPr/>
          </p:nvSpPr>
          <p:spPr>
            <a:xfrm>
              <a:off x="250920" y="5410080"/>
              <a:ext cx="8304120" cy="1141560"/>
            </a:xfrm>
            <a:prstGeom prst="roundRect">
              <a:avLst>
                <a:gd name="adj" fmla="val 1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0920" y="6154200"/>
              <a:ext cx="8304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Tahoma"/>
                </a:rPr>
                <a:t>Ejemplo: Arquitectura de una herramienta C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3059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El Modelo Depósito o de Repositorio (2)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50920" y="6344280"/>
            <a:ext cx="8302680" cy="397800"/>
            <a:chOff x="250920" y="6344280"/>
            <a:chExt cx="8302680" cy="397800"/>
          </a:xfrm>
        </p:grpSpPr>
        <p:sp>
          <p:nvSpPr>
            <p:cNvPr id="164" name=""/>
            <p:cNvSpPr/>
            <p:nvPr/>
          </p:nvSpPr>
          <p:spPr>
            <a:xfrm>
              <a:off x="250920" y="6431040"/>
              <a:ext cx="8302680" cy="311040"/>
            </a:xfrm>
            <a:prstGeom prst="roundRect">
              <a:avLst>
                <a:gd name="adj" fmla="val 1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0920" y="6344280"/>
              <a:ext cx="8302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Tahoma"/>
                </a:rPr>
                <a:t>Ejemplo: Arquitectura de una herramienta C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52560" y="1052640"/>
            <a:ext cx="5167440" cy="51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336600"/>
            <a:ext cx="8458200" cy="11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Características del Modelo de Repositorio (1)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1760" y="175896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Como todos los modelos, éste tiene ventajas y desventaj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4440" indent="-334440">
              <a:spcBef>
                <a:spcPts val="1349"/>
              </a:spcBef>
              <a:spcAft>
                <a:spcPts val="901"/>
              </a:spcAft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ahoma"/>
              </a:rPr>
              <a:t>Ventaja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0800" indent="-278280">
              <a:spcBef>
                <a:spcPts val="1125"/>
              </a:spcBef>
              <a:spcAft>
                <a:spcPts val="751"/>
              </a:spcAft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Es una forma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 eficiente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de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compartir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grandes cantidades de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datos.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0800" indent="-278280">
              <a:spcBef>
                <a:spcPts val="1125"/>
              </a:spcBef>
              <a:spcAft>
                <a:spcPts val="751"/>
              </a:spcAft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Los sub-sistemas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que producen datos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no necesitan saber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cómo estos datos serán utilizad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0800" indent="-278280">
              <a:spcBef>
                <a:spcPts val="1125"/>
              </a:spcBef>
              <a:spcAft>
                <a:spcPts val="751"/>
              </a:spcAft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Proporciona un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manejo centralizado de los datos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producidos, lo cual facilita su administración (respaldo, seguridad, etc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0800" indent="-278280">
              <a:spcBef>
                <a:spcPts val="1125"/>
              </a:spcBef>
              <a:spcAft>
                <a:spcPts val="751"/>
              </a:spcAft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El modelo permite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compartir facilmente los datos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del repositorio, con todos los subsistemas (existentes o futuros)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0800" indent="-278280">
              <a:spcBef>
                <a:spcPts val="1125"/>
              </a:spcBef>
              <a:spcAft>
                <a:spcPts val="751"/>
              </a:spcAft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El sistema se vuelve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más fácil de mantener, extender y escalar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-50760"/>
            <a:ext cx="8458200" cy="11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Características del Modelo de Repositorio (2)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27600" indent="-327600">
              <a:spcBef>
                <a:spcPts val="1199"/>
              </a:spcBef>
              <a:spcAft>
                <a:spcPts val="1049"/>
              </a:spcAft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ahoma"/>
              </a:rPr>
              <a:t>Desventaja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6040" indent="-272520">
              <a:spcBef>
                <a:spcPts val="1001"/>
              </a:spcBef>
              <a:spcAft>
                <a:spcPts val="876"/>
              </a:spcAft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Los sub-sistemas 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deben hacer c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oincidir sus modelos de datos,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con el del repositorio, lo cual es inevitablemente un compromis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6040" indent="-272520">
              <a:spcBef>
                <a:spcPts val="1001"/>
              </a:spcBef>
              <a:spcAft>
                <a:spcPts val="876"/>
              </a:spcAft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Los cambios 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en el modelo de datos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son caros y difíciles 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de implementar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6040" indent="-272520">
              <a:spcBef>
                <a:spcPts val="1001"/>
              </a:spcBef>
              <a:spcAft>
                <a:spcPts val="876"/>
              </a:spcAft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El modelo de repositorio fuerza a que todos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los subsistemas unifiquen la política de administración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de sus dat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6040" indent="-272520">
              <a:spcBef>
                <a:spcPts val="1001"/>
              </a:spcBef>
              <a:spcAft>
                <a:spcPts val="876"/>
              </a:spcAft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El repositorio se vuelve un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punto vulnerable.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Por otra parte, es dificil distribuir el repositorio en diferentes máquinas, ya que esto tiene una complejidad y un costo similar a las B.D. distribuid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6040" indent="-272520">
              <a:spcBef>
                <a:spcPts val="1001"/>
              </a:spcBef>
              <a:spcAft>
                <a:spcPts val="876"/>
              </a:spcAft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El conocimiento del negocio está distribuido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(y a veces replicado) en diferentes subsistem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560" y="192240"/>
            <a:ext cx="8458200" cy="11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Características del Modelo de Repositorio (3)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161424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spcBef>
                <a:spcPts val="2100"/>
              </a:spcBef>
              <a:spcAft>
                <a:spcPts val="1199"/>
              </a:spcAft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l modelo de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repositorio es pasivo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, el control corre por cuenta de los sistemas involucrad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spcBef>
                <a:spcPts val="2100"/>
              </a:spcBef>
              <a:spcAft>
                <a:spcPts val="1199"/>
              </a:spcAft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xiste una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variante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a este modelo, la cual es conocida como el modelo de </a:t>
            </a:r>
            <a:r>
              <a:rPr b="0" i="1" lang="en-US" sz="2400" spc="-1" strike="noStrike">
                <a:solidFill>
                  <a:srgbClr val="cc3300"/>
                </a:solidFill>
                <a:latin typeface="Tahoma"/>
              </a:rPr>
              <a:t>pizarrón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spcBef>
                <a:spcPts val="2100"/>
              </a:spcBef>
              <a:spcAft>
                <a:spcPts val="1199"/>
              </a:spcAft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ste modelo mantiene una arquitectura general, similar a la de repositorio, pero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es proactivo…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spcBef>
                <a:spcPts val="2100"/>
              </a:spcBef>
              <a:spcAft>
                <a:spcPts val="1199"/>
              </a:spcAft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Cada vez que llegan datos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al repositorio, éste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hace una notificación inteligente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a todos los subsistemas involucrad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115920"/>
            <a:ext cx="8458200" cy="11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Tahoma"/>
              </a:rPr>
              <a:t>Características del Modelo de Repositorio (</a:t>
            </a:r>
            <a:r>
              <a:rPr b="1" lang="en-GB" sz="3600" spc="-1" strike="noStrike">
                <a:solidFill>
                  <a:srgbClr val="a50021"/>
                </a:solidFill>
                <a:latin typeface="Tahoma"/>
              </a:rPr>
              <a:t>Pizarrón</a:t>
            </a:r>
            <a:r>
              <a:rPr b="0" lang="en-GB" sz="3600" spc="-1" strike="noStrike">
                <a:solidFill>
                  <a:srgbClr val="a50021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427640" y="4014720"/>
            <a:ext cx="4716360" cy="2870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1265400"/>
            <a:ext cx="4861080" cy="26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43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ente-Servidor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7240" y="39600"/>
            <a:ext cx="9029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Modelo Cliente-Servidor (1)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1200" indent="-331200">
              <a:lnSpc>
                <a:spcPct val="90000"/>
              </a:lnSpc>
              <a:spcBef>
                <a:spcPts val="1199"/>
              </a:spcBef>
              <a:spcAft>
                <a:spcPts val="751"/>
              </a:spcAft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ste modelo brinda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otra alternativa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para estructurar los sistem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1200" indent="-331200">
              <a:lnSpc>
                <a:spcPct val="90000"/>
              </a:lnSpc>
              <a:spcBef>
                <a:spcPts val="1199"/>
              </a:spcBef>
              <a:spcAft>
                <a:spcPts val="751"/>
              </a:spcAft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s un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modelo de Sistemas Distribuido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, el cual muestra cómo los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datos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y el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procesamiento se distribuyen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tre un rango de computadores.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1200" indent="-331200">
              <a:lnSpc>
                <a:spcPct val="90000"/>
              </a:lnSpc>
              <a:spcBef>
                <a:spcPts val="1199"/>
              </a:spcBef>
              <a:spcAft>
                <a:spcPts val="751"/>
              </a:spcAft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ípicamente, está compuesto por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tres component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3240" indent="-275400">
              <a:lnSpc>
                <a:spcPct val="90000"/>
              </a:lnSpc>
              <a:spcBef>
                <a:spcPts val="1001"/>
              </a:spcBef>
              <a:spcAft>
                <a:spcPts val="624"/>
              </a:spcAft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onjunto de </a:t>
            </a:r>
            <a:r>
              <a:rPr b="1" i="1" lang="en-US" sz="2000" spc="-1" strike="noStrike">
                <a:solidFill>
                  <a:srgbClr val="000066"/>
                </a:solidFill>
                <a:latin typeface="Tahoma"/>
              </a:rPr>
              <a:t>servidores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“stand-alone”, los cuales proporcionan servicios específicos como impresión, manejo de datos, etc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3240" indent="-275400">
              <a:lnSpc>
                <a:spcPct val="90000"/>
              </a:lnSpc>
              <a:spcBef>
                <a:spcPts val="1001"/>
              </a:spcBef>
              <a:spcAft>
                <a:spcPts val="624"/>
              </a:spcAft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onjunto de </a:t>
            </a:r>
            <a:r>
              <a:rPr b="1" i="1" lang="en-US" sz="2000" spc="-1" strike="noStrike">
                <a:solidFill>
                  <a:srgbClr val="000066"/>
                </a:solidFill>
                <a:latin typeface="Tahoma"/>
              </a:rPr>
              <a:t>clientes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que llaman a estos servicios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3240" indent="-275400">
              <a:lnSpc>
                <a:spcPct val="90000"/>
              </a:lnSpc>
              <a:spcBef>
                <a:spcPts val="1001"/>
              </a:spcBef>
              <a:spcAft>
                <a:spcPts val="624"/>
              </a:spcAft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Tahoma"/>
              </a:rPr>
              <a:t>Redes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que permiten que los clientes accedan a los servidor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1200" indent="-331200">
              <a:lnSpc>
                <a:spcPct val="90000"/>
              </a:lnSpc>
              <a:spcBef>
                <a:spcPts val="1199"/>
              </a:spcBef>
              <a:spcAft>
                <a:spcPts val="751"/>
              </a:spcAft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ste modelo cuenta con la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rquitectura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básica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más utilizada en la actualida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0320" y="573408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a50021"/>
                </a:solidFill>
                <a:latin typeface="Tahoma"/>
              </a:rPr>
              <a:t>Ejemplo: Arq. de un Sistema Bibliotecario de Películas e Imágenes</a:t>
            </a:r>
            <a:endParaRPr b="0" lang="en-US" sz="2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996840" y="1606680"/>
            <a:ext cx="978120" cy="59688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48320" y="1698480"/>
            <a:ext cx="8892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lient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01960" y="1606680"/>
            <a:ext cx="977760" cy="59688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53440" y="1698480"/>
            <a:ext cx="8892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lient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59360" y="1606680"/>
            <a:ext cx="977760" cy="59688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10840" y="1698480"/>
            <a:ext cx="8892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lient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16760" y="1606680"/>
            <a:ext cx="977760" cy="59688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068240" y="1698480"/>
            <a:ext cx="8892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lient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44560" y="2825640"/>
            <a:ext cx="7302600" cy="520920"/>
          </a:xfrm>
          <a:prstGeom prst="roundRect">
            <a:avLst>
              <a:gd name="adj" fmla="val 301"/>
            </a:avLst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84560" y="2894040"/>
            <a:ext cx="2531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ncho de Banda de la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8240" y="3968640"/>
            <a:ext cx="1587600" cy="1511280"/>
          </a:xfrm>
          <a:prstGeom prst="roundRect">
            <a:avLst>
              <a:gd name="adj" fmla="val 12500"/>
            </a:avLst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71280" y="4213080"/>
            <a:ext cx="109800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ervido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atá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atá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49680" y="3968640"/>
            <a:ext cx="1587240" cy="1511280"/>
          </a:xfrm>
          <a:prstGeom prst="roundRect">
            <a:avLst>
              <a:gd name="adj" fmla="val 12500"/>
            </a:avLst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75320" y="4137120"/>
            <a:ext cx="12394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ervido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Víd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Archivos cli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e Pelícu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7080" y="3968640"/>
            <a:ext cx="1587240" cy="1511280"/>
          </a:xfrm>
          <a:prstGeom prst="roundRect">
            <a:avLst>
              <a:gd name="adj" fmla="val 12500"/>
            </a:avLst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33440" y="4137120"/>
            <a:ext cx="109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ervido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otograf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11840" y="3968640"/>
            <a:ext cx="1587600" cy="1511280"/>
          </a:xfrm>
          <a:prstGeom prst="roundRect">
            <a:avLst>
              <a:gd name="adj" fmla="val 12500"/>
            </a:avLst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4822920"/>
            <a:ext cx="11131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otograf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igitaliz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914880" y="4137120"/>
            <a:ext cx="109800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ervido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Hipertex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Hipertex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4724280"/>
            <a:ext cx="1600200" cy="1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43200" y="4724280"/>
            <a:ext cx="1600200" cy="1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00600" y="4724280"/>
            <a:ext cx="1600200" cy="1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05720" y="4724280"/>
            <a:ext cx="1600200" cy="1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47920" y="2133720"/>
            <a:ext cx="1440" cy="685800"/>
          </a:xfrm>
          <a:prstGeom prst="line">
            <a:avLst/>
          </a:prstGeom>
          <a:ln w="507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52680" y="2133720"/>
            <a:ext cx="1800" cy="685800"/>
          </a:xfrm>
          <a:prstGeom prst="line">
            <a:avLst/>
          </a:prstGeom>
          <a:ln w="507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86400" y="2133720"/>
            <a:ext cx="1440" cy="685800"/>
          </a:xfrm>
          <a:prstGeom prst="line">
            <a:avLst/>
          </a:prstGeom>
          <a:ln w="507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543800" y="2209680"/>
            <a:ext cx="1440" cy="685800"/>
          </a:xfrm>
          <a:prstGeom prst="line">
            <a:avLst/>
          </a:prstGeom>
          <a:ln w="507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47920" y="3276720"/>
            <a:ext cx="1440" cy="685800"/>
          </a:xfrm>
          <a:prstGeom prst="line">
            <a:avLst/>
          </a:prstGeom>
          <a:ln w="507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800" cy="685800"/>
          </a:xfrm>
          <a:prstGeom prst="line">
            <a:avLst/>
          </a:prstGeom>
          <a:ln w="507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2720" y="3276720"/>
            <a:ext cx="1440" cy="685800"/>
          </a:xfrm>
          <a:prstGeom prst="line">
            <a:avLst/>
          </a:prstGeom>
          <a:ln w="507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43800" y="3276720"/>
            <a:ext cx="1440" cy="685800"/>
          </a:xfrm>
          <a:prstGeom prst="line">
            <a:avLst/>
          </a:prstGeom>
          <a:ln w="507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914400" y="-27000"/>
            <a:ext cx="7769160" cy="1139760"/>
            <a:chOff x="914400" y="-27000"/>
            <a:chExt cx="7769160" cy="1139760"/>
          </a:xfrm>
        </p:grpSpPr>
        <p:sp>
          <p:nvSpPr>
            <p:cNvPr id="225" name=""/>
            <p:cNvSpPr/>
            <p:nvPr/>
          </p:nvSpPr>
          <p:spPr>
            <a:xfrm>
              <a:off x="914400" y="-27000"/>
              <a:ext cx="7769160" cy="1139760"/>
            </a:xfrm>
            <a:prstGeom prst="roundRect">
              <a:avLst>
                <a:gd name="adj" fmla="val 1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14400" y="471240"/>
              <a:ext cx="77691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a50021"/>
                  </a:solidFill>
                  <a:latin typeface="Tahoma"/>
                </a:rPr>
                <a:t>Modelo Cliente-Servidor (2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900000" y="-171360"/>
            <a:ext cx="7769160" cy="1139760"/>
            <a:chOff x="900000" y="-171360"/>
            <a:chExt cx="7769160" cy="1139760"/>
          </a:xfrm>
        </p:grpSpPr>
        <p:sp>
          <p:nvSpPr>
            <p:cNvPr id="228" name=""/>
            <p:cNvSpPr/>
            <p:nvPr/>
          </p:nvSpPr>
          <p:spPr>
            <a:xfrm>
              <a:off x="900000" y="-171360"/>
              <a:ext cx="7769160" cy="1139760"/>
            </a:xfrm>
            <a:prstGeom prst="roundRect">
              <a:avLst>
                <a:gd name="adj" fmla="val 1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00000" y="326880"/>
              <a:ext cx="77691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a50021"/>
                  </a:solidFill>
                  <a:latin typeface="Tahoma"/>
                </a:rPr>
                <a:t>Modelo Cliente-Servidor (3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8400" y="1341360"/>
            <a:ext cx="4359240" cy="35290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003640" y="3376440"/>
            <a:ext cx="4075200" cy="343728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5300640"/>
            <a:ext cx="485928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Se puede ver desde el </a:t>
            </a:r>
            <a:r>
              <a:rPr b="0" lang="en-GB" sz="2800" spc="-1" strike="noStrike">
                <a:solidFill>
                  <a:srgbClr val="cc3300"/>
                </a:solidFill>
                <a:latin typeface="Tahoma"/>
              </a:rPr>
              <a:t>punto de vista del Software 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o del </a:t>
            </a:r>
            <a:r>
              <a:rPr b="0" lang="en-GB" sz="2800" spc="-1" strike="noStrike">
                <a:solidFill>
                  <a:srgbClr val="cc3300"/>
                </a:solidFill>
                <a:latin typeface="Tahoma"/>
              </a:rPr>
              <a:t>Hardware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4000"/>
            <a:ext cx="7772400" cy="85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Objetivos de la Presentación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11200"/>
            <a:ext cx="7772400" cy="453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spcAft>
                <a:spcPts val="1225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El Proceso de Diseño de un Software involucra la siguientes tres fases (o actividades básicas)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816120" indent="-281160">
              <a:spcBef>
                <a:spcPts val="1500"/>
              </a:spcBef>
              <a:spcAft>
                <a:spcPts val="876"/>
              </a:spcAft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Estructuración de un Sistem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16120" indent="-281160">
              <a:spcBef>
                <a:spcPts val="1500"/>
              </a:spcBef>
              <a:spcAft>
                <a:spcPts val="876"/>
              </a:spcAft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Diseño del Modelo de Control del Sistem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16120" indent="-281160">
              <a:spcBef>
                <a:spcPts val="1500"/>
              </a:spcBef>
              <a:spcAft>
                <a:spcPts val="876"/>
              </a:spcAft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Decomposición Modular (diseño detallado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132000" y="4651200"/>
            <a:ext cx="3308400" cy="2881080"/>
            <a:chOff x="3132000" y="4651200"/>
            <a:chExt cx="3308400" cy="2881080"/>
          </a:xfrm>
        </p:grpSpPr>
        <p:sp>
          <p:nvSpPr>
            <p:cNvPr id="56" name=""/>
            <p:cNvSpPr/>
            <p:nvPr/>
          </p:nvSpPr>
          <p:spPr>
            <a:xfrm>
              <a:off x="3703680" y="4651200"/>
              <a:ext cx="1800000" cy="1624680"/>
            </a:xfrm>
            <a:prstGeom prst="ellipse">
              <a:avLst/>
            </a:prstGeom>
            <a:noFill/>
            <a:ln w="76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92400" y="4729680"/>
              <a:ext cx="144720" cy="15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32400" y="5501520"/>
              <a:ext cx="144360" cy="15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181480" y="6044040"/>
              <a:ext cx="10656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72040" y="6044040"/>
              <a:ext cx="144360" cy="15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19320" y="6037200"/>
              <a:ext cx="144720" cy="15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2" name=""/>
            <p:cNvGraphicFramePr/>
            <p:nvPr/>
          </p:nvGraphicFramePr>
          <p:xfrm>
            <a:off x="3467160" y="5951880"/>
            <a:ext cx="2479680" cy="1580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67160" y="5951880"/>
                      <a:ext cx="2479680" cy="158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" name=""/>
            <p:cNvSpPr/>
            <p:nvPr/>
          </p:nvSpPr>
          <p:spPr>
            <a:xfrm>
              <a:off x="3921120" y="5979240"/>
              <a:ext cx="142920" cy="154800"/>
            </a:xfrm>
            <a:prstGeom prst="line">
              <a:avLst/>
            </a:prstGeom>
            <a:ln w="44280">
              <a:solidFill>
                <a:srgbClr val="cc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451480" y="5559480"/>
              <a:ext cx="71280" cy="166680"/>
            </a:xfrm>
            <a:prstGeom prst="line">
              <a:avLst/>
            </a:prstGeom>
            <a:ln w="44280">
              <a:solidFill>
                <a:srgbClr val="cc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5149440" y="5969160"/>
              <a:ext cx="144360" cy="141480"/>
            </a:xfrm>
            <a:prstGeom prst="line">
              <a:avLst/>
            </a:prstGeom>
            <a:ln w="44280">
              <a:solidFill>
                <a:srgbClr val="cc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7" name=""/>
            <p:cNvGraphicFramePr/>
            <p:nvPr/>
          </p:nvGraphicFramePr>
          <p:xfrm>
            <a:off x="5310000" y="4961160"/>
            <a:ext cx="1130400" cy="613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10000" y="4961160"/>
                      <a:ext cx="1130400" cy="61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" name=""/>
            <p:cNvSpPr/>
            <p:nvPr/>
          </p:nvSpPr>
          <p:spPr>
            <a:xfrm flipH="1">
              <a:off x="4059000" y="4734360"/>
              <a:ext cx="144720" cy="76320"/>
            </a:xfrm>
            <a:prstGeom prst="line">
              <a:avLst/>
            </a:prstGeom>
            <a:ln w="44280">
              <a:solidFill>
                <a:srgbClr val="cccc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0" name=""/>
            <p:cNvGraphicFramePr/>
            <p:nvPr/>
          </p:nvGraphicFramePr>
          <p:xfrm>
            <a:off x="3132000" y="4651200"/>
            <a:ext cx="932040" cy="613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132000" y="4651200"/>
                      <a:ext cx="932040" cy="61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"/>
            <p:cNvSpPr/>
            <p:nvPr/>
          </p:nvSpPr>
          <p:spPr>
            <a:xfrm>
              <a:off x="4066560" y="5038200"/>
              <a:ext cx="107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iclo 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edb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-50760"/>
            <a:ext cx="8610480" cy="11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Características del Modelo Cliente-Servidor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1200" indent="-33120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ahoma"/>
              </a:rPr>
              <a:t>Ventaja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3240" indent="-27540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La </a:t>
            </a: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distribución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 de datos es </a:t>
            </a: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directa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23240" indent="-27540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Permite el </a:t>
            </a: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uso efectivo de sistemas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 de red. Generalmente requiere </a:t>
            </a: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hardware barato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23240" indent="-27540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Es fácil </a:t>
            </a: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añadir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 nuevos </a:t>
            </a: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servidores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 o </a:t>
            </a: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actualizar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 los existentes. 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31200" indent="-33120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ahoma"/>
              </a:rPr>
              <a:t>Desventaja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3240" indent="-27540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El modelo </a:t>
            </a: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no comparte datos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 con los diferentes subsistemas empleados en la organización. El </a:t>
            </a: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intercambio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 de datos puede ser </a:t>
            </a: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ineficiente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23240" indent="-27540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Si se intercambian grandes volúmenes de datos, quien más </a:t>
            </a: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sufrirá 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será </a:t>
            </a: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la performance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23240" indent="-27540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Hay </a:t>
            </a: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administración redundante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 en cada servidor (trabajo solapado)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23240" indent="-27540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No existen registros centrales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 de nombres y servicios, esto hace difícil encontrar los servidores y servicios disponibles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23240" indent="-27540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Es más dificil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 realizar datamining, o inteligencia de negocio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5343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Máquina Abstracta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403280" y="333360"/>
            <a:ext cx="59770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Modelo de Máquina Abstracta (1)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8153280" cy="536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ste modelo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también es conocido como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el modelo de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capas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, o estratificad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s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utilizado para modelar las interfaces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entre los subsistem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l modelo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organiza el sistema en base a un conjunto de capas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(o máquinas abstractas), cada una de las cuales proporciona un conjunto de servici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Soporta el desarrollo incremental de subsistemas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 las diferentes capas. Cuando la interfaz de una capa cambia, solamente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la capa adyacente se ve afectada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n embargo, es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difícil estructurar los sistemas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de esta maner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Modelo de Máquina Abstracta (2)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None/>
              <a:tabLst>
                <a:tab algn="l" pos="0"/>
                <a:tab algn="l" pos="565200"/>
                <a:tab algn="l" pos="1014480"/>
                <a:tab algn="l" pos="1463760"/>
                <a:tab algn="l" pos="1913040"/>
                <a:tab algn="l" pos="2362320"/>
                <a:tab algn="l" pos="2811600"/>
                <a:tab algn="l" pos="3260880"/>
                <a:tab algn="l" pos="3710160"/>
                <a:tab algn="l" pos="4159080"/>
                <a:tab algn="l" pos="4608360"/>
                <a:tab algn="l" pos="5057640"/>
                <a:tab algn="l" pos="5506920"/>
                <a:tab algn="l" pos="5956200"/>
                <a:tab algn="l" pos="6405480"/>
                <a:tab algn="l" pos="6854760"/>
                <a:tab algn="l" pos="7304040"/>
                <a:tab algn="l" pos="7753320"/>
                <a:tab algn="l" pos="8202600"/>
                <a:tab algn="l" pos="8651880"/>
                <a:tab algn="l" pos="910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Tahoma"/>
              </a:rPr>
              <a:t>Ejemplo: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La arquitectura de un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sistema de administración de versiones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, puede ser abordado utilizando el modelo de máquina abstract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838080" indent="-380880">
              <a:lnSpc>
                <a:spcPct val="90000"/>
              </a:lnSpc>
              <a:spcBef>
                <a:spcPts val="1500"/>
              </a:spcBef>
              <a:spcAft>
                <a:spcPts val="1001"/>
              </a:spcAft>
              <a:buClr>
                <a:srgbClr val="ff0000"/>
              </a:buClr>
              <a:buSzPct val="120000"/>
              <a:buFont typeface="Tahoma"/>
              <a:buAutoNum type="arabicPeriod"/>
              <a:tabLst>
                <a:tab algn="l" pos="565200"/>
                <a:tab algn="l" pos="1014480"/>
                <a:tab algn="l" pos="1463760"/>
                <a:tab algn="l" pos="1913040"/>
                <a:tab algn="l" pos="2362320"/>
                <a:tab algn="l" pos="2811600"/>
                <a:tab algn="l" pos="3260880"/>
                <a:tab algn="l" pos="3710160"/>
                <a:tab algn="l" pos="4159080"/>
                <a:tab algn="l" pos="4608360"/>
                <a:tab algn="l" pos="5057640"/>
                <a:tab algn="l" pos="5506920"/>
                <a:tab algn="l" pos="5956200"/>
                <a:tab algn="l" pos="6405480"/>
                <a:tab algn="l" pos="6854760"/>
                <a:tab algn="l" pos="7304040"/>
                <a:tab algn="l" pos="7753320"/>
                <a:tab algn="l" pos="8202600"/>
                <a:tab algn="l" pos="8651880"/>
                <a:tab algn="l" pos="910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Suministra los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recursos de administración de la configuración (releases) 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en general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38080" indent="-380880">
              <a:lnSpc>
                <a:spcPct val="90000"/>
              </a:lnSpc>
              <a:spcBef>
                <a:spcPts val="1500"/>
              </a:spcBef>
              <a:spcAft>
                <a:spcPts val="1001"/>
              </a:spcAft>
              <a:buClr>
                <a:srgbClr val="ff0000"/>
              </a:buClr>
              <a:buSzPct val="120000"/>
              <a:buFont typeface="Tahoma"/>
              <a:buAutoNum type="arabicPeriod"/>
              <a:tabLst>
                <a:tab algn="l" pos="565200"/>
                <a:tab algn="l" pos="1014480"/>
                <a:tab algn="l" pos="1463760"/>
                <a:tab algn="l" pos="1913040"/>
                <a:tab algn="l" pos="2362320"/>
                <a:tab algn="l" pos="2811600"/>
                <a:tab algn="l" pos="3260880"/>
                <a:tab algn="l" pos="3710160"/>
                <a:tab algn="l" pos="4159080"/>
                <a:tab algn="l" pos="4608360"/>
                <a:tab algn="l" pos="5057640"/>
                <a:tab algn="l" pos="5506920"/>
                <a:tab algn="l" pos="5956200"/>
                <a:tab algn="l" pos="6405480"/>
                <a:tab algn="l" pos="6854760"/>
                <a:tab algn="l" pos="7304040"/>
                <a:tab algn="l" pos="7753320"/>
                <a:tab algn="l" pos="8202600"/>
                <a:tab algn="l" pos="8651880"/>
                <a:tab algn="l" pos="910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Comprende la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administración de versiones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de objet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38080" indent="-380880">
              <a:lnSpc>
                <a:spcPct val="90000"/>
              </a:lnSpc>
              <a:spcBef>
                <a:spcPts val="1500"/>
              </a:spcBef>
              <a:spcAft>
                <a:spcPts val="1001"/>
              </a:spcAft>
              <a:buClr>
                <a:srgbClr val="ff0000"/>
              </a:buClr>
              <a:buSzPct val="120000"/>
              <a:buFont typeface="Tahoma"/>
              <a:buAutoNum type="arabicPeriod"/>
              <a:tabLst>
                <a:tab algn="l" pos="565200"/>
                <a:tab algn="l" pos="1014480"/>
                <a:tab algn="l" pos="1463760"/>
                <a:tab algn="l" pos="1913040"/>
                <a:tab algn="l" pos="2362320"/>
                <a:tab algn="l" pos="2811600"/>
                <a:tab algn="l" pos="3260880"/>
                <a:tab algn="l" pos="3710160"/>
                <a:tab algn="l" pos="4159080"/>
                <a:tab algn="l" pos="4608360"/>
                <a:tab algn="l" pos="5057640"/>
                <a:tab algn="l" pos="5506920"/>
                <a:tab algn="l" pos="5956200"/>
                <a:tab algn="l" pos="6405480"/>
                <a:tab algn="l" pos="6854760"/>
                <a:tab algn="l" pos="7304040"/>
                <a:tab algn="l" pos="7753320"/>
                <a:tab algn="l" pos="8202600"/>
                <a:tab algn="l" pos="8651880"/>
                <a:tab algn="l" pos="910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Para ello utiliza un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sistema de administración de objetos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, que provee servicios de administración y almacenamiento de información para los objet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38080" indent="-380880">
              <a:lnSpc>
                <a:spcPct val="90000"/>
              </a:lnSpc>
              <a:spcBef>
                <a:spcPts val="1500"/>
              </a:spcBef>
              <a:spcAft>
                <a:spcPts val="1001"/>
              </a:spcAft>
              <a:buClr>
                <a:srgbClr val="ff0000"/>
              </a:buClr>
              <a:buSzPct val="120000"/>
              <a:buFont typeface="Tahoma"/>
              <a:buAutoNum type="arabicPeriod"/>
              <a:tabLst>
                <a:tab algn="l" pos="565200"/>
                <a:tab algn="l" pos="1014480"/>
                <a:tab algn="l" pos="1463760"/>
                <a:tab algn="l" pos="1913040"/>
                <a:tab algn="l" pos="2362320"/>
                <a:tab algn="l" pos="2811600"/>
                <a:tab algn="l" pos="3260880"/>
                <a:tab algn="l" pos="3710160"/>
                <a:tab algn="l" pos="4159080"/>
                <a:tab algn="l" pos="4608360"/>
                <a:tab algn="l" pos="5057640"/>
                <a:tab algn="l" pos="5506920"/>
                <a:tab algn="l" pos="5956200"/>
                <a:tab algn="l" pos="6405480"/>
                <a:tab algn="l" pos="6854760"/>
                <a:tab algn="l" pos="7304040"/>
                <a:tab algn="l" pos="7753320"/>
                <a:tab algn="l" pos="8202600"/>
                <a:tab algn="l" pos="8651880"/>
                <a:tab algn="l" pos="910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Utiliza un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SABD 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para proveer almacenamiento básico de datos y servicios (adm. de transac., confirmación y recuperación, control de acceso, etc.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7240" y="43920"/>
            <a:ext cx="7772400" cy="9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Modelo de Máquina Abstracta (3)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1530360" y="1413000"/>
            <a:ext cx="5778360" cy="4483080"/>
          </a:xfrm>
          <a:prstGeom prst="roundRect">
            <a:avLst>
              <a:gd name="adj" fmla="val 32"/>
            </a:avLst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06200" y="1459080"/>
            <a:ext cx="29221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ministrador de Rele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11240" y="1946160"/>
            <a:ext cx="5168880" cy="3568680"/>
          </a:xfrm>
          <a:prstGeom prst="roundRect">
            <a:avLst>
              <a:gd name="adj" fmla="val 42"/>
            </a:avLst>
          </a:prstGeom>
          <a:gradFill rotWithShape="0">
            <a:gsLst>
              <a:gs pos="0">
                <a:srgbClr val="969696"/>
              </a:gs>
              <a:gs pos="100000">
                <a:srgbClr val="e9e9e9"/>
              </a:gs>
            </a:gsLst>
            <a:lin ang="5400000"/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68440" y="2631960"/>
            <a:ext cx="4330800" cy="2349720"/>
          </a:xfrm>
          <a:prstGeom prst="roundRect">
            <a:avLst>
              <a:gd name="adj" fmla="val 65"/>
            </a:avLst>
          </a:prstGeom>
          <a:gradFill rotWithShape="0">
            <a:gsLst>
              <a:gs pos="0">
                <a:srgbClr val="ffcc66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78280" y="3394080"/>
            <a:ext cx="2958840" cy="1054080"/>
          </a:xfrm>
          <a:prstGeom prst="roundRect">
            <a:avLst>
              <a:gd name="adj" fmla="val 148"/>
            </a:avLst>
          </a:prstGeom>
          <a:gradFill rotWithShape="0">
            <a:gsLst>
              <a:gs pos="0">
                <a:srgbClr val="ffffcc"/>
              </a:gs>
              <a:gs pos="100000">
                <a:srgbClr val="e4e4b6"/>
              </a:gs>
            </a:gsLst>
            <a:lin ang="5400000"/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900000" y="5792760"/>
            <a:ext cx="7769160" cy="804960"/>
            <a:chOff x="900000" y="5792760"/>
            <a:chExt cx="7769160" cy="804960"/>
          </a:xfrm>
        </p:grpSpPr>
        <p:sp>
          <p:nvSpPr>
            <p:cNvPr id="255" name=""/>
            <p:cNvSpPr/>
            <p:nvPr/>
          </p:nvSpPr>
          <p:spPr>
            <a:xfrm>
              <a:off x="900000" y="5792760"/>
              <a:ext cx="7769160" cy="804960"/>
            </a:xfrm>
            <a:prstGeom prst="roundRect">
              <a:avLst>
                <a:gd name="adj" fmla="val 1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00000" y="6199920"/>
              <a:ext cx="7769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Tahoma"/>
                </a:rPr>
                <a:t>Ejemplo: Sistema Administrador de Versio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3033000" y="3751200"/>
            <a:ext cx="28872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stema de Base de 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35160" y="2816280"/>
            <a:ext cx="27590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ministrador de Obje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40000" y="2133720"/>
            <a:ext cx="46083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dministrador de Versiones de Obje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77840"/>
            <a:ext cx="8077320" cy="11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Características del Modelo de Máquina Abstracta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spcBef>
                <a:spcPts val="1712"/>
              </a:spcBef>
              <a:buClr>
                <a:srgbClr val="ff0000"/>
              </a:buClr>
              <a:buSzPct val="19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ahoma"/>
              </a:rPr>
              <a:t>Ventajas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30800" indent="-278280">
              <a:spcBef>
                <a:spcPts val="1162"/>
              </a:spcBef>
              <a:buClr>
                <a:srgbClr val="ff0000"/>
              </a:buClr>
              <a:buSzPct val="172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Permite el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desarrollo incremental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0800" indent="-278280">
              <a:spcBef>
                <a:spcPts val="1162"/>
              </a:spcBef>
              <a:buClr>
                <a:srgbClr val="ff0000"/>
              </a:buClr>
              <a:buSzPct val="172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Es más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mantenibl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0800" indent="-278280">
              <a:spcBef>
                <a:spcPts val="1162"/>
              </a:spcBef>
              <a:buClr>
                <a:srgbClr val="ff0000"/>
              </a:buClr>
              <a:buSzPct val="172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Flexible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y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fácil de evolucionar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4440" indent="-334440">
              <a:spcBef>
                <a:spcPts val="1712"/>
              </a:spcBef>
              <a:buClr>
                <a:srgbClr val="ff0000"/>
              </a:buClr>
              <a:buSzPct val="19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ahoma"/>
              </a:rPr>
              <a:t>Desventajas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30800" indent="-278280">
              <a:spcBef>
                <a:spcPts val="1162"/>
              </a:spcBef>
              <a:buClr>
                <a:srgbClr val="ff0000"/>
              </a:buClr>
              <a:buSzPct val="172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Estructurar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un sistema en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capas es difícil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0800" indent="-278280">
              <a:spcBef>
                <a:spcPts val="1162"/>
              </a:spcBef>
              <a:buClr>
                <a:srgbClr val="ff0000"/>
              </a:buClr>
              <a:buSzPct val="172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Puede haber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problemas de performance 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debido a los distintos niveles de interpretación de órden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0800" indent="-278280">
              <a:spcBef>
                <a:spcPts val="1162"/>
              </a:spcBef>
              <a:buClr>
                <a:srgbClr val="ff0000"/>
              </a:buClr>
              <a:buSzPct val="172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Puede suceder que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una capa dependa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de otra, que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no es su predecesor 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inmedia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Tahoma"/>
              </a:rPr>
              <a:t>Ejemplo de Modelo de Máquina Abstracta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340000" y="1125360"/>
            <a:ext cx="4317840" cy="554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Tahoma"/>
              </a:rPr>
              <a:t>Ejemplo de Modelo de Máquina Abstracta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195640" y="1222200"/>
            <a:ext cx="4851360" cy="39355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250920" y="5445000"/>
            <a:ext cx="874872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104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¿</a:t>
            </a:r>
            <a:r>
              <a:rPr b="0" lang="en-GB" sz="2800" spc="-1" strike="noStrike">
                <a:solidFill>
                  <a:srgbClr val="cc3300"/>
                </a:solidFill>
                <a:latin typeface="Tahoma"/>
              </a:rPr>
              <a:t>Cómo lo hacemos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en nuestras organizaciones?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¿Cuál es el </a:t>
            </a:r>
            <a:r>
              <a:rPr b="0" lang="en-GB" sz="2800" spc="-1" strike="noStrike">
                <a:solidFill>
                  <a:srgbClr val="cc3300"/>
                </a:solidFill>
                <a:latin typeface="Tahoma"/>
              </a:rPr>
              <a:t>nivel de integración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de Datos y Servici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44280"/>
            <a:ext cx="88930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a50021"/>
                </a:solidFill>
                <a:latin typeface="Tahoma"/>
              </a:rPr>
              <a:t>Arquitecturas de 2/3 Capas… para Web</a:t>
            </a:r>
            <a:endParaRPr b="0" lang="en-US" sz="3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7840" y="1580760"/>
            <a:ext cx="8267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3-Tiers Architectur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2-Tiers Architectur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4538520" y="2189160"/>
          <a:ext cx="3587760" cy="41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8520" y="2189160"/>
                    <a:ext cx="358776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698400" y="3267000"/>
          <a:ext cx="3444840" cy="302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8400" y="3267000"/>
                    <a:ext cx="3444840" cy="30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442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a50021"/>
                </a:solidFill>
                <a:latin typeface="Tahoma"/>
              </a:rPr>
              <a:t>Arquitecturas de 2/3 Capas… para Web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357200" y="1522440"/>
            <a:ext cx="623916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430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a50021"/>
                </a:solidFill>
                <a:latin typeface="Tahoma"/>
              </a:rPr>
              <a:t>Estructuración del Sistema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627280" y="1413000"/>
            <a:ext cx="4465800" cy="27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468360" y="981000"/>
          <a:ext cx="4538520" cy="573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981000"/>
                    <a:ext cx="4538520" cy="57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887400" y="18576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a50021"/>
                </a:solidFill>
                <a:latin typeface="Arial"/>
              </a:rPr>
              <a:t>Arquitectura de 5 Capas… para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5865840" y="3086280"/>
            <a:ext cx="30765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ata Access Interface (DAI)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855720" y="3672000"/>
          <a:ext cx="7488360" cy="23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720" y="3672000"/>
                    <a:ext cx="7488360" cy="23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>
            <a:off x="1943280" y="1413000"/>
            <a:ext cx="52084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2280" y="2570040"/>
            <a:ext cx="7228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Una alternativa para implementar la D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5127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Arquitecturas de Objetos Distribuidos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2627280" y="765000"/>
            <a:ext cx="402120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Tahoma"/>
              </a:rPr>
              <a:t>Arquitecturas de Objectos Distribuidos (DOA)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1200" indent="-33120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No existe la distinción entre clientes y servidores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, ya que cada objeto es potencialmente cliente y servidor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1200" indent="-33120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Cada entidad 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dentro del sistema, </a:t>
            </a:r>
            <a:r>
              <a:rPr b="0" i="1" lang="en-GB" sz="2000" spc="-1" strike="noStrike">
                <a:solidFill>
                  <a:srgbClr val="cc3300"/>
                </a:solidFill>
                <a:latin typeface="Tahoma"/>
              </a:rPr>
              <a:t>provee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servicios a sus compañeros y también </a:t>
            </a:r>
            <a:r>
              <a:rPr b="0" i="1" lang="en-GB" sz="2000" spc="-1" strike="noStrike">
                <a:solidFill>
                  <a:srgbClr val="cc3300"/>
                </a:solidFill>
                <a:latin typeface="Tahoma"/>
              </a:rPr>
              <a:t>recibe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servicios de ell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1200" indent="-33120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La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comunicación entre objetos se realiza a través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de un sistema de middleware llamado ORB (Object Request Broker), que es una especie de </a:t>
            </a:r>
            <a:r>
              <a:rPr b="0" i="1" lang="en-GB" sz="2000" spc="-1" strike="noStrike">
                <a:solidFill>
                  <a:srgbClr val="cc3300"/>
                </a:solidFill>
                <a:latin typeface="Tahoma"/>
              </a:rPr>
              <a:t>bus de software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que comunica a los component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1200" indent="-33120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Al no tener un servidor, estos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sistemas son menos vulnerables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que los que implementan una arquitectura C/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1200" indent="-33120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Por otra parte, las DOA son bastante </a:t>
            </a:r>
            <a:r>
              <a:rPr b="0" i="1" lang="en-GB" sz="2000" spc="-1" strike="noStrike">
                <a:solidFill>
                  <a:srgbClr val="cc3300"/>
                </a:solidFill>
                <a:latin typeface="Tahoma"/>
              </a:rPr>
              <a:t>más complejas de construir</a:t>
            </a:r>
            <a:r>
              <a:rPr b="0" i="1" lang="en-GB" sz="2000" spc="-1" strike="noStrike">
                <a:solidFill>
                  <a:srgbClr val="000066"/>
                </a:solidFill>
                <a:latin typeface="Tahoma"/>
              </a:rPr>
              <a:t> y </a:t>
            </a:r>
            <a:r>
              <a:rPr b="0" i="1" lang="en-GB" sz="2000" spc="-1" strike="noStrike">
                <a:solidFill>
                  <a:srgbClr val="cc3300"/>
                </a:solidFill>
                <a:latin typeface="Tahoma"/>
              </a:rPr>
              <a:t>mantener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que los sistemas C/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1200" indent="-33120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Generalmente, también </a:t>
            </a:r>
            <a:r>
              <a:rPr b="0" i="1" lang="en-GB" sz="2000" spc="-1" strike="noStrike">
                <a:solidFill>
                  <a:srgbClr val="cc3300"/>
                </a:solidFill>
                <a:latin typeface="Tahoma"/>
              </a:rPr>
              <a:t>son más lentas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Tahoma"/>
              </a:rPr>
              <a:t>Arquitectura de Objectos Distribuidos (DOA)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503280" y="3657600"/>
            <a:ext cx="7246800" cy="436680"/>
          </a:xfrm>
          <a:prstGeom prst="rect">
            <a:avLst/>
          </a:prstGeom>
          <a:solidFill>
            <a:srgbClr val="cc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 de Software (OR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0680" y="3664080"/>
            <a:ext cx="7246800" cy="4363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2071800"/>
            <a:ext cx="757080" cy="1054080"/>
          </a:xfrm>
          <a:prstGeom prst="rect">
            <a:avLst/>
          </a:prstGeom>
          <a:solidFill>
            <a:srgbClr val="859b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0920" y="1819440"/>
            <a:ext cx="1260360" cy="1260360"/>
          </a:xfrm>
          <a:prstGeom prst="ellipse">
            <a:avLst/>
          </a:prstGeom>
          <a:solidFill>
            <a:srgbClr val="d3e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95200" y="1865160"/>
            <a:ext cx="1170000" cy="1170000"/>
          </a:xfrm>
          <a:prstGeom prst="ellipse">
            <a:avLst/>
          </a:prstGeom>
          <a:solidFill>
            <a:srgbClr val="d6f0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1280" y="1911240"/>
            <a:ext cx="1077840" cy="1078200"/>
          </a:xfrm>
          <a:prstGeom prst="ellipse">
            <a:avLst/>
          </a:prstGeom>
          <a:solidFill>
            <a:srgbClr val="da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7360" y="1957320"/>
            <a:ext cx="985680" cy="986040"/>
          </a:xfrm>
          <a:prstGeom prst="ellipse">
            <a:avLst/>
          </a:prstGeom>
          <a:solidFill>
            <a:srgbClr val="ddf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3440" y="2003400"/>
            <a:ext cx="893880" cy="893880"/>
          </a:xfrm>
          <a:prstGeom prst="ellipse">
            <a:avLst/>
          </a:prstGeom>
          <a:solidFill>
            <a:srgbClr val="e0f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79520" y="2049480"/>
            <a:ext cx="803160" cy="801720"/>
          </a:xfrm>
          <a:prstGeom prst="ellipse">
            <a:avLst/>
          </a:prstGeom>
          <a:solidFill>
            <a:srgbClr val="e4f5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5600" y="2095560"/>
            <a:ext cx="711000" cy="709560"/>
          </a:xfrm>
          <a:prstGeom prst="ellipse">
            <a:avLst/>
          </a:prstGeom>
          <a:solidFill>
            <a:srgbClr val="e7f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1680" y="2139840"/>
            <a:ext cx="618840" cy="619200"/>
          </a:xfrm>
          <a:prstGeom prst="ellipse">
            <a:avLst/>
          </a:prstGeom>
          <a:solidFill>
            <a:srgbClr val="ebf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17400" y="2185920"/>
            <a:ext cx="549360" cy="527040"/>
          </a:xfrm>
          <a:prstGeom prst="ellipse">
            <a:avLst/>
          </a:prstGeom>
          <a:solidFill>
            <a:srgbClr val="eef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63480" y="2232000"/>
            <a:ext cx="457200" cy="434880"/>
          </a:xfrm>
          <a:prstGeom prst="ellipse">
            <a:avLst/>
          </a:prstGeom>
          <a:solidFill>
            <a:srgbClr val="f2fa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08120" y="2278080"/>
            <a:ext cx="368280" cy="344520"/>
          </a:xfrm>
          <a:prstGeom prst="ellipse">
            <a:avLst/>
          </a:prstGeom>
          <a:solidFill>
            <a:srgbClr val="f5f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4200" y="2324160"/>
            <a:ext cx="276120" cy="252360"/>
          </a:xfrm>
          <a:prstGeom prst="ellipse">
            <a:avLst/>
          </a:prstGeom>
          <a:solidFill>
            <a:srgbClr val="f9fd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00280" y="2370240"/>
            <a:ext cx="183960" cy="160200"/>
          </a:xfrm>
          <a:prstGeom prst="ellipse">
            <a:avLst/>
          </a:prstGeom>
          <a:solidFill>
            <a:srgbClr val="fcfe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46000" y="2392200"/>
            <a:ext cx="92160" cy="92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6400" y="1944720"/>
            <a:ext cx="711360" cy="10094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5600" y="2255760"/>
            <a:ext cx="73332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25600" y="2530440"/>
            <a:ext cx="73332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570640" y="4592520"/>
            <a:ext cx="733320" cy="1055880"/>
          </a:xfrm>
          <a:prstGeom prst="rect">
            <a:avLst/>
          </a:prstGeom>
          <a:solidFill>
            <a:srgbClr val="859b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33960" y="4363920"/>
            <a:ext cx="1262160" cy="1238400"/>
          </a:xfrm>
          <a:prstGeom prst="ellipse">
            <a:avLst/>
          </a:prstGeom>
          <a:solidFill>
            <a:srgbClr val="d3e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80040" y="4386240"/>
            <a:ext cx="1170000" cy="1192320"/>
          </a:xfrm>
          <a:prstGeom prst="ellipse">
            <a:avLst/>
          </a:prstGeom>
          <a:solidFill>
            <a:srgbClr val="d6f0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226120" y="4432320"/>
            <a:ext cx="1077840" cy="1100160"/>
          </a:xfrm>
          <a:prstGeom prst="ellipse">
            <a:avLst/>
          </a:prstGeom>
          <a:solidFill>
            <a:srgbClr val="da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272200" y="4478400"/>
            <a:ext cx="985680" cy="1008000"/>
          </a:xfrm>
          <a:prstGeom prst="ellipse">
            <a:avLst/>
          </a:prstGeom>
          <a:solidFill>
            <a:srgbClr val="ddf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18280" y="4524480"/>
            <a:ext cx="893520" cy="917640"/>
          </a:xfrm>
          <a:prstGeom prst="ellipse">
            <a:avLst/>
          </a:prstGeom>
          <a:solidFill>
            <a:srgbClr val="e0f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64000" y="4570560"/>
            <a:ext cx="801720" cy="825480"/>
          </a:xfrm>
          <a:prstGeom prst="ellipse">
            <a:avLst/>
          </a:prstGeom>
          <a:solidFill>
            <a:srgbClr val="e4f5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10080" y="4616280"/>
            <a:ext cx="709560" cy="733680"/>
          </a:xfrm>
          <a:prstGeom prst="ellipse">
            <a:avLst/>
          </a:prstGeom>
          <a:solidFill>
            <a:srgbClr val="e7f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56160" y="4662360"/>
            <a:ext cx="619200" cy="641520"/>
          </a:xfrm>
          <a:prstGeom prst="ellipse">
            <a:avLst/>
          </a:prstGeom>
          <a:solidFill>
            <a:srgbClr val="ebf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500800" y="4708440"/>
            <a:ext cx="528480" cy="549360"/>
          </a:xfrm>
          <a:prstGeom prst="ellipse">
            <a:avLst/>
          </a:prstGeom>
          <a:solidFill>
            <a:srgbClr val="eef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546880" y="4753080"/>
            <a:ext cx="436320" cy="458640"/>
          </a:xfrm>
          <a:prstGeom prst="ellipse">
            <a:avLst/>
          </a:prstGeom>
          <a:solidFill>
            <a:srgbClr val="f2fa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570640" y="4799160"/>
            <a:ext cx="366480" cy="366480"/>
          </a:xfrm>
          <a:prstGeom prst="ellipse">
            <a:avLst/>
          </a:prstGeom>
          <a:solidFill>
            <a:srgbClr val="f5f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616720" y="4844880"/>
            <a:ext cx="274320" cy="274680"/>
          </a:xfrm>
          <a:prstGeom prst="ellipse">
            <a:avLst/>
          </a:prstGeom>
          <a:solidFill>
            <a:srgbClr val="f9fd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62440" y="4890960"/>
            <a:ext cx="182880" cy="184320"/>
          </a:xfrm>
          <a:prstGeom prst="ellipse">
            <a:avLst/>
          </a:prstGeom>
          <a:solidFill>
            <a:srgbClr val="fcfe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07080" y="4937040"/>
            <a:ext cx="92160" cy="92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97480" y="4489560"/>
            <a:ext cx="711360" cy="9856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86320" y="4799160"/>
            <a:ext cx="7574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86320" y="5051520"/>
            <a:ext cx="7574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81280" y="4592520"/>
            <a:ext cx="733320" cy="1055880"/>
          </a:xfrm>
          <a:prstGeom prst="rect">
            <a:avLst/>
          </a:prstGeom>
          <a:solidFill>
            <a:srgbClr val="859b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44600" y="4363920"/>
            <a:ext cx="1262160" cy="1238400"/>
          </a:xfrm>
          <a:prstGeom prst="ellipse">
            <a:avLst/>
          </a:prstGeom>
          <a:solidFill>
            <a:srgbClr val="d3e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90680" y="4386240"/>
            <a:ext cx="1170000" cy="1192320"/>
          </a:xfrm>
          <a:prstGeom prst="ellipse">
            <a:avLst/>
          </a:prstGeom>
          <a:solidFill>
            <a:srgbClr val="d6f0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36760" y="4432320"/>
            <a:ext cx="1077840" cy="1100160"/>
          </a:xfrm>
          <a:prstGeom prst="ellipse">
            <a:avLst/>
          </a:prstGeom>
          <a:solidFill>
            <a:srgbClr val="da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82840" y="4478400"/>
            <a:ext cx="985680" cy="1008000"/>
          </a:xfrm>
          <a:prstGeom prst="ellipse">
            <a:avLst/>
          </a:prstGeom>
          <a:solidFill>
            <a:srgbClr val="ddf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428920" y="4524480"/>
            <a:ext cx="893880" cy="917640"/>
          </a:xfrm>
          <a:prstGeom prst="ellipse">
            <a:avLst/>
          </a:prstGeom>
          <a:solidFill>
            <a:srgbClr val="e0f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75000" y="4570560"/>
            <a:ext cx="801720" cy="825480"/>
          </a:xfrm>
          <a:prstGeom prst="ellipse">
            <a:avLst/>
          </a:prstGeom>
          <a:solidFill>
            <a:srgbClr val="e4f5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496960" y="4616280"/>
            <a:ext cx="733680" cy="733680"/>
          </a:xfrm>
          <a:prstGeom prst="ellipse">
            <a:avLst/>
          </a:prstGeom>
          <a:solidFill>
            <a:srgbClr val="e7f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43040" y="4662360"/>
            <a:ext cx="641520" cy="641520"/>
          </a:xfrm>
          <a:prstGeom prst="ellipse">
            <a:avLst/>
          </a:prstGeom>
          <a:solidFill>
            <a:srgbClr val="ebf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89120" y="4708440"/>
            <a:ext cx="550800" cy="549360"/>
          </a:xfrm>
          <a:prstGeom prst="ellipse">
            <a:avLst/>
          </a:prstGeom>
          <a:solidFill>
            <a:srgbClr val="eef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35200" y="4753080"/>
            <a:ext cx="459000" cy="458640"/>
          </a:xfrm>
          <a:prstGeom prst="ellipse">
            <a:avLst/>
          </a:prstGeom>
          <a:solidFill>
            <a:srgbClr val="f2fa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81280" y="4799160"/>
            <a:ext cx="366840" cy="366480"/>
          </a:xfrm>
          <a:prstGeom prst="ellipse">
            <a:avLst/>
          </a:prstGeom>
          <a:solidFill>
            <a:srgbClr val="f5f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27360" y="4844880"/>
            <a:ext cx="274680" cy="274680"/>
          </a:xfrm>
          <a:prstGeom prst="ellipse">
            <a:avLst/>
          </a:prstGeom>
          <a:solidFill>
            <a:srgbClr val="f9fd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71640" y="4890960"/>
            <a:ext cx="184320" cy="184320"/>
          </a:xfrm>
          <a:prstGeom prst="ellipse">
            <a:avLst/>
          </a:prstGeom>
          <a:solidFill>
            <a:srgbClr val="fcfe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817720" y="4937040"/>
            <a:ext cx="92160" cy="92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508120" y="4489560"/>
            <a:ext cx="711360" cy="9856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496960" y="4799160"/>
            <a:ext cx="7574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496960" y="5051520"/>
            <a:ext cx="7574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11440" y="2071800"/>
            <a:ext cx="757080" cy="1054080"/>
          </a:xfrm>
          <a:prstGeom prst="rect">
            <a:avLst/>
          </a:prstGeom>
          <a:solidFill>
            <a:srgbClr val="859b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176560" y="1819440"/>
            <a:ext cx="1260360" cy="1260360"/>
          </a:xfrm>
          <a:prstGeom prst="ellipse">
            <a:avLst/>
          </a:prstGeom>
          <a:solidFill>
            <a:srgbClr val="d3e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22640" y="1865160"/>
            <a:ext cx="1168200" cy="1170000"/>
          </a:xfrm>
          <a:prstGeom prst="ellipse">
            <a:avLst/>
          </a:prstGeom>
          <a:solidFill>
            <a:srgbClr val="d6f0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68360" y="1911240"/>
            <a:ext cx="1078200" cy="1078200"/>
          </a:xfrm>
          <a:prstGeom prst="ellipse">
            <a:avLst/>
          </a:prstGeom>
          <a:solidFill>
            <a:srgbClr val="da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314440" y="1957320"/>
            <a:ext cx="986040" cy="986040"/>
          </a:xfrm>
          <a:prstGeom prst="ellipse">
            <a:avLst/>
          </a:prstGeom>
          <a:solidFill>
            <a:srgbClr val="ddf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359080" y="2003400"/>
            <a:ext cx="895320" cy="893880"/>
          </a:xfrm>
          <a:prstGeom prst="ellipse">
            <a:avLst/>
          </a:prstGeom>
          <a:solidFill>
            <a:srgbClr val="e0f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405160" y="2049480"/>
            <a:ext cx="803160" cy="801720"/>
          </a:xfrm>
          <a:prstGeom prst="ellipse">
            <a:avLst/>
          </a:prstGeom>
          <a:solidFill>
            <a:srgbClr val="e4f5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451240" y="2095560"/>
            <a:ext cx="711000" cy="709560"/>
          </a:xfrm>
          <a:prstGeom prst="ellipse">
            <a:avLst/>
          </a:prstGeom>
          <a:solidFill>
            <a:srgbClr val="e7f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96960" y="2139840"/>
            <a:ext cx="619200" cy="619200"/>
          </a:xfrm>
          <a:prstGeom prst="ellipse">
            <a:avLst/>
          </a:prstGeom>
          <a:solidFill>
            <a:srgbClr val="ebf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543040" y="2185920"/>
            <a:ext cx="527040" cy="527040"/>
          </a:xfrm>
          <a:prstGeom prst="ellipse">
            <a:avLst/>
          </a:prstGeom>
          <a:solidFill>
            <a:srgbClr val="eef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89120" y="2232000"/>
            <a:ext cx="435240" cy="434880"/>
          </a:xfrm>
          <a:prstGeom prst="ellipse">
            <a:avLst/>
          </a:prstGeom>
          <a:solidFill>
            <a:srgbClr val="f2fa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635200" y="2278080"/>
            <a:ext cx="343080" cy="344520"/>
          </a:xfrm>
          <a:prstGeom prst="ellipse">
            <a:avLst/>
          </a:prstGeom>
          <a:solidFill>
            <a:srgbClr val="f5f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57520" y="2324160"/>
            <a:ext cx="276120" cy="252360"/>
          </a:xfrm>
          <a:prstGeom prst="ellipse">
            <a:avLst/>
          </a:prstGeom>
          <a:solidFill>
            <a:srgbClr val="f9fd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03600" y="2370240"/>
            <a:ext cx="183960" cy="160200"/>
          </a:xfrm>
          <a:prstGeom prst="ellipse">
            <a:avLst/>
          </a:prstGeom>
          <a:solidFill>
            <a:srgbClr val="fcfe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749680" y="2392200"/>
            <a:ext cx="91800" cy="92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440080" y="1944720"/>
            <a:ext cx="733320" cy="10094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28920" y="2255760"/>
            <a:ext cx="75564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28920" y="2530440"/>
            <a:ext cx="75564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38520" y="2071800"/>
            <a:ext cx="733680" cy="1054080"/>
          </a:xfrm>
          <a:prstGeom prst="rect">
            <a:avLst/>
          </a:prstGeom>
          <a:solidFill>
            <a:srgbClr val="859b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102200" y="1819440"/>
            <a:ext cx="1238040" cy="1260360"/>
          </a:xfrm>
          <a:prstGeom prst="ellipse">
            <a:avLst/>
          </a:prstGeom>
          <a:solidFill>
            <a:srgbClr val="d3e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25960" y="1865160"/>
            <a:ext cx="1168200" cy="1170000"/>
          </a:xfrm>
          <a:prstGeom prst="ellipse">
            <a:avLst/>
          </a:prstGeom>
          <a:solidFill>
            <a:srgbClr val="d6f0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172040" y="1911240"/>
            <a:ext cx="1100160" cy="1078200"/>
          </a:xfrm>
          <a:prstGeom prst="ellipse">
            <a:avLst/>
          </a:prstGeom>
          <a:solidFill>
            <a:srgbClr val="da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18120" y="1957320"/>
            <a:ext cx="1008000" cy="986040"/>
          </a:xfrm>
          <a:prstGeom prst="ellipse">
            <a:avLst/>
          </a:prstGeom>
          <a:solidFill>
            <a:srgbClr val="ddf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2400" y="2003400"/>
            <a:ext cx="917640" cy="893880"/>
          </a:xfrm>
          <a:prstGeom prst="ellipse">
            <a:avLst/>
          </a:prstGeom>
          <a:solidFill>
            <a:srgbClr val="e0f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08480" y="2049480"/>
            <a:ext cx="825480" cy="801720"/>
          </a:xfrm>
          <a:prstGeom prst="ellipse">
            <a:avLst/>
          </a:prstGeom>
          <a:solidFill>
            <a:srgbClr val="e4f5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54560" y="2095560"/>
            <a:ext cx="733320" cy="709560"/>
          </a:xfrm>
          <a:prstGeom prst="ellipse">
            <a:avLst/>
          </a:prstGeom>
          <a:solidFill>
            <a:srgbClr val="e7f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400640" y="2139840"/>
            <a:ext cx="642960" cy="619200"/>
          </a:xfrm>
          <a:prstGeom prst="ellipse">
            <a:avLst/>
          </a:prstGeom>
          <a:solidFill>
            <a:srgbClr val="ebf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46720" y="2185920"/>
            <a:ext cx="550800" cy="527040"/>
          </a:xfrm>
          <a:prstGeom prst="ellipse">
            <a:avLst/>
          </a:prstGeom>
          <a:solidFill>
            <a:srgbClr val="eef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92800" y="2232000"/>
            <a:ext cx="458640" cy="434880"/>
          </a:xfrm>
          <a:prstGeom prst="ellipse">
            <a:avLst/>
          </a:prstGeom>
          <a:solidFill>
            <a:srgbClr val="f2fa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38520" y="2278080"/>
            <a:ext cx="366840" cy="344520"/>
          </a:xfrm>
          <a:prstGeom prst="ellipse">
            <a:avLst/>
          </a:prstGeom>
          <a:solidFill>
            <a:srgbClr val="f5f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84600" y="2324160"/>
            <a:ext cx="274680" cy="252360"/>
          </a:xfrm>
          <a:prstGeom prst="ellipse">
            <a:avLst/>
          </a:prstGeom>
          <a:solidFill>
            <a:srgbClr val="f9fd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630680" y="2370240"/>
            <a:ext cx="182520" cy="160200"/>
          </a:xfrm>
          <a:prstGeom prst="ellipse">
            <a:avLst/>
          </a:prstGeom>
          <a:solidFill>
            <a:srgbClr val="fcfe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75320" y="2392200"/>
            <a:ext cx="91800" cy="92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65720" y="1944720"/>
            <a:ext cx="711000" cy="10094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354560" y="2255760"/>
            <a:ext cx="73332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54560" y="2530440"/>
            <a:ext cx="73332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42200" y="2071800"/>
            <a:ext cx="755640" cy="1054080"/>
          </a:xfrm>
          <a:prstGeom prst="rect">
            <a:avLst/>
          </a:prstGeom>
          <a:solidFill>
            <a:srgbClr val="859b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05520" y="1819440"/>
            <a:ext cx="1262160" cy="1260360"/>
          </a:xfrm>
          <a:prstGeom prst="ellipse">
            <a:avLst/>
          </a:prstGeom>
          <a:solidFill>
            <a:srgbClr val="d3e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51600" y="1865160"/>
            <a:ext cx="1170000" cy="1170000"/>
          </a:xfrm>
          <a:prstGeom prst="ellipse">
            <a:avLst/>
          </a:prstGeom>
          <a:solidFill>
            <a:srgbClr val="d6f0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97680" y="1911240"/>
            <a:ext cx="1077840" cy="1078200"/>
          </a:xfrm>
          <a:prstGeom prst="ellipse">
            <a:avLst/>
          </a:prstGeom>
          <a:solidFill>
            <a:srgbClr val="da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143760" y="1957320"/>
            <a:ext cx="985680" cy="986040"/>
          </a:xfrm>
          <a:prstGeom prst="ellipse">
            <a:avLst/>
          </a:prstGeom>
          <a:solidFill>
            <a:srgbClr val="ddf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189840" y="2003400"/>
            <a:ext cx="893520" cy="893880"/>
          </a:xfrm>
          <a:prstGeom prst="ellipse">
            <a:avLst/>
          </a:prstGeom>
          <a:solidFill>
            <a:srgbClr val="e0f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235560" y="2049480"/>
            <a:ext cx="801720" cy="801720"/>
          </a:xfrm>
          <a:prstGeom prst="ellipse">
            <a:avLst/>
          </a:prstGeom>
          <a:solidFill>
            <a:srgbClr val="e4f5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281640" y="2095560"/>
            <a:ext cx="709560" cy="709560"/>
          </a:xfrm>
          <a:prstGeom prst="ellipse">
            <a:avLst/>
          </a:prstGeom>
          <a:solidFill>
            <a:srgbClr val="e7f7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326280" y="2139840"/>
            <a:ext cx="619200" cy="619200"/>
          </a:xfrm>
          <a:prstGeom prst="ellipse">
            <a:avLst/>
          </a:prstGeom>
          <a:solidFill>
            <a:srgbClr val="ebf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372360" y="2185920"/>
            <a:ext cx="528480" cy="527040"/>
          </a:xfrm>
          <a:prstGeom prst="ellipse">
            <a:avLst/>
          </a:prstGeom>
          <a:solidFill>
            <a:srgbClr val="eef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18440" y="2232000"/>
            <a:ext cx="436320" cy="434880"/>
          </a:xfrm>
          <a:prstGeom prst="ellipse">
            <a:avLst/>
          </a:prstGeom>
          <a:solidFill>
            <a:srgbClr val="f2fa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464160" y="2278080"/>
            <a:ext cx="344520" cy="344520"/>
          </a:xfrm>
          <a:prstGeom prst="ellipse">
            <a:avLst/>
          </a:prstGeom>
          <a:solidFill>
            <a:srgbClr val="f5f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510240" y="2324160"/>
            <a:ext cx="252360" cy="252360"/>
          </a:xfrm>
          <a:prstGeom prst="ellipse">
            <a:avLst/>
          </a:prstGeom>
          <a:solidFill>
            <a:srgbClr val="f9fd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556320" y="2370240"/>
            <a:ext cx="182520" cy="160200"/>
          </a:xfrm>
          <a:prstGeom prst="ellipse">
            <a:avLst/>
          </a:prstGeom>
          <a:solidFill>
            <a:srgbClr val="fcfe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02400" y="2392200"/>
            <a:ext cx="92160" cy="92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269040" y="1944720"/>
            <a:ext cx="735120" cy="10094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257880" y="2255760"/>
            <a:ext cx="75744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257880" y="2530440"/>
            <a:ext cx="75744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46000" y="2943360"/>
            <a:ext cx="1800" cy="709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749680" y="2943360"/>
            <a:ext cx="1440" cy="709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699080" y="2943360"/>
            <a:ext cx="1440" cy="709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624720" y="2943360"/>
            <a:ext cx="1440" cy="709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5707080" y="4088880"/>
            <a:ext cx="1440" cy="3891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2795760" y="4088880"/>
            <a:ext cx="1440" cy="3891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53480" y="1935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400" y="1935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656800" y="1935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771280" y="1935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84240" y="1935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698360" y="1935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531840" y="1935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47760" y="1935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702880" y="45021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17000" y="45021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662080" y="45021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76200" y="45021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17040" y="2530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31880" y="25304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77960" y="253044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45640" y="25304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959760" y="25304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052640" y="253044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565000" y="2554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681280" y="25542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727720" y="255420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795040" y="25542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909160" y="25542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002040" y="255420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92440" y="2554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06920" y="25542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653360" y="255420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720680" y="25542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36600" y="25542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27680" y="255420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372000" y="2554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488280" y="25542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532920" y="255420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601680" y="25542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716160" y="25542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809040" y="255420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588760" y="50976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03600" y="50976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49680" y="509760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17000" y="50976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932920" y="50976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24360" y="509760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78120" y="5052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592600" y="50529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39040" y="50529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706360" y="50529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822280" y="50529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913720" y="50529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7093080" y="4807080"/>
            <a:ext cx="205092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Tahoma"/>
              </a:rPr>
              <a:t>Arquitectura de Objectos Distribuidos (DOA)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1685880" y="2075040"/>
            <a:ext cx="5981760" cy="40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Tahoma"/>
              </a:rPr>
              <a:t>Ventajas de las DOA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4360" indent="-324360">
              <a:lnSpc>
                <a:spcPct val="90000"/>
              </a:lnSpc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Permiten que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los diseñadores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de estos sistemas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puedan demorar la toma de decisión 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respecto a dónde y cómo deberían ser provistos los servici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4360" indent="-324360">
              <a:lnSpc>
                <a:spcPct val="90000"/>
              </a:lnSpc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Es una arquitectura muy abierta, ya que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permite que nuevos recursos sean agregados 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en el momento que se necesit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4360" indent="-324360">
              <a:lnSpc>
                <a:spcPct val="90000"/>
              </a:lnSpc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Permite que los sistemas sean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flexibles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y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escalabl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4360" indent="-324360">
              <a:lnSpc>
                <a:spcPct val="90000"/>
              </a:lnSpc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Es posible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reconfigurar el sistema dinámicamente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. Para ello sólo hay que migrar los objetos del sistema a través de la re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4360"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…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. las principales </a:t>
            </a:r>
            <a:r>
              <a:rPr b="1" lang="en-GB" sz="2400" spc="-1" strike="noStrike">
                <a:solidFill>
                  <a:srgbClr val="000066"/>
                </a:solidFill>
                <a:latin typeface="Tahoma"/>
              </a:rPr>
              <a:t>desventajas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son su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complejidad 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y su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mal rendimiento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4360" indent="0" algn="ctr">
              <a:lnSpc>
                <a:spcPct val="90000"/>
              </a:lnSpc>
              <a:spcBef>
                <a:spcPts val="14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2400" spc="-1" strike="noStrike">
                <a:solidFill>
                  <a:srgbClr val="000066"/>
                </a:solidFill>
                <a:latin typeface="Tahoma"/>
              </a:rPr>
              <a:t>“… </a:t>
            </a:r>
            <a:r>
              <a:rPr b="0" i="1" lang="en-GB" sz="2400" spc="-1" strike="noStrike">
                <a:solidFill>
                  <a:srgbClr val="000066"/>
                </a:solidFill>
                <a:latin typeface="Tahoma"/>
              </a:rPr>
              <a:t>según el dicho popular, los sistemas de objetos distribuidos son dulces… y lentos como la miel”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Tahoma"/>
              </a:rPr>
              <a:t>EJERCICIO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442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Ejemplo de ChileMetal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496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sarrollar un framework de software integrador de políticas de administración de sistemas: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dm. de Usuario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olíticas de Seguridad y Respaldo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ato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rvicios (unificación)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79280" y="2851200"/>
            <a:ext cx="6984720" cy="3817440"/>
            <a:chOff x="179280" y="2851200"/>
            <a:chExt cx="6984720" cy="3817440"/>
          </a:xfrm>
        </p:grpSpPr>
        <p:sp>
          <p:nvSpPr>
            <p:cNvPr id="466" name=""/>
            <p:cNvSpPr/>
            <p:nvPr/>
          </p:nvSpPr>
          <p:spPr>
            <a:xfrm>
              <a:off x="251280" y="2995920"/>
              <a:ext cx="1600920" cy="93636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Sistema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79280" y="4725000"/>
              <a:ext cx="1600920" cy="93672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Sistema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652840" y="5732280"/>
              <a:ext cx="1600920" cy="93636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Sistema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3080" y="4580640"/>
              <a:ext cx="1600920" cy="93636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Sistema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471920" y="2851200"/>
              <a:ext cx="1600920" cy="93672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Sistema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288880" y="4580640"/>
              <a:ext cx="2693520" cy="57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FRAME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4618080" y="3787920"/>
              <a:ext cx="43596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453480" y="515700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4982400" y="5012640"/>
              <a:ext cx="58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647000" y="3775320"/>
              <a:ext cx="80028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1780200" y="5083560"/>
              <a:ext cx="50832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7324560" y="4365720"/>
            <a:ext cx="181944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442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Ejemplo de ChileMetal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68000" y="1296720"/>
            <a:ext cx="8351640" cy="55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equisitos Críticos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8040" indent="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8040" indent="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8040" indent="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8040" indent="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8040" indent="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8040" indent="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8040" indent="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¿Cuál(es) cree que es el modelo más apropiado para estructurar la solución de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hileMetal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¿Qué inconvenientes tienen los otros modelos?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1403280" y="1920960"/>
          <a:ext cx="6911640" cy="2876400"/>
        </p:xfrm>
        <a:graphic>
          <a:graphicData uri="http://schemas.openxmlformats.org/drawingml/2006/table">
            <a:tbl>
              <a:tblPr/>
              <a:tblGrid>
                <a:gridCol w="3458160"/>
                <a:gridCol w="3453480"/>
              </a:tblGrid>
              <a:tr h="12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Funciona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Interoperab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Segur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Pertine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Us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Aprendib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Aceptación de u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Manteni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Analizab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Cambiab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Estab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Confiabilidad (disponibilid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Madure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Tolerancia a fal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Recuperab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Estructuración del Sistema (1)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8207280" cy="49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1120" indent="-32112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ahoma"/>
              </a:rPr>
              <a:t>… </a:t>
            </a:r>
            <a:r>
              <a:rPr b="0" lang="en-GB" sz="2200" spc="-1" strike="noStrike">
                <a:solidFill>
                  <a:srgbClr val="000066"/>
                </a:solidFill>
                <a:latin typeface="Tahoma"/>
              </a:rPr>
              <a:t>una vez que los requisitos (incluyendo los de calidad) están claramente especificados, </a:t>
            </a:r>
            <a:r>
              <a:rPr b="1" i="1" lang="en-GB" sz="2200" spc="-1" strike="noStrike">
                <a:solidFill>
                  <a:srgbClr val="000066"/>
                </a:solidFill>
                <a:latin typeface="Tahoma"/>
              </a:rPr>
              <a:t>comenzamos a hacer arquitectura</a:t>
            </a:r>
            <a:r>
              <a:rPr b="0" lang="en-GB" sz="2200" spc="-1" strike="noStrike">
                <a:solidFill>
                  <a:srgbClr val="000066"/>
                </a:solidFill>
                <a:latin typeface="Tahoma"/>
              </a:rPr>
              <a:t> del sistema…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1120" indent="-32112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ahoma"/>
              </a:rPr>
              <a:t>Usualmente se parte por la </a:t>
            </a:r>
            <a:r>
              <a:rPr b="1" i="1" lang="en-GB" sz="2200" spc="-1" strike="noStrike">
                <a:solidFill>
                  <a:srgbClr val="000066"/>
                </a:solidFill>
                <a:latin typeface="Tahoma"/>
              </a:rPr>
              <a:t>estructuración de la solución</a:t>
            </a:r>
            <a:r>
              <a:rPr b="0" lang="en-GB" sz="2200" spc="-1" strike="noStrike">
                <a:solidFill>
                  <a:srgbClr val="000066"/>
                </a:solidFill>
                <a:latin typeface="Tahoma"/>
              </a:rPr>
              <a:t> (sistema)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1120" indent="-32112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ahoma"/>
              </a:rPr>
              <a:t>Se refiere a la </a:t>
            </a:r>
            <a:r>
              <a:rPr b="1" i="1" lang="en-GB" sz="2200" spc="-1" strike="noStrike">
                <a:solidFill>
                  <a:srgbClr val="000066"/>
                </a:solidFill>
                <a:latin typeface="Tahoma"/>
              </a:rPr>
              <a:t>descomposición del sistema</a:t>
            </a:r>
            <a:r>
              <a:rPr b="0" lang="en-GB" sz="2200" spc="-1" strike="noStrike">
                <a:solidFill>
                  <a:srgbClr val="000066"/>
                </a:solidFill>
                <a:latin typeface="Tahoma"/>
              </a:rPr>
              <a:t> a través de un conjunto subsistemas relacionad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1120" indent="-32112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ahoma"/>
              </a:rPr>
              <a:t>El diseño de la arquitectura es normalmente expresado como un </a:t>
            </a:r>
            <a:r>
              <a:rPr b="1" i="1" lang="en-GB" sz="2200" spc="-1" strike="noStrike">
                <a:solidFill>
                  <a:srgbClr val="000066"/>
                </a:solidFill>
                <a:latin typeface="Tahoma"/>
              </a:rPr>
              <a:t>diagrama de bloques</a:t>
            </a:r>
            <a:r>
              <a:rPr b="0" lang="en-GB" sz="2200" spc="-1" strike="noStrike">
                <a:solidFill>
                  <a:srgbClr val="000066"/>
                </a:solidFill>
                <a:latin typeface="Tahoma"/>
              </a:rPr>
              <a:t>, el cual, presenta una </a:t>
            </a:r>
            <a:r>
              <a:rPr b="0" lang="en-GB" sz="2200" spc="-1" strike="noStrike">
                <a:solidFill>
                  <a:srgbClr val="cc3300"/>
                </a:solidFill>
                <a:latin typeface="Tahoma"/>
              </a:rPr>
              <a:t>vista de la estructura</a:t>
            </a:r>
            <a:r>
              <a:rPr b="0" lang="en-GB" sz="2200" spc="-1" strike="noStrike">
                <a:solidFill>
                  <a:srgbClr val="000066"/>
                </a:solidFill>
                <a:latin typeface="Tahoma"/>
              </a:rPr>
              <a:t> del sistem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1120" indent="-32112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ahoma"/>
              </a:rPr>
              <a:t>Muchos modelos específicos muestran </a:t>
            </a:r>
            <a:r>
              <a:rPr b="0" lang="en-GB" sz="2200" spc="-1" strike="noStrike">
                <a:solidFill>
                  <a:srgbClr val="cc3300"/>
                </a:solidFill>
                <a:latin typeface="Tahoma"/>
              </a:rPr>
              <a:t>cómo los subsistemas comparten los datos</a:t>
            </a:r>
            <a:r>
              <a:rPr b="0" lang="en-GB" sz="2200" spc="-1" strike="noStrike">
                <a:solidFill>
                  <a:srgbClr val="000066"/>
                </a:solidFill>
                <a:latin typeface="Tahoma"/>
              </a:rPr>
              <a:t>, cómo son distribuidos y cómo las interfaces con otros subsistemas pueden ser desarrollada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9185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Queremos que la solución propuesta tenga mínimo impacto sobre los sistemas existentes.</a:t>
            </a:r>
            <a:br>
              <a:rPr sz="3200"/>
            </a:br>
            <a:br>
              <a:rPr sz="4000"/>
            </a:b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Júntese en grupos de 2 o tres personas y determine ¿cuál es la mejor alternativa?.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5300280"/>
            <a:ext cx="6400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Luego, comparta su propuesta con el resto de nosot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2556000" y="476280"/>
            <a:ext cx="93636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s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922560" y="476280"/>
            <a:ext cx="93672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s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19640" y="476280"/>
            <a:ext cx="93672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s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258920" y="4508640"/>
            <a:ext cx="1441440" cy="115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D Sis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4356000" y="1197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5508720" y="1197000"/>
            <a:ext cx="7128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3059280" y="1197000"/>
            <a:ext cx="7272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916360" y="1916280"/>
            <a:ext cx="302400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rvicios Estánd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30560" y="4508640"/>
            <a:ext cx="1441440" cy="115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D Sis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515280" y="4508640"/>
            <a:ext cx="1441440" cy="115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D Sist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484360" y="3070080"/>
            <a:ext cx="3888000" cy="719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delo de Datos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236000" y="333360"/>
            <a:ext cx="1152360" cy="862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ue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5940360" y="1197000"/>
            <a:ext cx="1656000" cy="100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4429080" y="2420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5508720" y="2420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349800" y="2420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6156360" y="3789360"/>
            <a:ext cx="50328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2266920" y="3789360"/>
            <a:ext cx="43344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3780000" y="3789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 flipV="1">
            <a:off x="1331640" y="1700280"/>
            <a:ext cx="1152360" cy="165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1332000" y="981000"/>
            <a:ext cx="1224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1332000" y="1197000"/>
            <a:ext cx="2879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1332000" y="1125000"/>
            <a:ext cx="403200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6372360" y="1197000"/>
            <a:ext cx="1439640" cy="22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08000" y="5661000"/>
            <a:ext cx="9036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4920" y="5875200"/>
            <a:ext cx="91090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¿Cuál es la mejor propuesta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2556000" y="476280"/>
            <a:ext cx="93636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s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922560" y="476280"/>
            <a:ext cx="93672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s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219640" y="476280"/>
            <a:ext cx="93672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s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700360" y="1844640"/>
            <a:ext cx="324000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ductor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258920" y="5516640"/>
            <a:ext cx="1441440" cy="115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D Sis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4356000" y="119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5435640" y="1196640"/>
            <a:ext cx="14436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3059280" y="1196640"/>
            <a:ext cx="21744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916360" y="2924280"/>
            <a:ext cx="302400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rvicios Estánd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30560" y="5516640"/>
            <a:ext cx="1441440" cy="115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D Sis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515280" y="5516640"/>
            <a:ext cx="1441440" cy="115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D Sist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84360" y="4078440"/>
            <a:ext cx="3888000" cy="718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delo de Datos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236000" y="333360"/>
            <a:ext cx="1152360" cy="862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ue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5940360" y="1197000"/>
            <a:ext cx="1656000" cy="172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4429080" y="3428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5508720" y="3428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3349800" y="3428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 flipV="1">
            <a:off x="4427280" y="2349000"/>
            <a:ext cx="14436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 flipV="1">
            <a:off x="5435640" y="2349000"/>
            <a:ext cx="21600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3059280" y="2349000"/>
            <a:ext cx="217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3708360" y="2349000"/>
            <a:ext cx="21600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4859280" y="2349000"/>
            <a:ext cx="217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4716360" y="234900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 flipV="1">
            <a:off x="6156360" y="4797360"/>
            <a:ext cx="50328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2266920" y="4797360"/>
            <a:ext cx="43344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3780000" y="4797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1332000" y="1699920"/>
            <a:ext cx="1224000" cy="23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1332000" y="981000"/>
            <a:ext cx="1224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1332000" y="1197000"/>
            <a:ext cx="2879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1332000" y="1125000"/>
            <a:ext cx="403200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6372360" y="1196640"/>
            <a:ext cx="1439640" cy="287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440" y="442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Ejemplo de ChileMetal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vocación (propietaria) de Servicios de Validación de Usuarios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st 1: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Valid_User (login, password)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-&gt; True/Fals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st 2: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Login (login, password)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-&gt; Rol/Fals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st 3: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cceso_User (login, password)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-&gt; OK/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¬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rvicios Estándares: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Login (login, password)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&gt; True/Fals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Rol (login)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&gt; Ro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34920" y="4732200"/>
            <a:ext cx="3965760" cy="208152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3924360" y="4654440"/>
            <a:ext cx="525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356000" y="5373720"/>
            <a:ext cx="4824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¿Cómo se traduce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a invocación de login de cada siste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586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600" spc="-1" strike="noStrike">
                <a:solidFill>
                  <a:srgbClr val="a50021"/>
                </a:solidFill>
                <a:latin typeface="Tahoma"/>
              </a:rPr>
              <a:t>¿Podría ser algo así?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2306520" y="6080040"/>
            <a:ext cx="955800" cy="347760"/>
            <a:chOff x="2306520" y="6080040"/>
            <a:chExt cx="955800" cy="347760"/>
          </a:xfrm>
        </p:grpSpPr>
        <p:sp>
          <p:nvSpPr>
            <p:cNvPr id="547" name=""/>
            <p:cNvSpPr/>
            <p:nvPr/>
          </p:nvSpPr>
          <p:spPr>
            <a:xfrm flipV="1">
              <a:off x="2306520" y="6080040"/>
              <a:ext cx="955800" cy="34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435760" y="6210360"/>
              <a:ext cx="372960" cy="18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1680" bIns="316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528480"/>
                  <a:tab algn="l" pos="1057320"/>
                  <a:tab algn="l" pos="1585800"/>
                  <a:tab algn="l" pos="2114640"/>
                  <a:tab algn="l" pos="2643120"/>
                  <a:tab algn="l" pos="3171960"/>
                  <a:tab algn="l" pos="3700440"/>
                  <a:tab algn="l" pos="4229280"/>
                  <a:tab algn="l" pos="4757760"/>
                  <a:tab algn="l" pos="5286240"/>
                  <a:tab algn="l" pos="5815080"/>
                  <a:tab algn="l" pos="6343560"/>
                  <a:tab algn="l" pos="6872400"/>
                  <a:tab algn="l" pos="7400880"/>
                  <a:tab algn="l" pos="7929720"/>
                  <a:tab algn="l" pos="8458200"/>
                  <a:tab algn="l" pos="8986680"/>
                  <a:tab algn="l" pos="9515520"/>
                  <a:tab algn="l" pos="10044000"/>
                  <a:tab algn="l" pos="1057284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I D 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316240" y="5829480"/>
            <a:ext cx="914400" cy="258120"/>
            <a:chOff x="2316240" y="5829480"/>
            <a:chExt cx="914400" cy="258120"/>
          </a:xfrm>
        </p:grpSpPr>
        <p:sp>
          <p:nvSpPr>
            <p:cNvPr id="550" name=""/>
            <p:cNvSpPr/>
            <p:nvPr/>
          </p:nvSpPr>
          <p:spPr>
            <a:xfrm>
              <a:off x="2316240" y="5844960"/>
              <a:ext cx="914400" cy="24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436120" y="5829480"/>
              <a:ext cx="372960" cy="18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1680" bIns="316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528480"/>
                  <a:tab algn="l" pos="1057320"/>
                  <a:tab algn="l" pos="1585800"/>
                  <a:tab algn="l" pos="2114640"/>
                  <a:tab algn="l" pos="2643120"/>
                  <a:tab algn="l" pos="3171960"/>
                  <a:tab algn="l" pos="3700440"/>
                  <a:tab algn="l" pos="4229280"/>
                  <a:tab algn="l" pos="4757760"/>
                  <a:tab algn="l" pos="5286240"/>
                  <a:tab algn="l" pos="5815080"/>
                  <a:tab algn="l" pos="6343560"/>
                  <a:tab algn="l" pos="6872400"/>
                  <a:tab algn="l" pos="7400880"/>
                  <a:tab algn="l" pos="7929720"/>
                  <a:tab algn="l" pos="8458200"/>
                  <a:tab algn="l" pos="8986680"/>
                  <a:tab algn="l" pos="9515520"/>
                  <a:tab algn="l" pos="10044000"/>
                  <a:tab algn="l" pos="1057284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I D 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2639880" y="5334120"/>
            <a:ext cx="614520" cy="753840"/>
            <a:chOff x="2639880" y="5334120"/>
            <a:chExt cx="614520" cy="753840"/>
          </a:xfrm>
        </p:grpSpPr>
        <p:sp>
          <p:nvSpPr>
            <p:cNvPr id="553" name=""/>
            <p:cNvSpPr/>
            <p:nvPr/>
          </p:nvSpPr>
          <p:spPr>
            <a:xfrm>
              <a:off x="2639880" y="5334120"/>
              <a:ext cx="614520" cy="75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55000" y="5465520"/>
              <a:ext cx="372960" cy="18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1680" bIns="316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528480"/>
                  <a:tab algn="l" pos="1057320"/>
                  <a:tab algn="l" pos="1585800"/>
                  <a:tab algn="l" pos="2114640"/>
                  <a:tab algn="l" pos="2643120"/>
                  <a:tab algn="l" pos="3171960"/>
                  <a:tab algn="l" pos="3700440"/>
                  <a:tab algn="l" pos="4229280"/>
                  <a:tab algn="l" pos="4757760"/>
                  <a:tab algn="l" pos="5286240"/>
                  <a:tab algn="l" pos="5815080"/>
                  <a:tab algn="l" pos="6343560"/>
                  <a:tab algn="l" pos="6872400"/>
                  <a:tab algn="l" pos="7400880"/>
                  <a:tab algn="l" pos="7929720"/>
                  <a:tab algn="l" pos="8458200"/>
                  <a:tab algn="l" pos="8986680"/>
                  <a:tab algn="l" pos="9515520"/>
                  <a:tab algn="l" pos="10044000"/>
                  <a:tab algn="l" pos="1057284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I D 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2959200" y="5824440"/>
            <a:ext cx="1060200" cy="509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1120" y="5964120"/>
            <a:ext cx="57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9600" bIns="396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O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2145960" y="4805280"/>
            <a:ext cx="624240" cy="573120"/>
            <a:chOff x="2145960" y="4805280"/>
            <a:chExt cx="624240" cy="573120"/>
          </a:xfrm>
        </p:grpSpPr>
        <p:sp>
          <p:nvSpPr>
            <p:cNvPr id="558" name=""/>
            <p:cNvSpPr/>
            <p:nvPr/>
          </p:nvSpPr>
          <p:spPr>
            <a:xfrm>
              <a:off x="2158920" y="4805280"/>
              <a:ext cx="573120" cy="573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145960" y="4968720"/>
              <a:ext cx="624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9600" bIns="396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erv 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1645920" y="5468760"/>
            <a:ext cx="759600" cy="573120"/>
            <a:chOff x="1645920" y="5468760"/>
            <a:chExt cx="759600" cy="573120"/>
          </a:xfrm>
        </p:grpSpPr>
        <p:sp>
          <p:nvSpPr>
            <p:cNvPr id="561" name=""/>
            <p:cNvSpPr/>
            <p:nvPr/>
          </p:nvSpPr>
          <p:spPr>
            <a:xfrm>
              <a:off x="1726920" y="5468760"/>
              <a:ext cx="574920" cy="573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645920" y="5632200"/>
              <a:ext cx="75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9600" bIns="396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erv n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657080" y="6246720"/>
            <a:ext cx="759600" cy="573120"/>
            <a:chOff x="1657080" y="6246720"/>
            <a:chExt cx="759600" cy="573120"/>
          </a:xfrm>
        </p:grpSpPr>
        <p:sp>
          <p:nvSpPr>
            <p:cNvPr id="564" name=""/>
            <p:cNvSpPr/>
            <p:nvPr/>
          </p:nvSpPr>
          <p:spPr>
            <a:xfrm>
              <a:off x="1736640" y="6246720"/>
              <a:ext cx="574560" cy="573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657080" y="6410160"/>
              <a:ext cx="75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9600" bIns="396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erv n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1835280" y="1844640"/>
            <a:ext cx="1201680" cy="284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Client Sid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6081840" y="3432240"/>
            <a:ext cx="880200" cy="574560"/>
            <a:chOff x="6081840" y="3432240"/>
            <a:chExt cx="880200" cy="574560"/>
          </a:xfrm>
        </p:grpSpPr>
        <p:sp>
          <p:nvSpPr>
            <p:cNvPr id="568" name=""/>
            <p:cNvSpPr/>
            <p:nvPr/>
          </p:nvSpPr>
          <p:spPr>
            <a:xfrm>
              <a:off x="6238440" y="3432240"/>
              <a:ext cx="573120" cy="57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081840" y="359532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9600" bIns="396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ervicio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6866640" y="3836880"/>
            <a:ext cx="616320" cy="574560"/>
            <a:chOff x="6866640" y="3836880"/>
            <a:chExt cx="616320" cy="574560"/>
          </a:xfrm>
        </p:grpSpPr>
        <p:sp>
          <p:nvSpPr>
            <p:cNvPr id="571" name=""/>
            <p:cNvSpPr/>
            <p:nvPr/>
          </p:nvSpPr>
          <p:spPr>
            <a:xfrm>
              <a:off x="6895800" y="3836880"/>
              <a:ext cx="573120" cy="57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866640" y="4000320"/>
              <a:ext cx="616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9600" bIns="396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erv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7330320" y="4495680"/>
            <a:ext cx="616320" cy="574560"/>
            <a:chOff x="7330320" y="4495680"/>
            <a:chExt cx="616320" cy="574560"/>
          </a:xfrm>
        </p:grpSpPr>
        <p:sp>
          <p:nvSpPr>
            <p:cNvPr id="574" name=""/>
            <p:cNvSpPr/>
            <p:nvPr/>
          </p:nvSpPr>
          <p:spPr>
            <a:xfrm>
              <a:off x="7359480" y="4495680"/>
              <a:ext cx="572760" cy="57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30320" y="4660560"/>
              <a:ext cx="616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9600" bIns="396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erv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6876000" y="5991120"/>
            <a:ext cx="616320" cy="573120"/>
            <a:chOff x="6876000" y="5991120"/>
            <a:chExt cx="616320" cy="573120"/>
          </a:xfrm>
        </p:grpSpPr>
        <p:sp>
          <p:nvSpPr>
            <p:cNvPr id="577" name=""/>
            <p:cNvSpPr/>
            <p:nvPr/>
          </p:nvSpPr>
          <p:spPr>
            <a:xfrm>
              <a:off x="6876000" y="6170400"/>
              <a:ext cx="616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9600" bIns="396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erv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895800" y="5991120"/>
              <a:ext cx="573120" cy="573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7301520" y="5278320"/>
            <a:ext cx="616320" cy="574560"/>
            <a:chOff x="7301520" y="5278320"/>
            <a:chExt cx="616320" cy="574560"/>
          </a:xfrm>
        </p:grpSpPr>
        <p:sp>
          <p:nvSpPr>
            <p:cNvPr id="580" name=""/>
            <p:cNvSpPr/>
            <p:nvPr/>
          </p:nvSpPr>
          <p:spPr>
            <a:xfrm>
              <a:off x="7316640" y="5278320"/>
              <a:ext cx="573120" cy="57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301520" y="5381280"/>
              <a:ext cx="616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9600" bIns="396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erv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6380280" y="5108400"/>
            <a:ext cx="617760" cy="914400"/>
            <a:chOff x="6380280" y="5108400"/>
            <a:chExt cx="617760" cy="914400"/>
          </a:xfrm>
        </p:grpSpPr>
        <p:sp>
          <p:nvSpPr>
            <p:cNvPr id="583" name=""/>
            <p:cNvSpPr/>
            <p:nvPr/>
          </p:nvSpPr>
          <p:spPr>
            <a:xfrm flipH="1" flipV="1">
              <a:off x="6380280" y="5108400"/>
              <a:ext cx="61416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625080" y="5590800"/>
              <a:ext cx="372960" cy="18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1680" bIns="316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528480"/>
                  <a:tab algn="l" pos="1057320"/>
                  <a:tab algn="l" pos="1585800"/>
                  <a:tab algn="l" pos="2114640"/>
                  <a:tab algn="l" pos="2643120"/>
                  <a:tab algn="l" pos="3171960"/>
                  <a:tab algn="l" pos="3700440"/>
                  <a:tab algn="l" pos="4229280"/>
                  <a:tab algn="l" pos="4757760"/>
                  <a:tab algn="l" pos="5286240"/>
                  <a:tab algn="l" pos="5815080"/>
                  <a:tab algn="l" pos="6343560"/>
                  <a:tab algn="l" pos="6872400"/>
                  <a:tab algn="l" pos="7400880"/>
                  <a:tab algn="l" pos="7929720"/>
                  <a:tab algn="l" pos="8458200"/>
                  <a:tab algn="l" pos="8986680"/>
                  <a:tab algn="l" pos="9515520"/>
                  <a:tab algn="l" pos="10044000"/>
                  <a:tab algn="l" pos="1057284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I D 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6370200" y="5100480"/>
            <a:ext cx="955800" cy="347760"/>
            <a:chOff x="6370200" y="5100480"/>
            <a:chExt cx="955800" cy="347760"/>
          </a:xfrm>
        </p:grpSpPr>
        <p:sp>
          <p:nvSpPr>
            <p:cNvPr id="586" name=""/>
            <p:cNvSpPr/>
            <p:nvPr/>
          </p:nvSpPr>
          <p:spPr>
            <a:xfrm flipH="1" flipV="1">
              <a:off x="6370200" y="5100480"/>
              <a:ext cx="955800" cy="34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844320" y="5233680"/>
              <a:ext cx="372960" cy="18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1680" bIns="316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528480"/>
                  <a:tab algn="l" pos="1057320"/>
                  <a:tab algn="l" pos="1585800"/>
                  <a:tab algn="l" pos="2114640"/>
                  <a:tab algn="l" pos="2643120"/>
                  <a:tab algn="l" pos="3171960"/>
                  <a:tab algn="l" pos="3700440"/>
                  <a:tab algn="l" pos="4229280"/>
                  <a:tab algn="l" pos="4757760"/>
                  <a:tab algn="l" pos="5286240"/>
                  <a:tab algn="l" pos="5815080"/>
                  <a:tab algn="l" pos="6343560"/>
                  <a:tab algn="l" pos="6872400"/>
                  <a:tab algn="l" pos="7400880"/>
                  <a:tab algn="l" pos="7929720"/>
                  <a:tab algn="l" pos="8458200"/>
                  <a:tab algn="l" pos="8986680"/>
                  <a:tab algn="l" pos="9515520"/>
                  <a:tab algn="l" pos="10044000"/>
                  <a:tab algn="l" pos="1057284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I D 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6404040" y="4854600"/>
            <a:ext cx="914400" cy="253440"/>
            <a:chOff x="6404040" y="4854600"/>
            <a:chExt cx="914400" cy="253440"/>
          </a:xfrm>
        </p:grpSpPr>
        <p:sp>
          <p:nvSpPr>
            <p:cNvPr id="589" name=""/>
            <p:cNvSpPr/>
            <p:nvPr/>
          </p:nvSpPr>
          <p:spPr>
            <a:xfrm flipH="1">
              <a:off x="6404040" y="4865400"/>
              <a:ext cx="914400" cy="24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44680" y="4854600"/>
              <a:ext cx="372960" cy="18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1680" bIns="316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528480"/>
                  <a:tab algn="l" pos="1057320"/>
                  <a:tab algn="l" pos="1585800"/>
                  <a:tab algn="l" pos="2114640"/>
                  <a:tab algn="l" pos="2643120"/>
                  <a:tab algn="l" pos="3171960"/>
                  <a:tab algn="l" pos="3700440"/>
                  <a:tab algn="l" pos="4229280"/>
                  <a:tab algn="l" pos="4757760"/>
                  <a:tab algn="l" pos="5286240"/>
                  <a:tab algn="l" pos="5815080"/>
                  <a:tab algn="l" pos="6343560"/>
                  <a:tab algn="l" pos="6872400"/>
                  <a:tab algn="l" pos="7400880"/>
                  <a:tab algn="l" pos="7929720"/>
                  <a:tab algn="l" pos="8458200"/>
                  <a:tab algn="l" pos="8986680"/>
                  <a:tab algn="l" pos="9515520"/>
                  <a:tab algn="l" pos="10044000"/>
                  <a:tab algn="l" pos="1057284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I D 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6380280" y="4354560"/>
            <a:ext cx="617760" cy="753840"/>
            <a:chOff x="6380280" y="4354560"/>
            <a:chExt cx="617760" cy="753840"/>
          </a:xfrm>
        </p:grpSpPr>
        <p:sp>
          <p:nvSpPr>
            <p:cNvPr id="592" name=""/>
            <p:cNvSpPr/>
            <p:nvPr/>
          </p:nvSpPr>
          <p:spPr>
            <a:xfrm flipH="1">
              <a:off x="6380280" y="4354560"/>
              <a:ext cx="614160" cy="75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625080" y="4489200"/>
              <a:ext cx="372960" cy="18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1680" bIns="316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528480"/>
                  <a:tab algn="l" pos="1057320"/>
                  <a:tab algn="l" pos="1585800"/>
                  <a:tab algn="l" pos="2114640"/>
                  <a:tab algn="l" pos="2643120"/>
                  <a:tab algn="l" pos="3171960"/>
                  <a:tab algn="l" pos="3700440"/>
                  <a:tab algn="l" pos="4229280"/>
                  <a:tab algn="l" pos="4757760"/>
                  <a:tab algn="l" pos="5286240"/>
                  <a:tab algn="l" pos="5815080"/>
                  <a:tab algn="l" pos="6343560"/>
                  <a:tab algn="l" pos="6872400"/>
                  <a:tab algn="l" pos="7400880"/>
                  <a:tab algn="l" pos="7929720"/>
                  <a:tab algn="l" pos="8458200"/>
                  <a:tab algn="l" pos="8986680"/>
                  <a:tab algn="l" pos="9515520"/>
                  <a:tab algn="l" pos="10044000"/>
                  <a:tab algn="l" pos="1057284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I D 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6350760" y="4022640"/>
            <a:ext cx="372960" cy="1085760"/>
            <a:chOff x="6350760" y="4022640"/>
            <a:chExt cx="372960" cy="1085760"/>
          </a:xfrm>
        </p:grpSpPr>
        <p:sp>
          <p:nvSpPr>
            <p:cNvPr id="595" name=""/>
            <p:cNvSpPr/>
            <p:nvPr/>
          </p:nvSpPr>
          <p:spPr>
            <a:xfrm flipH="1">
              <a:off x="6379920" y="4022640"/>
              <a:ext cx="136800" cy="108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350760" y="4149360"/>
              <a:ext cx="372960" cy="18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1680" bIns="316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528480"/>
                  <a:tab algn="l" pos="1057320"/>
                  <a:tab algn="l" pos="1585800"/>
                  <a:tab algn="l" pos="2114640"/>
                  <a:tab algn="l" pos="2643120"/>
                  <a:tab algn="l" pos="3171960"/>
                  <a:tab algn="l" pos="3700440"/>
                  <a:tab algn="l" pos="4229280"/>
                  <a:tab algn="l" pos="4757760"/>
                  <a:tab algn="l" pos="5286240"/>
                  <a:tab algn="l" pos="5815080"/>
                  <a:tab algn="l" pos="6343560"/>
                  <a:tab algn="l" pos="6872400"/>
                  <a:tab algn="l" pos="7400880"/>
                  <a:tab algn="l" pos="7929720"/>
                  <a:tab algn="l" pos="8458200"/>
                  <a:tab algn="l" pos="8986680"/>
                  <a:tab algn="l" pos="9515520"/>
                  <a:tab algn="l" pos="10044000"/>
                  <a:tab algn="l" pos="1057284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I D 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5627520" y="4857840"/>
            <a:ext cx="1059120" cy="509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875920" y="5005440"/>
            <a:ext cx="57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9600" bIns="396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O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4067280" y="5373720"/>
            <a:ext cx="1584360" cy="719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43800" y="6242040"/>
            <a:ext cx="1295280" cy="489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Servidor de Usuari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24000" y="6165720"/>
            <a:ext cx="1295280" cy="489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Servicios de Respal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1992240" y="2421000"/>
            <a:ext cx="1136520" cy="863280"/>
            <a:chOff x="1992240" y="2421000"/>
            <a:chExt cx="1136520" cy="863280"/>
          </a:xfrm>
        </p:grpSpPr>
        <p:sp>
          <p:nvSpPr>
            <p:cNvPr id="603" name=""/>
            <p:cNvSpPr/>
            <p:nvPr/>
          </p:nvSpPr>
          <p:spPr>
            <a:xfrm>
              <a:off x="1992240" y="2421000"/>
              <a:ext cx="1136520" cy="863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195280" y="2666880"/>
              <a:ext cx="808560" cy="4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9600" bIns="396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istem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Cont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3348000" y="1989000"/>
            <a:ext cx="1654920" cy="863280"/>
            <a:chOff x="3348000" y="1989000"/>
            <a:chExt cx="1654920" cy="863280"/>
          </a:xfrm>
        </p:grpSpPr>
        <p:sp>
          <p:nvSpPr>
            <p:cNvPr id="606" name=""/>
            <p:cNvSpPr/>
            <p:nvPr/>
          </p:nvSpPr>
          <p:spPr>
            <a:xfrm>
              <a:off x="3348000" y="1989000"/>
              <a:ext cx="1654920" cy="863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642840" y="2234880"/>
              <a:ext cx="1216800" cy="4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9600" bIns="396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istema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Rec. Human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5219640" y="2133720"/>
            <a:ext cx="1458360" cy="863280"/>
            <a:chOff x="5219640" y="2133720"/>
            <a:chExt cx="1458360" cy="863280"/>
          </a:xfrm>
        </p:grpSpPr>
        <p:sp>
          <p:nvSpPr>
            <p:cNvPr id="609" name=""/>
            <p:cNvSpPr/>
            <p:nvPr/>
          </p:nvSpPr>
          <p:spPr>
            <a:xfrm>
              <a:off x="5219640" y="2133720"/>
              <a:ext cx="1458360" cy="863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35360" y="2379600"/>
              <a:ext cx="964080" cy="4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9600" bIns="396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istema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Vent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 flipH="1" flipV="1">
            <a:off x="2843280" y="3212640"/>
            <a:ext cx="720720" cy="25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 flipV="1">
            <a:off x="2987280" y="3141360"/>
            <a:ext cx="2592360" cy="194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3780000" y="2852640"/>
            <a:ext cx="71280" cy="295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3995640" y="2923920"/>
            <a:ext cx="1584360" cy="28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 flipV="1">
            <a:off x="5940000" y="2997000"/>
            <a:ext cx="7164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 flipV="1">
            <a:off x="4284360" y="2852640"/>
            <a:ext cx="143964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440" y="442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600" spc="-1" strike="noStrike">
                <a:solidFill>
                  <a:srgbClr val="a50021"/>
                </a:solidFill>
                <a:latin typeface="Tahoma"/>
              </a:rPr>
              <a:t>¿Podría ser algo así?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2306520" y="6080040"/>
            <a:ext cx="955800" cy="347760"/>
            <a:chOff x="2306520" y="6080040"/>
            <a:chExt cx="955800" cy="347760"/>
          </a:xfrm>
        </p:grpSpPr>
        <p:sp>
          <p:nvSpPr>
            <p:cNvPr id="619" name=""/>
            <p:cNvSpPr/>
            <p:nvPr/>
          </p:nvSpPr>
          <p:spPr>
            <a:xfrm flipV="1">
              <a:off x="2306520" y="6080040"/>
              <a:ext cx="955800" cy="34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435760" y="6210360"/>
              <a:ext cx="372960" cy="18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1680" bIns="316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528480"/>
                  <a:tab algn="l" pos="1057320"/>
                  <a:tab algn="l" pos="1585800"/>
                  <a:tab algn="l" pos="2114640"/>
                  <a:tab algn="l" pos="2643120"/>
                  <a:tab algn="l" pos="3171960"/>
                  <a:tab algn="l" pos="3700440"/>
                  <a:tab algn="l" pos="4229280"/>
                  <a:tab algn="l" pos="4757760"/>
                  <a:tab algn="l" pos="5286240"/>
                  <a:tab algn="l" pos="5815080"/>
                  <a:tab algn="l" pos="6343560"/>
                  <a:tab algn="l" pos="6872400"/>
                  <a:tab algn="l" pos="7400880"/>
                  <a:tab algn="l" pos="7929720"/>
                  <a:tab algn="l" pos="8458200"/>
                  <a:tab algn="l" pos="8986680"/>
                  <a:tab algn="l" pos="9515520"/>
                  <a:tab algn="l" pos="10044000"/>
                  <a:tab algn="l" pos="1057284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I D 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2316240" y="5829480"/>
            <a:ext cx="914400" cy="258120"/>
            <a:chOff x="2316240" y="5829480"/>
            <a:chExt cx="914400" cy="258120"/>
          </a:xfrm>
        </p:grpSpPr>
        <p:sp>
          <p:nvSpPr>
            <p:cNvPr id="622" name=""/>
            <p:cNvSpPr/>
            <p:nvPr/>
          </p:nvSpPr>
          <p:spPr>
            <a:xfrm>
              <a:off x="2316240" y="5844960"/>
              <a:ext cx="914400" cy="24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436120" y="5829480"/>
              <a:ext cx="372960" cy="18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1680" bIns="316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528480"/>
                  <a:tab algn="l" pos="1057320"/>
                  <a:tab algn="l" pos="1585800"/>
                  <a:tab algn="l" pos="2114640"/>
                  <a:tab algn="l" pos="2643120"/>
                  <a:tab algn="l" pos="3171960"/>
                  <a:tab algn="l" pos="3700440"/>
                  <a:tab algn="l" pos="4229280"/>
                  <a:tab algn="l" pos="4757760"/>
                  <a:tab algn="l" pos="5286240"/>
                  <a:tab algn="l" pos="5815080"/>
                  <a:tab algn="l" pos="6343560"/>
                  <a:tab algn="l" pos="6872400"/>
                  <a:tab algn="l" pos="7400880"/>
                  <a:tab algn="l" pos="7929720"/>
                  <a:tab algn="l" pos="8458200"/>
                  <a:tab algn="l" pos="8986680"/>
                  <a:tab algn="l" pos="9515520"/>
                  <a:tab algn="l" pos="10044000"/>
                  <a:tab algn="l" pos="1057284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I D 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2639880" y="5334120"/>
            <a:ext cx="614520" cy="753840"/>
            <a:chOff x="2639880" y="5334120"/>
            <a:chExt cx="614520" cy="753840"/>
          </a:xfrm>
        </p:grpSpPr>
        <p:sp>
          <p:nvSpPr>
            <p:cNvPr id="625" name=""/>
            <p:cNvSpPr/>
            <p:nvPr/>
          </p:nvSpPr>
          <p:spPr>
            <a:xfrm>
              <a:off x="2639880" y="5334120"/>
              <a:ext cx="614520" cy="75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655000" y="5465520"/>
              <a:ext cx="372960" cy="18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1680" bIns="316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528480"/>
                  <a:tab algn="l" pos="1057320"/>
                  <a:tab algn="l" pos="1585800"/>
                  <a:tab algn="l" pos="2114640"/>
                  <a:tab algn="l" pos="2643120"/>
                  <a:tab algn="l" pos="3171960"/>
                  <a:tab algn="l" pos="3700440"/>
                  <a:tab algn="l" pos="4229280"/>
                  <a:tab algn="l" pos="4757760"/>
                  <a:tab algn="l" pos="5286240"/>
                  <a:tab algn="l" pos="5815080"/>
                  <a:tab algn="l" pos="6343560"/>
                  <a:tab algn="l" pos="6872400"/>
                  <a:tab algn="l" pos="7400880"/>
                  <a:tab algn="l" pos="7929720"/>
                  <a:tab algn="l" pos="8458200"/>
                  <a:tab algn="l" pos="8986680"/>
                  <a:tab algn="l" pos="9515520"/>
                  <a:tab algn="l" pos="10044000"/>
                  <a:tab algn="l" pos="1057284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I D 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2959200" y="5824440"/>
            <a:ext cx="1060200" cy="509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201120" y="5964120"/>
            <a:ext cx="57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9600" bIns="396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O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2145960" y="4805280"/>
            <a:ext cx="624240" cy="573120"/>
            <a:chOff x="2145960" y="4805280"/>
            <a:chExt cx="624240" cy="573120"/>
          </a:xfrm>
        </p:grpSpPr>
        <p:sp>
          <p:nvSpPr>
            <p:cNvPr id="630" name=""/>
            <p:cNvSpPr/>
            <p:nvPr/>
          </p:nvSpPr>
          <p:spPr>
            <a:xfrm>
              <a:off x="2158920" y="4805280"/>
              <a:ext cx="573120" cy="573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145960" y="4968720"/>
              <a:ext cx="624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9600" bIns="396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erv 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1645920" y="5468760"/>
            <a:ext cx="759600" cy="573120"/>
            <a:chOff x="1645920" y="5468760"/>
            <a:chExt cx="759600" cy="573120"/>
          </a:xfrm>
        </p:grpSpPr>
        <p:sp>
          <p:nvSpPr>
            <p:cNvPr id="633" name=""/>
            <p:cNvSpPr/>
            <p:nvPr/>
          </p:nvSpPr>
          <p:spPr>
            <a:xfrm>
              <a:off x="1726920" y="5468760"/>
              <a:ext cx="574920" cy="573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645920" y="5632200"/>
              <a:ext cx="75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9600" bIns="396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erv n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1657080" y="6246720"/>
            <a:ext cx="759600" cy="573120"/>
            <a:chOff x="1657080" y="6246720"/>
            <a:chExt cx="759600" cy="573120"/>
          </a:xfrm>
        </p:grpSpPr>
        <p:sp>
          <p:nvSpPr>
            <p:cNvPr id="636" name=""/>
            <p:cNvSpPr/>
            <p:nvPr/>
          </p:nvSpPr>
          <p:spPr>
            <a:xfrm>
              <a:off x="1736640" y="6246720"/>
              <a:ext cx="574560" cy="573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657080" y="6410160"/>
              <a:ext cx="75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9600" bIns="396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erv n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1835280" y="1844640"/>
            <a:ext cx="1201680" cy="284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Client Sid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6081840" y="3432240"/>
            <a:ext cx="880200" cy="574560"/>
            <a:chOff x="6081840" y="3432240"/>
            <a:chExt cx="880200" cy="574560"/>
          </a:xfrm>
        </p:grpSpPr>
        <p:sp>
          <p:nvSpPr>
            <p:cNvPr id="640" name=""/>
            <p:cNvSpPr/>
            <p:nvPr/>
          </p:nvSpPr>
          <p:spPr>
            <a:xfrm>
              <a:off x="6238440" y="3432240"/>
              <a:ext cx="573120" cy="57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081840" y="359532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9600" bIns="396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ervicio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6866640" y="3836880"/>
            <a:ext cx="616320" cy="574560"/>
            <a:chOff x="6866640" y="3836880"/>
            <a:chExt cx="616320" cy="574560"/>
          </a:xfrm>
        </p:grpSpPr>
        <p:sp>
          <p:nvSpPr>
            <p:cNvPr id="643" name=""/>
            <p:cNvSpPr/>
            <p:nvPr/>
          </p:nvSpPr>
          <p:spPr>
            <a:xfrm>
              <a:off x="6895800" y="3836880"/>
              <a:ext cx="573120" cy="57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866640" y="4000320"/>
              <a:ext cx="616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9600" bIns="396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erv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7330320" y="4495680"/>
            <a:ext cx="616320" cy="574560"/>
            <a:chOff x="7330320" y="4495680"/>
            <a:chExt cx="616320" cy="574560"/>
          </a:xfrm>
        </p:grpSpPr>
        <p:sp>
          <p:nvSpPr>
            <p:cNvPr id="646" name=""/>
            <p:cNvSpPr/>
            <p:nvPr/>
          </p:nvSpPr>
          <p:spPr>
            <a:xfrm>
              <a:off x="7359480" y="4495680"/>
              <a:ext cx="572760" cy="57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330320" y="4660560"/>
              <a:ext cx="616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9600" bIns="396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erv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6876000" y="5991120"/>
            <a:ext cx="616320" cy="573120"/>
            <a:chOff x="6876000" y="5991120"/>
            <a:chExt cx="616320" cy="573120"/>
          </a:xfrm>
        </p:grpSpPr>
        <p:sp>
          <p:nvSpPr>
            <p:cNvPr id="649" name=""/>
            <p:cNvSpPr/>
            <p:nvPr/>
          </p:nvSpPr>
          <p:spPr>
            <a:xfrm>
              <a:off x="6876000" y="6170400"/>
              <a:ext cx="616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9600" bIns="396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erv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895800" y="5991120"/>
              <a:ext cx="573120" cy="573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7301520" y="5278320"/>
            <a:ext cx="616320" cy="574560"/>
            <a:chOff x="7301520" y="5278320"/>
            <a:chExt cx="616320" cy="574560"/>
          </a:xfrm>
        </p:grpSpPr>
        <p:sp>
          <p:nvSpPr>
            <p:cNvPr id="652" name=""/>
            <p:cNvSpPr/>
            <p:nvPr/>
          </p:nvSpPr>
          <p:spPr>
            <a:xfrm>
              <a:off x="7316640" y="5278320"/>
              <a:ext cx="573120" cy="57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301520" y="5381280"/>
              <a:ext cx="616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9600" bIns="396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erv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6380280" y="5108400"/>
            <a:ext cx="617760" cy="914400"/>
            <a:chOff x="6380280" y="5108400"/>
            <a:chExt cx="617760" cy="914400"/>
          </a:xfrm>
        </p:grpSpPr>
        <p:sp>
          <p:nvSpPr>
            <p:cNvPr id="655" name=""/>
            <p:cNvSpPr/>
            <p:nvPr/>
          </p:nvSpPr>
          <p:spPr>
            <a:xfrm flipH="1" flipV="1">
              <a:off x="6380280" y="5108400"/>
              <a:ext cx="61416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625080" y="5590800"/>
              <a:ext cx="372960" cy="18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1680" bIns="316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528480"/>
                  <a:tab algn="l" pos="1057320"/>
                  <a:tab algn="l" pos="1585800"/>
                  <a:tab algn="l" pos="2114640"/>
                  <a:tab algn="l" pos="2643120"/>
                  <a:tab algn="l" pos="3171960"/>
                  <a:tab algn="l" pos="3700440"/>
                  <a:tab algn="l" pos="4229280"/>
                  <a:tab algn="l" pos="4757760"/>
                  <a:tab algn="l" pos="5286240"/>
                  <a:tab algn="l" pos="5815080"/>
                  <a:tab algn="l" pos="6343560"/>
                  <a:tab algn="l" pos="6872400"/>
                  <a:tab algn="l" pos="7400880"/>
                  <a:tab algn="l" pos="7929720"/>
                  <a:tab algn="l" pos="8458200"/>
                  <a:tab algn="l" pos="8986680"/>
                  <a:tab algn="l" pos="9515520"/>
                  <a:tab algn="l" pos="10044000"/>
                  <a:tab algn="l" pos="1057284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I D 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6370200" y="5100480"/>
            <a:ext cx="955800" cy="347760"/>
            <a:chOff x="6370200" y="5100480"/>
            <a:chExt cx="955800" cy="347760"/>
          </a:xfrm>
        </p:grpSpPr>
        <p:sp>
          <p:nvSpPr>
            <p:cNvPr id="658" name=""/>
            <p:cNvSpPr/>
            <p:nvPr/>
          </p:nvSpPr>
          <p:spPr>
            <a:xfrm flipH="1" flipV="1">
              <a:off x="6370200" y="5100480"/>
              <a:ext cx="955800" cy="34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844320" y="5233680"/>
              <a:ext cx="372960" cy="18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1680" bIns="316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528480"/>
                  <a:tab algn="l" pos="1057320"/>
                  <a:tab algn="l" pos="1585800"/>
                  <a:tab algn="l" pos="2114640"/>
                  <a:tab algn="l" pos="2643120"/>
                  <a:tab algn="l" pos="3171960"/>
                  <a:tab algn="l" pos="3700440"/>
                  <a:tab algn="l" pos="4229280"/>
                  <a:tab algn="l" pos="4757760"/>
                  <a:tab algn="l" pos="5286240"/>
                  <a:tab algn="l" pos="5815080"/>
                  <a:tab algn="l" pos="6343560"/>
                  <a:tab algn="l" pos="6872400"/>
                  <a:tab algn="l" pos="7400880"/>
                  <a:tab algn="l" pos="7929720"/>
                  <a:tab algn="l" pos="8458200"/>
                  <a:tab algn="l" pos="8986680"/>
                  <a:tab algn="l" pos="9515520"/>
                  <a:tab algn="l" pos="10044000"/>
                  <a:tab algn="l" pos="1057284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I D 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6404040" y="4854600"/>
            <a:ext cx="914400" cy="253440"/>
            <a:chOff x="6404040" y="4854600"/>
            <a:chExt cx="914400" cy="253440"/>
          </a:xfrm>
        </p:grpSpPr>
        <p:sp>
          <p:nvSpPr>
            <p:cNvPr id="661" name=""/>
            <p:cNvSpPr/>
            <p:nvPr/>
          </p:nvSpPr>
          <p:spPr>
            <a:xfrm flipH="1">
              <a:off x="6404040" y="4865400"/>
              <a:ext cx="914400" cy="24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844680" y="4854600"/>
              <a:ext cx="372960" cy="18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1680" bIns="316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528480"/>
                  <a:tab algn="l" pos="1057320"/>
                  <a:tab algn="l" pos="1585800"/>
                  <a:tab algn="l" pos="2114640"/>
                  <a:tab algn="l" pos="2643120"/>
                  <a:tab algn="l" pos="3171960"/>
                  <a:tab algn="l" pos="3700440"/>
                  <a:tab algn="l" pos="4229280"/>
                  <a:tab algn="l" pos="4757760"/>
                  <a:tab algn="l" pos="5286240"/>
                  <a:tab algn="l" pos="5815080"/>
                  <a:tab algn="l" pos="6343560"/>
                  <a:tab algn="l" pos="6872400"/>
                  <a:tab algn="l" pos="7400880"/>
                  <a:tab algn="l" pos="7929720"/>
                  <a:tab algn="l" pos="8458200"/>
                  <a:tab algn="l" pos="8986680"/>
                  <a:tab algn="l" pos="9515520"/>
                  <a:tab algn="l" pos="10044000"/>
                  <a:tab algn="l" pos="1057284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I D 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6380280" y="4354560"/>
            <a:ext cx="617760" cy="753840"/>
            <a:chOff x="6380280" y="4354560"/>
            <a:chExt cx="617760" cy="753840"/>
          </a:xfrm>
        </p:grpSpPr>
        <p:sp>
          <p:nvSpPr>
            <p:cNvPr id="664" name=""/>
            <p:cNvSpPr/>
            <p:nvPr/>
          </p:nvSpPr>
          <p:spPr>
            <a:xfrm flipH="1">
              <a:off x="6380280" y="4354560"/>
              <a:ext cx="614160" cy="75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25080" y="4489200"/>
              <a:ext cx="372960" cy="18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1680" bIns="316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528480"/>
                  <a:tab algn="l" pos="1057320"/>
                  <a:tab algn="l" pos="1585800"/>
                  <a:tab algn="l" pos="2114640"/>
                  <a:tab algn="l" pos="2643120"/>
                  <a:tab algn="l" pos="3171960"/>
                  <a:tab algn="l" pos="3700440"/>
                  <a:tab algn="l" pos="4229280"/>
                  <a:tab algn="l" pos="4757760"/>
                  <a:tab algn="l" pos="5286240"/>
                  <a:tab algn="l" pos="5815080"/>
                  <a:tab algn="l" pos="6343560"/>
                  <a:tab algn="l" pos="6872400"/>
                  <a:tab algn="l" pos="7400880"/>
                  <a:tab algn="l" pos="7929720"/>
                  <a:tab algn="l" pos="8458200"/>
                  <a:tab algn="l" pos="8986680"/>
                  <a:tab algn="l" pos="9515520"/>
                  <a:tab algn="l" pos="10044000"/>
                  <a:tab algn="l" pos="1057284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I D 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6350760" y="4022640"/>
            <a:ext cx="372960" cy="1085760"/>
            <a:chOff x="6350760" y="4022640"/>
            <a:chExt cx="372960" cy="1085760"/>
          </a:xfrm>
        </p:grpSpPr>
        <p:sp>
          <p:nvSpPr>
            <p:cNvPr id="667" name=""/>
            <p:cNvSpPr/>
            <p:nvPr/>
          </p:nvSpPr>
          <p:spPr>
            <a:xfrm flipH="1">
              <a:off x="6379920" y="4022640"/>
              <a:ext cx="136800" cy="108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350760" y="4149360"/>
              <a:ext cx="372960" cy="18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1680" bIns="316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528480"/>
                  <a:tab algn="l" pos="1057320"/>
                  <a:tab algn="l" pos="1585800"/>
                  <a:tab algn="l" pos="2114640"/>
                  <a:tab algn="l" pos="2643120"/>
                  <a:tab algn="l" pos="3171960"/>
                  <a:tab algn="l" pos="3700440"/>
                  <a:tab algn="l" pos="4229280"/>
                  <a:tab algn="l" pos="4757760"/>
                  <a:tab algn="l" pos="5286240"/>
                  <a:tab algn="l" pos="5815080"/>
                  <a:tab algn="l" pos="6343560"/>
                  <a:tab algn="l" pos="6872400"/>
                  <a:tab algn="l" pos="7400880"/>
                  <a:tab algn="l" pos="7929720"/>
                  <a:tab algn="l" pos="8458200"/>
                  <a:tab algn="l" pos="8986680"/>
                  <a:tab algn="l" pos="9515520"/>
                  <a:tab algn="l" pos="10044000"/>
                  <a:tab algn="l" pos="1057284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I D 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5627520" y="4857840"/>
            <a:ext cx="1059120" cy="509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875920" y="5005440"/>
            <a:ext cx="57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9600" bIns="396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O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4067280" y="5373720"/>
            <a:ext cx="1584360" cy="719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543800" y="6242040"/>
            <a:ext cx="1295280" cy="489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Servidor de Usuari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24000" y="6165720"/>
            <a:ext cx="1295280" cy="489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Servicios de Respal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1992240" y="2421000"/>
            <a:ext cx="1136520" cy="863280"/>
            <a:chOff x="1992240" y="2421000"/>
            <a:chExt cx="1136520" cy="863280"/>
          </a:xfrm>
        </p:grpSpPr>
        <p:sp>
          <p:nvSpPr>
            <p:cNvPr id="675" name=""/>
            <p:cNvSpPr/>
            <p:nvPr/>
          </p:nvSpPr>
          <p:spPr>
            <a:xfrm>
              <a:off x="1992240" y="2421000"/>
              <a:ext cx="1136520" cy="863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195280" y="2666880"/>
              <a:ext cx="808560" cy="4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9600" bIns="396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istem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Cont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3348000" y="1916280"/>
            <a:ext cx="1583640" cy="936000"/>
            <a:chOff x="3348000" y="1916280"/>
            <a:chExt cx="1583640" cy="936000"/>
          </a:xfrm>
        </p:grpSpPr>
        <p:sp>
          <p:nvSpPr>
            <p:cNvPr id="678" name=""/>
            <p:cNvSpPr/>
            <p:nvPr/>
          </p:nvSpPr>
          <p:spPr>
            <a:xfrm>
              <a:off x="3348000" y="1916280"/>
              <a:ext cx="1583640" cy="936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603600" y="2183040"/>
              <a:ext cx="1216800" cy="4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9600" bIns="396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istema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Rec. Human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5219640" y="2133720"/>
            <a:ext cx="1458360" cy="863280"/>
            <a:chOff x="5219640" y="2133720"/>
            <a:chExt cx="1458360" cy="863280"/>
          </a:xfrm>
        </p:grpSpPr>
        <p:sp>
          <p:nvSpPr>
            <p:cNvPr id="681" name=""/>
            <p:cNvSpPr/>
            <p:nvPr/>
          </p:nvSpPr>
          <p:spPr>
            <a:xfrm>
              <a:off x="5219640" y="2133720"/>
              <a:ext cx="1458360" cy="863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535360" y="2379600"/>
              <a:ext cx="964080" cy="4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9600" bIns="396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istema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Vent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3" name=""/>
          <p:cNvSpPr/>
          <p:nvPr/>
        </p:nvSpPr>
        <p:spPr>
          <a:xfrm flipH="1" flipV="1">
            <a:off x="2843280" y="3212640"/>
            <a:ext cx="720720" cy="25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2987280" y="3141360"/>
            <a:ext cx="2592360" cy="194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3780000" y="2852640"/>
            <a:ext cx="71280" cy="295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3995640" y="2923920"/>
            <a:ext cx="1584360" cy="28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flipV="1">
            <a:off x="5940000" y="2997000"/>
            <a:ext cx="7164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4284360" y="2852640"/>
            <a:ext cx="143964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826920" y="2932200"/>
            <a:ext cx="7425000" cy="228744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¿y los dato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80520" y="3069720"/>
            <a:ext cx="84582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Tahoma"/>
              </a:rPr>
              <a:t>Modelo de Control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4824360" cy="29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Modelos de Control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50560" y="1295280"/>
            <a:ext cx="8893080" cy="557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stos modelos son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complemetarios a los de estructuració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de sistemas, ya que modelan el control de la ejecución del sistem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 refieren al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control de flujo entre subsistemas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. Es diferente al modelo de descomposición de sistemas y al de estructura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tre los modelos de control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más conocidos está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8360" indent="-28116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Control Centralizad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462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ay un subsistema que tiene la responsabilidad de controlar, iniciar y detener otros subsistem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8360" indent="-28116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Control basado en Evento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462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da subsistema puede responder a eventos generados externamente por otros subsistemas o por el ambiente del sistema. Cada subsist. controla su propia operación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133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551628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ontrol Centralizado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1116000" y="630360"/>
            <a:ext cx="676908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Control Centralizado (1)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50560" y="1336680"/>
            <a:ext cx="8675640" cy="547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4360" indent="-324360">
              <a:lnSpc>
                <a:spcPct val="90000"/>
              </a:lnSpc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Tahoma"/>
              </a:rPr>
              <a:t>Hay un</a:t>
            </a:r>
            <a:r>
              <a:rPr b="0" lang="es-ES" sz="2400" spc="-1" strike="noStrike">
                <a:solidFill>
                  <a:srgbClr val="000066"/>
                </a:solidFill>
                <a:latin typeface="Tahoma"/>
              </a:rPr>
              <a:t> subsistema que es el </a:t>
            </a:r>
            <a:r>
              <a:rPr b="0" lang="es-ES" sz="2400" spc="-1" strike="noStrike">
                <a:solidFill>
                  <a:srgbClr val="cc3300"/>
                </a:solidFill>
                <a:latin typeface="Tahoma"/>
              </a:rPr>
              <a:t>responsable del manejo de la ejecución</a:t>
            </a:r>
            <a:r>
              <a:rPr b="0" lang="es-ES" sz="2400" spc="-1" strike="noStrike">
                <a:solidFill>
                  <a:srgbClr val="000066"/>
                </a:solidFill>
                <a:latin typeface="Tahoma"/>
              </a:rPr>
              <a:t> de todos los otros subsistem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4360" indent="-324360">
              <a:lnSpc>
                <a:spcPct val="90000"/>
              </a:lnSpc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ahoma"/>
              </a:rPr>
              <a:t>Dependiendo de la forma de ejecución de los subsistemas controlados (en secuencia o en paralelo), el modelo de control puede seguir </a:t>
            </a:r>
            <a:r>
              <a:rPr b="0" lang="es-ES" sz="2400" spc="-1" strike="noStrike">
                <a:solidFill>
                  <a:srgbClr val="cc3300"/>
                </a:solidFill>
                <a:latin typeface="Tahoma"/>
              </a:rPr>
              <a:t>dos estrategi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4360" indent="-324360">
              <a:lnSpc>
                <a:spcPct val="90000"/>
              </a:lnSpc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Tahoma"/>
              </a:rPr>
              <a:t>Modelo Call-Retur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08480" indent="-269640">
              <a:lnSpc>
                <a:spcPct val="90000"/>
              </a:lnSpc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</a:rPr>
              <a:t>Es aplicable a </a:t>
            </a:r>
            <a:r>
              <a:rPr b="0" lang="es-ES" sz="2000" spc="-1" strike="noStrike">
                <a:solidFill>
                  <a:srgbClr val="cc3300"/>
                </a:solidFill>
                <a:latin typeface="Tahoma"/>
              </a:rPr>
              <a:t>sistemas secuenciales</a:t>
            </a:r>
            <a:r>
              <a:rPr b="0" lang="es-ES" sz="2000" spc="-1" strike="noStrike">
                <a:solidFill>
                  <a:srgbClr val="000066"/>
                </a:solidFill>
                <a:latin typeface="Tahoma"/>
              </a:rPr>
              <a:t>. Sigue un modelo de subrutina Top-down, donde el control inicia en lo más alto de la jerarquía de una subrutina y se mueve hasta la parte más baja en la jerarquía. Es aplicable a sistemas secuenciales (donde existe in hilo de ejecución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4360" indent="-324360">
              <a:lnSpc>
                <a:spcPct val="90000"/>
              </a:lnSpc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Tahoma"/>
              </a:rPr>
              <a:t>Modelo Administrador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08480" indent="-269640">
              <a:lnSpc>
                <a:spcPct val="90000"/>
              </a:lnSpc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</a:rPr>
              <a:t>Es aplicable a </a:t>
            </a:r>
            <a:r>
              <a:rPr b="0" lang="es-ES" sz="2000" spc="-1" strike="noStrike">
                <a:solidFill>
                  <a:srgbClr val="cc3300"/>
                </a:solidFill>
                <a:latin typeface="Tahoma"/>
              </a:rPr>
              <a:t>sistemas concurrentes.</a:t>
            </a:r>
            <a:r>
              <a:rPr b="0" lang="es-ES" sz="2000" spc="-1" strike="noStrike">
                <a:solidFill>
                  <a:srgbClr val="000066"/>
                </a:solidFill>
                <a:latin typeface="Tahoma"/>
              </a:rPr>
              <a:t> Un componente del sistema controla el inicio, coordinación y la detención de procesos de otro subsistema. Puede ser implementado en sistemas secuenciales como una instrucción cas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7645320" y="-4680"/>
            <a:ext cx="1513080" cy="14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Estructuración del Sistema (2)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07800"/>
            <a:ext cx="8229600" cy="29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6200" indent="0">
              <a:spcBef>
                <a:spcPts val="751"/>
              </a:spcBef>
              <a:spcAft>
                <a:spcPts val="901"/>
              </a:spcAft>
              <a:buNone/>
              <a:tabLst>
                <a:tab algn="l" pos="0"/>
                <a:tab algn="l" pos="484200"/>
                <a:tab algn="l" pos="933480"/>
                <a:tab algn="l" pos="1382760"/>
                <a:tab algn="l" pos="1832040"/>
                <a:tab algn="l" pos="2281320"/>
                <a:tab algn="l" pos="2730600"/>
                <a:tab algn="l" pos="3179880"/>
                <a:tab algn="l" pos="3629160"/>
                <a:tab algn="l" pos="4078440"/>
                <a:tab algn="l" pos="4527720"/>
                <a:tab algn="l" pos="4976640"/>
                <a:tab algn="l" pos="5425920"/>
                <a:tab algn="l" pos="5875200"/>
                <a:tab algn="l" pos="6324480"/>
                <a:tab algn="l" pos="6773760"/>
                <a:tab algn="l" pos="7223040"/>
                <a:tab algn="l" pos="7672320"/>
                <a:tab algn="l" pos="8121600"/>
                <a:tab algn="l" pos="8570880"/>
                <a:tab algn="l" pos="9020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Tahoma"/>
              </a:rPr>
              <a:t>Ejemplo: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Consideremos el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Diseño Arquitectónico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de un software para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controlar un robot,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destinado a embalar distintos tipos de product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76200" indent="0">
              <a:spcBef>
                <a:spcPts val="437"/>
              </a:spcBef>
              <a:spcAft>
                <a:spcPts val="524"/>
              </a:spcAft>
              <a:buNone/>
              <a:tabLst>
                <a:tab algn="l" pos="0"/>
                <a:tab algn="l" pos="484200"/>
                <a:tab algn="l" pos="933480"/>
                <a:tab algn="l" pos="1382760"/>
                <a:tab algn="l" pos="1832040"/>
                <a:tab algn="l" pos="2281320"/>
                <a:tab algn="l" pos="2730600"/>
                <a:tab algn="l" pos="3179880"/>
                <a:tab algn="l" pos="3629160"/>
                <a:tab algn="l" pos="4078440"/>
                <a:tab algn="l" pos="4527720"/>
                <a:tab algn="l" pos="4976640"/>
                <a:tab algn="l" pos="5425920"/>
                <a:tab algn="l" pos="5875200"/>
                <a:tab algn="l" pos="6324480"/>
                <a:tab algn="l" pos="6773760"/>
                <a:tab algn="l" pos="7223040"/>
                <a:tab algn="l" pos="7672320"/>
                <a:tab algn="l" pos="8121600"/>
                <a:tab algn="l" pos="8570880"/>
                <a:tab algn="l" pos="9020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795240" indent="-338040">
              <a:spcBef>
                <a:spcPts val="624"/>
              </a:spcBef>
              <a:spcAft>
                <a:spcPts val="751"/>
              </a:spcAft>
              <a:buClr>
                <a:srgbClr val="ff0000"/>
              </a:buClr>
              <a:buSzPct val="120000"/>
              <a:buFont typeface="Tahoma"/>
              <a:buAutoNum type="arabicPeriod"/>
              <a:tabLst>
                <a:tab algn="l" pos="484200"/>
                <a:tab algn="l" pos="933480"/>
                <a:tab algn="l" pos="1382760"/>
                <a:tab algn="l" pos="1832040"/>
                <a:tab algn="l" pos="2281320"/>
                <a:tab algn="l" pos="2730600"/>
                <a:tab algn="l" pos="3179880"/>
                <a:tab algn="l" pos="3629160"/>
                <a:tab algn="l" pos="4078440"/>
                <a:tab algn="l" pos="4527720"/>
                <a:tab algn="l" pos="4976640"/>
                <a:tab algn="l" pos="5425920"/>
                <a:tab algn="l" pos="5875200"/>
                <a:tab algn="l" pos="6324480"/>
                <a:tab algn="l" pos="6773760"/>
                <a:tab algn="l" pos="7223040"/>
                <a:tab algn="l" pos="7672320"/>
                <a:tab algn="l" pos="8121600"/>
                <a:tab algn="l" pos="8570880"/>
                <a:tab algn="l" pos="9020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El robot utiliza un sistema de visión para seleccionar objetos desde una cinta transportador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848200" y="3876840"/>
            <a:ext cx="3295800" cy="2981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08000" y="3573360"/>
            <a:ext cx="575928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6000"/>
          </a:bodyPr>
          <a:p>
            <a:pPr lvl="1" marL="636840" indent="-289440">
              <a:lnSpc>
                <a:spcPct val="90000"/>
              </a:lnSpc>
              <a:spcBef>
                <a:spcPts val="624"/>
              </a:spcBef>
              <a:spcAft>
                <a:spcPts val="751"/>
              </a:spcAft>
              <a:buClr>
                <a:srgbClr val="ff0000"/>
              </a:buClr>
              <a:buSzPct val="120000"/>
              <a:buFont typeface="Tahoma"/>
              <a:buAutoNum type="arabicPeriod" startAt="2"/>
              <a:tabLst>
                <a:tab algn="l" pos="484200"/>
                <a:tab algn="l" pos="933480"/>
                <a:tab algn="l" pos="1382760"/>
                <a:tab algn="l" pos="1832040"/>
                <a:tab algn="l" pos="2281320"/>
                <a:tab algn="l" pos="2730600"/>
                <a:tab algn="l" pos="3179880"/>
                <a:tab algn="l" pos="3629160"/>
                <a:tab algn="l" pos="4078440"/>
                <a:tab algn="l" pos="4527720"/>
                <a:tab algn="l" pos="4976640"/>
                <a:tab algn="l" pos="5425920"/>
                <a:tab algn="l" pos="5875200"/>
                <a:tab algn="l" pos="6324480"/>
                <a:tab algn="l" pos="6773760"/>
                <a:tab algn="l" pos="7223040"/>
                <a:tab algn="l" pos="7672320"/>
                <a:tab algn="l" pos="8121600"/>
                <a:tab algn="l" pos="8570880"/>
                <a:tab algn="l" pos="9020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Identifica objetos y selecciona el tipo de embalaje corr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840" indent="-289440">
              <a:lnSpc>
                <a:spcPct val="90000"/>
              </a:lnSpc>
              <a:spcBef>
                <a:spcPts val="624"/>
              </a:spcBef>
              <a:spcAft>
                <a:spcPts val="751"/>
              </a:spcAft>
              <a:buClr>
                <a:srgbClr val="ff0000"/>
              </a:buClr>
              <a:buSzPct val="120000"/>
              <a:buFont typeface="Tahoma"/>
              <a:buAutoNum type="arabicPeriod" startAt="2"/>
              <a:tabLst>
                <a:tab algn="l" pos="484200"/>
                <a:tab algn="l" pos="933480"/>
                <a:tab algn="l" pos="1382760"/>
                <a:tab algn="l" pos="1832040"/>
                <a:tab algn="l" pos="2281320"/>
                <a:tab algn="l" pos="2730600"/>
                <a:tab algn="l" pos="3179880"/>
                <a:tab algn="l" pos="3629160"/>
                <a:tab algn="l" pos="4078440"/>
                <a:tab algn="l" pos="4527720"/>
                <a:tab algn="l" pos="4976640"/>
                <a:tab algn="l" pos="5425920"/>
                <a:tab algn="l" pos="5875200"/>
                <a:tab algn="l" pos="6324480"/>
                <a:tab algn="l" pos="6773760"/>
                <a:tab algn="l" pos="7223040"/>
                <a:tab algn="l" pos="7672320"/>
                <a:tab algn="l" pos="8121600"/>
                <a:tab algn="l" pos="8570880"/>
                <a:tab algn="l" pos="9020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Saca los objetos de la cinta transportadora para empaquetarl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840" indent="-289440">
              <a:lnSpc>
                <a:spcPct val="90000"/>
              </a:lnSpc>
              <a:spcBef>
                <a:spcPts val="624"/>
              </a:spcBef>
              <a:spcAft>
                <a:spcPts val="751"/>
              </a:spcAft>
              <a:buClr>
                <a:srgbClr val="ff0000"/>
              </a:buClr>
              <a:buSzPct val="120000"/>
              <a:buFont typeface="Tahoma"/>
              <a:buAutoNum type="arabicPeriod" startAt="2"/>
              <a:tabLst>
                <a:tab algn="l" pos="484200"/>
                <a:tab algn="l" pos="933480"/>
                <a:tab algn="l" pos="1382760"/>
                <a:tab algn="l" pos="1832040"/>
                <a:tab algn="l" pos="2281320"/>
                <a:tab algn="l" pos="2730600"/>
                <a:tab algn="l" pos="3179880"/>
                <a:tab algn="l" pos="3629160"/>
                <a:tab algn="l" pos="4078440"/>
                <a:tab algn="l" pos="4527720"/>
                <a:tab algn="l" pos="4976640"/>
                <a:tab algn="l" pos="5425920"/>
                <a:tab algn="l" pos="5875200"/>
                <a:tab algn="l" pos="6324480"/>
                <a:tab algn="l" pos="6773760"/>
                <a:tab algn="l" pos="7223040"/>
                <a:tab algn="l" pos="7672320"/>
                <a:tab algn="l" pos="8121600"/>
                <a:tab algn="l" pos="8570880"/>
                <a:tab algn="l" pos="9020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Los empaca y los coloca en otra cinta transportad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840" indent="-289440">
              <a:lnSpc>
                <a:spcPct val="90000"/>
              </a:lnSpc>
              <a:spcBef>
                <a:spcPts val="437"/>
              </a:spcBef>
              <a:spcAft>
                <a:spcPts val="524"/>
              </a:spcAft>
              <a:tabLst>
                <a:tab algn="l" pos="0"/>
                <a:tab algn="l" pos="484200"/>
                <a:tab algn="l" pos="933480"/>
                <a:tab algn="l" pos="1382760"/>
                <a:tab algn="l" pos="1832040"/>
                <a:tab algn="l" pos="2281320"/>
                <a:tab algn="l" pos="2730600"/>
                <a:tab algn="l" pos="3179880"/>
                <a:tab algn="l" pos="3629160"/>
                <a:tab algn="l" pos="4078440"/>
                <a:tab algn="l" pos="4527720"/>
                <a:tab algn="l" pos="4976640"/>
                <a:tab algn="l" pos="5425920"/>
                <a:tab algn="l" pos="5875200"/>
                <a:tab algn="l" pos="6324480"/>
                <a:tab algn="l" pos="6773760"/>
                <a:tab algn="l" pos="7223040"/>
                <a:tab algn="l" pos="7672320"/>
                <a:tab algn="l" pos="8121600"/>
                <a:tab algn="l" pos="8570880"/>
                <a:tab algn="l" pos="9020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-347400">
              <a:lnSpc>
                <a:spcPct val="90000"/>
              </a:lnSpc>
              <a:spcBef>
                <a:spcPts val="751"/>
              </a:spcBef>
              <a:spcAft>
                <a:spcPts val="901"/>
              </a:spcAft>
              <a:tabLst>
                <a:tab algn="l" pos="0"/>
                <a:tab algn="l" pos="484200"/>
                <a:tab algn="l" pos="933480"/>
                <a:tab algn="l" pos="1382760"/>
                <a:tab algn="l" pos="1832040"/>
                <a:tab algn="l" pos="2281320"/>
                <a:tab algn="l" pos="2730600"/>
                <a:tab algn="l" pos="3179880"/>
                <a:tab algn="l" pos="3629160"/>
                <a:tab algn="l" pos="4078440"/>
                <a:tab algn="l" pos="4527720"/>
                <a:tab algn="l" pos="4976640"/>
                <a:tab algn="l" pos="5425920"/>
                <a:tab algn="l" pos="5875200"/>
                <a:tab algn="l" pos="6324480"/>
                <a:tab algn="l" pos="6773760"/>
                <a:tab algn="l" pos="7223040"/>
                <a:tab algn="l" pos="7672320"/>
                <a:tab algn="l" pos="8121600"/>
                <a:tab algn="l" pos="8570880"/>
                <a:tab algn="l" pos="9020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Veamos una propuesta de estructuración para este sistem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0800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Tahoma"/>
              </a:rPr>
              <a:t>Control Centralizado: llamada y retorno (Call-Return)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3664080" y="2028960"/>
            <a:ext cx="1892160" cy="444240"/>
          </a:xfrm>
          <a:prstGeom prst="roundRect">
            <a:avLst>
              <a:gd name="adj" fmla="val 356"/>
            </a:avLst>
          </a:prstGeom>
          <a:gradFill rotWithShape="0">
            <a:gsLst>
              <a:gs pos="0">
                <a:srgbClr val="969696"/>
              </a:gs>
              <a:gs pos="100000">
                <a:srgbClr val="deded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713400" y="2044800"/>
            <a:ext cx="1701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rograma Princip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225440" y="3324240"/>
            <a:ext cx="1892520" cy="444600"/>
          </a:xfrm>
          <a:prstGeom prst="roundRect">
            <a:avLst>
              <a:gd name="adj" fmla="val 356"/>
            </a:avLst>
          </a:prstGeom>
          <a:gradFill rotWithShape="0">
            <a:gsLst>
              <a:gs pos="0">
                <a:srgbClr val="969696"/>
              </a:gs>
              <a:gs pos="100000">
                <a:srgbClr val="deded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733760" y="3416400"/>
            <a:ext cx="899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Rutina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740040" y="3324240"/>
            <a:ext cx="1892520" cy="444600"/>
          </a:xfrm>
          <a:prstGeom prst="roundRect">
            <a:avLst>
              <a:gd name="adj" fmla="val 356"/>
            </a:avLst>
          </a:prstGeom>
          <a:gradFill rotWithShape="0">
            <a:gsLst>
              <a:gs pos="0">
                <a:srgbClr val="969696"/>
              </a:gs>
              <a:gs pos="100000">
                <a:srgbClr val="deded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248360" y="3416400"/>
            <a:ext cx="899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Rutina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178680" y="3324240"/>
            <a:ext cx="1892160" cy="444600"/>
          </a:xfrm>
          <a:prstGeom prst="roundRect">
            <a:avLst>
              <a:gd name="adj" fmla="val 356"/>
            </a:avLst>
          </a:prstGeom>
          <a:gradFill rotWithShape="0">
            <a:gsLst>
              <a:gs pos="0">
                <a:srgbClr val="969696"/>
              </a:gs>
              <a:gs pos="100000">
                <a:srgbClr val="deded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610680" y="3416400"/>
            <a:ext cx="899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Rutina 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11040" y="5000760"/>
            <a:ext cx="1892520" cy="444240"/>
          </a:xfrm>
          <a:prstGeom prst="roundRect">
            <a:avLst>
              <a:gd name="adj" fmla="val 356"/>
            </a:avLst>
          </a:prstGeom>
          <a:gradFill rotWithShape="0">
            <a:gsLst>
              <a:gs pos="0">
                <a:srgbClr val="969696"/>
              </a:gs>
              <a:gs pos="100000">
                <a:srgbClr val="deded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521080" y="5000760"/>
            <a:ext cx="1892160" cy="444240"/>
          </a:xfrm>
          <a:prstGeom prst="roundRect">
            <a:avLst>
              <a:gd name="adj" fmla="val 356"/>
            </a:avLst>
          </a:prstGeom>
          <a:gradFill rotWithShape="0">
            <a:gsLst>
              <a:gs pos="0">
                <a:srgbClr val="969696"/>
              </a:gs>
              <a:gs pos="100000">
                <a:srgbClr val="deded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807080" y="5000760"/>
            <a:ext cx="1892160" cy="444240"/>
          </a:xfrm>
          <a:prstGeom prst="roundRect">
            <a:avLst>
              <a:gd name="adj" fmla="val 356"/>
            </a:avLst>
          </a:prstGeom>
          <a:gradFill rotWithShape="0">
            <a:gsLst>
              <a:gs pos="0">
                <a:srgbClr val="969696"/>
              </a:gs>
              <a:gs pos="100000">
                <a:srgbClr val="deded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016760" y="5000760"/>
            <a:ext cx="1892160" cy="444240"/>
          </a:xfrm>
          <a:prstGeom prst="roundRect">
            <a:avLst>
              <a:gd name="adj" fmla="val 356"/>
            </a:avLst>
          </a:prstGeom>
          <a:gradFill rotWithShape="0">
            <a:gsLst>
              <a:gs pos="0">
                <a:srgbClr val="969696"/>
              </a:gs>
              <a:gs pos="100000">
                <a:srgbClr val="deded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42320" y="5092560"/>
            <a:ext cx="10490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Rutina  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952360" y="5092560"/>
            <a:ext cx="10490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Rutina  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314320" y="5092560"/>
            <a:ext cx="10490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Rutina  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371720" y="5092560"/>
            <a:ext cx="10490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Rutina  3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1290240" y="3774960"/>
            <a:ext cx="466920" cy="121932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514600" y="3774960"/>
            <a:ext cx="533520" cy="121932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2585520" y="2479680"/>
            <a:ext cx="1381320" cy="83808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648320" y="2479680"/>
            <a:ext cx="1440" cy="83808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410080" y="2479680"/>
            <a:ext cx="1752840" cy="83808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3881520" y="3774960"/>
            <a:ext cx="542880" cy="121932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181480" y="3774960"/>
            <a:ext cx="381240" cy="114300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6167520" y="3774960"/>
            <a:ext cx="542880" cy="114300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91520" y="3774960"/>
            <a:ext cx="609480" cy="121932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533520" y="5257800"/>
            <a:ext cx="8359200" cy="1139760"/>
            <a:chOff x="533520" y="5257800"/>
            <a:chExt cx="8359200" cy="1139760"/>
          </a:xfrm>
        </p:grpSpPr>
        <p:sp>
          <p:nvSpPr>
            <p:cNvPr id="735" name=""/>
            <p:cNvSpPr/>
            <p:nvPr/>
          </p:nvSpPr>
          <p:spPr>
            <a:xfrm>
              <a:off x="533520" y="5257800"/>
              <a:ext cx="8359200" cy="1139760"/>
            </a:xfrm>
            <a:prstGeom prst="roundRect">
              <a:avLst>
                <a:gd name="adj" fmla="val 1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33520" y="5451840"/>
              <a:ext cx="835920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66"/>
                  </a:solidFill>
                  <a:latin typeface="Tahoma"/>
                </a:rPr>
                <a:t>Bajo este esquema, </a:t>
              </a:r>
              <a:r>
                <a:rPr b="0" lang="en-GB" sz="2800" spc="-1" strike="noStrike">
                  <a:solidFill>
                    <a:srgbClr val="a50021"/>
                  </a:solidFill>
                  <a:latin typeface="Tahoma"/>
                </a:rPr>
                <a:t>cada invocación es bloquean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7" name="" descr=""/>
          <p:cNvPicPr/>
          <p:nvPr/>
        </p:nvPicPr>
        <p:blipFill>
          <a:blip r:embed="rId1"/>
          <a:stretch/>
        </p:blipFill>
        <p:spPr>
          <a:xfrm>
            <a:off x="7624800" y="6480"/>
            <a:ext cx="1533600" cy="142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Llamada y Retorno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spcBef>
                <a:spcPts val="1701"/>
              </a:spcBef>
              <a:spcAft>
                <a:spcPts val="901"/>
              </a:spcAft>
              <a:buClr>
                <a:srgbClr val="ff0000"/>
              </a:buClr>
              <a:buSzPct val="19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Es rígido, </a:t>
            </a:r>
            <a:r>
              <a:rPr b="1" i="1" lang="en-GB" sz="2400" spc="-1" strike="noStrike">
                <a:solidFill>
                  <a:srgbClr val="000066"/>
                </a:solidFill>
                <a:latin typeface="Tahoma"/>
              </a:rPr>
              <a:t>simple e intuitivo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spcBef>
                <a:spcPts val="1701"/>
              </a:spcBef>
              <a:spcAft>
                <a:spcPts val="901"/>
              </a:spcAft>
              <a:buClr>
                <a:srgbClr val="ff0000"/>
              </a:buClr>
              <a:buSzPct val="19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Su </a:t>
            </a:r>
            <a:r>
              <a:rPr b="1" i="1" lang="en-GB" sz="2400" spc="-1" strike="noStrike">
                <a:solidFill>
                  <a:srgbClr val="000066"/>
                </a:solidFill>
                <a:latin typeface="Tahoma"/>
              </a:rPr>
              <a:t>naturaleza rígida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y </a:t>
            </a:r>
            <a:r>
              <a:rPr b="1" i="1" lang="en-GB" sz="2400" spc="-1" strike="noStrike">
                <a:solidFill>
                  <a:srgbClr val="000066"/>
                </a:solidFill>
                <a:latin typeface="Tahoma"/>
              </a:rPr>
              <a:t>restringida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puede verse como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ventaja y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como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desventaj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spcBef>
                <a:spcPts val="1701"/>
              </a:spcBef>
              <a:spcAft>
                <a:spcPts val="901"/>
              </a:spcAft>
              <a:buClr>
                <a:srgbClr val="ff0000"/>
              </a:buClr>
              <a:buSzPct val="19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Es una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ventaja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porque </a:t>
            </a:r>
            <a:r>
              <a:rPr b="1" i="1" lang="en-GB" sz="2400" spc="-1" strike="noStrike">
                <a:solidFill>
                  <a:srgbClr val="000066"/>
                </a:solidFill>
                <a:latin typeface="Tahoma"/>
              </a:rPr>
              <a:t>el sistema es predecible</a:t>
            </a:r>
            <a:r>
              <a:rPr b="1" lang="en-GB" sz="24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es fácil seguir su ejecución y controlar su comportamiento.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spcBef>
                <a:spcPts val="1701"/>
              </a:spcBef>
              <a:spcAft>
                <a:spcPts val="901"/>
              </a:spcAft>
              <a:buClr>
                <a:srgbClr val="ff0000"/>
              </a:buClr>
              <a:buSzPct val="19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Además, </a:t>
            </a:r>
            <a:r>
              <a:rPr b="1" i="1" lang="en-GB" sz="2400" spc="-1" strike="noStrike">
                <a:solidFill>
                  <a:srgbClr val="000066"/>
                </a:solidFill>
                <a:latin typeface="Tahoma"/>
              </a:rPr>
              <a:t>facilita la depuración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(debugging) y prueba del sistema (testing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spcBef>
                <a:spcPts val="1701"/>
              </a:spcBef>
              <a:spcAft>
                <a:spcPts val="901"/>
              </a:spcAft>
              <a:buClr>
                <a:srgbClr val="ff0000"/>
              </a:buClr>
              <a:buSzPct val="19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Es una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desventaja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porque es </a:t>
            </a:r>
            <a:r>
              <a:rPr b="1" i="1" lang="en-GB" sz="2400" spc="-1" strike="noStrike">
                <a:solidFill>
                  <a:srgbClr val="000066"/>
                </a:solidFill>
                <a:latin typeface="Tahoma"/>
              </a:rPr>
              <a:t>difícil manejar las excepciones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a las operaciones definidas, y porque limita el accionar de los usuari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7613640" y="6480"/>
            <a:ext cx="1533600" cy="142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615960" y="4883040"/>
            <a:ext cx="2502000" cy="444600"/>
          </a:xfrm>
          <a:prstGeom prst="ellipse">
            <a:avLst/>
          </a:prstGeom>
          <a:gradFill rotWithShape="0">
            <a:gsLst>
              <a:gs pos="0">
                <a:srgbClr val="006600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425840" y="1987560"/>
            <a:ext cx="2349720" cy="444600"/>
          </a:xfrm>
          <a:prstGeom prst="ellipse">
            <a:avLst/>
          </a:prstGeom>
          <a:gradFill rotWithShape="0">
            <a:gsLst>
              <a:gs pos="0">
                <a:srgbClr val="006600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578480" y="2216160"/>
            <a:ext cx="2349360" cy="444600"/>
          </a:xfrm>
          <a:prstGeom prst="ellipse">
            <a:avLst/>
          </a:prstGeom>
          <a:gradFill rotWithShape="0">
            <a:gsLst>
              <a:gs pos="0">
                <a:srgbClr val="006600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996840" y="1987560"/>
            <a:ext cx="2349720" cy="444600"/>
          </a:xfrm>
          <a:prstGeom prst="ellipse">
            <a:avLst/>
          </a:prstGeom>
          <a:gradFill rotWithShape="0">
            <a:gsLst>
              <a:gs pos="0">
                <a:srgbClr val="006600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149480" y="2216160"/>
            <a:ext cx="2349360" cy="444600"/>
          </a:xfrm>
          <a:prstGeom prst="ellipse">
            <a:avLst/>
          </a:prstGeom>
          <a:gradFill rotWithShape="0">
            <a:gsLst>
              <a:gs pos="0">
                <a:srgbClr val="006600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Control Centralizado - Administrador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50" name=""/>
          <p:cNvSpPr/>
          <p:nvPr/>
        </p:nvSpPr>
        <p:spPr>
          <a:xfrm>
            <a:off x="1225440" y="2368440"/>
            <a:ext cx="2502000" cy="444600"/>
          </a:xfrm>
          <a:prstGeom prst="ellipse">
            <a:avLst/>
          </a:prstGeom>
          <a:gradFill rotWithShape="0">
            <a:gsLst>
              <a:gs pos="0">
                <a:srgbClr val="006600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656720" y="2460600"/>
            <a:ext cx="17989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ceso de Sen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654440" y="2368440"/>
            <a:ext cx="2502000" cy="444600"/>
          </a:xfrm>
          <a:prstGeom prst="ellipse">
            <a:avLst/>
          </a:prstGeom>
          <a:gradFill rotWithShape="0">
            <a:gsLst>
              <a:gs pos="0">
                <a:srgbClr val="006600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162400" y="2460600"/>
            <a:ext cx="17182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ceso Actu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359160" y="3664080"/>
            <a:ext cx="2502000" cy="444240"/>
          </a:xfrm>
          <a:prstGeom prst="ellipse">
            <a:avLst/>
          </a:prstGeom>
          <a:gradFill rotWithShape="0">
            <a:gsLst>
              <a:gs pos="0">
                <a:srgbClr val="006600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636000" y="3755880"/>
            <a:ext cx="22453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ontrolador del Sist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68240" y="5035680"/>
            <a:ext cx="2502000" cy="444240"/>
          </a:xfrm>
          <a:prstGeom prst="ellipse">
            <a:avLst/>
          </a:prstGeom>
          <a:gradFill rotWithShape="0">
            <a:gsLst>
              <a:gs pos="0">
                <a:srgbClr val="006600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969480" y="5127480"/>
            <a:ext cx="24300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cesos de Compu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664080" y="5035680"/>
            <a:ext cx="2501640" cy="444240"/>
          </a:xfrm>
          <a:prstGeom prst="ellipse">
            <a:avLst/>
          </a:prstGeom>
          <a:gradFill rotWithShape="0">
            <a:gsLst>
              <a:gs pos="0">
                <a:srgbClr val="006600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169520" y="5127480"/>
            <a:ext cx="17913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Interfaz de Us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407280" y="5035680"/>
            <a:ext cx="2501640" cy="444240"/>
          </a:xfrm>
          <a:prstGeom prst="ellipse">
            <a:avLst/>
          </a:prstGeom>
          <a:gradFill rotWithShape="0">
            <a:gsLst>
              <a:gs pos="0">
                <a:srgbClr val="006600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759720" y="5127480"/>
            <a:ext cx="18889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anejador de Fal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048120" y="2819520"/>
            <a:ext cx="731880" cy="896760"/>
          </a:xfrm>
          <a:prstGeom prst="line">
            <a:avLst/>
          </a:prstGeom>
          <a:ln w="507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5292720" y="2819520"/>
            <a:ext cx="503280" cy="825480"/>
          </a:xfrm>
          <a:prstGeom prst="line">
            <a:avLst/>
          </a:prstGeom>
          <a:ln w="507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2128680" y="4005360"/>
            <a:ext cx="1290960" cy="871560"/>
          </a:xfrm>
          <a:prstGeom prst="line">
            <a:avLst/>
          </a:prstGeom>
          <a:ln w="507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724280" y="4114800"/>
            <a:ext cx="1800" cy="914400"/>
          </a:xfrm>
          <a:prstGeom prst="line">
            <a:avLst/>
          </a:prstGeom>
          <a:ln w="507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796000" y="4005360"/>
            <a:ext cx="1747800" cy="1023840"/>
          </a:xfrm>
          <a:prstGeom prst="line">
            <a:avLst/>
          </a:prstGeom>
          <a:ln w="507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838080" y="5486400"/>
            <a:ext cx="7769520" cy="1139760"/>
            <a:chOff x="838080" y="5486400"/>
            <a:chExt cx="7769520" cy="1139760"/>
          </a:xfrm>
        </p:grpSpPr>
        <p:sp>
          <p:nvSpPr>
            <p:cNvPr id="768" name=""/>
            <p:cNvSpPr/>
            <p:nvPr/>
          </p:nvSpPr>
          <p:spPr>
            <a:xfrm>
              <a:off x="838080" y="5486400"/>
              <a:ext cx="7769520" cy="1139760"/>
            </a:xfrm>
            <a:prstGeom prst="roundRect">
              <a:avLst>
                <a:gd name="adj" fmla="val 1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38080" y="6107040"/>
              <a:ext cx="7769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66"/>
                  </a:solidFill>
                  <a:latin typeface="Tahoma"/>
                </a:rPr>
                <a:t>Acá las </a:t>
              </a:r>
              <a:r>
                <a:rPr b="0" lang="en-GB" sz="2800" spc="-1" strike="noStrike">
                  <a:solidFill>
                    <a:srgbClr val="a50021"/>
                  </a:solidFill>
                  <a:latin typeface="Tahoma"/>
                </a:rPr>
                <a:t>invocaciones no </a:t>
              </a:r>
              <a:r>
                <a:rPr b="0" lang="en-GB" sz="2800" spc="-1" strike="noStrike">
                  <a:solidFill>
                    <a:srgbClr val="000066"/>
                  </a:solidFill>
                  <a:latin typeface="Tahoma"/>
                </a:rPr>
                <a:t>son </a:t>
              </a:r>
              <a:r>
                <a:rPr b="0" lang="en-GB" sz="2800" spc="-1" strike="noStrike">
                  <a:solidFill>
                    <a:srgbClr val="a50021"/>
                  </a:solidFill>
                  <a:latin typeface="Tahoma"/>
                </a:rPr>
                <a:t>bloquean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Modelo Administrador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spcBef>
                <a:spcPts val="1712"/>
              </a:spcBef>
              <a:buClr>
                <a:srgbClr val="ff0000"/>
              </a:buClr>
              <a:buSzPct val="19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También es llamado modelo </a:t>
            </a:r>
            <a:r>
              <a:rPr b="1" i="1" lang="en-GB" sz="2000" spc="-1" strike="noStrike">
                <a:solidFill>
                  <a:srgbClr val="000066"/>
                </a:solidFill>
                <a:latin typeface="Tahoma"/>
              </a:rPr>
              <a:t>maestro-esclavo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spcBef>
                <a:spcPts val="1712"/>
              </a:spcBef>
              <a:buClr>
                <a:srgbClr val="ff0000"/>
              </a:buClr>
              <a:buSzPct val="19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66"/>
                </a:solidFill>
                <a:latin typeface="Tahoma"/>
              </a:rPr>
              <a:t>Se utiliza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generalmente en </a:t>
            </a:r>
            <a:r>
              <a:rPr b="1" i="1" lang="en-GB" sz="2000" spc="-1" strike="noStrike">
                <a:solidFill>
                  <a:srgbClr val="000066"/>
                </a:solidFill>
                <a:latin typeface="Tahoma"/>
              </a:rPr>
              <a:t>sistemas críticos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, donde la velocidad de respuesta es important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spcBef>
                <a:spcPts val="1712"/>
              </a:spcBef>
              <a:buClr>
                <a:srgbClr val="ff0000"/>
              </a:buClr>
              <a:buSzPct val="19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Donde hay mucho </a:t>
            </a:r>
            <a:r>
              <a:rPr b="1" i="1" lang="en-GB" sz="2000" spc="-1" strike="noStrike">
                <a:solidFill>
                  <a:srgbClr val="000066"/>
                </a:solidFill>
                <a:latin typeface="Tahoma"/>
              </a:rPr>
              <a:t>procesamiento descentralizado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y </a:t>
            </a:r>
            <a:r>
              <a:rPr b="1" i="1" lang="en-GB" sz="2000" spc="-1" strike="noStrike">
                <a:solidFill>
                  <a:srgbClr val="000066"/>
                </a:solidFill>
                <a:latin typeface="Tahoma"/>
              </a:rPr>
              <a:t>se requiere coordinación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spcBef>
                <a:spcPts val="1712"/>
              </a:spcBef>
              <a:buClr>
                <a:srgbClr val="ff0000"/>
              </a:buClr>
              <a:buSzPct val="19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También en aquellos casos donde se quiere </a:t>
            </a:r>
            <a:r>
              <a:rPr b="1" i="1" lang="en-GB" sz="2000" spc="-1" strike="noStrike">
                <a:solidFill>
                  <a:srgbClr val="000066"/>
                </a:solidFill>
                <a:latin typeface="Tahoma"/>
              </a:rPr>
              <a:t>centralizar la inteligencia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(por ej. coordinadores de workflows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spcBef>
                <a:spcPts val="1712"/>
              </a:spcBef>
              <a:buClr>
                <a:srgbClr val="ff0000"/>
              </a:buClr>
              <a:buSzPct val="19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ahoma"/>
              </a:rPr>
              <a:t>Otros ejemplos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son: sistemas de control aereo, sistemas de tiempo real, sistemas de defensa, y sistemas colaborativos sincrónicos, entre otr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spcBef>
                <a:spcPts val="1712"/>
              </a:spcBef>
              <a:buClr>
                <a:srgbClr val="ff0000"/>
              </a:buClr>
              <a:buSzPct val="19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El </a:t>
            </a:r>
            <a:r>
              <a:rPr b="1" i="1" lang="en-GB" sz="2000" spc="-1" strike="noStrike">
                <a:solidFill>
                  <a:srgbClr val="000066"/>
                </a:solidFill>
                <a:latin typeface="Tahoma"/>
              </a:rPr>
              <a:t>administrador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se vuelve </a:t>
            </a:r>
            <a:r>
              <a:rPr b="1" i="1" lang="en-GB" sz="2000" spc="-1" strike="noStrike">
                <a:solidFill>
                  <a:srgbClr val="000066"/>
                </a:solidFill>
                <a:latin typeface="Tahoma"/>
              </a:rPr>
              <a:t>un punto vulnerable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, pero por otra parte, sólo tengo que proteger un único administrador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spcBef>
                <a:spcPts val="1712"/>
              </a:spcBef>
              <a:buClr>
                <a:srgbClr val="ff0000"/>
              </a:buClr>
              <a:buSzPct val="19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El </a:t>
            </a:r>
            <a:r>
              <a:rPr b="1" i="1" lang="en-GB" sz="2000" spc="-1" strike="noStrike">
                <a:solidFill>
                  <a:srgbClr val="000066"/>
                </a:solidFill>
                <a:latin typeface="Tahoma"/>
              </a:rPr>
              <a:t>administrador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se podría volver un </a:t>
            </a:r>
            <a:r>
              <a:rPr b="1" i="1" lang="en-GB" sz="2000" spc="-1" strike="noStrike">
                <a:solidFill>
                  <a:srgbClr val="000066"/>
                </a:solidFill>
                <a:latin typeface="Tahoma"/>
              </a:rPr>
              <a:t>cuello de botella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Modelo Administrador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1"/>
          <a:stretch/>
        </p:blipFill>
        <p:spPr>
          <a:xfrm>
            <a:off x="1258920" y="1528920"/>
            <a:ext cx="6702480" cy="4128840"/>
          </a:xfrm>
          <a:prstGeom prst="rect">
            <a:avLst/>
          </a:prstGeom>
          <a:ln w="0">
            <a:noFill/>
          </a:ln>
        </p:spPr>
      </p:pic>
      <p:sp>
        <p:nvSpPr>
          <p:cNvPr id="778" name=""/>
          <p:cNvSpPr/>
          <p:nvPr/>
        </p:nvSpPr>
        <p:spPr>
          <a:xfrm>
            <a:off x="324000" y="5673600"/>
            <a:ext cx="8283600" cy="1140120"/>
          </a:xfrm>
          <a:prstGeom prst="roundRect">
            <a:avLst>
              <a:gd name="adj" fmla="val 1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24000" y="5868000"/>
            <a:ext cx="8283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Los </a:t>
            </a:r>
            <a:r>
              <a:rPr b="0" lang="en-GB" sz="2800" spc="-1" strike="noStrike">
                <a:solidFill>
                  <a:srgbClr val="cc3300"/>
                </a:solidFill>
                <a:latin typeface="Tahoma"/>
              </a:rPr>
              <a:t>sistemas de Workflow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suelen seguir este mod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80520" y="2925360"/>
            <a:ext cx="84582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a50021"/>
                </a:solidFill>
                <a:latin typeface="Tahoma"/>
              </a:rPr>
              <a:t>Sistemas Manejadores de Eventos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1763640" y="1049400"/>
            <a:ext cx="5904000" cy="331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Sistemas Manejadores de Eventos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610840" cy="57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1200" indent="-331200">
              <a:lnSpc>
                <a:spcPct val="80000"/>
              </a:lnSpc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A diferencia de los anteriores, los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SME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proponen el modelamiento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descentralizado del control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1200" indent="-331200">
              <a:lnSpc>
                <a:spcPct val="80000"/>
              </a:lnSpc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Son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manejadores de eventos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generados externamente, donde el tiempo del evento está fuera del control de los subsistemas que lo procesa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1200" indent="-331200">
              <a:lnSpc>
                <a:spcPct val="80000"/>
              </a:lnSpc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Dos de los principales modelos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manejadores de eventos son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1200" indent="0">
              <a:lnSpc>
                <a:spcPct val="80000"/>
              </a:lnSpc>
              <a:spcBef>
                <a:spcPts val="587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66"/>
              </a:solidFill>
              <a:latin typeface="Tahoma"/>
            </a:endParaRPr>
          </a:p>
          <a:p>
            <a:pPr lvl="1" marL="723240" indent="-275400">
              <a:lnSpc>
                <a:spcPct val="80000"/>
              </a:lnSpc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Tahoma"/>
              </a:rPr>
              <a:t>Modelo de Transmisión (Broadcast).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Un evento es transmitido a todos los subsistemas. Cualquier subsistema puede manejar el event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3240" indent="-275400">
              <a:lnSpc>
                <a:spcPct val="80000"/>
              </a:lnSpc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Tahoma"/>
              </a:rPr>
              <a:t>Modelos Manejadores de Interrupciones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.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Utilizados en sistemas en tiempo real donde una interrupción es detectada por un manejador de interrupciones y es pasada a otros componentes para ser procesad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3240" indent="0">
              <a:lnSpc>
                <a:spcPct val="80000"/>
              </a:lnSpc>
              <a:spcBef>
                <a:spcPts val="462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66"/>
              </a:solidFill>
              <a:latin typeface="Tahoma"/>
            </a:endParaRPr>
          </a:p>
          <a:p>
            <a:pPr marL="331200" indent="-331200">
              <a:lnSpc>
                <a:spcPct val="80000"/>
              </a:lnSpc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Ejemplos de sist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. que utilizan este enfoque son: hojas de cálculo, agentes inteligentes, sistemas colaborativos, etc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Modelo de Transmisión o Broadcast (1)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4360" indent="-32436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ste modelo es efectivo </a:t>
            </a: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para integrar subsistemas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que están distribuidos a lo largo de diversas computadoras en una re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4360" indent="-324360" algn="just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Los </a:t>
            </a: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subsistemas registran la petición de eventos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específicos. Cuando esto ocurre, el control es transferido a los subsistemas que pueden manejar el even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4360" indent="-32436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Las </a:t>
            </a: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políticas de control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no están contenidas dentro del evento o del manejador de eventos.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4360" indent="-32436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Los </a:t>
            </a: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subsistemas deciden cuáles eventos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son de su interé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4360" indent="-32436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o obstante, los </a:t>
            </a: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subsistemas no sabe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cuándo un evento será manejado, o si será manejad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80880" y="117000"/>
            <a:ext cx="838224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Modelo de Transmisión o Broadcast (2)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92" name=""/>
          <p:cNvSpPr/>
          <p:nvPr/>
        </p:nvSpPr>
        <p:spPr>
          <a:xfrm>
            <a:off x="387360" y="1731960"/>
            <a:ext cx="1739880" cy="673200"/>
          </a:xfrm>
          <a:prstGeom prst="ellipse">
            <a:avLst/>
          </a:prstGeom>
          <a:gradFill rotWithShape="0">
            <a:gsLst>
              <a:gs pos="0">
                <a:srgbClr val="a50021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19720" y="1824120"/>
            <a:ext cx="11847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ubsist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444760" y="1655640"/>
            <a:ext cx="1739880" cy="673200"/>
          </a:xfrm>
          <a:prstGeom prst="ellipse">
            <a:avLst/>
          </a:prstGeom>
          <a:gradFill rotWithShape="0">
            <a:gsLst>
              <a:gs pos="0">
                <a:srgbClr val="a50021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801160" y="1747800"/>
            <a:ext cx="11847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ubsist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578480" y="1655640"/>
            <a:ext cx="1739880" cy="673200"/>
          </a:xfrm>
          <a:prstGeom prst="ellipse">
            <a:avLst/>
          </a:prstGeom>
          <a:gradFill rotWithShape="0">
            <a:gsLst>
              <a:gs pos="0">
                <a:srgbClr val="a50021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858560" y="1747800"/>
            <a:ext cx="11847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ubsist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635880" y="1731960"/>
            <a:ext cx="1739880" cy="673200"/>
          </a:xfrm>
          <a:prstGeom prst="ellipse">
            <a:avLst/>
          </a:prstGeom>
          <a:gradFill rotWithShape="0">
            <a:gsLst>
              <a:gs pos="0">
                <a:srgbClr val="a50021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991920" y="1824120"/>
            <a:ext cx="11847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ubsist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63680" y="3560760"/>
            <a:ext cx="7988040" cy="596880"/>
          </a:xfrm>
          <a:prstGeom prst="roundRect">
            <a:avLst>
              <a:gd name="adj" fmla="val 264"/>
            </a:avLst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661480" y="3683160"/>
            <a:ext cx="3684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anejador de Eventos y Mensaj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295280" y="2411280"/>
            <a:ext cx="1800" cy="1143000"/>
          </a:xfrm>
          <a:prstGeom prst="line">
            <a:avLst/>
          </a:prstGeom>
          <a:ln w="507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352680" y="2487600"/>
            <a:ext cx="1800" cy="1143000"/>
          </a:xfrm>
          <a:prstGeom prst="line">
            <a:avLst/>
          </a:prstGeom>
          <a:ln w="507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486400" y="2411280"/>
            <a:ext cx="1440" cy="1143000"/>
          </a:xfrm>
          <a:prstGeom prst="line">
            <a:avLst/>
          </a:prstGeom>
          <a:ln w="507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543800" y="2411280"/>
            <a:ext cx="1440" cy="1143000"/>
          </a:xfrm>
          <a:prstGeom prst="line">
            <a:avLst/>
          </a:prstGeom>
          <a:ln w="507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42840" y="4281840"/>
            <a:ext cx="7769160" cy="2531880"/>
            <a:chOff x="42840" y="4281840"/>
            <a:chExt cx="7769160" cy="2531880"/>
          </a:xfrm>
        </p:grpSpPr>
        <p:sp>
          <p:nvSpPr>
            <p:cNvPr id="807" name=""/>
            <p:cNvSpPr/>
            <p:nvPr/>
          </p:nvSpPr>
          <p:spPr>
            <a:xfrm>
              <a:off x="42840" y="5673600"/>
              <a:ext cx="7769160" cy="1140120"/>
            </a:xfrm>
            <a:prstGeom prst="roundRect">
              <a:avLst>
                <a:gd name="adj" fmla="val 1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2840" y="4281840"/>
              <a:ext cx="776916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Tahoma"/>
                </a:rPr>
                <a:t>Ejemplo: </a:t>
              </a:r>
              <a:r>
                <a:rPr b="0" lang="en-GB" sz="2000" spc="-1" strike="noStrike">
                  <a:solidFill>
                    <a:srgbClr val="cc3300"/>
                  </a:solidFill>
                  <a:latin typeface="Tahoma"/>
                </a:rPr>
                <a:t>Transmisión Selecti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Tahoma"/>
                </a:rPr>
                <a:t>Esquema: </a:t>
              </a:r>
              <a:r>
                <a:rPr b="0" lang="en-GB" sz="2000" spc="-1" strike="noStrike">
                  <a:solidFill>
                    <a:srgbClr val="cc3300"/>
                  </a:solidFill>
                  <a:latin typeface="Tahoma"/>
                </a:rPr>
                <a:t>Publisher-Subscri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Tahoma"/>
                </a:rPr>
                <a:t>Los </a:t>
              </a:r>
              <a:r>
                <a:rPr b="0" lang="en-GB" sz="2000" spc="-1" strike="noStrike">
                  <a:solidFill>
                    <a:srgbClr val="cc3300"/>
                  </a:solidFill>
                  <a:latin typeface="Tahoma"/>
                </a:rPr>
                <a:t>manejadores de eventos nunca son bloqueantes</a:t>
              </a:r>
              <a:r>
                <a:rPr b="0" lang="en-GB" sz="2000" spc="-1" strike="noStrike">
                  <a:solidFill>
                    <a:srgbClr val="000066"/>
                  </a:solidFill>
                  <a:latin typeface="Tahoma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Tahoma"/>
                </a:rPr>
                <a:t>Los </a:t>
              </a:r>
              <a:r>
                <a:rPr b="0" lang="en-GB" sz="2000" spc="-1" strike="noStrike">
                  <a:solidFill>
                    <a:srgbClr val="cc3300"/>
                  </a:solidFill>
                  <a:latin typeface="Tahoma"/>
                </a:rPr>
                <a:t>clientes</a:t>
              </a:r>
              <a:r>
                <a:rPr b="0" lang="en-GB" sz="2000" spc="-1" strike="noStrike">
                  <a:solidFill>
                    <a:srgbClr val="000066"/>
                  </a:solidFill>
                  <a:latin typeface="Tahoma"/>
                </a:rPr>
                <a:t> que invocan servicios podrían bloquear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Tahoma"/>
                </a:rPr>
                <a:t>o no… Depende de cada aplicación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9" name="" descr=""/>
          <p:cNvPicPr/>
          <p:nvPr/>
        </p:nvPicPr>
        <p:blipFill>
          <a:blip r:embed="rId1"/>
          <a:stretch/>
        </p:blipFill>
        <p:spPr>
          <a:xfrm>
            <a:off x="6659640" y="4805280"/>
            <a:ext cx="2449440" cy="20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Modelo de Transmisión o Broadcast (3)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0000"/>
              </a:lnSpc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Tahoma"/>
              </a:rPr>
              <a:t>Ventaj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La </a:t>
            </a:r>
            <a:r>
              <a:rPr b="1" i="1" lang="en-GB" sz="2000" spc="-1" strike="noStrike">
                <a:solidFill>
                  <a:srgbClr val="000066"/>
                </a:solidFill>
                <a:latin typeface="Tahoma"/>
              </a:rPr>
              <a:t>evolución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de estos sistemas es </a:t>
            </a:r>
            <a:r>
              <a:rPr b="1" i="1" lang="en-GB" sz="2000" spc="-1" strike="noStrike">
                <a:solidFill>
                  <a:srgbClr val="000066"/>
                </a:solidFill>
                <a:latin typeface="Tahoma"/>
              </a:rPr>
              <a:t>sencilla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. Un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nuevo sistema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sólo tiene que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registrar los eventos que son de su interés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, y proveer un método de control de su ejecució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66"/>
                </a:solidFill>
                <a:latin typeface="Tahoma"/>
              </a:rPr>
              <a:t>Cualquier sistema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(o servicio) </a:t>
            </a:r>
            <a:r>
              <a:rPr b="1" i="1" lang="en-GB" sz="2000" spc="-1" strike="noStrike">
                <a:solidFill>
                  <a:srgbClr val="000066"/>
                </a:solidFill>
                <a:latin typeface="Tahoma"/>
              </a:rPr>
              <a:t>puede activar cualquier otro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, sin conocer su nombre, ni su ubicació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Los subsistemas </a:t>
            </a:r>
            <a:r>
              <a:rPr b="1" i="1" lang="en-GB" sz="2000" spc="-1" strike="noStrike">
                <a:solidFill>
                  <a:srgbClr val="000066"/>
                </a:solidFill>
                <a:latin typeface="Tahoma"/>
              </a:rPr>
              <a:t>pueden alojarse en distintas máquinas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, manteniendo transparente su forma de operació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Tahoma"/>
              </a:rPr>
              <a:t>Desventaj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Los subsistemas que emiten los eventos, </a:t>
            </a:r>
            <a:r>
              <a:rPr b="1" i="1" lang="en-GB" sz="2000" spc="-1" strike="noStrike">
                <a:solidFill>
                  <a:srgbClr val="000066"/>
                </a:solidFill>
                <a:latin typeface="Tahoma"/>
              </a:rPr>
              <a:t>no saben si estos se manejarán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, ni tampoco cuándo se realizará est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Puede </a:t>
            </a:r>
            <a:r>
              <a:rPr b="1" i="1" lang="en-GB" sz="2000" spc="-1" strike="noStrike">
                <a:solidFill>
                  <a:srgbClr val="000066"/>
                </a:solidFill>
                <a:latin typeface="Tahoma"/>
              </a:rPr>
              <a:t>haber más de un subsistema registrado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para manejar un mismo evento. Esto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puede generar problemas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a la hora de retornar los resultados del procesamiento del evento, ante una invocación de servici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571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Ejemplo: Sistema de Control de un Robot Empaquetador</a:t>
            </a:r>
            <a:endParaRPr b="0" lang="en-US" sz="2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463680" y="1682640"/>
            <a:ext cx="1206360" cy="673200"/>
          </a:xfrm>
          <a:prstGeom prst="roundRect">
            <a:avLst>
              <a:gd name="adj" fmla="val 231"/>
            </a:avLst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1120" y="1774800"/>
            <a:ext cx="95004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istema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V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2749680"/>
            <a:ext cx="1206720" cy="672840"/>
          </a:xfrm>
          <a:prstGeom prst="roundRect">
            <a:avLst>
              <a:gd name="adj" fmla="val 231"/>
            </a:avLst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9680" y="2765520"/>
            <a:ext cx="1078200" cy="6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istema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Identif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e Obje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6680" y="3816360"/>
            <a:ext cx="1739880" cy="2502000"/>
          </a:xfrm>
          <a:custGeom>
            <a:avLst/>
            <a:gdLst>
              <a:gd name="textAreaLeft" fmla="*/ 360 w 1739880"/>
              <a:gd name="textAreaRight" fmla="*/ 1739520 w 1739880"/>
              <a:gd name="textAreaTop" fmla="*/ 360 h 2502000"/>
              <a:gd name="textAreaBottom" fmla="*/ 2501640 h 2502000"/>
            </a:gdLst>
            <a:ahLst/>
            <a:rect l="textAreaLeft" t="textAreaTop" r="textAreaRight" b="textAreaBottom"/>
            <a:pathLst>
              <a:path w="21600" h="31059">
                <a:moveTo>
                  <a:pt x="19" y="0"/>
                </a:moveTo>
                <a:arcTo wR="19" hR="19" stAng="16200000" swAng="-5400000"/>
                <a:lnTo>
                  <a:pt x="0" y="31040"/>
                </a:lnTo>
                <a:arcTo wR="19" hR="19" stAng="10800000" swAng="-5400000"/>
                <a:lnTo>
                  <a:pt x="21581" y="31059"/>
                </a:lnTo>
                <a:arcTo wR="19" hR="19" stAng="5400000" swAng="-5400000"/>
                <a:lnTo>
                  <a:pt x="21600" y="19"/>
                </a:lnTo>
                <a:arcTo wR="19" hR="19" stAng="0" swAng="-5400000"/>
                <a:close/>
              </a:path>
            </a:pathLst>
          </a:custGeom>
          <a:solidFill>
            <a:srgbClr val="ff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4648320"/>
            <a:ext cx="1206360" cy="672840"/>
          </a:xfrm>
          <a:prstGeom prst="roundRect">
            <a:avLst>
              <a:gd name="adj" fmla="val 231"/>
            </a:avLst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08640" y="4603680"/>
            <a:ext cx="1061280" cy="6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istema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elección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Paqu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5562720"/>
            <a:ext cx="1206360" cy="672840"/>
          </a:xfrm>
          <a:prstGeom prst="roundRect">
            <a:avLst>
              <a:gd name="adj" fmla="val 231"/>
            </a:avLst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3760" y="5638680"/>
            <a:ext cx="118944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ist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Empaquet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54640" y="4883040"/>
            <a:ext cx="1206720" cy="673200"/>
          </a:xfrm>
          <a:prstGeom prst="roundRect">
            <a:avLst>
              <a:gd name="adj" fmla="val 231"/>
            </a:avLst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82440" y="4975200"/>
            <a:ext cx="110232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ntrol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inta Trans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2362320"/>
            <a:ext cx="1800" cy="38088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429000"/>
            <a:ext cx="1800" cy="1752480"/>
          </a:xfrm>
          <a:prstGeom prst="line">
            <a:avLst/>
          </a:prstGeom>
          <a:ln w="507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5181480"/>
            <a:ext cx="533520" cy="180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5257800"/>
            <a:ext cx="1440" cy="3808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349880" y="2426400"/>
            <a:ext cx="3031920" cy="1618560"/>
            <a:chOff x="4349880" y="2426400"/>
            <a:chExt cx="3031920" cy="1618560"/>
          </a:xfrm>
        </p:grpSpPr>
        <p:sp>
          <p:nvSpPr>
            <p:cNvPr id="106" name=""/>
            <p:cNvSpPr/>
            <p:nvPr/>
          </p:nvSpPr>
          <p:spPr>
            <a:xfrm>
              <a:off x="4349880" y="2444760"/>
              <a:ext cx="3031920" cy="1584360"/>
            </a:xfrm>
            <a:prstGeom prst="roundRect">
              <a:avLst>
                <a:gd name="adj" fmla="val 97"/>
              </a:avLst>
            </a:prstGeom>
            <a:solidFill>
              <a:srgbClr val="ffff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01240" y="2426400"/>
              <a:ext cx="23310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Subsist. de Contr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4502160" y="2825640"/>
            <a:ext cx="1206360" cy="673200"/>
          </a:xfrm>
          <a:prstGeom prst="roundRect">
            <a:avLst>
              <a:gd name="adj" fmla="val 231"/>
            </a:avLst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628880" y="2841480"/>
            <a:ext cx="1043280" cy="514440"/>
            <a:chOff x="4628880" y="2841480"/>
            <a:chExt cx="1043280" cy="514440"/>
          </a:xfrm>
        </p:grpSpPr>
        <p:sp>
          <p:nvSpPr>
            <p:cNvPr id="110" name=""/>
            <p:cNvSpPr/>
            <p:nvPr/>
          </p:nvSpPr>
          <p:spPr>
            <a:xfrm>
              <a:off x="4632480" y="2841480"/>
              <a:ext cx="1039680" cy="514440"/>
            </a:xfrm>
            <a:prstGeom prst="roundRect">
              <a:avLst>
                <a:gd name="adj" fmla="val 306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28880" y="2841480"/>
              <a:ext cx="9835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Control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del Braz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6026040" y="2825640"/>
            <a:ext cx="1130400" cy="673200"/>
          </a:xfrm>
          <a:prstGeom prst="roundRect">
            <a:avLst>
              <a:gd name="adj" fmla="val 231"/>
            </a:avLst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00480" y="2841480"/>
            <a:ext cx="98352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ntrol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Reposit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1981080"/>
            <a:ext cx="4114800" cy="1800"/>
          </a:xfrm>
          <a:prstGeom prst="line">
            <a:avLst/>
          </a:prstGeom>
          <a:ln w="507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91320" y="1981080"/>
            <a:ext cx="1440" cy="45720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3124080"/>
            <a:ext cx="2590920" cy="180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5257800"/>
            <a:ext cx="2895840" cy="144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88000" y="4038480"/>
            <a:ext cx="1800" cy="609840"/>
          </a:xfrm>
          <a:prstGeom prst="line">
            <a:avLst/>
          </a:prstGeom>
          <a:ln w="507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348000" y="4648320"/>
            <a:ext cx="3238560" cy="144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28600" y="0"/>
            <a:ext cx="8910720" cy="1138320"/>
            <a:chOff x="228600" y="0"/>
            <a:chExt cx="8910720" cy="1138320"/>
          </a:xfrm>
        </p:grpSpPr>
        <p:sp>
          <p:nvSpPr>
            <p:cNvPr id="121" name=""/>
            <p:cNvSpPr/>
            <p:nvPr/>
          </p:nvSpPr>
          <p:spPr>
            <a:xfrm>
              <a:off x="228600" y="0"/>
              <a:ext cx="8910720" cy="1138320"/>
            </a:xfrm>
            <a:prstGeom prst="roundRect">
              <a:avLst>
                <a:gd name="adj" fmla="val 1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600" y="497160"/>
              <a:ext cx="89107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a50021"/>
                  </a:solidFill>
                  <a:latin typeface="Tahoma"/>
                </a:rPr>
                <a:t>Estructuración del Sistema (2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675080" y="3822840"/>
            <a:ext cx="162396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ub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e Empa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4560" y="44280"/>
            <a:ext cx="883908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en-GB" sz="3600" spc="-1" strike="noStrike">
                <a:solidFill>
                  <a:srgbClr val="a50021"/>
                </a:solidFill>
                <a:latin typeface="Tahoma"/>
              </a:rPr>
              <a:t>Sistemas Manejados por Interrupciones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73040" y="1125000"/>
            <a:ext cx="8491680" cy="554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spcBef>
                <a:spcPts val="1500"/>
              </a:spcBef>
              <a:spcAft>
                <a:spcPts val="1349"/>
              </a:spcAft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Arquitectura utilizada en </a:t>
            </a:r>
            <a:r>
              <a:rPr b="1" i="1" lang="en-GB" sz="2400" spc="-1" strike="noStrike">
                <a:solidFill>
                  <a:srgbClr val="000066"/>
                </a:solidFill>
                <a:latin typeface="Tahoma"/>
              </a:rPr>
              <a:t>sistemas de tiempo real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, donde una </a:t>
            </a:r>
            <a:r>
              <a:rPr b="1" i="1" lang="en-GB" sz="2400" spc="-1" strike="noStrike">
                <a:solidFill>
                  <a:srgbClr val="000066"/>
                </a:solidFill>
                <a:latin typeface="Tahoma"/>
              </a:rPr>
              <a:t>respuesta rápida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es esencial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spcBef>
                <a:spcPts val="1500"/>
              </a:spcBef>
              <a:spcAft>
                <a:spcPts val="1349"/>
              </a:spcAft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Hay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distintos tipos de interrupciones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, con </a:t>
            </a:r>
            <a:r>
              <a:rPr b="1" i="1" lang="en-GB" sz="2400" spc="-1" strike="noStrike">
                <a:solidFill>
                  <a:srgbClr val="000066"/>
                </a:solidFill>
                <a:latin typeface="Tahoma"/>
              </a:rPr>
              <a:t>un manejador 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definido </a:t>
            </a:r>
            <a:r>
              <a:rPr b="1" i="1" lang="en-GB" sz="2400" spc="-1" strike="noStrike">
                <a:solidFill>
                  <a:srgbClr val="000066"/>
                </a:solidFill>
                <a:latin typeface="Tahoma"/>
              </a:rPr>
              <a:t>para cada tipo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spcBef>
                <a:spcPts val="1500"/>
              </a:spcBef>
              <a:spcAft>
                <a:spcPts val="1349"/>
              </a:spcAft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Cada tipo está asociado con una ubicación de memoria, un switch de hardware dispara la ejecución del manejador cada vez que llega una señal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spcBef>
                <a:spcPts val="1500"/>
              </a:spcBef>
              <a:spcAft>
                <a:spcPts val="1349"/>
              </a:spcAft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Proveen una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respuesta rápida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, pero que es </a:t>
            </a:r>
            <a:r>
              <a:rPr b="1" i="1" lang="en-GB" sz="2400" spc="-1" strike="noStrike">
                <a:solidFill>
                  <a:srgbClr val="000066"/>
                </a:solidFill>
                <a:latin typeface="Tahoma"/>
              </a:rPr>
              <a:t>compleja de programar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y </a:t>
            </a:r>
            <a:r>
              <a:rPr b="1" i="1" lang="en-GB" sz="2400" spc="-1" strike="noStrike">
                <a:solidFill>
                  <a:srgbClr val="000066"/>
                </a:solidFill>
                <a:latin typeface="Tahoma"/>
              </a:rPr>
              <a:t>difícil de validar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1"/>
          <a:stretch/>
        </p:blipFill>
        <p:spPr>
          <a:xfrm>
            <a:off x="6156360" y="5227560"/>
            <a:ext cx="2987640" cy="16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28240" y="-50760"/>
            <a:ext cx="853452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Sistemas Manejados por Interrupciones 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716200" y="1616040"/>
            <a:ext cx="2425680" cy="444600"/>
          </a:xfrm>
          <a:prstGeom prst="roundRect">
            <a:avLst>
              <a:gd name="adj" fmla="val 356"/>
            </a:avLst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090960" y="1266840"/>
            <a:ext cx="1440" cy="45720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624120" y="1266840"/>
            <a:ext cx="1800" cy="45720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157640" y="1266840"/>
            <a:ext cx="1440" cy="45720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691160" y="1266840"/>
            <a:ext cx="1440" cy="45720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226680" y="907920"/>
            <a:ext cx="13172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nterrup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319560" y="1609560"/>
            <a:ext cx="1440" cy="4572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852720" y="1609560"/>
            <a:ext cx="1800" cy="4572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462560" y="1609560"/>
            <a:ext cx="1440" cy="4572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240920" y="1555920"/>
            <a:ext cx="1317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Vecto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nterrup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116000" y="2759040"/>
            <a:ext cx="1359000" cy="520560"/>
          </a:xfrm>
          <a:prstGeom prst="roundRect">
            <a:avLst>
              <a:gd name="adj" fmla="val 301"/>
            </a:avLst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166400" y="2851200"/>
            <a:ext cx="11757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anejado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868480" y="2759040"/>
            <a:ext cx="1359000" cy="520560"/>
          </a:xfrm>
          <a:prstGeom prst="roundRect">
            <a:avLst>
              <a:gd name="adj" fmla="val 301"/>
            </a:avLst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995200" y="2851200"/>
            <a:ext cx="11757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anejado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925880" y="2759040"/>
            <a:ext cx="1359000" cy="520560"/>
          </a:xfrm>
          <a:prstGeom prst="roundRect">
            <a:avLst>
              <a:gd name="adj" fmla="val 301"/>
            </a:avLst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052600" y="2851200"/>
            <a:ext cx="11757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anejado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831000" y="2759040"/>
            <a:ext cx="1359000" cy="520560"/>
          </a:xfrm>
          <a:prstGeom prst="roundRect">
            <a:avLst>
              <a:gd name="adj" fmla="val 301"/>
            </a:avLst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957720" y="2851200"/>
            <a:ext cx="11757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anejador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116000" y="3960720"/>
            <a:ext cx="1282680" cy="596880"/>
          </a:xfrm>
          <a:prstGeom prst="ellipse">
            <a:avLst/>
          </a:prstGeom>
          <a:gradFill rotWithShape="0">
            <a:gsLst>
              <a:gs pos="0">
                <a:srgbClr val="006600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242720" y="4129200"/>
            <a:ext cx="989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roceso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021120" y="3960720"/>
            <a:ext cx="1282680" cy="596880"/>
          </a:xfrm>
          <a:prstGeom prst="ellipse">
            <a:avLst/>
          </a:prstGeom>
          <a:gradFill rotWithShape="0">
            <a:gsLst>
              <a:gs pos="0">
                <a:srgbClr val="006600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147120" y="4129200"/>
            <a:ext cx="10400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roceso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078520" y="3960720"/>
            <a:ext cx="1282680" cy="596880"/>
          </a:xfrm>
          <a:prstGeom prst="ellipse">
            <a:avLst/>
          </a:prstGeom>
          <a:gradFill rotWithShape="0">
            <a:gsLst>
              <a:gs pos="0">
                <a:srgbClr val="006600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128920" y="4129200"/>
            <a:ext cx="989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roceso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983280" y="3960720"/>
            <a:ext cx="1282680" cy="596880"/>
          </a:xfrm>
          <a:prstGeom prst="ellipse">
            <a:avLst/>
          </a:prstGeom>
          <a:gradFill rotWithShape="0">
            <a:gsLst>
              <a:gs pos="0">
                <a:srgbClr val="006600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186320" y="4129200"/>
            <a:ext cx="9896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roceso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H="1">
            <a:off x="1866600" y="2143080"/>
            <a:ext cx="1152360" cy="60948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624120" y="2143080"/>
            <a:ext cx="1800" cy="60948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624120" y="2448000"/>
            <a:ext cx="1800" cy="759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233960" y="2066760"/>
            <a:ext cx="1295280" cy="68580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995720" y="2066760"/>
            <a:ext cx="2514600" cy="68580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719360" y="3286080"/>
            <a:ext cx="1440" cy="68580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624120" y="3362400"/>
            <a:ext cx="1800" cy="60948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681520" y="3286080"/>
            <a:ext cx="1800" cy="68580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510320" y="3286080"/>
            <a:ext cx="1800" cy="76212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90480" y="5121360"/>
            <a:ext cx="7769160" cy="1139760"/>
          </a:xfrm>
          <a:prstGeom prst="roundRect">
            <a:avLst>
              <a:gd name="adj" fmla="val 1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50920" y="5084640"/>
            <a:ext cx="8785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90000"/>
              </a:lnSpc>
              <a:spcBef>
                <a:spcPts val="901"/>
              </a:spcBef>
              <a:spcAft>
                <a:spcPts val="249"/>
              </a:spcAft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El vector de interrupciones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no se bloquea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con cada solicitud (es sólo un derivado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901"/>
              </a:spcBef>
              <a:spcAft>
                <a:spcPts val="249"/>
              </a:spcAft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Permite la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ejecución paralela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de múltiples solicitu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901"/>
              </a:spcBef>
              <a:spcAft>
                <a:spcPts val="249"/>
              </a:spcAft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El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manejador de eventos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puede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responder directamente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al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cliente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28240" y="-50760"/>
            <a:ext cx="873612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Tahoma"/>
              </a:rPr>
              <a:t>Variante del Manejador de Interrupciones 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5746680" y="1401840"/>
            <a:ext cx="2425680" cy="444600"/>
          </a:xfrm>
          <a:prstGeom prst="roundRect">
            <a:avLst>
              <a:gd name="adj" fmla="val 356"/>
            </a:avLst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8100720" y="1628640"/>
            <a:ext cx="971640" cy="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8238960" y="1052640"/>
            <a:ext cx="9514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Interrup. 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Ev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350040" y="1395360"/>
            <a:ext cx="1440" cy="4572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883560" y="1395360"/>
            <a:ext cx="1440" cy="4572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493040" y="1395360"/>
            <a:ext cx="1440" cy="4572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116000" y="2759040"/>
            <a:ext cx="1359000" cy="520560"/>
          </a:xfrm>
          <a:prstGeom prst="roundRect">
            <a:avLst>
              <a:gd name="adj" fmla="val 301"/>
            </a:avLst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166400" y="2851200"/>
            <a:ext cx="11757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anejado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868480" y="2759040"/>
            <a:ext cx="1359000" cy="520560"/>
          </a:xfrm>
          <a:prstGeom prst="roundRect">
            <a:avLst>
              <a:gd name="adj" fmla="val 301"/>
            </a:avLst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995200" y="2851200"/>
            <a:ext cx="11757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anejado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925880" y="2759040"/>
            <a:ext cx="1359000" cy="520560"/>
          </a:xfrm>
          <a:prstGeom prst="roundRect">
            <a:avLst>
              <a:gd name="adj" fmla="val 301"/>
            </a:avLst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052600" y="2851200"/>
            <a:ext cx="11757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anejado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831000" y="2759040"/>
            <a:ext cx="1359000" cy="520560"/>
          </a:xfrm>
          <a:prstGeom prst="roundRect">
            <a:avLst>
              <a:gd name="adj" fmla="val 301"/>
            </a:avLst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957720" y="2851200"/>
            <a:ext cx="11757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anejador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116000" y="3960720"/>
            <a:ext cx="1282680" cy="596880"/>
          </a:xfrm>
          <a:prstGeom prst="ellipse">
            <a:avLst/>
          </a:prstGeom>
          <a:gradFill rotWithShape="0">
            <a:gsLst>
              <a:gs pos="0">
                <a:srgbClr val="006600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242720" y="4129200"/>
            <a:ext cx="989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roceso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021120" y="3960720"/>
            <a:ext cx="1282680" cy="596880"/>
          </a:xfrm>
          <a:prstGeom prst="ellipse">
            <a:avLst/>
          </a:prstGeom>
          <a:gradFill rotWithShape="0">
            <a:gsLst>
              <a:gs pos="0">
                <a:srgbClr val="006600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147120" y="4129200"/>
            <a:ext cx="10400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roceso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078520" y="3960720"/>
            <a:ext cx="1282680" cy="596880"/>
          </a:xfrm>
          <a:prstGeom prst="ellipse">
            <a:avLst/>
          </a:prstGeom>
          <a:gradFill rotWithShape="0">
            <a:gsLst>
              <a:gs pos="0">
                <a:srgbClr val="006600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128920" y="4129200"/>
            <a:ext cx="989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roceso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983280" y="3960720"/>
            <a:ext cx="1282680" cy="596880"/>
          </a:xfrm>
          <a:prstGeom prst="ellipse">
            <a:avLst/>
          </a:prstGeom>
          <a:gradFill rotWithShape="0">
            <a:gsLst>
              <a:gs pos="0">
                <a:srgbClr val="006600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186320" y="4129200"/>
            <a:ext cx="9896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roceso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1834920" y="1844640"/>
            <a:ext cx="1081080" cy="89856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3564000" y="1916280"/>
            <a:ext cx="9360" cy="83628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624120" y="2448000"/>
            <a:ext cx="1800" cy="759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284720" y="1916280"/>
            <a:ext cx="1244520" cy="83628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03640" y="1916280"/>
            <a:ext cx="2506680" cy="83628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719360" y="3286080"/>
            <a:ext cx="1440" cy="68580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624120" y="3362400"/>
            <a:ext cx="1800" cy="60948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681520" y="3286080"/>
            <a:ext cx="1800" cy="68580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510320" y="3286080"/>
            <a:ext cx="1800" cy="76212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90480" y="5121360"/>
            <a:ext cx="7769160" cy="1139760"/>
          </a:xfrm>
          <a:prstGeom prst="roundRect">
            <a:avLst>
              <a:gd name="adj" fmla="val 1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50920" y="4869000"/>
            <a:ext cx="8785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8040" indent="-338040">
              <a:lnSpc>
                <a:spcPct val="90000"/>
              </a:lnSpc>
              <a:spcBef>
                <a:spcPts val="901"/>
              </a:spcBef>
              <a:spcAft>
                <a:spcPts val="624"/>
              </a:spcAft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Aunque no es la idea, el vector de interrupciones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podría bloquearse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con cada solicitud (en caso de ser necesari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901"/>
              </a:spcBef>
              <a:spcAft>
                <a:spcPts val="624"/>
              </a:spcAft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Si se bloquea, la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tasa de atención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de solicitudes (transacciones)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cae notable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901"/>
              </a:spcBef>
              <a:spcAft>
                <a:spcPts val="624"/>
              </a:spcAft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El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manejador de eventos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puede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responder directamente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al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cliente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012000" y="1052640"/>
            <a:ext cx="1800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ola de Solicitu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843280" y="1395360"/>
            <a:ext cx="2233440" cy="520920"/>
          </a:xfrm>
          <a:prstGeom prst="roundRect">
            <a:avLst>
              <a:gd name="adj" fmla="val 301"/>
            </a:avLst>
          </a:prstGeom>
          <a:solidFill>
            <a:srgbClr val="cccc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843280" y="1484280"/>
            <a:ext cx="22334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Vector de Interrup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H="1">
            <a:off x="5076360" y="1628640"/>
            <a:ext cx="792360" cy="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440" y="442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Volvamos al Ejemplo de ChileMetal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496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sarrollar un framework de software integrador de políticas de administración de sistemas: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dm. de Usuario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olíticas de Seguridad y Respaldo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ato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rvicios (unificación)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1116000" y="2708280"/>
            <a:ext cx="6984720" cy="3817440"/>
            <a:chOff x="1116000" y="2708280"/>
            <a:chExt cx="6984720" cy="3817440"/>
          </a:xfrm>
        </p:grpSpPr>
        <p:sp>
          <p:nvSpPr>
            <p:cNvPr id="898" name=""/>
            <p:cNvSpPr/>
            <p:nvPr/>
          </p:nvSpPr>
          <p:spPr>
            <a:xfrm>
              <a:off x="1188000" y="2853000"/>
              <a:ext cx="1600920" cy="93636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Sistema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116000" y="4582080"/>
              <a:ext cx="1600920" cy="93672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Sistema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589560" y="5589360"/>
              <a:ext cx="1600920" cy="93636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Sistema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499800" y="4437720"/>
              <a:ext cx="1600920" cy="93636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Sistema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408640" y="2708280"/>
              <a:ext cx="1600920" cy="93672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Sistema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225600" y="4437720"/>
              <a:ext cx="2693520" cy="57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FRAME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5554800" y="3645000"/>
              <a:ext cx="43596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390200" y="501408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5919120" y="4869720"/>
              <a:ext cx="58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583720" y="3632400"/>
              <a:ext cx="80028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2716920" y="4940640"/>
              <a:ext cx="50832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440" y="442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Volvamos al Ejemplo de ChileMetal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49636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Júntese en grupos de 2 o tres personas y determine ¿Qué modelo de control utilizaría para organizar el comportamiento de la estructura propuesta?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11" name=""/>
          <p:cNvSpPr/>
          <p:nvPr/>
        </p:nvSpPr>
        <p:spPr>
          <a:xfrm>
            <a:off x="1371600" y="5013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Luego, comparta su propuesta con el resto de nosot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440" y="442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Estas son las Arquitecturas que teníamos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13" name=""/>
          <p:cNvSpPr/>
          <p:nvPr/>
        </p:nvSpPr>
        <p:spPr>
          <a:xfrm>
            <a:off x="684360" y="5516640"/>
            <a:ext cx="776736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¿Cuál es el modelo de control de ell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1"/>
          <a:stretch/>
        </p:blipFill>
        <p:spPr>
          <a:xfrm>
            <a:off x="144360" y="1773360"/>
            <a:ext cx="4427640" cy="351000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"/>
          <p:cNvPicPr/>
          <p:nvPr/>
        </p:nvPicPr>
        <p:blipFill>
          <a:blip r:embed="rId2"/>
          <a:stretch/>
        </p:blipFill>
        <p:spPr>
          <a:xfrm>
            <a:off x="5005440" y="1758960"/>
            <a:ext cx="395928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79280" y="44280"/>
            <a:ext cx="8964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Modelos de Control para la Opción 1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2627280" y="6021360"/>
            <a:ext cx="4384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¿Cuál es el mej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774720" y="1244520"/>
            <a:ext cx="761364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79280" y="44280"/>
            <a:ext cx="8964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Modelos de Control para la Opción 2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20" name=""/>
          <p:cNvSpPr/>
          <p:nvPr/>
        </p:nvSpPr>
        <p:spPr>
          <a:xfrm>
            <a:off x="2627280" y="6021360"/>
            <a:ext cx="4384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1" name="" descr=""/>
          <p:cNvPicPr/>
          <p:nvPr/>
        </p:nvPicPr>
        <p:blipFill>
          <a:blip r:embed="rId1"/>
          <a:stretch/>
        </p:blipFill>
        <p:spPr>
          <a:xfrm>
            <a:off x="108000" y="1641600"/>
            <a:ext cx="885672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09480" y="5454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Tahoma"/>
              </a:rPr>
              <a:t>Descomposición Modular (3)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923" name="" descr=""/>
          <p:cNvPicPr/>
          <p:nvPr/>
        </p:nvPicPr>
        <p:blipFill>
          <a:blip r:embed="rId1"/>
          <a:stretch/>
        </p:blipFill>
        <p:spPr>
          <a:xfrm>
            <a:off x="3708360" y="1170000"/>
            <a:ext cx="5111640" cy="427500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2"/>
          <a:stretch/>
        </p:blipFill>
        <p:spPr>
          <a:xfrm>
            <a:off x="0" y="-6480"/>
            <a:ext cx="3295800" cy="20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838080" y="43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escomposición Modular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66772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0000"/>
              </a:lnSpc>
              <a:spcBef>
                <a:spcPts val="1049"/>
              </a:spcBef>
              <a:spcAft>
                <a:spcPts val="1225"/>
              </a:spcAft>
              <a:buClr>
                <a:srgbClr val="ff0000"/>
              </a:buClr>
              <a:buSzPct val="19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Es otro </a:t>
            </a:r>
            <a:r>
              <a:rPr b="0" lang="en-GB" sz="2800" spc="-1" strike="noStrike">
                <a:solidFill>
                  <a:srgbClr val="cc3300"/>
                </a:solidFill>
                <a:latin typeface="Tahoma"/>
              </a:rPr>
              <a:t>nivel de estructura 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donde los subsistemas son descompuestos en módulos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1049"/>
              </a:spcBef>
              <a:spcAft>
                <a:spcPts val="1225"/>
              </a:spcAft>
              <a:buClr>
                <a:srgbClr val="ff0000"/>
              </a:buClr>
              <a:buSzPct val="19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Dos modelos de descomposición modular son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Clr>
                <a:srgbClr val="ff0000"/>
              </a:buClr>
              <a:buSzPct val="172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ahoma"/>
              </a:rPr>
              <a:t>Modelo de Objetos.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Donde el sistema es descompuesto en objetos relacionad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Clr>
                <a:srgbClr val="ff0000"/>
              </a:buClr>
              <a:buSzPct val="172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ahoma"/>
              </a:rPr>
              <a:t>Modelo de Flujo de Datos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. Donde el sistema es descompuesto en módulos funcionales, los cuales, transforman entradas en salidas. Esto es conocido como el modelo pipelin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1049"/>
              </a:spcBef>
              <a:spcAft>
                <a:spcPts val="1225"/>
              </a:spcAft>
              <a:buClr>
                <a:srgbClr val="ff0000"/>
              </a:buClr>
              <a:buSzPct val="19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Es posible tomar decisiones acerca del comportamiento del sistema antes de que los módulos sean implementados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Estructuración del Sistema (3)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8134200" cy="47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Hay varias </a:t>
            </a:r>
            <a:r>
              <a:rPr b="1" lang="en-GB" sz="2400" spc="-1" strike="noStrike">
                <a:solidFill>
                  <a:srgbClr val="000066"/>
                </a:solidFill>
                <a:latin typeface="Tahoma"/>
              </a:rPr>
              <a:t>recomendaciones generales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(soluciones recurrentes) para estructurar un sistema, algunas de ellas son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8360" indent="-28116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Modelo de depósito (o de repositorio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8360" indent="-28116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Modelo Cliente/Servidor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8360" indent="-28116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Modelo de máquina abstract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8360" indent="-28116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Otro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8360" indent="-28116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Mezclas de esto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8360" indent="0">
              <a:spcBef>
                <a:spcPts val="96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Cada uno es más apropiado para apoyar un cierto escenario o conjunto de escenari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Modelos de Objetos (1)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4000" y="14716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Estructura el sistema en un </a:t>
            </a:r>
            <a:r>
              <a:rPr b="1" i="1" lang="en-GB" sz="2400" spc="-1" strike="noStrike">
                <a:solidFill>
                  <a:srgbClr val="000066"/>
                </a:solidFill>
                <a:latin typeface="Tahoma"/>
              </a:rPr>
              <a:t>conjunto de objetos débilmente acoplados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con interfaces bien definid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La </a:t>
            </a:r>
            <a:r>
              <a:rPr b="1" i="1" lang="en-GB" sz="2400" spc="-1" strike="noStrike">
                <a:solidFill>
                  <a:srgbClr val="000066"/>
                </a:solidFill>
                <a:latin typeface="Tahoma"/>
              </a:rPr>
              <a:t>descomposición orientada a objetos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se refiere a la identificación de clases de objetos, sus atributos y operacion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Cuando se implementa este modelo, los </a:t>
            </a:r>
            <a:r>
              <a:rPr b="1" i="1" lang="en-GB" sz="2400" spc="-1" strike="noStrike">
                <a:solidFill>
                  <a:srgbClr val="000066"/>
                </a:solidFill>
                <a:latin typeface="Tahoma"/>
              </a:rPr>
              <a:t>objetos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son </a:t>
            </a:r>
            <a:r>
              <a:rPr b="1" i="1" lang="en-GB" sz="2400" spc="-1" strike="noStrike">
                <a:solidFill>
                  <a:srgbClr val="000066"/>
                </a:solidFill>
                <a:latin typeface="Tahoma"/>
              </a:rPr>
              <a:t>creados a partir de estas clases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Se utiliza un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modelo de control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para </a:t>
            </a:r>
            <a:r>
              <a:rPr b="1" i="1" lang="en-GB" sz="2400" spc="-1" strike="noStrike">
                <a:solidFill>
                  <a:srgbClr val="000066"/>
                </a:solidFill>
                <a:latin typeface="Tahoma"/>
              </a:rPr>
              <a:t>coordinar operaciones entre los objetos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Un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ADL (Lenguaje de Descripción de Arquitectura)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muy usado para esto es UML, aunque muchos reclaman es es demasiado informal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933" name="" descr=""/>
          <p:cNvPicPr/>
          <p:nvPr/>
        </p:nvPicPr>
        <p:blipFill>
          <a:blip r:embed="rId1"/>
          <a:stretch/>
        </p:blipFill>
        <p:spPr>
          <a:xfrm>
            <a:off x="6877080" y="0"/>
            <a:ext cx="2266920" cy="14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Modelos de Objetos (2)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37" name=""/>
          <p:cNvSpPr/>
          <p:nvPr/>
        </p:nvSpPr>
        <p:spPr>
          <a:xfrm>
            <a:off x="690480" y="2254320"/>
            <a:ext cx="1968480" cy="1434960"/>
          </a:xfrm>
          <a:prstGeom prst="roundRect">
            <a:avLst>
              <a:gd name="adj" fmla="val 106"/>
            </a:avLst>
          </a:prstGeom>
          <a:gradFill rotWithShape="0">
            <a:gsLst>
              <a:gs pos="0">
                <a:srgbClr val="006600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84360" y="2705040"/>
            <a:ext cx="1981080" cy="1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202400" y="2300400"/>
            <a:ext cx="8938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39080" y="2727360"/>
            <a:ext cx="168300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liente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No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ire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eríodo de Crédi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558120" y="2254320"/>
            <a:ext cx="1968480" cy="1434960"/>
          </a:xfrm>
          <a:prstGeom prst="roundRect">
            <a:avLst>
              <a:gd name="adj" fmla="val 106"/>
            </a:avLst>
          </a:prstGeom>
          <a:gradFill rotWithShape="0">
            <a:gsLst>
              <a:gs pos="0">
                <a:srgbClr val="006600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551640" y="2705040"/>
            <a:ext cx="1981080" cy="1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7146000" y="2300400"/>
            <a:ext cx="8938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ci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608160" y="2727360"/>
            <a:ext cx="93960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actura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e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ant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liente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90480" y="4540320"/>
            <a:ext cx="1968480" cy="1434960"/>
          </a:xfrm>
          <a:prstGeom prst="roundRect">
            <a:avLst>
              <a:gd name="adj" fmla="val 106"/>
            </a:avLst>
          </a:prstGeom>
          <a:gradFill rotWithShape="0">
            <a:gsLst>
              <a:gs pos="0">
                <a:srgbClr val="006600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84360" y="4991040"/>
            <a:ext cx="1981080" cy="1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278360" y="4586400"/>
            <a:ext cx="7167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40880" y="5089680"/>
            <a:ext cx="93960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actura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e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ant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liente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814920" y="2863800"/>
            <a:ext cx="1968480" cy="2578320"/>
          </a:xfrm>
          <a:custGeom>
            <a:avLst/>
            <a:gdLst>
              <a:gd name="textAreaLeft" fmla="*/ 360 w 1968480"/>
              <a:gd name="textAreaRight" fmla="*/ 1968120 w 1968480"/>
              <a:gd name="textAreaTop" fmla="*/ 360 h 2578320"/>
              <a:gd name="textAreaBottom" fmla="*/ 2577960 h 2578320"/>
            </a:gdLst>
            <a:ahLst/>
            <a:rect l="textAreaLeft" t="textAreaTop" r="textAreaRight" b="textAreaBottom"/>
            <a:pathLst>
              <a:path w="21600" h="28291">
                <a:moveTo>
                  <a:pt x="17" y="0"/>
                </a:moveTo>
                <a:arcTo wR="17" hR="17" stAng="16200000" swAng="-5400000"/>
                <a:lnTo>
                  <a:pt x="0" y="28274"/>
                </a:lnTo>
                <a:arcTo wR="17" hR="17" stAng="10800000" swAng="-5400000"/>
                <a:lnTo>
                  <a:pt x="21583" y="28291"/>
                </a:lnTo>
                <a:arcTo wR="17" hR="17" stAng="5400000" swAng="-5400000"/>
                <a:lnTo>
                  <a:pt x="21600" y="17"/>
                </a:lnTo>
                <a:arcTo wR="17" hR="17" stAng="0" swAng="-5400000"/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808440" y="3390840"/>
            <a:ext cx="1981080" cy="1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325760" y="2909880"/>
            <a:ext cx="9594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ac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864960" y="3413160"/>
            <a:ext cx="93960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actura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e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ant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l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808440" y="4381560"/>
            <a:ext cx="1981080" cy="1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861720" y="4479840"/>
            <a:ext cx="196200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Emi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Envío de Recorda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Aceptación de P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Envío de Recib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3270240" y="4610160"/>
            <a:ext cx="542880" cy="1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3274920" y="2928600"/>
            <a:ext cx="1800" cy="1685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2660400" y="2933640"/>
            <a:ext cx="618840" cy="18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789520" y="4915080"/>
            <a:ext cx="457200" cy="1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V="1">
            <a:off x="6246720" y="3080880"/>
            <a:ext cx="1800" cy="18385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246720" y="3086280"/>
            <a:ext cx="304920" cy="14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665440" y="5143680"/>
            <a:ext cx="1143000" cy="14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57200" y="5715000"/>
            <a:ext cx="8379000" cy="1139760"/>
          </a:xfrm>
          <a:prstGeom prst="roundRect">
            <a:avLst>
              <a:gd name="adj" fmla="val 1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5909040"/>
            <a:ext cx="88362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Las </a:t>
            </a: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clases son autónomas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… pueden vivir por si sola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4" name="" descr=""/>
          <p:cNvPicPr/>
          <p:nvPr/>
        </p:nvPicPr>
        <p:blipFill>
          <a:blip r:embed="rId1"/>
          <a:stretch/>
        </p:blipFill>
        <p:spPr>
          <a:xfrm>
            <a:off x="6877080" y="0"/>
            <a:ext cx="2266920" cy="1417680"/>
          </a:xfrm>
          <a:prstGeom prst="rect">
            <a:avLst/>
          </a:prstGeom>
          <a:ln w="0">
            <a:noFill/>
          </a:ln>
        </p:spPr>
      </p:pic>
      <p:sp>
        <p:nvSpPr>
          <p:cNvPr id="965" name=""/>
          <p:cNvSpPr/>
          <p:nvPr/>
        </p:nvSpPr>
        <p:spPr>
          <a:xfrm>
            <a:off x="179280" y="1397160"/>
            <a:ext cx="837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Ejemplo: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Sistema de Procesamiento de Fact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Modelos de Flujo de Datos (1)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440" y="1483920"/>
            <a:ext cx="8458200" cy="53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0000"/>
              </a:lnSpc>
              <a:spcBef>
                <a:spcPts val="1599"/>
              </a:spcBef>
              <a:spcAft>
                <a:spcPts val="1301"/>
              </a:spcAft>
              <a:buClr>
                <a:srgbClr val="ff0000"/>
              </a:buClr>
              <a:buSzPct val="163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</a:rPr>
              <a:t>Las entradas a </a:t>
            </a:r>
            <a:r>
              <a:rPr b="1" i="1" lang="en-US" sz="2600" spc="-1" strike="noStrike">
                <a:solidFill>
                  <a:srgbClr val="000066"/>
                </a:solidFill>
                <a:latin typeface="Tahoma"/>
              </a:rPr>
              <a:t>procesos de transformaciones funcionales</a:t>
            </a:r>
            <a:r>
              <a:rPr b="0" lang="en-US" sz="2600" spc="-1" strike="noStrike">
                <a:solidFill>
                  <a:srgbClr val="000066"/>
                </a:solidFill>
                <a:latin typeface="Tahoma"/>
              </a:rPr>
              <a:t> producen salidas.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1599"/>
              </a:spcBef>
              <a:spcAft>
                <a:spcPts val="1301"/>
              </a:spcAft>
              <a:buClr>
                <a:srgbClr val="ff0000"/>
              </a:buClr>
              <a:buSzPct val="163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</a:rPr>
              <a:t>Puede ser visto como un </a:t>
            </a:r>
            <a:r>
              <a:rPr b="1" i="1" lang="en-US" sz="2600" spc="-1" strike="noStrike">
                <a:solidFill>
                  <a:srgbClr val="000066"/>
                </a:solidFill>
                <a:latin typeface="Tahoma"/>
              </a:rPr>
              <a:t>sistema de tubos</a:t>
            </a:r>
            <a:r>
              <a:rPr b="0" lang="en-US" sz="2600" spc="-1" strike="noStrike">
                <a:solidFill>
                  <a:srgbClr val="000066"/>
                </a:solidFill>
                <a:latin typeface="Tahoma"/>
              </a:rPr>
              <a:t> (pipe) y </a:t>
            </a:r>
            <a:r>
              <a:rPr b="1" i="1" lang="en-US" sz="2600" spc="-1" strike="noStrike">
                <a:solidFill>
                  <a:srgbClr val="000066"/>
                </a:solidFill>
                <a:latin typeface="Tahoma"/>
              </a:rPr>
              <a:t>filtros</a:t>
            </a:r>
            <a:r>
              <a:rPr b="0" lang="en-US" sz="2600" spc="-1" strike="noStrike">
                <a:solidFill>
                  <a:srgbClr val="000066"/>
                </a:solidFill>
                <a:latin typeface="Tahoma"/>
              </a:rPr>
              <a:t> (como un shell de UNIX).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1599"/>
              </a:spcBef>
              <a:spcAft>
                <a:spcPts val="1301"/>
              </a:spcAft>
              <a:buClr>
                <a:srgbClr val="ff0000"/>
              </a:buClr>
              <a:buSzPct val="163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</a:rPr>
              <a:t>Las </a:t>
            </a:r>
            <a:r>
              <a:rPr b="1" i="1" lang="en-US" sz="2600" spc="-1" strike="noStrike">
                <a:solidFill>
                  <a:srgbClr val="000066"/>
                </a:solidFill>
                <a:latin typeface="Tahoma"/>
              </a:rPr>
              <a:t>variaciones</a:t>
            </a:r>
            <a:r>
              <a:rPr b="0" lang="en-US" sz="2600" spc="-1" strike="noStrike">
                <a:solidFill>
                  <a:srgbClr val="000066"/>
                </a:solidFill>
                <a:latin typeface="Tahoma"/>
              </a:rPr>
              <a:t> de este enfoque </a:t>
            </a:r>
            <a:r>
              <a:rPr b="1" i="1" lang="en-US" sz="2600" spc="-1" strike="noStrike">
                <a:solidFill>
                  <a:srgbClr val="000066"/>
                </a:solidFill>
                <a:latin typeface="Tahoma"/>
              </a:rPr>
              <a:t>son muy comunes</a:t>
            </a:r>
            <a:r>
              <a:rPr b="0" lang="en-US" sz="2600" spc="-1" strike="noStrike">
                <a:solidFill>
                  <a:srgbClr val="000066"/>
                </a:solidFill>
                <a:latin typeface="Tahoma"/>
              </a:rPr>
              <a:t>. Cuando las transformaciones son secuenciales nos encontramos con un modelo batch secuencial, el cual es muy utilizado en sistemas de procesamiento de datos.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1599"/>
              </a:spcBef>
              <a:spcAft>
                <a:spcPts val="1301"/>
              </a:spcAft>
              <a:buClr>
                <a:srgbClr val="ff0000"/>
              </a:buClr>
              <a:buSzPct val="163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</a:rPr>
              <a:t>Este modelo </a:t>
            </a:r>
            <a:r>
              <a:rPr b="1" i="1" lang="en-US" sz="2600" spc="-1" strike="noStrike">
                <a:solidFill>
                  <a:srgbClr val="000066"/>
                </a:solidFill>
                <a:latin typeface="Tahoma"/>
              </a:rPr>
              <a:t>no es</a:t>
            </a:r>
            <a:r>
              <a:rPr b="0" lang="en-US" sz="2600" spc="-1" strike="noStrike">
                <a:solidFill>
                  <a:srgbClr val="000066"/>
                </a:solidFill>
                <a:latin typeface="Tahoma"/>
              </a:rPr>
              <a:t> realmente </a:t>
            </a:r>
            <a:r>
              <a:rPr b="1" i="1" lang="en-US" sz="2600" spc="-1" strike="noStrike">
                <a:solidFill>
                  <a:srgbClr val="000066"/>
                </a:solidFill>
                <a:latin typeface="Tahoma"/>
              </a:rPr>
              <a:t>conveniente</a:t>
            </a:r>
            <a:r>
              <a:rPr b="0" lang="en-US" sz="2600" spc="-1" strike="noStrike">
                <a:solidFill>
                  <a:srgbClr val="000066"/>
                </a:solidFill>
                <a:latin typeface="Tahoma"/>
              </a:rPr>
              <a:t> para </a:t>
            </a:r>
            <a:r>
              <a:rPr b="1" i="1" lang="en-US" sz="2600" spc="-1" strike="noStrike">
                <a:solidFill>
                  <a:srgbClr val="000066"/>
                </a:solidFill>
                <a:latin typeface="Tahoma"/>
              </a:rPr>
              <a:t>sistemas interactivos</a:t>
            </a:r>
            <a:r>
              <a:rPr b="0" lang="en-US" sz="26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970" name="" descr=""/>
          <p:cNvPicPr/>
          <p:nvPr/>
        </p:nvPicPr>
        <p:blipFill>
          <a:blip r:embed="rId1"/>
          <a:stretch/>
        </p:blipFill>
        <p:spPr>
          <a:xfrm>
            <a:off x="7250040" y="0"/>
            <a:ext cx="1893960" cy="15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055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Modelos de Flujo de Datos (2)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72" name=""/>
          <p:cNvSpPr/>
          <p:nvPr/>
        </p:nvSpPr>
        <p:spPr>
          <a:xfrm>
            <a:off x="387360" y="3130560"/>
            <a:ext cx="1739880" cy="825480"/>
          </a:xfrm>
          <a:prstGeom prst="ellipse">
            <a:avLst/>
          </a:prstGeom>
          <a:gradFill rotWithShape="0">
            <a:gsLst>
              <a:gs pos="0">
                <a:srgbClr val="a50021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78600" y="3300480"/>
            <a:ext cx="1337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Leer Factur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Emit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673360" y="3130560"/>
            <a:ext cx="1739880" cy="825480"/>
          </a:xfrm>
          <a:prstGeom prst="ellipse">
            <a:avLst/>
          </a:prstGeom>
          <a:gradFill rotWithShape="0">
            <a:gsLst>
              <a:gs pos="0">
                <a:srgbClr val="a50021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108960" y="3300480"/>
            <a:ext cx="960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dentific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ag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807080" y="1987560"/>
            <a:ext cx="1739880" cy="825480"/>
          </a:xfrm>
          <a:prstGeom prst="ellipse">
            <a:avLst/>
          </a:prstGeom>
          <a:gradFill rotWithShape="0">
            <a:gsLst>
              <a:gs pos="0">
                <a:srgbClr val="a50021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181120" y="2157480"/>
            <a:ext cx="82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Emit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Recib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883040" y="4121280"/>
            <a:ext cx="1739880" cy="825480"/>
          </a:xfrm>
          <a:prstGeom prst="ellipse">
            <a:avLst/>
          </a:prstGeom>
          <a:gradFill rotWithShape="0">
            <a:gsLst>
              <a:gs pos="0">
                <a:srgbClr val="a50021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071680" y="4289400"/>
            <a:ext cx="1515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Encontrar Pag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Retras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7169040" y="3618000"/>
            <a:ext cx="1739880" cy="825480"/>
          </a:xfrm>
          <a:prstGeom prst="ellipse">
            <a:avLst/>
          </a:prstGeom>
          <a:gradFill rotWithShape="0">
            <a:gsLst>
              <a:gs pos="0">
                <a:srgbClr val="a50021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689880" y="5432400"/>
            <a:ext cx="183960" cy="304920"/>
          </a:xfrm>
          <a:custGeom>
            <a:avLst/>
            <a:gdLst>
              <a:gd name="textAreaLeft" fmla="*/ 360 w 183960"/>
              <a:gd name="textAreaRight" fmla="*/ 183600 w 183960"/>
              <a:gd name="textAreaTop" fmla="*/ 360 h 304920"/>
              <a:gd name="textAreaBottom" fmla="*/ 304560 h 304920"/>
            </a:gdLst>
            <a:ahLst/>
            <a:rect l="textAreaLeft" t="textAreaTop" r="textAreaRight" b="textAreaBottom"/>
            <a:pathLst>
              <a:path w="21600" h="35775">
                <a:moveTo>
                  <a:pt x="186" y="0"/>
                </a:moveTo>
                <a:arcTo wR="186" hR="186" stAng="16200000" swAng="-5400000"/>
                <a:lnTo>
                  <a:pt x="0" y="35589"/>
                </a:lnTo>
                <a:arcTo wR="186" hR="186" stAng="10800000" swAng="-5400000"/>
                <a:lnTo>
                  <a:pt x="21414" y="35775"/>
                </a:lnTo>
                <a:arcTo wR="186" hR="186" stAng="5400000" swAng="-5400000"/>
                <a:lnTo>
                  <a:pt x="21600" y="186"/>
                </a:lnTo>
                <a:arcTo wR="186" hR="18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388280" y="3708360"/>
            <a:ext cx="145440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Emit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Recordatorio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381800" y="4992840"/>
            <a:ext cx="1511280" cy="596880"/>
          </a:xfrm>
          <a:prstGeom prst="roundRect">
            <a:avLst>
              <a:gd name="adj" fmla="val 264"/>
            </a:avLst>
          </a:prstGeom>
          <a:gradFill rotWithShape="0">
            <a:gsLst>
              <a:gs pos="0">
                <a:srgbClr val="0033cc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457040" y="5151600"/>
            <a:ext cx="12960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Recordato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63680" y="5035680"/>
            <a:ext cx="1511280" cy="596880"/>
          </a:xfrm>
          <a:prstGeom prst="roundRect">
            <a:avLst>
              <a:gd name="adj" fmla="val 264"/>
            </a:avLst>
          </a:prstGeom>
          <a:gradFill rotWithShape="0">
            <a:gsLst>
              <a:gs pos="0">
                <a:srgbClr val="0033cc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978280" y="5035680"/>
            <a:ext cx="1511280" cy="596880"/>
          </a:xfrm>
          <a:prstGeom prst="roundRect">
            <a:avLst>
              <a:gd name="adj" fmla="val 264"/>
            </a:avLst>
          </a:prstGeom>
          <a:gradFill rotWithShape="0">
            <a:gsLst>
              <a:gs pos="0">
                <a:srgbClr val="0033cc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411360" y="5203800"/>
            <a:ext cx="6908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ag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43040" y="5203800"/>
            <a:ext cx="8798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actu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245360" y="2063880"/>
            <a:ext cx="1511280" cy="596880"/>
          </a:xfrm>
          <a:prstGeom prst="roundRect">
            <a:avLst>
              <a:gd name="adj" fmla="val 264"/>
            </a:avLst>
          </a:prstGeom>
          <a:gradFill rotWithShape="0">
            <a:gsLst>
              <a:gs pos="0">
                <a:srgbClr val="0033cc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678080" y="2232000"/>
            <a:ext cx="8298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Recib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133720" y="3581280"/>
            <a:ext cx="533160" cy="180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1143000" y="3957480"/>
            <a:ext cx="1440" cy="107640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3657600" y="3957480"/>
            <a:ext cx="1440" cy="107640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4191120" y="2662200"/>
            <a:ext cx="761760" cy="61920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191120" y="3814920"/>
            <a:ext cx="1066680" cy="38088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516720" y="2349360"/>
            <a:ext cx="722160" cy="1440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6461280" y="4054320"/>
            <a:ext cx="722160" cy="26208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8086680" y="4505400"/>
            <a:ext cx="14400" cy="50796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5754600" y="4955760"/>
            <a:ext cx="19080" cy="47628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5753160" y="2782440"/>
            <a:ext cx="28440" cy="132732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254560" y="5398920"/>
            <a:ext cx="1622520" cy="576360"/>
          </a:xfrm>
          <a:prstGeom prst="roundRect">
            <a:avLst>
              <a:gd name="adj" fmla="val 264"/>
            </a:avLst>
          </a:prstGeom>
          <a:gradFill rotWithShape="0">
            <a:gsLst>
              <a:gs pos="0">
                <a:srgbClr val="fefefe"/>
              </a:gs>
              <a:gs pos="100000">
                <a:srgbClr val="0033cc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agos Retras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2" name="" descr=""/>
          <p:cNvPicPr/>
          <p:nvPr/>
        </p:nvPicPr>
        <p:blipFill>
          <a:blip r:embed="rId1"/>
          <a:stretch/>
        </p:blipFill>
        <p:spPr>
          <a:xfrm>
            <a:off x="7451640" y="0"/>
            <a:ext cx="1692360" cy="1344600"/>
          </a:xfrm>
          <a:prstGeom prst="rect">
            <a:avLst/>
          </a:prstGeom>
          <a:ln w="0">
            <a:noFill/>
          </a:ln>
        </p:spPr>
      </p:pic>
      <p:sp>
        <p:nvSpPr>
          <p:cNvPr id="1003" name=""/>
          <p:cNvSpPr/>
          <p:nvPr/>
        </p:nvSpPr>
        <p:spPr>
          <a:xfrm>
            <a:off x="1187280" y="2349360"/>
            <a:ext cx="0" cy="79236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031760" y="2205000"/>
            <a:ext cx="287280" cy="287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6360" y="6025320"/>
            <a:ext cx="91440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66"/>
                </a:solidFill>
                <a:latin typeface="Tahoma"/>
              </a:rPr>
              <a:t>Los </a:t>
            </a:r>
            <a:r>
              <a:rPr b="0" lang="en-GB" sz="2700" spc="-1" strike="noStrike">
                <a:solidFill>
                  <a:srgbClr val="a50021"/>
                </a:solidFill>
                <a:latin typeface="Tahoma"/>
              </a:rPr>
              <a:t>procesos NO son autónomos</a:t>
            </a:r>
            <a:r>
              <a:rPr b="0" lang="en-GB" sz="2700" spc="-1" strike="noStrike">
                <a:solidFill>
                  <a:srgbClr val="000066"/>
                </a:solidFill>
                <a:latin typeface="Tahoma"/>
              </a:rPr>
              <a:t>… no viven por si solos…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79280" y="1254240"/>
            <a:ext cx="837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Ejemplo: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 Sistema de Procesamiento de Fact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88640" y="333000"/>
            <a:ext cx="776772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Modelos de Flujo de Datos (3)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34560" y="2703240"/>
            <a:ext cx="3025800" cy="411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1599"/>
              </a:spcBef>
              <a:spcAft>
                <a:spcPts val="1400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ara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sistemas Web,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es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bastante más fácil trabajar con DFD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para realizar la descomposición modular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1"/>
          <a:stretch/>
        </p:blipFill>
        <p:spPr>
          <a:xfrm>
            <a:off x="7250040" y="0"/>
            <a:ext cx="1893960" cy="1504800"/>
          </a:xfrm>
          <a:prstGeom prst="rect">
            <a:avLst/>
          </a:prstGeom>
          <a:ln w="0">
            <a:noFill/>
          </a:ln>
        </p:spPr>
      </p:pic>
      <p:sp>
        <p:nvSpPr>
          <p:cNvPr id="1012" name="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3" name=""/>
          <p:cNvGraphicFramePr/>
          <p:nvPr/>
        </p:nvGraphicFramePr>
        <p:xfrm>
          <a:off x="3203640" y="1814400"/>
          <a:ext cx="5689440" cy="478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1814400"/>
                    <a:ext cx="5689440" cy="47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24000" y="14400"/>
            <a:ext cx="776736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Modelos de Flujo de Datos (4)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09440" y="980640"/>
            <a:ext cx="712656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1599"/>
              </a:spcBef>
              <a:spcAft>
                <a:spcPts val="1199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s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más fácil separar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a funcionalidad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n capa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19" name="" descr=""/>
          <p:cNvPicPr/>
          <p:nvPr/>
        </p:nvPicPr>
        <p:blipFill>
          <a:blip r:embed="rId1"/>
          <a:stretch/>
        </p:blipFill>
        <p:spPr>
          <a:xfrm>
            <a:off x="7250040" y="0"/>
            <a:ext cx="1893960" cy="1504800"/>
          </a:xfrm>
          <a:prstGeom prst="rect">
            <a:avLst/>
          </a:prstGeom>
          <a:ln w="0">
            <a:noFill/>
          </a:ln>
        </p:spPr>
      </p:pic>
      <p:sp>
        <p:nvSpPr>
          <p:cNvPr id="1020" name="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1" name=""/>
          <p:cNvGraphicFramePr/>
          <p:nvPr/>
        </p:nvGraphicFramePr>
        <p:xfrm>
          <a:off x="1619280" y="1484280"/>
          <a:ext cx="7345440" cy="530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1484280"/>
                    <a:ext cx="7345440" cy="53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480" y="5454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a50021"/>
                </a:solidFill>
                <a:latin typeface="Tahoma"/>
                <a:ea typeface="Arial"/>
              </a:rPr>
              <a:t>Arquitecturas de Dominio Específico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024" name="" descr=""/>
          <p:cNvPicPr/>
          <p:nvPr/>
        </p:nvPicPr>
        <p:blipFill>
          <a:blip r:embed="rId1"/>
          <a:stretch/>
        </p:blipFill>
        <p:spPr>
          <a:xfrm>
            <a:off x="5176800" y="333360"/>
            <a:ext cx="3282840" cy="5183280"/>
          </a:xfrm>
          <a:prstGeom prst="rect">
            <a:avLst/>
          </a:prstGeom>
          <a:ln w="0">
            <a:noFill/>
          </a:ln>
        </p:spPr>
      </p:pic>
      <p:pic>
        <p:nvPicPr>
          <p:cNvPr id="1025" name="" descr=""/>
          <p:cNvPicPr/>
          <p:nvPr/>
        </p:nvPicPr>
        <p:blipFill>
          <a:blip r:embed="rId2"/>
          <a:stretch/>
        </p:blipFill>
        <p:spPr>
          <a:xfrm>
            <a:off x="611280" y="324000"/>
            <a:ext cx="371952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Arquitecturas de Dominio Específico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54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spcBef>
                <a:spcPts val="1587"/>
              </a:spcBef>
              <a:buClr>
                <a:srgbClr val="ff0000"/>
              </a:buClr>
              <a:buSzPct val="163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ahoma"/>
              </a:rPr>
              <a:t>Son </a:t>
            </a:r>
            <a:r>
              <a:rPr b="0" lang="en-GB" sz="2200" spc="-1" strike="noStrike">
                <a:solidFill>
                  <a:srgbClr val="cc3300"/>
                </a:solidFill>
                <a:latin typeface="Tahoma"/>
              </a:rPr>
              <a:t>modelos de arquitectura</a:t>
            </a:r>
            <a:r>
              <a:rPr b="0" lang="en-GB" sz="2200" spc="-1" strike="noStrike">
                <a:solidFill>
                  <a:srgbClr val="000066"/>
                </a:solidFill>
                <a:latin typeface="Tahoma"/>
              </a:rPr>
              <a:t> los cuales son </a:t>
            </a:r>
            <a:r>
              <a:rPr b="0" lang="en-GB" sz="2200" spc="-1" strike="noStrike">
                <a:solidFill>
                  <a:srgbClr val="cc3300"/>
                </a:solidFill>
                <a:latin typeface="Tahoma"/>
              </a:rPr>
              <a:t>específicos </a:t>
            </a:r>
            <a:r>
              <a:rPr b="0" lang="en-GB" sz="2200" spc="-1" strike="noStrike">
                <a:solidFill>
                  <a:srgbClr val="000066"/>
                </a:solidFill>
                <a:latin typeface="Tahoma"/>
              </a:rPr>
              <a:t>para algún </a:t>
            </a:r>
            <a:r>
              <a:rPr b="0" lang="en-GB" sz="2200" spc="-1" strike="noStrike">
                <a:solidFill>
                  <a:srgbClr val="cc3300"/>
                </a:solidFill>
                <a:latin typeface="Tahoma"/>
              </a:rPr>
              <a:t>dominio de aplicación</a:t>
            </a:r>
            <a:r>
              <a:rPr b="0" lang="en-GB" sz="22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spcBef>
                <a:spcPts val="1587"/>
              </a:spcBef>
              <a:buClr>
                <a:srgbClr val="ff0000"/>
              </a:buClr>
              <a:buSzPct val="163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Tahoma"/>
              </a:rPr>
              <a:t>Dos tipos de modelos</a:t>
            </a:r>
            <a:r>
              <a:rPr b="0" lang="en-GB" sz="2200" spc="-1" strike="noStrike">
                <a:solidFill>
                  <a:srgbClr val="000066"/>
                </a:solidFill>
                <a:latin typeface="Tahoma"/>
              </a:rPr>
              <a:t> de dominio específico son: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38360" indent="-281160">
              <a:spcBef>
                <a:spcPts val="1162"/>
              </a:spcBef>
              <a:buClr>
                <a:srgbClr val="ff0000"/>
              </a:buClr>
              <a:buSzPct val="172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cc3300"/>
                </a:solidFill>
                <a:latin typeface="Tahoma"/>
              </a:rPr>
              <a:t>Modelos Genéricos.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Estos son abstracciones de un número de sistemas reales y que encapsulan las características principales de estos sistem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8360" indent="-281160">
              <a:spcBef>
                <a:spcPts val="1162"/>
              </a:spcBef>
              <a:buClr>
                <a:srgbClr val="ff0000"/>
              </a:buClr>
              <a:buSzPct val="172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cc3300"/>
                </a:solidFill>
                <a:latin typeface="Tahoma"/>
              </a:rPr>
              <a:t>Modelos de Referencia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.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Estos son más abstractos, son modelos idealistas. Proporcionan un significado de información con respecto a sistemas de clases y comparación de diversas arquitectur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spcBef>
                <a:spcPts val="1587"/>
              </a:spcBef>
              <a:buClr>
                <a:srgbClr val="ff0000"/>
              </a:buClr>
              <a:buSzPct val="163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ahoma"/>
              </a:rPr>
              <a:t>Los modelos </a:t>
            </a:r>
            <a:r>
              <a:rPr b="0" lang="en-GB" sz="2200" spc="-1" strike="noStrike">
                <a:solidFill>
                  <a:srgbClr val="cc3300"/>
                </a:solidFill>
                <a:latin typeface="Tahoma"/>
              </a:rPr>
              <a:t>genéricos</a:t>
            </a:r>
            <a:r>
              <a:rPr b="0" lang="en-GB" sz="2200" spc="-1" strike="noStrike">
                <a:solidFill>
                  <a:srgbClr val="000066"/>
                </a:solidFill>
                <a:latin typeface="Tahoma"/>
              </a:rPr>
              <a:t> usualmente surgen de manera </a:t>
            </a:r>
            <a:r>
              <a:rPr b="0" lang="en-GB" sz="2200" spc="-1" strike="noStrike">
                <a:solidFill>
                  <a:srgbClr val="cc3300"/>
                </a:solidFill>
                <a:latin typeface="Tahoma"/>
              </a:rPr>
              <a:t>bottom-up</a:t>
            </a:r>
            <a:r>
              <a:rPr b="0" lang="en-GB" sz="2200" spc="-1" strike="noStrike">
                <a:solidFill>
                  <a:srgbClr val="000066"/>
                </a:solidFill>
                <a:latin typeface="Tahoma"/>
              </a:rPr>
              <a:t>… surgen de la práctic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spcBef>
                <a:spcPts val="1587"/>
              </a:spcBef>
              <a:buClr>
                <a:srgbClr val="ff0000"/>
              </a:buClr>
              <a:buSzPct val="163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ahoma"/>
              </a:rPr>
              <a:t>Los </a:t>
            </a:r>
            <a:r>
              <a:rPr b="0" lang="en-GB" sz="2200" spc="-1" strike="noStrike">
                <a:solidFill>
                  <a:srgbClr val="cc3300"/>
                </a:solidFill>
                <a:latin typeface="Tahoma"/>
              </a:rPr>
              <a:t>modelos de referencia</a:t>
            </a:r>
            <a:r>
              <a:rPr b="0" lang="en-GB" sz="2200" spc="-1" strike="noStrike">
                <a:solidFill>
                  <a:srgbClr val="000066"/>
                </a:solidFill>
                <a:latin typeface="Tahoma"/>
              </a:rPr>
              <a:t> son modelos </a:t>
            </a:r>
            <a:r>
              <a:rPr b="0" lang="en-GB" sz="2200" spc="-1" strike="noStrike">
                <a:solidFill>
                  <a:srgbClr val="cc3300"/>
                </a:solidFill>
                <a:latin typeface="Tahoma"/>
              </a:rPr>
              <a:t>top-down </a:t>
            </a:r>
            <a:r>
              <a:rPr b="0" lang="en-GB" sz="2200" spc="-1" strike="noStrike">
                <a:solidFill>
                  <a:srgbClr val="000066"/>
                </a:solidFill>
                <a:latin typeface="Tahoma"/>
              </a:rPr>
              <a:t>… surgen de estudios teóricos muy profund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Modelos Genéricos (1)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762120" y="981000"/>
            <a:ext cx="8076960" cy="564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lnSpc>
                <a:spcPct val="95000"/>
              </a:lnSpc>
              <a:spcBef>
                <a:spcPts val="1950"/>
              </a:spcBef>
              <a:spcAft>
                <a:spcPts val="1199"/>
              </a:spcAft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Un modelo de </a:t>
            </a:r>
            <a:r>
              <a:rPr b="1" i="1" lang="en-GB" sz="2400" spc="-1" strike="noStrike">
                <a:solidFill>
                  <a:srgbClr val="000066"/>
                </a:solidFill>
                <a:latin typeface="Tahoma"/>
              </a:rPr>
              <a:t>Compilador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es un ejemplo conocido a través de otros modelos que existen en dominios de aplicaciones especializad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0800" indent="-278280">
              <a:lnSpc>
                <a:spcPct val="95000"/>
              </a:lnSpc>
              <a:spcBef>
                <a:spcPts val="1624"/>
              </a:spcBef>
              <a:spcAft>
                <a:spcPts val="1001"/>
              </a:spcAft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Analizador Léxic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0800" indent="-278280">
              <a:lnSpc>
                <a:spcPct val="95000"/>
              </a:lnSpc>
              <a:spcBef>
                <a:spcPts val="1624"/>
              </a:spcBef>
              <a:spcAft>
                <a:spcPts val="1001"/>
              </a:spcAft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Tabla de Símbolo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0800" indent="-278280">
              <a:lnSpc>
                <a:spcPct val="95000"/>
              </a:lnSpc>
              <a:spcBef>
                <a:spcPts val="1624"/>
              </a:spcBef>
              <a:spcAft>
                <a:spcPts val="1001"/>
              </a:spcAft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Analizador de Sintáxi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0800" indent="-278280">
              <a:lnSpc>
                <a:spcPct val="95000"/>
              </a:lnSpc>
              <a:spcBef>
                <a:spcPts val="1624"/>
              </a:spcBef>
              <a:spcAft>
                <a:spcPts val="1001"/>
              </a:spcAft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Analizador Semántic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0800" indent="-278280">
              <a:lnSpc>
                <a:spcPct val="95000"/>
              </a:lnSpc>
              <a:spcBef>
                <a:spcPts val="1624"/>
              </a:spcBef>
              <a:spcAft>
                <a:spcPts val="1001"/>
              </a:spcAft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Generador/Optimizador de Códig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4440" indent="-334440">
              <a:lnSpc>
                <a:spcPct val="95000"/>
              </a:lnSpc>
              <a:spcBef>
                <a:spcPts val="1950"/>
              </a:spcBef>
              <a:spcAft>
                <a:spcPts val="1199"/>
              </a:spcAft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Un modelo de compilador genérico puede ser organizado de acuerdo a diversos modelos de arquitectur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33" name="" descr=""/>
          <p:cNvPicPr/>
          <p:nvPr/>
        </p:nvPicPr>
        <p:blipFill>
          <a:blip r:embed="rId1"/>
          <a:stretch/>
        </p:blipFill>
        <p:spPr>
          <a:xfrm>
            <a:off x="5580000" y="1844640"/>
            <a:ext cx="307188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Modelos Genéricos (2)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37" name=""/>
          <p:cNvSpPr/>
          <p:nvPr/>
        </p:nvSpPr>
        <p:spPr>
          <a:xfrm>
            <a:off x="3740040" y="1835280"/>
            <a:ext cx="1587600" cy="749160"/>
          </a:xfrm>
          <a:prstGeom prst="roundRect">
            <a:avLst>
              <a:gd name="adj" fmla="val 208"/>
            </a:avLst>
          </a:prstGeom>
          <a:gradFill rotWithShape="0">
            <a:gsLst>
              <a:gs pos="0">
                <a:srgbClr val="0033cc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023000" y="1881360"/>
            <a:ext cx="11361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abla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ímbo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11040" y="4425840"/>
            <a:ext cx="1663920" cy="1054080"/>
          </a:xfrm>
          <a:prstGeom prst="ellipse">
            <a:avLst/>
          </a:prstGeom>
          <a:gradFill rotWithShape="0">
            <a:gsLst>
              <a:gs pos="0">
                <a:srgbClr val="a50021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597040" y="4425840"/>
            <a:ext cx="1663920" cy="1054080"/>
          </a:xfrm>
          <a:prstGeom prst="ellipse">
            <a:avLst/>
          </a:prstGeom>
          <a:gradFill rotWithShape="0">
            <a:gsLst>
              <a:gs pos="0">
                <a:srgbClr val="a50021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730760" y="4425840"/>
            <a:ext cx="1663560" cy="1054080"/>
          </a:xfrm>
          <a:prstGeom prst="ellipse">
            <a:avLst/>
          </a:prstGeom>
          <a:gradFill rotWithShape="0">
            <a:gsLst>
              <a:gs pos="0">
                <a:srgbClr val="a50021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940440" y="4425840"/>
            <a:ext cx="1663920" cy="1054080"/>
          </a:xfrm>
          <a:prstGeom prst="ellipse">
            <a:avLst/>
          </a:prstGeom>
          <a:gradFill rotWithShape="0">
            <a:gsLst>
              <a:gs pos="0">
                <a:srgbClr val="a50021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71040" y="4700520"/>
            <a:ext cx="12610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n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éx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804760" y="4624560"/>
            <a:ext cx="12610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n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ntác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861440" y="4624560"/>
            <a:ext cx="12625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n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mán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224120" y="4700520"/>
            <a:ext cx="13629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Gen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 Códi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3347640" y="2514600"/>
            <a:ext cx="847800" cy="1905120"/>
          </a:xfrm>
          <a:prstGeom prst="line">
            <a:avLst/>
          </a:prstGeom>
          <a:ln w="507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876920" y="2590920"/>
            <a:ext cx="685800" cy="1828800"/>
          </a:xfrm>
          <a:prstGeom prst="line">
            <a:avLst/>
          </a:prstGeom>
          <a:ln w="507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981080" y="4952880"/>
            <a:ext cx="533520" cy="180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267080" y="4952880"/>
            <a:ext cx="457200" cy="180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477120" y="4952880"/>
            <a:ext cx="457200" cy="180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334120" y="2133720"/>
            <a:ext cx="2361960" cy="1440"/>
          </a:xfrm>
          <a:prstGeom prst="line">
            <a:avLst/>
          </a:prstGeom>
          <a:ln w="507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696080" y="2133720"/>
            <a:ext cx="1800" cy="228600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V="1">
            <a:off x="1066680" y="2204640"/>
            <a:ext cx="1800" cy="2219400"/>
          </a:xfrm>
          <a:prstGeom prst="line">
            <a:avLst/>
          </a:prstGeom>
          <a:ln w="507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066680" y="2209680"/>
            <a:ext cx="2667240" cy="180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914400" y="5486400"/>
            <a:ext cx="7767720" cy="1138320"/>
            <a:chOff x="914400" y="5486400"/>
            <a:chExt cx="7767720" cy="1138320"/>
          </a:xfrm>
        </p:grpSpPr>
        <p:sp>
          <p:nvSpPr>
            <p:cNvPr id="1057" name=""/>
            <p:cNvSpPr/>
            <p:nvPr/>
          </p:nvSpPr>
          <p:spPr>
            <a:xfrm>
              <a:off x="914400" y="5486400"/>
              <a:ext cx="7767720" cy="1138320"/>
            </a:xfrm>
            <a:prstGeom prst="roundRect">
              <a:avLst>
                <a:gd name="adj" fmla="val 1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914400" y="6227280"/>
              <a:ext cx="776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Tahoma"/>
                </a:rPr>
                <a:t>Ejemplo: Modelo de un Compil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198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Depósito o Repositorio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765000"/>
            <a:ext cx="46083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Modelos Genéricos (3)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62" name=""/>
          <p:cNvSpPr/>
          <p:nvPr/>
        </p:nvSpPr>
        <p:spPr>
          <a:xfrm>
            <a:off x="2444760" y="3587760"/>
            <a:ext cx="4330800" cy="2654280"/>
          </a:xfrm>
          <a:prstGeom prst="roundRect">
            <a:avLst>
              <a:gd name="adj" fmla="val 56"/>
            </a:avLst>
          </a:prstGeom>
          <a:gradFill rotWithShape="0">
            <a:gsLst>
              <a:gs pos="0">
                <a:srgbClr val="0033cc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024080" y="5889600"/>
            <a:ext cx="13370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Reposi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749680" y="3968640"/>
            <a:ext cx="1511280" cy="596880"/>
          </a:xfrm>
          <a:prstGeom prst="roundRect">
            <a:avLst>
              <a:gd name="adj" fmla="val 264"/>
            </a:avLst>
          </a:prstGeom>
          <a:solidFill>
            <a:srgbClr val="0033cc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798640" y="3984480"/>
            <a:ext cx="1526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rbol de Sintax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bstra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883040" y="3968640"/>
            <a:ext cx="1511280" cy="596880"/>
          </a:xfrm>
          <a:prstGeom prst="roundRect">
            <a:avLst>
              <a:gd name="adj" fmla="val 264"/>
            </a:avLst>
          </a:prstGeom>
          <a:solidFill>
            <a:srgbClr val="0033cc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932720" y="3984480"/>
            <a:ext cx="1405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Definición de 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Gramá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749680" y="5111640"/>
            <a:ext cx="1511280" cy="596880"/>
          </a:xfrm>
          <a:prstGeom prst="roundRect">
            <a:avLst>
              <a:gd name="adj" fmla="val 264"/>
            </a:avLst>
          </a:prstGeom>
          <a:solidFill>
            <a:srgbClr val="0033cc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874600" y="5127480"/>
            <a:ext cx="1180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Tabla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Símbo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883040" y="5111640"/>
            <a:ext cx="1511280" cy="596880"/>
          </a:xfrm>
          <a:prstGeom prst="roundRect">
            <a:avLst>
              <a:gd name="adj" fmla="val 264"/>
            </a:avLst>
          </a:prstGeom>
          <a:solidFill>
            <a:srgbClr val="0033cc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009040" y="5203800"/>
            <a:ext cx="1405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Definición de 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Sal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473960" y="3892680"/>
            <a:ext cx="1359000" cy="672840"/>
          </a:xfrm>
          <a:prstGeom prst="ellipse">
            <a:avLst/>
          </a:prstGeom>
          <a:gradFill rotWithShape="0">
            <a:gsLst>
              <a:gs pos="0">
                <a:srgbClr val="a50021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551720" y="5340240"/>
            <a:ext cx="1359000" cy="673200"/>
          </a:xfrm>
          <a:prstGeom prst="ellipse">
            <a:avLst/>
          </a:prstGeom>
          <a:gradFill rotWithShape="0">
            <a:gsLst>
              <a:gs pos="0">
                <a:srgbClr val="a50021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601040" y="4092480"/>
            <a:ext cx="11466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Optimiz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675920" y="5464080"/>
            <a:ext cx="12852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Generado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ódi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781680" y="4267080"/>
            <a:ext cx="685800" cy="1800"/>
          </a:xfrm>
          <a:prstGeom prst="line">
            <a:avLst/>
          </a:prstGeom>
          <a:ln w="507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781680" y="5715000"/>
            <a:ext cx="762120" cy="1440"/>
          </a:xfrm>
          <a:prstGeom prst="line">
            <a:avLst/>
          </a:prstGeom>
          <a:ln w="507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82440" y="3968640"/>
            <a:ext cx="1359000" cy="673200"/>
          </a:xfrm>
          <a:prstGeom prst="ellipse">
            <a:avLst/>
          </a:prstGeom>
          <a:gradFill rotWithShape="0">
            <a:gsLst>
              <a:gs pos="0">
                <a:srgbClr val="a50021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61800" y="4168800"/>
            <a:ext cx="8892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mpre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58760" y="5416560"/>
            <a:ext cx="1359000" cy="673200"/>
          </a:xfrm>
          <a:prstGeom prst="ellipse">
            <a:avLst/>
          </a:prstGeom>
          <a:gradFill rotWithShape="0">
            <a:gsLst>
              <a:gs pos="0">
                <a:srgbClr val="a50021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91840" y="5616720"/>
            <a:ext cx="6512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Edi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447920" y="4343400"/>
            <a:ext cx="914400" cy="1440"/>
          </a:xfrm>
          <a:prstGeom prst="line">
            <a:avLst/>
          </a:prstGeom>
          <a:ln w="507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523880" y="5715000"/>
            <a:ext cx="914400" cy="1440"/>
          </a:xfrm>
          <a:prstGeom prst="line">
            <a:avLst/>
          </a:prstGeom>
          <a:ln w="507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682640" y="1606680"/>
            <a:ext cx="1359000" cy="672840"/>
          </a:xfrm>
          <a:prstGeom prst="ellipse">
            <a:avLst/>
          </a:prstGeom>
          <a:gradFill rotWithShape="0">
            <a:gsLst>
              <a:gs pos="0">
                <a:srgbClr val="a50021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740040" y="1606680"/>
            <a:ext cx="1359000" cy="672840"/>
          </a:xfrm>
          <a:prstGeom prst="ellipse">
            <a:avLst/>
          </a:prstGeom>
          <a:gradFill rotWithShape="0">
            <a:gsLst>
              <a:gs pos="0">
                <a:srgbClr val="a50021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797440" y="1606680"/>
            <a:ext cx="1359000" cy="672840"/>
          </a:xfrm>
          <a:prstGeom prst="ellipse">
            <a:avLst/>
          </a:prstGeom>
          <a:gradFill rotWithShape="0">
            <a:gsLst>
              <a:gs pos="0">
                <a:srgbClr val="a50021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1886400" y="1698480"/>
            <a:ext cx="1027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Analiz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Léx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789720" y="1698480"/>
            <a:ext cx="11786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Analiz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intác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001200" y="1698480"/>
            <a:ext cx="1027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Analiz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emán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362320" y="2286000"/>
            <a:ext cx="685800" cy="1295280"/>
          </a:xfrm>
          <a:prstGeom prst="line">
            <a:avLst/>
          </a:prstGeom>
          <a:ln w="507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419720" y="2286000"/>
            <a:ext cx="1440" cy="1295280"/>
          </a:xfrm>
          <a:prstGeom prst="line">
            <a:avLst/>
          </a:prstGeom>
          <a:ln w="507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V="1">
            <a:off x="5867280" y="2280960"/>
            <a:ext cx="533520" cy="1305000"/>
          </a:xfrm>
          <a:prstGeom prst="line">
            <a:avLst/>
          </a:prstGeom>
          <a:ln w="507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304920" y="5753160"/>
            <a:ext cx="8835840" cy="1101600"/>
            <a:chOff x="304920" y="5753160"/>
            <a:chExt cx="8835840" cy="1101600"/>
          </a:xfrm>
        </p:grpSpPr>
        <p:sp>
          <p:nvSpPr>
            <p:cNvPr id="1094" name=""/>
            <p:cNvSpPr/>
            <p:nvPr/>
          </p:nvSpPr>
          <p:spPr>
            <a:xfrm>
              <a:off x="304920" y="5753160"/>
              <a:ext cx="8835840" cy="1101600"/>
            </a:xfrm>
            <a:prstGeom prst="roundRect">
              <a:avLst>
                <a:gd name="adj" fmla="val 14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04920" y="6457320"/>
              <a:ext cx="8835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Arial"/>
                </a:rPr>
                <a:t>Ejemplo: Sistema de Procesamiento de un Lenguaj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440" y="55306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Arquitecturas de Referencia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097" name="" descr=""/>
          <p:cNvPicPr/>
          <p:nvPr/>
        </p:nvPicPr>
        <p:blipFill>
          <a:blip r:embed="rId1"/>
          <a:stretch/>
        </p:blipFill>
        <p:spPr>
          <a:xfrm>
            <a:off x="1568520" y="692280"/>
            <a:ext cx="6027840" cy="46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Arquitecturas de Referencia (1)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spcBef>
                <a:spcPts val="1712"/>
              </a:spcBef>
              <a:buClr>
                <a:srgbClr val="ff0000"/>
              </a:buClr>
              <a:buSzPct val="19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Los  modelos de referencias son </a:t>
            </a:r>
            <a:r>
              <a:rPr b="1" i="1" lang="en-GB" sz="2800" spc="-1" strike="noStrike">
                <a:solidFill>
                  <a:srgbClr val="000066"/>
                </a:solidFill>
                <a:latin typeface="Tahoma"/>
              </a:rPr>
              <a:t>derivados del estudio del dominio de una aplicación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, en lugar del estudio de sistemas existentes.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spcBef>
                <a:spcPts val="1712"/>
              </a:spcBef>
              <a:buClr>
                <a:srgbClr val="ff0000"/>
              </a:buClr>
              <a:buSzPct val="19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Pueden ser utilizados como una </a:t>
            </a:r>
            <a:r>
              <a:rPr b="1" i="1" lang="en-GB" sz="2800" spc="-1" strike="noStrike">
                <a:solidFill>
                  <a:srgbClr val="000066"/>
                </a:solidFill>
                <a:latin typeface="Tahoma"/>
              </a:rPr>
              <a:t>base para…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la implementación de un sistema o para comparar sistemas diversos.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spcBef>
                <a:spcPts val="1712"/>
              </a:spcBef>
              <a:buClr>
                <a:srgbClr val="ff0000"/>
              </a:buClr>
              <a:buSzPct val="19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66"/>
                </a:solidFill>
                <a:latin typeface="Tahoma"/>
              </a:rPr>
              <a:t>Actúan como un estándar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, contra el cual los sistemas que pueden ser evaluados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spcBef>
                <a:spcPts val="1712"/>
              </a:spcBef>
              <a:buClr>
                <a:srgbClr val="ff0000"/>
              </a:buClr>
              <a:buSzPct val="19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El </a:t>
            </a:r>
            <a:r>
              <a:rPr b="1" i="1" lang="en-GB" sz="2800" spc="-1" strike="noStrike">
                <a:solidFill>
                  <a:srgbClr val="000066"/>
                </a:solidFill>
                <a:latin typeface="Tahoma"/>
              </a:rPr>
              <a:t>modelo OSI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es un modelo en capas para sistemas de comunicación, y además, es un modelo de referencia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Arquitecturas de Referencia (2)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05" name=""/>
          <p:cNvSpPr/>
          <p:nvPr/>
        </p:nvSpPr>
        <p:spPr>
          <a:xfrm>
            <a:off x="136800" y="5127480"/>
            <a:ext cx="2995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1920" y="4441680"/>
            <a:ext cx="3193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36800" y="3908520"/>
            <a:ext cx="2995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1920" y="3451320"/>
            <a:ext cx="3193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1920" y="2841480"/>
            <a:ext cx="3193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36800" y="2232000"/>
            <a:ext cx="2995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36800" y="1622520"/>
            <a:ext cx="2995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63680" y="1530360"/>
            <a:ext cx="2117520" cy="3946680"/>
          </a:xfrm>
          <a:custGeom>
            <a:avLst/>
            <a:gdLst>
              <a:gd name="textAreaLeft" fmla="*/ 360 w 2117520"/>
              <a:gd name="textAreaRight" fmla="*/ 2117160 w 2117520"/>
              <a:gd name="textAreaTop" fmla="*/ 360 h 3946680"/>
              <a:gd name="textAreaBottom" fmla="*/ 3946320 h 3946680"/>
            </a:gdLst>
            <a:ahLst/>
            <a:rect l="textAreaLeft" t="textAreaTop" r="textAreaRight" b="textAreaBottom"/>
            <a:pathLst>
              <a:path w="21600" h="40255">
                <a:moveTo>
                  <a:pt x="16" y="0"/>
                </a:moveTo>
                <a:arcTo wR="16" hR="16" stAng="16200000" swAng="-5400000"/>
                <a:lnTo>
                  <a:pt x="0" y="40239"/>
                </a:lnTo>
                <a:arcTo wR="16" hR="16" stAng="10800000" swAng="-5400000"/>
                <a:lnTo>
                  <a:pt x="21584" y="40255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57200" y="2666880"/>
            <a:ext cx="2130480" cy="1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57200" y="3351240"/>
            <a:ext cx="2130480" cy="1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57200" y="3886200"/>
            <a:ext cx="2130480" cy="1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57200" y="4340160"/>
            <a:ext cx="2130480" cy="1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57200" y="4950000"/>
            <a:ext cx="2130480" cy="1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57200" y="2057400"/>
            <a:ext cx="2130480" cy="1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823320" y="2185920"/>
            <a:ext cx="15156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es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127520" y="2871720"/>
            <a:ext cx="881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974880" y="3405240"/>
            <a:ext cx="12884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822600" y="3938760"/>
            <a:ext cx="10598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12000" y="4468680"/>
            <a:ext cx="19224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Vínculo de 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203120" y="5078520"/>
            <a:ext cx="7945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102360" y="1538280"/>
            <a:ext cx="2117880" cy="3946680"/>
          </a:xfrm>
          <a:custGeom>
            <a:avLst/>
            <a:gdLst>
              <a:gd name="textAreaLeft" fmla="*/ 360 w 2117880"/>
              <a:gd name="textAreaRight" fmla="*/ 2117520 w 2117880"/>
              <a:gd name="textAreaTop" fmla="*/ 360 h 3946680"/>
              <a:gd name="textAreaBottom" fmla="*/ 3946320 h 3946680"/>
            </a:gdLst>
            <a:ahLst/>
            <a:rect l="textAreaLeft" t="textAreaTop" r="textAreaRight" b="textAreaBottom"/>
            <a:pathLst>
              <a:path w="21600" h="40249">
                <a:moveTo>
                  <a:pt x="16" y="0"/>
                </a:moveTo>
                <a:arcTo wR="16" hR="16" stAng="16200000" swAng="-5400000"/>
                <a:lnTo>
                  <a:pt x="0" y="40233"/>
                </a:lnTo>
                <a:arcTo wR="16" hR="16" stAng="10800000" swAng="-5400000"/>
                <a:lnTo>
                  <a:pt x="21584" y="40249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095880" y="2674800"/>
            <a:ext cx="2130480" cy="1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095880" y="3359160"/>
            <a:ext cx="2130480" cy="1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095880" y="3894120"/>
            <a:ext cx="2130480" cy="1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95880" y="4348080"/>
            <a:ext cx="2130480" cy="1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095880" y="4957920"/>
            <a:ext cx="2130480" cy="1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095880" y="2065320"/>
            <a:ext cx="2130480" cy="1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462000" y="2193840"/>
            <a:ext cx="15156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es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764760" y="2879640"/>
            <a:ext cx="881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613920" y="3413160"/>
            <a:ext cx="12884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461280" y="3946680"/>
            <a:ext cx="10598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266520" y="4476600"/>
            <a:ext cx="19224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Vínculo de 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841800" y="5086440"/>
            <a:ext cx="7945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614640" y="1728720"/>
            <a:ext cx="12229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pl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63680" y="5492880"/>
            <a:ext cx="7759440" cy="679320"/>
          </a:xfrm>
          <a:prstGeom prst="roundRect">
            <a:avLst>
              <a:gd name="adj" fmla="val 231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981880" y="5638680"/>
            <a:ext cx="26294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dio de Comun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435480" y="3587760"/>
            <a:ext cx="1815840" cy="1892160"/>
          </a:xfrm>
          <a:custGeom>
            <a:avLst/>
            <a:gdLst>
              <a:gd name="textAreaLeft" fmla="*/ 360 w 1815840"/>
              <a:gd name="textAreaRight" fmla="*/ 1815480 w 1815840"/>
              <a:gd name="textAreaTop" fmla="*/ 360 h 1892160"/>
              <a:gd name="textAreaBottom" fmla="*/ 1891800 h 1892160"/>
            </a:gdLst>
            <a:ahLst/>
            <a:rect l="textAreaLeft" t="textAreaTop" r="textAreaRight" b="textAreaBottom"/>
            <a:pathLst>
              <a:path w="21600" h="22508">
                <a:moveTo>
                  <a:pt x="18" y="0"/>
                </a:moveTo>
                <a:arcTo wR="18" hR="18" stAng="16200000" swAng="-5400000"/>
                <a:lnTo>
                  <a:pt x="0" y="22490"/>
                </a:lnTo>
                <a:arcTo wR="18" hR="18" stAng="10800000" swAng="-5400000"/>
                <a:lnTo>
                  <a:pt x="21582" y="22508"/>
                </a:lnTo>
                <a:arcTo wR="18" hR="18" stAng="5400000" swAng="-5400000"/>
                <a:lnTo>
                  <a:pt x="21600" y="18"/>
                </a:lnTo>
                <a:arcTo wR="18" hR="18" stAng="0" swAng="-5400000"/>
                <a:close/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429000" y="4191120"/>
            <a:ext cx="1828800" cy="1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429000" y="4800600"/>
            <a:ext cx="1828800" cy="1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023000" y="3710160"/>
            <a:ext cx="602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566520" y="4243320"/>
            <a:ext cx="15915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iga de 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946320" y="4929120"/>
            <a:ext cx="7945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899640" y="1652760"/>
            <a:ext cx="12229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pl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" name=""/>
          <p:cNvGrpSpPr/>
          <p:nvPr/>
        </p:nvGrpSpPr>
        <p:grpSpPr>
          <a:xfrm>
            <a:off x="838080" y="5715000"/>
            <a:ext cx="7767720" cy="1138320"/>
            <a:chOff x="838080" y="5715000"/>
            <a:chExt cx="7767720" cy="1138320"/>
          </a:xfrm>
        </p:grpSpPr>
        <p:sp>
          <p:nvSpPr>
            <p:cNvPr id="1149" name=""/>
            <p:cNvSpPr/>
            <p:nvPr/>
          </p:nvSpPr>
          <p:spPr>
            <a:xfrm>
              <a:off x="838080" y="5715000"/>
              <a:ext cx="7767720" cy="1138320"/>
            </a:xfrm>
            <a:prstGeom prst="roundRect">
              <a:avLst>
                <a:gd name="adj" fmla="val 1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38080" y="6455880"/>
              <a:ext cx="776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Tahoma"/>
                </a:rPr>
                <a:t>Ejemplo: Modelo de referencia OS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Arquitecturas de Referencia (2)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54" name=""/>
          <p:cNvSpPr/>
          <p:nvPr/>
        </p:nvSpPr>
        <p:spPr>
          <a:xfrm>
            <a:off x="1941120" y="5873760"/>
            <a:ext cx="2995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864440" y="5187960"/>
            <a:ext cx="3193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941120" y="4654440"/>
            <a:ext cx="2995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864440" y="4197240"/>
            <a:ext cx="3193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864440" y="3587760"/>
            <a:ext cx="3193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941120" y="2978280"/>
            <a:ext cx="2995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941120" y="2368440"/>
            <a:ext cx="2995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268360" y="2276640"/>
            <a:ext cx="2117880" cy="3946320"/>
          </a:xfrm>
          <a:custGeom>
            <a:avLst/>
            <a:gdLst>
              <a:gd name="textAreaLeft" fmla="*/ 360 w 2117880"/>
              <a:gd name="textAreaRight" fmla="*/ 2117520 w 2117880"/>
              <a:gd name="textAreaTop" fmla="*/ 360 h 3946320"/>
              <a:gd name="textAreaBottom" fmla="*/ 3945960 h 3946320"/>
            </a:gdLst>
            <a:ahLst/>
            <a:rect l="textAreaLeft" t="textAreaTop" r="textAreaRight" b="textAreaBottom"/>
            <a:pathLst>
              <a:path w="21600" h="40245">
                <a:moveTo>
                  <a:pt x="16" y="0"/>
                </a:moveTo>
                <a:arcTo wR="16" hR="16" stAng="16200000" swAng="-5400000"/>
                <a:lnTo>
                  <a:pt x="0" y="40229"/>
                </a:lnTo>
                <a:arcTo wR="16" hR="16" stAng="10800000" swAng="-5400000"/>
                <a:lnTo>
                  <a:pt x="21584" y="40245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262240" y="3413160"/>
            <a:ext cx="2130480" cy="1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262240" y="4097160"/>
            <a:ext cx="2130480" cy="1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262240" y="4632480"/>
            <a:ext cx="2130480" cy="1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262240" y="5086440"/>
            <a:ext cx="2130480" cy="1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262240" y="5695920"/>
            <a:ext cx="2130480" cy="1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262240" y="2803680"/>
            <a:ext cx="2130480" cy="1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628360" y="2932200"/>
            <a:ext cx="15156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es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932560" y="3618000"/>
            <a:ext cx="881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779920" y="4151160"/>
            <a:ext cx="12884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627640" y="4684680"/>
            <a:ext cx="10598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417040" y="5214960"/>
            <a:ext cx="19224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Vínculo de 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007800" y="5824440"/>
            <a:ext cx="7945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704680" y="2398680"/>
            <a:ext cx="12229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pl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838080" y="5715000"/>
            <a:ext cx="7767720" cy="1138320"/>
            <a:chOff x="838080" y="5715000"/>
            <a:chExt cx="7767720" cy="1138320"/>
          </a:xfrm>
        </p:grpSpPr>
        <p:sp>
          <p:nvSpPr>
            <p:cNvPr id="1176" name=""/>
            <p:cNvSpPr/>
            <p:nvPr/>
          </p:nvSpPr>
          <p:spPr>
            <a:xfrm>
              <a:off x="838080" y="5715000"/>
              <a:ext cx="7767720" cy="1138320"/>
            </a:xfrm>
            <a:prstGeom prst="roundRect">
              <a:avLst>
                <a:gd name="adj" fmla="val 1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838080" y="6455880"/>
              <a:ext cx="7767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Tahoma"/>
                </a:rPr>
                <a:t>Ejemplo: Modelo de referencia OS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78" name="" descr=""/>
          <p:cNvPicPr/>
          <p:nvPr/>
        </p:nvPicPr>
        <p:blipFill>
          <a:blip r:embed="rId1"/>
          <a:stretch/>
        </p:blipFill>
        <p:spPr>
          <a:xfrm>
            <a:off x="4716360" y="836640"/>
            <a:ext cx="2971800" cy="54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Tahoma"/>
              </a:rPr>
              <a:t>¿Para qué sirven los Modelos Genéricos y los de Referencia?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610480" cy="52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Para no reinventar la rued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Para generar Líneas (Familias) de Productos de Softwar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83" name="" descr=""/>
          <p:cNvPicPr/>
          <p:nvPr/>
        </p:nvPicPr>
        <p:blipFill>
          <a:blip r:embed="rId1"/>
          <a:stretch/>
        </p:blipFill>
        <p:spPr>
          <a:xfrm>
            <a:off x="1692360" y="2843280"/>
            <a:ext cx="6046560" cy="36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Resumen (1)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0000"/>
              </a:lnSpc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La arquitectura de software es la responsable de la derivación de un </a:t>
            </a: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modelo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de sistema </a:t>
            </a: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estructural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, un modelo de </a:t>
            </a: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control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y un modelo de </a:t>
            </a: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descomposició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en subsistem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Los sistemas grandes </a:t>
            </a: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rara vez conforman un modelo simple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de arquitectur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Los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modelos de estructuració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de un sistema incluyen modelos </a:t>
            </a: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repositorios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, los modelos </a:t>
            </a: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cliente-servidor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y los modelos de </a:t>
            </a: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máquina abstracta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Los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modelos de control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incluyen </a:t>
            </a: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control centralizado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y modelos </a:t>
            </a: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manejadores de eventos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Los modelos de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descomposición modular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incluyen los </a:t>
            </a: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modelos orientados a objetos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y los modelos de </a:t>
            </a: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flujo de datos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Resumen (2)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380880" y="1628640"/>
            <a:ext cx="4983120" cy="52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0000"/>
              </a:lnSpc>
              <a:spcBef>
                <a:spcPts val="1701"/>
              </a:spcBef>
              <a:spcAft>
                <a:spcPts val="2449"/>
              </a:spcAft>
              <a:buClr>
                <a:srgbClr val="ff0000"/>
              </a:buClr>
              <a:buSzPct val="19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Los </a:t>
            </a:r>
            <a:r>
              <a:rPr b="1" i="1" lang="en-GB" sz="2800" spc="-1" strike="noStrike">
                <a:solidFill>
                  <a:srgbClr val="000066"/>
                </a:solidFill>
                <a:latin typeface="Tahoma"/>
              </a:rPr>
              <a:t>modelos de dominio específico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son abstracciones sobre el dominio de una aplicación.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1701"/>
              </a:spcBef>
              <a:spcAft>
                <a:spcPts val="2449"/>
              </a:spcAft>
              <a:buClr>
                <a:srgbClr val="ff0000"/>
              </a:buClr>
              <a:buSzPct val="19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Estos pueden ser construidos mediante la </a:t>
            </a:r>
            <a:r>
              <a:rPr b="1" i="1" lang="en-GB" sz="2800" spc="-1" strike="noStrike">
                <a:solidFill>
                  <a:srgbClr val="000066"/>
                </a:solidFill>
                <a:latin typeface="Tahoma"/>
              </a:rPr>
              <a:t>abstracción de sistemas existentes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o pueden estar basados en </a:t>
            </a:r>
            <a:r>
              <a:rPr b="1" i="1" lang="en-GB" sz="2800" spc="-1" strike="noStrike">
                <a:solidFill>
                  <a:srgbClr val="000066"/>
                </a:solidFill>
                <a:latin typeface="Tahoma"/>
              </a:rPr>
              <a:t>modelos de referencia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(ideales)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92" name="" descr=""/>
          <p:cNvPicPr/>
          <p:nvPr/>
        </p:nvPicPr>
        <p:blipFill>
          <a:blip r:embed="rId1"/>
          <a:stretch/>
        </p:blipFill>
        <p:spPr>
          <a:xfrm>
            <a:off x="5334120" y="3095640"/>
            <a:ext cx="3809880" cy="37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Recomendaciones Generales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4440" indent="-33444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66"/>
                </a:solidFill>
                <a:latin typeface="Tahoma"/>
              </a:rPr>
              <a:t>Desempeño (performance)</a:t>
            </a:r>
            <a:r>
              <a:rPr b="1" lang="en-GB" sz="2000" spc="-1" strike="noStrike">
                <a:solidFill>
                  <a:srgbClr val="000066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0800" indent="-27828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Si el desempeño es un requisito crítico, la arquitectura debe estar diseñada para albergar las operaciones críticas, dentro de un </a:t>
            </a: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número reducido de subsistemas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 y evitar (reducir el número de) cambios de estado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30800" indent="-27828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Ojalá con </a:t>
            </a: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poca comunicación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 entre estos subsistemas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30800" indent="-27828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Esto significa utilizar </a:t>
            </a:r>
            <a:r>
              <a:rPr b="1" i="1" lang="en-GB" sz="1800" spc="-1" strike="noStrike">
                <a:solidFill>
                  <a:srgbClr val="cc3300"/>
                </a:solidFill>
                <a:latin typeface="Tahoma"/>
              </a:rPr>
              <a:t>componentes de grano grueso</a:t>
            </a: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,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 de esa manera habrá menos componentes en el sistema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34440" indent="-33444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66"/>
                </a:solidFill>
                <a:latin typeface="Tahoma"/>
              </a:rPr>
              <a:t>Seguridad.</a:t>
            </a:r>
            <a:r>
              <a:rPr b="1" lang="en-GB" sz="2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0800" indent="-27828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Si la seguridad es un requisito crítico, se debe utilizar una </a:t>
            </a:r>
            <a:r>
              <a:rPr b="1" i="1" lang="en-GB" sz="1800" spc="-1" strike="noStrike">
                <a:solidFill>
                  <a:srgbClr val="cc3300"/>
                </a:solidFill>
                <a:latin typeface="Tahoma"/>
              </a:rPr>
              <a:t>arquitectura estratificada</a:t>
            </a: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(por capas)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30800" indent="-27828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Los </a:t>
            </a: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recursos más críticos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 deben alojarse en las </a:t>
            </a: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capas más internas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30800" indent="-27828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Cada capa debe proveer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 un mecanismo de </a:t>
            </a: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validación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, de acuerdo a la información que ésta maneja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1"/>
          <a:stretch/>
        </p:blipFill>
        <p:spPr>
          <a:xfrm>
            <a:off x="7951680" y="0"/>
            <a:ext cx="1195560" cy="13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Recomendaciones Generales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85440" y="1415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Tahoma"/>
              </a:rPr>
              <a:t>Protección</a:t>
            </a:r>
            <a:r>
              <a:rPr b="1" lang="en-GB" sz="2400" spc="-1" strike="noStrike">
                <a:solidFill>
                  <a:srgbClr val="000066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8360" indent="-28116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Si la protección es un requisito crítico, la arquitectura debe estar diseñada de tal forma que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las </a:t>
            </a:r>
            <a:r>
              <a:rPr b="1" i="1" lang="en-GB" sz="2000" spc="-1" strike="noStrike">
                <a:solidFill>
                  <a:srgbClr val="cc3300"/>
                </a:solidFill>
                <a:latin typeface="Tahoma"/>
              </a:rPr>
              <a:t>operaciones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 relacionadas con la protección, </a:t>
            </a:r>
            <a:r>
              <a:rPr b="1" i="1" lang="en-GB" sz="2000" spc="-1" strike="noStrike">
                <a:solidFill>
                  <a:srgbClr val="cc3300"/>
                </a:solidFill>
                <a:latin typeface="Tahoma"/>
              </a:rPr>
              <a:t>se localicen en único subsistema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o en un conjunto muy reducido de est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8360" indent="-281160">
              <a:spcBef>
                <a:spcPts val="1001"/>
              </a:spcBef>
              <a:spcAft>
                <a:spcPts val="1001"/>
              </a:spcAft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Esto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reduce los costos y los problemas de validación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, y hace posible crear sistemas de protección relacionad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Tahoma"/>
              </a:rPr>
              <a:t>Disponibilidad.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8360" indent="-28116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Si la disponibilidad es un requisito crítico, como parte de la arquitectura se deben incluir </a:t>
            </a:r>
            <a:r>
              <a:rPr b="1" i="1" lang="en-GB" sz="2000" spc="-1" strike="noStrike">
                <a:solidFill>
                  <a:srgbClr val="cc3300"/>
                </a:solidFill>
                <a:latin typeface="Tahoma"/>
              </a:rPr>
              <a:t>componentes redundantes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8360" indent="-28116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Estos podrán reemplazar a los componentes con problemas, en caso de fall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7951680" y="0"/>
            <a:ext cx="1195560" cy="13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Tahoma"/>
              </a:rPr>
              <a:t>El Modelo de Depósito o de Repositorio(1)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spcBef>
                <a:spcPts val="1199"/>
              </a:spcBef>
              <a:spcAft>
                <a:spcPts val="1049"/>
              </a:spcAft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Muchos </a:t>
            </a:r>
            <a:r>
              <a:rPr b="1" i="1" lang="en-GB" sz="2400" spc="-1" strike="noStrike">
                <a:solidFill>
                  <a:srgbClr val="000066"/>
                </a:solidFill>
                <a:latin typeface="Tahoma"/>
              </a:rPr>
              <a:t>subsistemas intercambian datos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. Esto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puede darse de dos maner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8360" indent="-281160">
              <a:spcBef>
                <a:spcPts val="1001"/>
              </a:spcBef>
              <a:spcAft>
                <a:spcPts val="876"/>
              </a:spcAft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Los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datos compartidos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se colocan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en una base de datos 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central o repositorio y pueden ser accedidos por todos los subsistemas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8360" indent="-281160">
              <a:spcBef>
                <a:spcPts val="1001"/>
              </a:spcBef>
              <a:spcAft>
                <a:spcPts val="876"/>
              </a:spcAft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Cada subsistema mantiene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su propia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base de datos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y pasa datos explícitos a otros subsistem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spcBef>
                <a:spcPts val="1199"/>
              </a:spcBef>
              <a:spcAft>
                <a:spcPts val="1049"/>
              </a:spcAft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Cuando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grandes cantidades de datos son compartidos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, el modelo de repositorio es el más comunmente utilizad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Recomendaciones Generales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Tahoma"/>
              </a:rPr>
              <a:t>Mantenibilidad.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8360" indent="-28116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Si la mantenibilidad es un requisito crítico, la arquitectura debe estar diseñada utilizando </a:t>
            </a:r>
            <a:r>
              <a:rPr b="1" i="1" lang="en-GB" sz="2000" spc="-1" strike="noStrike">
                <a:solidFill>
                  <a:srgbClr val="cc3300"/>
                </a:solidFill>
                <a:latin typeface="Tahoma"/>
              </a:rPr>
              <a:t>componentes autocontenidos de grano fino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8360" indent="-28116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Estos componentes pueden ser módulos o componentes de software bien definidos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8360" indent="-28116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Estos podrán cambiarse o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reemplazarse con facilidad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, y con un mínimo efecto sobre el resto del sistem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8360" indent="-28116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Los </a:t>
            </a:r>
            <a:r>
              <a:rPr b="1" i="1" lang="en-GB" sz="2000" spc="-1" strike="noStrike">
                <a:solidFill>
                  <a:srgbClr val="cc3300"/>
                </a:solidFill>
                <a:latin typeface="Tahoma"/>
              </a:rPr>
              <a:t>productores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de datos deben estar </a:t>
            </a:r>
            <a:r>
              <a:rPr b="1" i="1" lang="en-GB" sz="2000" spc="-1" strike="noStrike">
                <a:solidFill>
                  <a:srgbClr val="cc3300"/>
                </a:solidFill>
                <a:latin typeface="Tahoma"/>
              </a:rPr>
              <a:t>separados de los consumidores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8360" indent="-28116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Las estructuras de datos compartidas </a:t>
            </a:r>
            <a:r>
              <a:rPr b="1" i="1" lang="en-GB" sz="2000" spc="-1" strike="noStrike">
                <a:solidFill>
                  <a:srgbClr val="cc3300"/>
                </a:solidFill>
                <a:latin typeface="Tahoma"/>
              </a:rPr>
              <a:t>deben evitarse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8360" indent="-28116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La circulación de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órdenes de control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entre módulos o subsistemas, también </a:t>
            </a:r>
            <a:r>
              <a:rPr b="1" i="1" lang="en-GB" sz="2000" spc="-1" strike="noStrike">
                <a:solidFill>
                  <a:srgbClr val="cc3300"/>
                </a:solidFill>
                <a:latin typeface="Tahoma"/>
              </a:rPr>
              <a:t>debe evitarse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201" name="" descr=""/>
          <p:cNvPicPr/>
          <p:nvPr/>
        </p:nvPicPr>
        <p:blipFill>
          <a:blip r:embed="rId1"/>
          <a:stretch/>
        </p:blipFill>
        <p:spPr>
          <a:xfrm>
            <a:off x="7951680" y="0"/>
            <a:ext cx="1195560" cy="13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Ejercicio 1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353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0680" indent="-310680">
              <a:lnSpc>
                <a:spcPct val="90000"/>
              </a:lnSpc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señe la </a:t>
            </a: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estructura estática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y la </a:t>
            </a: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dinámica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de un Chat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0680"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0680"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0680"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0680"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0680"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0680"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0680"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0680" indent="-310680" algn="ctr">
              <a:lnSpc>
                <a:spcPct val="90000"/>
              </a:lnSpc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¿Qué implicancias tendría en el diseño, el hacer un chat con persistencia o sin persistencia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204" name="" descr=""/>
          <p:cNvPicPr/>
          <p:nvPr/>
        </p:nvPicPr>
        <p:blipFill>
          <a:blip r:embed="rId1"/>
          <a:stretch/>
        </p:blipFill>
        <p:spPr>
          <a:xfrm>
            <a:off x="2587680" y="1916280"/>
            <a:ext cx="392904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Ejercicio 2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8353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Qué pasaría si fuera un foro de discusión?? …. Diseñe la </a:t>
            </a: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estructura estática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y la </a:t>
            </a: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dinámica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8040"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8040"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8040"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8040"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8040"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8040"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207" name="" descr=""/>
          <p:cNvPicPr/>
          <p:nvPr/>
        </p:nvPicPr>
        <p:blipFill>
          <a:blip r:embed="rId1"/>
          <a:stretch/>
        </p:blipFill>
        <p:spPr>
          <a:xfrm>
            <a:off x="1403280" y="1936800"/>
            <a:ext cx="624528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rgio Ochoa</cp:lastModifiedBy>
  <dcterms:modified xsi:type="dcterms:W3CDTF">2007-08-28T12:15:36Z</dcterms:modified>
  <cp:revision>170</cp:revision>
  <dc:subject/>
  <dc:title>Arquitecturas de Software Genéricas</dc:title>
</cp:coreProperties>
</file>