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5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46888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488"/>
              </a:spcBef>
              <a:buClr>
                <a:srgbClr val="ff0000"/>
              </a:buClr>
              <a:buSzPct val="12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488"/>
              </a:spcBef>
              <a:buClr>
                <a:srgbClr val="000066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488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6320" y="1370160"/>
            <a:ext cx="7772400" cy="11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Tahoma"/>
              </a:rPr>
              <a:t>EJEMPLO: Portal de Venta de una Multitienda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1676520" y="2666880"/>
            <a:ext cx="6400800" cy="1752840"/>
          </a:xfrm>
          <a:prstGeom prst="roundRect">
            <a:avLst>
              <a:gd name="adj" fmla="val 8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276720"/>
            <a:ext cx="64008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Clase 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Junio del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Prof. Sergio Ocho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1595520"/>
            <a:ext cx="8280360" cy="5073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Estructura Estát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5689440" cy="1898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77706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la Dinámica de la Solución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3889080"/>
            <a:ext cx="896472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os sistemas están acoplado por da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Acoplamiento por datos implica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encia entre sistemas….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no tiene sentido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plantear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un modelo de control gener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5000"/>
              </a:lnSpc>
              <a:spcBef>
                <a:spcPts val="1199"/>
              </a:spcBef>
              <a:spcAft>
                <a:spcPts val="1650"/>
              </a:spcAft>
              <a:buClr>
                <a:srgbClr val="000066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or lo tanto, los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modelos de control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son </a:t>
            </a:r>
            <a:r>
              <a:rPr b="1" i="1" lang="es-ES" sz="2400" spc="-1" strike="noStrike">
                <a:solidFill>
                  <a:srgbClr val="000066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395280" y="1066680"/>
            <a:ext cx="7488360" cy="5818320"/>
            <a:chOff x="395280" y="1066680"/>
            <a:chExt cx="7488360" cy="5818320"/>
          </a:xfrm>
        </p:grpSpPr>
        <p:graphicFrame>
          <p:nvGraphicFramePr>
            <p:cNvPr id="95" name=""/>
            <p:cNvGraphicFramePr/>
            <p:nvPr/>
          </p:nvGraphicFramePr>
          <p:xfrm>
            <a:off x="574920" y="1066680"/>
            <a:ext cx="7308720" cy="5818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4920" y="1066680"/>
                      <a:ext cx="7308720" cy="581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395280" y="4581360"/>
              <a:ext cx="5472360" cy="216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inámica: Sistema de Venta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067280" y="3040200"/>
          <a:ext cx="507672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3040200"/>
                    <a:ext cx="507672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826400" y="0"/>
            <a:ext cx="1317600" cy="2349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079640"/>
          <a:ext cx="5832360" cy="22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079640"/>
                    <a:ext cx="583236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02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020000" y="5229360"/>
            <a:ext cx="2124000" cy="1628640"/>
            <a:chOff x="7020000" y="5229360"/>
            <a:chExt cx="2124000" cy="1628640"/>
          </a:xfrm>
        </p:grpSpPr>
        <p:graphicFrame>
          <p:nvGraphicFramePr>
            <p:cNvPr id="115" name=""/>
            <p:cNvGraphicFramePr/>
            <p:nvPr/>
          </p:nvGraphicFramePr>
          <p:xfrm>
            <a:off x="7070760" y="5229360"/>
            <a:ext cx="2073240" cy="1628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70760" y="5229360"/>
                      <a:ext cx="2073240" cy="1628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7" name=""/>
            <p:cNvSpPr/>
            <p:nvPr/>
          </p:nvSpPr>
          <p:spPr>
            <a:xfrm>
              <a:off x="7020000" y="6213240"/>
              <a:ext cx="1552320" cy="6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9640" y="907920"/>
          <a:ext cx="5832720" cy="595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907920"/>
                    <a:ext cx="583272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788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tallado: SubSist. de Pedido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0" y="1484280"/>
          <a:ext cx="9144000" cy="49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9144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4920" y="836640"/>
            <a:ext cx="2984400" cy="1855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720720" y="2962440"/>
            <a:ext cx="75963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1074600"/>
            <a:ext cx="7236000" cy="5783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516720" y="5241960"/>
            <a:ext cx="2627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6000" y="1125360"/>
            <a:ext cx="7020000" cy="4735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732720" y="5329080"/>
            <a:ext cx="241128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2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3320" y="1968480"/>
            <a:ext cx="4991040" cy="4749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120" y="44280"/>
            <a:ext cx="7770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iseño de Interfaces de Usuario: Patrón de Navegación del Port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6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2133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85800" y="2900520"/>
            <a:ext cx="777096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5440"/>
            <a:ext cx="777096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cicio 4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En el ejemplo del Portal de Ventas de las Multitiendas, se le solicita hacer la descomposición modular del subsistema de pagos, para ver dónde vive cada módulo dentro de la arquite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spcBef>
                <a:spcPts val="1488"/>
              </a:spcBef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ahoma"/>
              </a:rPr>
              <a:t>Además se le solicita bosquejar las páginas Web que estarían involucrad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27640" y="3165480"/>
            <a:ext cx="460836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Ejercicio 2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488"/>
              </a:spcBef>
              <a:buClr>
                <a:srgbClr val="ff0000"/>
              </a:buClr>
              <a:buSzPct val="140000"/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eñe la Arquitectura de un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ortal para una Multitienda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(lea cuidadosamente el enunciado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1488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622920" y="0"/>
            <a:ext cx="2521080" cy="2398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08000" y="2801880"/>
          <a:ext cx="9144000" cy="37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801880"/>
                    <a:ext cx="914400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ahoma"/>
              </a:rPr>
              <a:t>Proceso de Diseño, en el marco de un Desarrollo</a:t>
            </a:r>
            <a:endParaRPr b="0" lang="en-US" sz="3200" spc="-1" strike="noStrike">
              <a:solidFill>
                <a:srgbClr val="a50021"/>
              </a:solidFill>
              <a:latin typeface="Tahom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79640" y="836640"/>
          <a:ext cx="532620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36640"/>
                    <a:ext cx="532620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90972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istema debe permitir la venta de productos a través del portal Web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Sólo clientes registrados en una multitienda pueden compr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oder accederse a través de un nombre de usuario y clav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es responsable de validar al usuario (cliente) y de realizar la venta/despacho/etc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mostrar el catálogo de productos disponibles, así como también el detalle de cada uno de es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stock de artículos del catálogo debe actualizarse en lín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permitir que el cliente pueda modificar su pedido (carro de compras) mientras éste no haya sido pag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" y="44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Funcionales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7770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1488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quisitos Funciona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cliente debe poder pagar con una tarjeta de Crédito/débi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 multitienda anfitriona recibe el dinero, factura y realiza los enví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8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ortal debe cobrar el 5% de comisión por ven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El proceso de venta tiene que ser transparente para las multitiend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as ventas tienen que registrarse en la multitienda anfitriona y en el port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Debe poder realizarse un análisis del comportamiento del consumidor,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2520" indent="-452520">
              <a:spcBef>
                <a:spcPts val="1500"/>
              </a:spcBef>
              <a:spcAft>
                <a:spcPts val="249"/>
              </a:spcAft>
              <a:buClr>
                <a:srgbClr val="ff0000"/>
              </a:buClr>
              <a:buSzPct val="140000"/>
              <a:buFont typeface="Tahoma"/>
              <a:buAutoNum type="arabicPeriod" startAt="11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ahoma"/>
              </a:rPr>
              <a:t>Los empleados del portal deben poder administrar los datos del portal utilizando una herramienta extern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55000" y="692280"/>
            <a:ext cx="1089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 Req. de Calidad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7199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Requisitos de Calidad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spcAft>
                <a:spcPts val="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l proceso de venta tiene que ser transparente para las multitiend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55000" y="-1440"/>
            <a:ext cx="1089000" cy="194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324000" y="3573360"/>
          <a:ext cx="8820000" cy="3036960"/>
        </p:xfrm>
        <a:graphic>
          <a:graphicData uri="http://schemas.openxmlformats.org/drawingml/2006/table">
            <a:tbl>
              <a:tblPr/>
              <a:tblGrid>
                <a:gridCol w="3095640"/>
                <a:gridCol w="2784240"/>
                <a:gridCol w="2940120"/>
              </a:tblGrid>
              <a:tr h="184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tend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r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Aceptación de u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Segur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tin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is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Interoper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erancia a fa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uper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ndimiento (aceptable con una carga de transacc. al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z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ff3300"/>
                        </a:buClr>
                        <a:buFont typeface="Arial"/>
                        <a:buChar char="-"/>
                        <a:tabLst>
                          <a:tab algn="l" pos="45720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Extens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Contexto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224000"/>
            <a:ext cx="806472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599"/>
              </a:spcBef>
              <a:spcAft>
                <a:spcPts val="1800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Contexto de la Solución: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no quieren que el hecho de implementar el portal les genere muchos cambios a su actual infraestruc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la independencia de datos, respecto del por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que las ventas a través del portal sean transparentes para sus 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spcAft>
                <a:spcPts val="1349"/>
              </a:spcAft>
              <a:buClr>
                <a:srgbClr val="ff33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Las multitiendas quieren mantener su privacidad (dentro de lo posible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907400" y="0"/>
            <a:ext cx="12366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ddb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ahoma"/>
              </a:rPr>
              <a:t>Definición del Ambiente Operacional</a:t>
            </a:r>
            <a:endParaRPr b="0" lang="en-US" sz="3600" spc="-1" strike="noStrike">
              <a:solidFill>
                <a:srgbClr val="a50021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948440" y="0"/>
            <a:ext cx="1195560" cy="2133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413000"/>
          <a:ext cx="795672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79567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io F. Ochoa</cp:lastModifiedBy>
  <dcterms:modified xsi:type="dcterms:W3CDTF">2007-08-07T09:53:00Z</dcterms:modified>
  <cp:revision>272</cp:revision>
  <dc:subject/>
  <dc:title>Introducción a los Patrones  (Diseño y Arquitectura)</dc:title>
</cp:coreProperties>
</file>